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7F4-F9D4-486F-8A40-C1CA512D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4D4-3A77-4163-9BCD-E3AF859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F14-2747-443E-93C0-AA1B96E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FEF-7DAA-4442-B483-B4C32EE1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9F3-49EA-4B8E-9AE5-E704055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EFE-97E1-48F9-AE3B-CA2DB2C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167-148B-4797-B426-6E493E7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D5E-DC0B-4D2C-A03D-B44A2D1D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3CA-98DD-4968-A896-8EA5D5A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0AD-C311-4235-B857-5CEF93C1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5A0-71AF-4A60-A473-D1DFAAE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379-CF4F-4031-B6CA-B8C965F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3C6-392D-4720-9425-4F5E9B73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подготов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ученик 2 класса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сновной школы №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етверк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0920" y="11592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Презентация по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532720" cy="611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Семейное д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Моя семья очень большая. Я хочу поделиться историей одного из её членов. Это мой прадед, который побывал на вой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ой пра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его прадедушку звали Корченков Пётр Митрофанович. Когда началась Великая Отечественная война, ему было 32 года. Прадедушку забрали на фронт с посёлка Козлово Калининской области. Служил он заряжающим п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 войну прадед рассказывать не любил, только самые интересные и запоминающиеся факты. Во время военных действий он побывал в Ленинграде, на Курской дуге, был в госпитале в Новосибирске, закончил войну под Кенигсбер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Ленинграде их полк стоял в блокаду. Было очень голодно. Доходило до того, что солдаты палкой вытаскивали куски недоеденного хлеба с туалета. За этим занятием их заставали телеграфистки и стали делиться своим п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75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 Ленинграда дедушка Петя воевал на Курской дуге. Однажды ночью он стоял в дозоре в кустах орешника. И тут полетели немецкие бомбардировщики. Рядом с прадедом взорвалась бомба. Его засыпало землёй на 2 метра. Попался хороший командир, казах по национальности. Он велел раскопать насыпь. Дедушка был контужен и отправлен в госпиталь в Новосибирск. В дальнейшем у него была перекошена губа и прикрыт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 госпиталя прадедушка поехал в часть, которая к тому времени была дислоцирована под Ленинград. По дороге решил заехать домой к жене и сыну. Вышел на станции Завидово. До дома оставалось 12 километров. Когда он добрался до посёлка, прабабушка была в поле. Пока ей сообщили, и она прибежала, за дедушкой приехали  на военной машине, как за дезертиром. Они только и успели обняться, и прадед отдал ей па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з-под Ленинграда до Кенигсберга полк шёл пешком. В один из дней, когда было затишье, солдатам устроили баню. Рядом с баней была столовая. Пока выдавали бельё, дедушка заметил возле столовой бочки с солёной треской. Когда прятал рыбину под полу шинели, то вышел повар. Но оказалось, что повар и прадедушка земляки. Деда накормили и дали еды с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ак же с прадедом служил ещё один земляк, который умер у дедушки на руках. Они сидели в окопе, а когда друг дедушки привстал, то его застрелил снайп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й прадедушка на войне был ранен в губу, большой палец руки и в правый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щё у него был шок, когда в бою они вшестером были у пушки. Рядом разорвалась бомба. Пятеро были подорваны, а дедушка Петя один остал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т наконец-то настала Победа. Солдат посадили на поезд. Они были уверены, что их везут домой, но их повезли в Манчжурию на войну с японцами. За эту войну прадедушка не видел ни одного японца. Все они прятались в сопках. Еды опять не было. Дедушка Петя нашёл грибы, посмотрел, что червивые. Решил, что значит съедобные и начал варить в котелке. Все кричали, что он отравится, но потом присоединились к нему. И стали носить эти грибы и просить сварить их. Наши солдаты победили и в этой войне. И нашли в сопках склад продовольствия на двадцать пять лет вперёд. Прабабушка уже думала, что мужа убили на войне. С этой войны письма не доходили. Мой прадед вернулся домой в конце 1946 года.У него было много медалей. Началась мирная жизнь. В 1948 году родилась моя баб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ва миру на Земл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5933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40000" y="278136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Награды моего прадед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0" b="53894"/>
          <a:stretch/>
        </p:blipFill>
        <p:spPr>
          <a:xfrm>
            <a:off x="1042920" y="1268280"/>
            <a:ext cx="69516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15:14Z</dcterms:created>
  <dc:creator>Д@SENK@ (Четвёркина Дарья)</dc:creator>
  <dc:description/>
  <dc:language>en-US</dc:language>
  <cp:lastModifiedBy>Д@SENK@ (Четвёркина Дарья)</cp:lastModifiedBy>
  <dcterms:modified xsi:type="dcterms:W3CDTF">2013-03-01T18:00:23Z</dcterms:modified>
  <cp:revision>2</cp:revision>
  <dc:subject/>
  <dc:title>Слайд 1</dc:title>
</cp:coreProperties>
</file>