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180-E780-4DC8-99E2-21822971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CD8D-E1DE-416E-B698-0494D5BD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EB7-DA72-4DD3-A83D-88138184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3C7-E1EE-4122-8F63-E663C4C2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9BE-8DC6-4536-AC1C-9A47120A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CA9-5AE8-4B82-BEDB-37CA50AA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AAB9-BA54-4134-8FB3-48695EAA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E244-F3FA-4D3A-B3C5-C4A2F142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BA2-05F3-48BA-8197-71521E8B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E14B-2132-4877-A631-3BBE703F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C108-DF09-4188-8E02-BD145CDC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F22-2A90-4728-99F9-3A91BEA2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9559-672C-48B4-8D86-7CFFADA96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подготови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ученик 2 класса «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основной школы №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Четверкин Алекса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4680000" cy="3510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0920" y="115920"/>
            <a:ext cx="48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Презентация по окружающему мир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8532720" cy="6119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11280" y="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Семейное др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Моя семья очень большая. Я хочу поделиться историей одного из её членов. Это мой прадед, который побывал на вой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Мой прадед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оего прадедушку звали Корченков Пётр Митрофанович. Когда началась Великая Отечественная война, ему было 32 года. Прадедушку забрали на фронт с посёлка Козлово Калининской области. Служил он заряжающим п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 войну прадед рассказывать не любил, только самые интересные и запоминающиеся факты. Во время военных действий он побывал в Ленинграде, на Курской дуге, был в госпитале в Новосибирске, закончил войну под Кенигсбер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Ленинграде их полк стоял в блокаду. Было очень голодно. Доходило до того, что солдаты палкой вытаскивали куски недоеденного хлеба с туалета. За этим занятием их заставали телеграфистки и стали делиться своим пай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6756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сле Ленинграда дедушка Петя воевал на Курской дуге. Однажды ночью он стоял в дозоре в кустах орешника. И тут полетели немецкие бомбардировщики. Рядом с прадедом взорвалась бомба. Его засыпало землёй на 2 метра. Попался хороший командир, казах по национальности. Он велел раскопать насыпь. Дедушка был контужен и отправлен в госпиталь в Новосибирск. В дальнейшем у него была перекошена губа и прикрыт гл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сле госпиталя прадедушка поехал в часть, которая к тому времени была дислоцирована под Ленинград. По дороге решил заехать домой к жене и сыну. Вышел на станции Завидово. До дома оставалось 12 километров. Когда он добрался до посёлка, прабабушка была в поле. Пока ей сообщили, и она прибежала, за дедушкой приехали  на военной машине, как за дезертиром. Они только и успели обняться, и прадед отдал ей паё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з-под Ленинграда до Кенигсберга полк шёл пешком. В один из дней, когда было затишье, солдатам устроили баню. Рядом с баней была столовая. Пока выдавали бельё, дедушка заметил возле столовой бочки с солёной треской. Когда прятал рыбину под полу шинели, то вышел повар. Но оказалось, что повар и прадедушка земляки. Деда накормили и дали еды с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ак же с прадедом служил ещё один земляк, который умер у дедушки на руках. Они сидели в окопе, а когда друг дедушки привстал, то его застрелил снайп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ой прадедушка на войне был ранен в губу, большой палец руки и в правый 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Ещё у него был шок, когда в бою они вшестером были у пушки. Рядом разорвалась бомба. Пятеро были подорваны, а дедушка Петя один остался в жи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т наконец-то настала Победа. Солдат посадили на поезд. Они были уверены, что их везут домой, но их повезли в Манчжурию на войну с японцами. За эту войну прадедушка не видел ни одного японца. Все они прятались в сопках. Еды опять не было. Дедушка Петя нашёл грибы, посмотрел, что червивые. Решил, что значит съедобные и начал варить в котелке. Все кричали, что он отравится, но потом присоединились к нему. И стали носить эти грибы и просить сварить их. Наши солдаты победили и в этой войне. И нашли в сопках склад продовольствия на двадцать пять лет вперёд. Прабабушка уже думала, что мужа убили на войне. С этой войны письма не доходили. Мой прадед вернулся домой в конце 1946 года.У него было много медалей. Началась мирная жизнь. В 1948 году родилась моя бабу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ава миру на Земле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59338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340000" y="278136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Награды моего прадед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0" t="0" r="0" b="53894"/>
          <a:stretch/>
        </p:blipFill>
        <p:spPr>
          <a:xfrm>
            <a:off x="1042920" y="1268280"/>
            <a:ext cx="695160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7:15:14Z</dcterms:created>
  <dc:creator>Д@SENK@ (Четвёркина Дарья)</dc:creator>
  <dc:description/>
  <dc:language>en-US</dc:language>
  <cp:lastModifiedBy>Д@SENK@ (Четвёркина Дарья)</cp:lastModifiedBy>
  <dcterms:modified xsi:type="dcterms:W3CDTF">2013-03-01T18:00:23Z</dcterms:modified>
  <cp:revision>2</cp:revision>
  <dc:subject/>
  <dc:title>Слайд 1</dc:title>
</cp:coreProperties>
</file>