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6DA0-F9E2-4726-858C-535D1F6A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5055-8EA0-4FAF-A1BF-DFA1BEFF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D50D-CE34-4480-A4AC-6D80F798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D7314-1220-4902-9A5C-FBC1CD42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057B-4E21-4658-8341-AD448BD4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C21E-1B81-4D26-876D-62C8C4BE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04B7-A048-42AA-A585-AADF89C0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6538-5029-406E-944C-7E1085F6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28C7-BAA5-4A24-9697-47C2516A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C04C-E71F-469E-A254-EC642B3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28CF-D948-4EBB-B026-124366E5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CF37-AC4A-4725-BC8F-72F3EEFC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BA4D-1D1B-4970-A1C4-FA7A3421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F0BD-EBC8-463C-AC32-1268BCAB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0531-C61C-4149-969C-A6EE3E6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6950-94BF-4CA2-9EB3-5A9DDAAB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E6F6-1F19-4D68-8254-C049197A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5D82-0BDA-4FB7-9399-9ADAA6A4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F49F-100B-4876-93EA-0438303E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3BF4-8125-4808-BA26-ABDCC878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F515-C677-4CAB-B5E9-089EC462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9CC5-CBA7-49FE-A9E4-643EE519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8908-B494-4212-AAB8-34404150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AF51-EA72-41AB-BF65-DB5D1BAE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23D3-C2E7-4158-900E-C77B55BF9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6C95-D4BD-4BD6-A372-EF3D89A78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8091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следовательская работа по теме: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«КАША – ПИЩА НАШ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95280" y="4508640"/>
            <a:ext cx="5545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: Лащёнов Вад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к 4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Гимназии №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: Прокопченко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26654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мая питательная из каш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заменима в диетическом 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етчатка, содержащаяся в овсяной каше, способствует хорошему пищеваре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ша способна понижать уровень холестер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9520" y="0"/>
            <a:ext cx="2814480" cy="1865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ВСЯН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08720" y="5111640"/>
            <a:ext cx="1835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РЕЧНЕВ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гата полезными веществами, к примеру, желе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роде её называют мини-аптекой, ведь она спасает организм от интоксикации и отр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ает риск сердечно-сосудист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ает при нарушениях обмена веществ — ожирении, сахарном диабет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комендуется при заболеваниях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95640" cy="17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812000" y="5661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ИСОВ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е средство для тех, кто желает похуд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о переваривается и усва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ствует очищению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ит из организма множество вредных веществ в том числе, продукты отравл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806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95640" y="5068800"/>
            <a:ext cx="26654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ЧНЕВ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ит бета-глюкан — растворимую клетчатку, полезна для сердца и сосу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ит витамины группы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каша рекомендуется тем, кто хочет сбросить лишний в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на выводить из организма токсины и шл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ШЁНН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ит ка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 витаминов группы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ей много микроэле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тамины А и Е, которые способствуют росту детского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ть при нарушении серде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3763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НИГА «РУССКАЯ КУХН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нав рецепт «Овсянка с апельсинами», решил приготовить (помогала бабушка), получилось вку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960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АБЛ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2276640"/>
          <a:ext cx="8820000" cy="4247640"/>
        </p:xfrm>
        <a:graphic>
          <a:graphicData uri="http://schemas.openxmlformats.org/drawingml/2006/table">
            <a:tbl>
              <a:tblPr/>
              <a:tblGrid>
                <a:gridCol w="2287440"/>
                <a:gridCol w="1741320"/>
                <a:gridCol w="1379880"/>
                <a:gridCol w="1360440"/>
                <a:gridCol w="205092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роду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кало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бел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жи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чне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ся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ло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о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чнев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3280" y="34920"/>
            <a:ext cx="45007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2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лассном часе я рассказал о пользе каш,  поделился рецептом приготовления каши. Ребята пришли к выводу, что действительно каши очень полезны. Теперь наблюдая в столовой за ребятами, я вижу, что большинство едят кашу и рассказывают другим о пользе ка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33955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ЗУЛЬТАТ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а – это основа нашего питания, нашей жизни. В ней содержится много минеральных веществ и необходимых витаминов, особенно витаминов группы В. Поэтому каша является крайне полезным и питательным продуктом, который должен входить в рацион питания всех п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4762440"/>
            <a:ext cx="30895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ЕШЬТЕ КАШИ! 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БУДЬТЕ – ЗДОР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838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14716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влияние употребления каш на развитие детского организма и состояния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19640" y="3811680"/>
            <a:ext cx="3529080" cy="234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3772080"/>
            <a:ext cx="338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ипоте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Возможно, каши в наш рацион вошли нед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Почему  каша основа нашего     пит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Предположим каши полезны, а 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А что, если попробовать самому      сварить кашу, что получ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0956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ЛАН ИССЛЕД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3116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умать самостоя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ить у взрос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в книгах, энциклопед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в 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сти мониторинг в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седовать с вра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0360" y="4965840"/>
            <a:ext cx="320364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Энциклопед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00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Каша — пища, приготовленная из крупы, на воде или на молок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88000" y="2065320"/>
            <a:ext cx="40320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Прим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689200" cy="3240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87280" y="1980720"/>
            <a:ext cx="569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шу обязательно готовили по случаю начала большого дела. Отсюда пошло выражение "заварить кашу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человеке ненадежном и не сговорчивом говорили: « С ним каши не свариш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516720" y="0"/>
            <a:ext cx="2394000" cy="2011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183240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ачала кашу готовили по праз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XII веке слово «каша» даже было синонимом слова «пи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280260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ша служила символом перемирия:  для заключения мира обязательно нужно было готовить «мирную» ка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5931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ша находила признание и на народном,  и на царском столе. Петр I, например, любил ячневую кашу, объявил ее «любимой романовской». Царскую любимицу, ячневую крупу в XIX веке переименовали в «перловую», т.е. «жемчужну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сследование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человек в нашем классе едят каши, какие и как час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илось, что 65% ребят не любят каши вообще, но родители заставляют их есть, только 35% едят и любят каши: гречневую и рисов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970520" y="5052960"/>
          <a:ext cx="4173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0520" y="5052960"/>
                    <a:ext cx="4173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32360" y="-387360"/>
            <a:ext cx="421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АННАЯ 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нной круп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много крахмала и бел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ней много витаминов Е, В1,В2, В6 а также калия и же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ши используются при болезнях желудочно-кишечного тракта, при инфаркте миокарда и других заболеваниях, при которых требуются  ди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095200" cy="183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5486400"/>
            <a:ext cx="210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12:34Z</dcterms:created>
  <dc:creator>пользователь</dc:creator>
  <dc:description/>
  <dc:language>en-US</dc:language>
  <cp:lastModifiedBy>пользователь</cp:lastModifiedBy>
  <dcterms:modified xsi:type="dcterms:W3CDTF">2010-03-23T14:54:57Z</dcterms:modified>
  <cp:revision>9</cp:revision>
  <dc:subject/>
  <dc:title>Исследовательская работа  «КАША – ПИЩА НАША»</dc:title>
</cp:coreProperties>
</file>