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01E5-8F3E-4427-8488-77448FA8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34E7-C642-4DD2-AC7E-1B60FC90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F0C4-525F-4A99-AA1C-C91A1F1A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8A6C-F150-4116-B31F-CBF2CB6B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D2D-1AA5-4B0B-8049-3E37C622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597-25E2-483D-B675-1AED94D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DE9C-FB3B-4439-8496-803DDB6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2035-252C-4BBD-B169-669803B1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4E5-C568-4A78-BF45-2060935D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5D6C-0DBC-4D58-8578-B3E1AAF2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C54-667E-4257-90EE-383D1F2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3058-25CB-49C6-9739-393A162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AB2-78A4-4F9C-AFF4-57F5A79B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D4A1-4803-4EC8-9F9C-AAB1ED1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9BD-6044-4363-A3CF-B121AEEE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23D5-F76B-401E-AD3F-1F519C82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5F8-E024-48B2-ACCB-A329EEB3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4098-6D76-4FD0-B5E3-B46CF8C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6F6D-D54A-4209-8B52-5246A30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3BE2-E426-41D3-8C92-CD3E3B2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C631-1C77-4E3F-9EAD-85CC1385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599A-8B62-4D3A-B236-538E79D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D7BA-03F9-4D2A-AE67-DACE5D9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AF16-42F2-4E3E-BD32-8B209D2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FAF-72F1-4071-ABEE-2D34CEEA1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CA3-FC4A-44C7-B08B-7197C129D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8091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тельская работа по теме: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КАША – ПИЩА НАШ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95280" y="4508640"/>
            <a:ext cx="5545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: Лащёнов Вад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и №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: Прокопченко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2665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ая питательная из каш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аменима в диетическом 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етчатка, содержащаяся в овсяной каше, способствует хорошему пищеваре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ша способна понижать уровень холестер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9520" y="0"/>
            <a:ext cx="2814480" cy="1865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ВСЯ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08720" y="5111640"/>
            <a:ext cx="1835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РЕЧНЕ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ата полезными веществами, к примеру, желе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роде её называют мини-аптекой, ведь она спасает организм от интоксикации и отр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ает риск сердечно-сосудист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ри нарушениях обмена веществ — ожирении, сахарном диабет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омендуется при заболеваниях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95640" cy="17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1200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ИСО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е средство для тех, кто желает похуд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о переваривается и усва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ствует очищению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ит из организма множество вредных веществ в том числе, продукты отравл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806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95640" y="5068800"/>
            <a:ext cx="26654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ЧНЕ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 бета-глюкан — растворимую клетчатку, полезна для сердца и сосу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 витамины группы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каша рекомендуется тем, кто хочет сбросить лишний в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на выводить из организма токсины и шл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ШЁН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ка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витаминов группы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й много микро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амины А и Е, которые способствуют росту детского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ть при нарушении серде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3763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НИГА «РУССКАЯ КУХН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нав рецепт «Овсянка с апельсинами», решил приготовить (помогала бабушка), получилось вку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АБЛ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2276640"/>
          <a:ext cx="8820000" cy="4247640"/>
        </p:xfrm>
        <a:graphic>
          <a:graphicData uri="http://schemas.openxmlformats.org/drawingml/2006/table">
            <a:tbl>
              <a:tblPr/>
              <a:tblGrid>
                <a:gridCol w="2287440"/>
                <a:gridCol w="1741320"/>
                <a:gridCol w="1379880"/>
                <a:gridCol w="1360440"/>
                <a:gridCol w="205092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ал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чне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ся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ло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не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3280" y="34920"/>
            <a:ext cx="45007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лассном часе я рассказал о пользе каш,  поделился рецептом приготовления каши. Ребята пришли к выводу, что действительно каши очень полезны. Теперь наблюдая в столовой за ребятами, я вижу, что большинство едят кашу и рассказывают другим о пользе ка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955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ЗУЛЬТАТ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а – это основа нашего питания, нашей жизни. В ней содержится много минеральных веществ и необходимых витаминов, особенно витаминов группы В. Поэтому каша является крайне полезным и питательным продуктом, который должен входить в рацион питания всех п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4762440"/>
            <a:ext cx="30895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ЕШЬТЕ КАШИ! 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БУДЬТЕ –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838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влияние употребления каш на развитие детского организма и состояния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19640" y="3811680"/>
            <a:ext cx="3529080" cy="234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3772080"/>
            <a:ext cx="338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ипоте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Возможно, каши в наш рацион вошли нед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Почему  каша основа нашего     пит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Предположим каши полезны, а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А что, если попробовать самому      сварить кашу, что получ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95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ЛАН ИССЛЕД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3116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мать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ь у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в книгах, энциклопед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мониторинг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седовать с вра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4965840"/>
            <a:ext cx="32036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Энциклопед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Каша — пища, приготовленная из крупы, на воде или на моло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2065320"/>
            <a:ext cx="40320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689200" cy="3240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87280" y="1980720"/>
            <a:ext cx="569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шу обязательно готовили по случаю начала большого дела. Отсюда пошло выражение "заварить кашу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человеке ненадежном и не сговорчивом говорили: « С ним каши не свариш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2394000" cy="2011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183240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ачала кашу готовили по праз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XII веке слово «каша» даже было синонимом слова «п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8026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ша служила символом перемирия:  для заключения мира обязательно нужно было готовить «мирную» ка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5931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ша находила признание и на народном,  и на царском столе. Петр I, например, любил ячневую кашу, объявил ее «любимой романовской». Царскую любимицу, ячневую крупу в XIX веке переименовали в «перловую», т.е. «жемчужну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следование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человек в нашем классе едят каши, какие и как ча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лось, что 65% ребят не любят каши вообще, но родители заставляют их есть, только 35% едят и любят каши: гречневую и рисов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70520" y="5052960"/>
          <a:ext cx="4173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0520" y="5052960"/>
                    <a:ext cx="4173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32360" y="-387360"/>
            <a:ext cx="421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Н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нной круп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ного крахмала и бе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ней много витаминов Е, В1,В2, В6 а также калия и же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ши используются при болезнях желудочно-кишечного тракта, при инфаркте миокарда и других заболеваниях, при которых требуются  ди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095200" cy="18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5486400"/>
            <a:ext cx="210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12:34Z</dcterms:created>
  <dc:creator>пользователь</dc:creator>
  <dc:description/>
  <dc:language>en-US</dc:language>
  <cp:lastModifiedBy>пользователь</cp:lastModifiedBy>
  <dcterms:modified xsi:type="dcterms:W3CDTF">2010-03-23T14:54:57Z</dcterms:modified>
  <cp:revision>9</cp:revision>
  <dc:subject/>
  <dc:title>Исследовательская работа  «КАША – ПИЩА НАША»</dc:title>
</cp:coreProperties>
</file>