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1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2A1-4905-44CA-9D3C-238C7DF9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CE9-A751-4B31-98EA-84D3B97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FA2-E894-4080-8107-37D073A3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A8D-6CF5-4378-BDDC-44276C7A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2F4-CD1E-48DB-A3CF-25FB610C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25C-B5F9-4F2E-8213-9EA2EDC7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42-71AA-476D-9262-E4A7046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1F3-5E79-4CE7-80F4-34B27E3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1E9-76BF-45C6-A632-CA4AF25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E90-B5E6-460A-A5FD-AF62ED4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565-6CD3-40FF-A915-4F9D236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D9D-6B2C-4E9A-B54D-43B98AB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497-79B1-4457-9BBE-C3F1BB24B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0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астер – класс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Коллективный проект первоклассников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усеничка Фонети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афическое представление разде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Фонетик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опорой на рифмовки как один из способ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учения с увлечением» в начальной школ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рисунок1"/>
          <p:cNvPicPr/>
          <p:nvPr/>
        </p:nvPicPr>
        <p:blipFill>
          <a:blip r:embed="rId1"/>
          <a:stretch/>
        </p:blipFill>
        <p:spPr>
          <a:xfrm>
            <a:off x="2786040" y="1428840"/>
            <a:ext cx="3571920" cy="33192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714680" y="585792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и, при произношении которых мы слышим шум, эт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гласные звуки 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2700360" y="1700280"/>
            <a:ext cx="1995480" cy="928800"/>
          </a:xfrm>
          <a:prstGeom prst="cloudCallout">
            <a:avLst>
              <a:gd name="adj1" fmla="val 73282"/>
              <a:gd name="adj2" fmla="val 206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Б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356000" y="3429000"/>
            <a:ext cx="1785960" cy="1143000"/>
          </a:xfrm>
          <a:prstGeom prst="cloudCallout">
            <a:avLst>
              <a:gd name="adj1" fmla="val -83615"/>
              <a:gd name="adj2" fmla="val -22060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9126"/>
                </a:solidFill>
                <a:latin typeface="Calibri"/>
              </a:rPr>
              <a:t>Чщ</a:t>
            </a:r>
            <a:r>
              <a:rPr b="1" lang="ru-RU" sz="4000" spc="-1" strike="noStrike">
                <a:solidFill>
                  <a:srgbClr val="0d9126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рисунок1"/>
          <p:cNvPicPr/>
          <p:nvPr/>
        </p:nvPicPr>
        <p:blipFill>
          <a:blip r:embed="rId1"/>
          <a:stretch/>
        </p:blipFill>
        <p:spPr>
          <a:xfrm>
            <a:off x="214200" y="1428840"/>
            <a:ext cx="3429000" cy="3186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928800" y="585792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согласные звуки  бывают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вёрды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ягки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14200" y="1571760"/>
            <a:ext cx="2138400" cy="928440"/>
          </a:xfrm>
          <a:prstGeom prst="cloudCallout">
            <a:avLst>
              <a:gd name="adj1" fmla="val 58949"/>
              <a:gd name="adj2" fmla="val 3582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</a:t>
            </a: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-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143080" y="2857680"/>
            <a:ext cx="2214720" cy="1143000"/>
          </a:xfrm>
          <a:prstGeom prst="cloudCallout">
            <a:avLst>
              <a:gd name="adj1" fmla="val -92282"/>
              <a:gd name="adj2" fmla="val 21018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ф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-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539240" y="1714680"/>
            <a:ext cx="432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уква эН звуки [н] и [н'] обознач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6000840" y="4143240"/>
            <a:ext cx="1214280" cy="1143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звоночек"/>
          <p:cNvPicPr/>
          <p:nvPr/>
        </p:nvPicPr>
        <p:blipFill>
          <a:blip r:embed="rId2"/>
          <a:stretch/>
        </p:blipFill>
        <p:spPr>
          <a:xfrm>
            <a:off x="6211800" y="3565440"/>
            <a:ext cx="701640" cy="793800"/>
          </a:xfrm>
          <a:prstGeom prst="rect">
            <a:avLst/>
          </a:prstGeom>
          <a:ln w="0">
            <a:noFill/>
          </a:ln>
        </p:spPr>
      </p:pic>
      <p:sp>
        <p:nvSpPr>
          <p:cNvPr id="116" name="Oval 9"/>
          <p:cNvSpPr/>
          <p:nvPr/>
        </p:nvSpPr>
        <p:spPr>
          <a:xfrm>
            <a:off x="5929200" y="5143680"/>
            <a:ext cx="53352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6858000" y="514368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20563"/>
          <p:cNvPicPr/>
          <p:nvPr/>
        </p:nvPicPr>
        <p:blipFill>
          <a:blip r:embed="rId1"/>
          <a:stretch/>
        </p:blipFill>
        <p:spPr>
          <a:xfrm>
            <a:off x="500040" y="1428840"/>
            <a:ext cx="3029040" cy="41432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357120" y="1643040"/>
            <a:ext cx="1492200" cy="857160"/>
          </a:xfrm>
          <a:prstGeom prst="cloudCallout">
            <a:avLst>
              <a:gd name="adj1" fmla="val 69634"/>
              <a:gd name="adj2" fmla="val 3036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42960" y="3929040"/>
            <a:ext cx="1714320" cy="785880"/>
          </a:xfrm>
          <a:prstGeom prst="cloudCallout">
            <a:avLst>
              <a:gd name="adj1" fmla="val 56236"/>
              <a:gd name="adj2" fmla="val -147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06160" y="1857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932040" y="407196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169520" y="1571760"/>
            <a:ext cx="484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эМ звуки [м] и [м'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звоночек"/>
          <p:cNvPicPr/>
          <p:nvPr/>
        </p:nvPicPr>
        <p:blipFill>
          <a:blip r:embed="rId2"/>
          <a:stretch/>
        </p:blipFill>
        <p:spPr>
          <a:xfrm>
            <a:off x="6138720" y="3706920"/>
            <a:ext cx="700200" cy="79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113160" y="4521240"/>
            <a:ext cx="8902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929200" y="5357880"/>
            <a:ext cx="533520" cy="28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6715080" y="535788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1719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477413e1f0c7"/>
          <p:cNvPicPr/>
          <p:nvPr/>
        </p:nvPicPr>
        <p:blipFill>
          <a:blip r:embed="rId2"/>
          <a:stretch/>
        </p:blipFill>
        <p:spPr>
          <a:xfrm>
            <a:off x="7143840" y="4714920"/>
            <a:ext cx="1487520" cy="17143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2286000" y="1285920"/>
            <a:ext cx="1943280" cy="1224000"/>
          </a:xfrm>
          <a:prstGeom prst="cloudCallout">
            <a:avLst>
              <a:gd name="adj1" fmla="val -82143"/>
              <a:gd name="adj2" fmla="val -7384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143680" y="5000760"/>
            <a:ext cx="2066760" cy="1224000"/>
          </a:xfrm>
          <a:prstGeom prst="cloudCallout">
            <a:avLst>
              <a:gd name="adj1" fmla="val 80643"/>
              <a:gd name="adj2" fmla="val 2263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91440" y="16430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431680" y="53578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2403360" y="2714760"/>
            <a:ext cx="484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эЛь звуки [л] и [л'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9000" y="444960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звоночек"/>
          <p:cNvPicPr/>
          <p:nvPr/>
        </p:nvPicPr>
        <p:blipFill>
          <a:blip r:embed="rId3"/>
          <a:stretch/>
        </p:blipFill>
        <p:spPr>
          <a:xfrm>
            <a:off x="1066680" y="3925800"/>
            <a:ext cx="586080" cy="658800"/>
          </a:xfrm>
          <a:prstGeom prst="rect">
            <a:avLst/>
          </a:prstGeom>
          <a:ln w="0">
            <a:noFill/>
          </a:ln>
        </p:spPr>
      </p:pic>
      <p:sp>
        <p:nvSpPr>
          <p:cNvPr id="139" name="Oval 9"/>
          <p:cNvSpPr/>
          <p:nvPr/>
        </p:nvSpPr>
        <p:spPr>
          <a:xfrm>
            <a:off x="785880" y="5357880"/>
            <a:ext cx="5331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1428840" y="5357880"/>
            <a:ext cx="5331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071720" y="4224240"/>
            <a:ext cx="3819240" cy="204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03labtu471275221856"/>
          <p:cNvPicPr/>
          <p:nvPr/>
        </p:nvPicPr>
        <p:blipFill>
          <a:blip r:embed="rId2"/>
          <a:stretch/>
        </p:blipFill>
        <p:spPr>
          <a:xfrm>
            <a:off x="6786720" y="3554280"/>
            <a:ext cx="1714320" cy="28465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4714920" y="3143160"/>
            <a:ext cx="2016000" cy="1150920"/>
          </a:xfrm>
          <a:prstGeom prst="cloudCallout">
            <a:avLst>
              <a:gd name="adj1" fmla="val 73564"/>
              <a:gd name="adj2" fmla="val 95055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4356000" y="4221000"/>
            <a:ext cx="2087640" cy="1008360"/>
          </a:xfrm>
          <a:prstGeom prst="cloudCallout">
            <a:avLst>
              <a:gd name="adj1" fmla="val -74888"/>
              <a:gd name="adj2" fmla="val -148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001840" y="3429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к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716720" y="44370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285840" y="1500120"/>
            <a:ext cx="542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эР звуки [р] и [р'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24040" y="15206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звоночек"/>
          <p:cNvPicPr/>
          <p:nvPr/>
        </p:nvPicPr>
        <p:blipFill>
          <a:blip r:embed="rId3"/>
          <a:stretch/>
        </p:blipFill>
        <p:spPr>
          <a:xfrm>
            <a:off x="7278840" y="853920"/>
            <a:ext cx="701640" cy="792360"/>
          </a:xfrm>
          <a:prstGeom prst="rect">
            <a:avLst/>
          </a:prstGeom>
          <a:ln w="0">
            <a:noFill/>
          </a:ln>
        </p:spPr>
      </p:pic>
      <p:sp>
        <p:nvSpPr>
          <p:cNvPr id="151" name="Oval 9"/>
          <p:cNvSpPr/>
          <p:nvPr/>
        </p:nvSpPr>
        <p:spPr>
          <a:xfrm>
            <a:off x="7000920" y="2357280"/>
            <a:ext cx="5335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7643880" y="2357280"/>
            <a:ext cx="5331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норными соглас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5320" y="1576440"/>
            <a:ext cx="94212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428760" y="242892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104292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звоночек"/>
          <p:cNvPicPr/>
          <p:nvPr/>
        </p:nvPicPr>
        <p:blipFill>
          <a:blip r:embed="rId1"/>
          <a:stretch/>
        </p:blipFill>
        <p:spPr>
          <a:xfrm>
            <a:off x="609480" y="835200"/>
            <a:ext cx="70164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426600" y="3071880"/>
            <a:ext cx="537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ква … звуки […] и […']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ни не поются, знач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гласными их назы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воночек над ними жёлтый вис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ряд сине-зелёный буква ме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ёрдый иль мягкий звук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74400" y="15764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19120" y="15764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35120" y="1576440"/>
            <a:ext cx="942480" cy="789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d912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звоночек"/>
          <p:cNvPicPr/>
          <p:nvPr/>
        </p:nvPicPr>
        <p:blipFill>
          <a:blip r:embed="rId2"/>
          <a:stretch/>
        </p:blipFill>
        <p:spPr>
          <a:xfrm>
            <a:off x="2341440" y="907920"/>
            <a:ext cx="70020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звоночек"/>
          <p:cNvPicPr/>
          <p:nvPr/>
        </p:nvPicPr>
        <p:blipFill>
          <a:blip r:embed="rId3"/>
          <a:stretch/>
        </p:blipFill>
        <p:spPr>
          <a:xfrm>
            <a:off x="4211640" y="835200"/>
            <a:ext cx="70164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звоночек"/>
          <p:cNvPicPr/>
          <p:nvPr/>
        </p:nvPicPr>
        <p:blipFill>
          <a:blip r:embed="rId4"/>
          <a:stretch/>
        </p:blipFill>
        <p:spPr>
          <a:xfrm>
            <a:off x="6229440" y="907920"/>
            <a:ext cx="701640" cy="792360"/>
          </a:xfrm>
          <a:prstGeom prst="rect">
            <a:avLst/>
          </a:prstGeom>
          <a:ln w="0">
            <a:noFill/>
          </a:ln>
        </p:spPr>
      </p:pic>
      <p:sp>
        <p:nvSpPr>
          <p:cNvPr id="165" name="Oval 11"/>
          <p:cNvSpPr/>
          <p:nvPr/>
        </p:nvSpPr>
        <p:spPr>
          <a:xfrm>
            <a:off x="2843280" y="2421000"/>
            <a:ext cx="5331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71636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680400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2050920" y="2421000"/>
            <a:ext cx="53352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6084720" y="2421000"/>
            <a:ext cx="53352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4067280" y="2421000"/>
            <a:ext cx="533160" cy="3045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103418"/>
          <p:cNvPicPr/>
          <p:nvPr/>
        </p:nvPicPr>
        <p:blipFill>
          <a:blip r:embed="rId1"/>
          <a:stretch/>
        </p:blipFill>
        <p:spPr>
          <a:xfrm>
            <a:off x="285840" y="1285920"/>
            <a:ext cx="3020760" cy="23572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3286080" y="1357200"/>
            <a:ext cx="2665440" cy="1438560"/>
          </a:xfrm>
          <a:prstGeom prst="cloudCallout">
            <a:avLst>
              <a:gd name="adj1" fmla="val -107750"/>
              <a:gd name="adj2" fmla="val 29060"/>
            </a:avLst>
          </a:prstGeom>
          <a:solidFill>
            <a:srgbClr val="d4f5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786120" y="178596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500040" y="400068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И краткое звук только [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 не поё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 его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 жёлтый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звонки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елёны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ягки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180200" y="4586760"/>
            <a:ext cx="865440" cy="765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звоночек"/>
          <p:cNvPicPr/>
          <p:nvPr/>
        </p:nvPicPr>
        <p:blipFill>
          <a:blip r:embed="rId2"/>
          <a:stretch/>
        </p:blipFill>
        <p:spPr>
          <a:xfrm>
            <a:off x="7278840" y="3852720"/>
            <a:ext cx="738000" cy="828720"/>
          </a:xfrm>
          <a:prstGeom prst="rect">
            <a:avLst/>
          </a:prstGeom>
          <a:ln w="0">
            <a:noFill/>
          </a:ln>
        </p:spPr>
      </p:pic>
      <p:sp>
        <p:nvSpPr>
          <p:cNvPr id="178" name="Oval 9"/>
          <p:cNvSpPr/>
          <p:nvPr/>
        </p:nvSpPr>
        <p:spPr>
          <a:xfrm>
            <a:off x="7715160" y="542916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7072200" y="542916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огласным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1600" y="1744560"/>
            <a:ext cx="893880" cy="906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826920" y="270828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1547640" y="270828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6877080" y="1484280"/>
            <a:ext cx="1114560" cy="10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752472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6804000" y="242100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982080" y="3786120"/>
            <a:ext cx="468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уква Че звук только [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]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н не поётся, знач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гласным его на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оночек над ним не вис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огласный глухой зву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елёны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ягкий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мягкими соглас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91480" y="1866960"/>
            <a:ext cx="788040" cy="73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звоночек"/>
          <p:cNvPicPr/>
          <p:nvPr/>
        </p:nvPicPr>
        <p:blipFill>
          <a:blip r:embed="rId1"/>
          <a:stretch/>
        </p:blipFill>
        <p:spPr>
          <a:xfrm>
            <a:off x="706320" y="1066680"/>
            <a:ext cx="738360" cy="828720"/>
          </a:xfrm>
          <a:prstGeom prst="rect">
            <a:avLst/>
          </a:prstGeom>
          <a:ln w="0">
            <a:noFill/>
          </a:ln>
        </p:spPr>
      </p:pic>
      <p:sp>
        <p:nvSpPr>
          <p:cNvPr id="191" name="Oval 9"/>
          <p:cNvSpPr/>
          <p:nvPr/>
        </p:nvSpPr>
        <p:spPr>
          <a:xfrm>
            <a:off x="357120" y="264312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143000" y="264312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2928960" y="1643040"/>
            <a:ext cx="1114560" cy="10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5429160" y="1714680"/>
            <a:ext cx="1114560" cy="10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500280" y="2643120"/>
            <a:ext cx="5335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857680" y="2643120"/>
            <a:ext cx="5331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6072120" y="271476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429160" y="2714760"/>
            <a:ext cx="5335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016640" y="378612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уква … звук только [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] обозна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н не поётся, значит, согласным его назыв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воночек над ни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жёлтый вис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не вис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чит, согласны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вонк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глухой) зв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елёны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ягк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d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4"/>
          <p:cNvSpPr/>
          <p:nvPr/>
        </p:nvSpPr>
        <p:spPr>
          <a:xfrm>
            <a:off x="457200" y="1600200"/>
            <a:ext cx="1114560" cy="900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твёрдыми соглас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звоночек"/>
          <p:cNvPicPr/>
          <p:nvPr/>
        </p:nvPicPr>
        <p:blipFill>
          <a:blip r:embed="rId1"/>
          <a:stretch/>
        </p:blipFill>
        <p:spPr>
          <a:xfrm>
            <a:off x="706320" y="1066680"/>
            <a:ext cx="738360" cy="828720"/>
          </a:xfrm>
          <a:prstGeom prst="rect">
            <a:avLst/>
          </a:prstGeom>
          <a:ln w="0">
            <a:noFill/>
          </a:ln>
        </p:spPr>
      </p:pic>
      <p:sp>
        <p:nvSpPr>
          <p:cNvPr id="203" name="Oval 9"/>
          <p:cNvSpPr/>
          <p:nvPr/>
        </p:nvSpPr>
        <p:spPr>
          <a:xfrm>
            <a:off x="428760" y="242892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9"/>
          <p:cNvSpPr/>
          <p:nvPr/>
        </p:nvSpPr>
        <p:spPr>
          <a:xfrm>
            <a:off x="1143000" y="2428920"/>
            <a:ext cx="5335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786280" y="2500200"/>
            <a:ext cx="53352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5143680" y="250020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3357720" y="2500200"/>
            <a:ext cx="5331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9"/>
          <p:cNvSpPr/>
          <p:nvPr/>
        </p:nvSpPr>
        <p:spPr>
          <a:xfrm>
            <a:off x="2643120" y="2500200"/>
            <a:ext cx="533520" cy="28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5143680" y="1643040"/>
            <a:ext cx="1114200" cy="900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2714760" y="1643040"/>
            <a:ext cx="1114200" cy="900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3"/>
          <p:cNvSpPr/>
          <p:nvPr/>
        </p:nvSpPr>
        <p:spPr>
          <a:xfrm>
            <a:off x="642960" y="3286080"/>
            <a:ext cx="77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ква … звук только […]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н не поётся, значит, согласным его назы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воночек над ни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жёлтый висит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не вис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начит, согласн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звонки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глухой) зв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ряд 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сини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буква не ме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только 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твёрды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звук обозна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725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ы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G:\грамоты\грамоты 039.jpg"/>
          <p:cNvPicPr/>
          <p:nvPr/>
        </p:nvPicPr>
        <p:blipFill>
          <a:blip r:embed="rId1"/>
          <a:stretch/>
        </p:blipFill>
        <p:spPr>
          <a:xfrm rot="21028800">
            <a:off x="310680" y="3634920"/>
            <a:ext cx="865440" cy="12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2" descr="G:\грамоты\грамоты 036.jpg"/>
          <p:cNvPicPr/>
          <p:nvPr/>
        </p:nvPicPr>
        <p:blipFill>
          <a:blip r:embed="rId2"/>
          <a:stretch/>
        </p:blipFill>
        <p:spPr>
          <a:xfrm rot="20977200">
            <a:off x="825480" y="4501800"/>
            <a:ext cx="939960" cy="132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3" descr="G:\грамоты\грамоты 038.jpg"/>
          <p:cNvPicPr/>
          <p:nvPr/>
        </p:nvPicPr>
        <p:blipFill>
          <a:blip r:embed="rId3"/>
          <a:stretch/>
        </p:blipFill>
        <p:spPr>
          <a:xfrm rot="20925600">
            <a:off x="617040" y="2504880"/>
            <a:ext cx="916200" cy="129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7"/>
          <p:cNvSpPr/>
          <p:nvPr/>
        </p:nvSpPr>
        <p:spPr>
          <a:xfrm>
            <a:off x="1990440" y="4000680"/>
            <a:ext cx="65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ён в краевой банк передового педагог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  ККИДППО  Краснодарского края  в 2009 г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928880" y="2928960"/>
            <a:ext cx="70009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бликован в материалах Фестиваля педагогических идей «Открытый урок» 2007/2008 учебного года  под названием «Фонетика – это интересно!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80720" y="2143080"/>
            <a:ext cx="682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мещён на сайте школы и использует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ми начальных классов  школы и воспитател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1931760" y="1143000"/>
            <a:ext cx="706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овался для воспитателей ДОУ № 21, 24, 4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го дома  станицы Медведовской на  открытом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классе  в октябре 2009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Пользователь\Рабочий стол\для сайта\фото.JPG"/>
          <p:cNvPicPr/>
          <p:nvPr/>
        </p:nvPicPr>
        <p:blipFill>
          <a:blip r:embed="rId4"/>
          <a:stretch/>
        </p:blipFill>
        <p:spPr>
          <a:xfrm>
            <a:off x="493560" y="1066680"/>
            <a:ext cx="957240" cy="1274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1757880" y="4929120"/>
            <a:ext cx="73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едставлен на Втором Всероссийском Слёте Уч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-2011, стал победителем в номинации «Мастер-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гласные зву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ж"/>
          <p:cNvPicPr/>
          <p:nvPr/>
        </p:nvPicPr>
        <p:blipFill>
          <a:blip r:embed="rId1"/>
          <a:stretch/>
        </p:blipFill>
        <p:spPr>
          <a:xfrm>
            <a:off x="281160" y="1779480"/>
            <a:ext cx="8442000" cy="38829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503360" y="4143240"/>
            <a:ext cx="4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4071960" y="32860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2003760" y="392904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575440" y="378612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3003480" y="3571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4646160" y="3214800"/>
            <a:ext cx="3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5145480" y="3143160"/>
            <a:ext cx="3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5717880" y="31431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3"/>
          <p:cNvSpPr/>
          <p:nvPr/>
        </p:nvSpPr>
        <p:spPr>
          <a:xfrm flipH="1">
            <a:off x="614376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4"/>
          <p:cNvSpPr/>
          <p:nvPr/>
        </p:nvSpPr>
        <p:spPr>
          <a:xfrm>
            <a:off x="6503040" y="3143160"/>
            <a:ext cx="2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5"/>
          <p:cNvSpPr/>
          <p:nvPr/>
        </p:nvSpPr>
        <p:spPr>
          <a:xfrm>
            <a:off x="3643200" y="34290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6"/>
          <p:cNvSpPr/>
          <p:nvPr/>
        </p:nvSpPr>
        <p:spPr>
          <a:xfrm>
            <a:off x="4218120" y="4000680"/>
            <a:ext cx="3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7"/>
          <p:cNvSpPr/>
          <p:nvPr/>
        </p:nvSpPr>
        <p:spPr>
          <a:xfrm>
            <a:off x="4861080" y="40006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5288760" y="40006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/>
          <p:cNvSpPr/>
          <p:nvPr/>
        </p:nvSpPr>
        <p:spPr>
          <a:xfrm>
            <a:off x="5717520" y="4000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6147000" y="40006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6572160" y="400068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2"/>
          <p:cNvSpPr/>
          <p:nvPr/>
        </p:nvSpPr>
        <p:spPr>
          <a:xfrm>
            <a:off x="693144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3"/>
          <p:cNvSpPr/>
          <p:nvPr/>
        </p:nvSpPr>
        <p:spPr>
          <a:xfrm>
            <a:off x="7432200" y="3929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7786800" y="39290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8218080" y="3929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оговая таб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3"/>
          <p:cNvGraphicFramePr/>
          <p:nvPr/>
        </p:nvGraphicFramePr>
        <p:xfrm>
          <a:off x="1143000" y="1550880"/>
          <a:ext cx="735804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50880"/>
                    <a:ext cx="73580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й разб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1f12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Фонетический разбор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и не сложен он, и скор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адо не спеша толко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Разделить на слоги сло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И – труда в том нет почти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Ударение най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а Фонетичку посмот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И звуки нужные найд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А потом на том же лист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Звукам дай характеристи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колько букв и сколько зву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читай – и вся нау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   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 учителя заключается не в том, чтобы твердить ребёнку:  «Запомни! Выучи!», а в том, чтобы  вместе с ребёнком изобретать  способы запоминания учебного материала, соединяя игру и теорию, сказку и реальность. Только тогда у нас получится не учение  -  мучение, а учение с увлечением! Только так можно вырастить творческую личнос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ь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0713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обучения русскому языку на начальном этапе освоения курса через  развитие творческих способностей и воображения детей средствами графического представления курса фонетики   с опорой на рифмовки  и образы, соответствующие возрасту младшего школьник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аткое описание опы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 позволяет через систему игровых занятий  вести работу по изучению фонетики русского языка с опорой на графические схемы, составленные с учётом психологических особенностей детей 6-10 лет таким образом, чтобы заложить основы лингвистических знаний и привить интерес к родному язы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, обеспечивающие наибольшую эффективност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овместная поэтапная деятельность ученика и учителя при составлении графических схем и рифмовок, использование игровых приём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аллельное изучение теоретических правил в традиционной форме наряду   с рифмовками данного опыта, что способствует лучшему пониманию и усвоению программн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ы и технологии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уемые в данном опы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первую очередь – это игровые технологии, как наиболее приемлемые для данной возрастной группы учащих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 – вторых, проектная деятельность учащихся под руководством учителя, а именно: наблюдение над частными случаями, систематизация и обобщение наблюдений как результат совместной деятельности учителя и ученика, создание ярких схем – образов, а также сочинение правил в  виде рифмовок, что стимулирует ученика искать способы и средства активного усвоения теории  русского язы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- третьих, информационные технологии: обучающие презентации по теории и практике,  итоговые  уроки – путешествия, контрольные тестовые задания и друг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зульт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121392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-2009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контрольной работы по русскому языку в 4 классе во время  аттестации школы в 2008-2009 учебном году показали  100  % успеваемость по основному заданию –тексту  и  успеваемость 91 % по грамматическому  дополнительному заданию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компьютерного тестирования в 4 классе по русскому языку в 2008-2009 учебном году показали 100% 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-2013 учебный г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ий разбор учащиеся научились выполнять в полном объёме с указанием парности-непарности согласных как по звонкости-глухости, так и по твёрдости-мягкости, что соответствует программе  по УМК «Шк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».  Уровень осознанности грамотного письма высок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-2013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на втором-третьем занятиях подготовительных курсов будущие первоклассники с удовольствием дают характеристику гласным и согласным звукам русского язык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ение фонетики с опорой на знаки-символы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ифмов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357120" y="1785960"/>
          <a:ext cx="8358120" cy="27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85960"/>
                    <a:ext cx="835812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3"/>
          <p:cNvSpPr/>
          <p:nvPr/>
        </p:nvSpPr>
        <p:spPr>
          <a:xfrm>
            <a:off x="2143080" y="3571920"/>
            <a:ext cx="514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ация к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усеничка Фонетичка к нам пришла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 звуков прине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бы нам её раскрас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как? Ответ не я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звук опишем 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аскрасим все кру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и, которые свободно поются, состоят только из голоса,  - это </a:t>
            </a:r>
            <a:r>
              <a:rPr b="1" lang="ru-RU" sz="2900" spc="-1" strike="noStrike">
                <a:solidFill>
                  <a:srgbClr val="f43051"/>
                </a:solidFill>
                <a:latin typeface="Calibri"/>
              </a:rPr>
              <a:t>гласные зву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img472"/>
          <p:cNvPicPr/>
          <p:nvPr/>
        </p:nvPicPr>
        <p:blipFill>
          <a:blip r:embed="rId1"/>
          <a:stretch/>
        </p:blipFill>
        <p:spPr>
          <a:xfrm>
            <a:off x="3071880" y="2000160"/>
            <a:ext cx="3429000" cy="31575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429000" y="3505320"/>
            <a:ext cx="1219320" cy="838080"/>
          </a:xfrm>
          <a:prstGeom prst="cloudCallout">
            <a:avLst>
              <a:gd name="adj1" fmla="val 84898"/>
              <a:gd name="adj2" fmla="val -2784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380880" y="1905120"/>
            <a:ext cx="1905120" cy="1143000"/>
          </a:xfrm>
          <a:prstGeom prst="wedgeEllipseCallout">
            <a:avLst>
              <a:gd name="adj1" fmla="val 88333"/>
              <a:gd name="adj2" fmla="val 64027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152280" y="3657600"/>
            <a:ext cx="1981440" cy="1219320"/>
          </a:xfrm>
          <a:prstGeom prst="wedgeEllipseCallout">
            <a:avLst>
              <a:gd name="adj1" fmla="val 73398"/>
              <a:gd name="adj2" fmla="val -28513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1752480" y="4952880"/>
            <a:ext cx="1905120" cy="1143000"/>
          </a:xfrm>
          <a:prstGeom prst="wedgeEllipseCallout">
            <a:avLst>
              <a:gd name="adj1" fmla="val 62333"/>
              <a:gd name="adj2" fmla="val -87083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у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6705720" y="1752480"/>
            <a:ext cx="1904760" cy="990720"/>
          </a:xfrm>
          <a:prstGeom prst="wedgeEllipseCallout">
            <a:avLst>
              <a:gd name="adj1" fmla="val -74333"/>
              <a:gd name="adj2" fmla="val 87981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э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6705720" y="3048120"/>
            <a:ext cx="2057400" cy="1218960"/>
          </a:xfrm>
          <a:prstGeom prst="wedgeEllipseCallout">
            <a:avLst>
              <a:gd name="adj1" fmla="val -86726"/>
              <a:gd name="adj2" fmla="val 4819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ы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6553080" y="4876920"/>
            <a:ext cx="1981440" cy="1143000"/>
          </a:xfrm>
          <a:prstGeom prst="wedgeEllipseCallout">
            <a:avLst>
              <a:gd name="adj1" fmla="val -79805"/>
              <a:gd name="adj2" fmla="val -73750"/>
            </a:avLst>
          </a:prstGeom>
          <a:solidFill>
            <a:srgbClr val="ff0000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глас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1960" y="1736280"/>
            <a:ext cx="884880" cy="784440"/>
          </a:xfrm>
          <a:prstGeom prst="rect">
            <a:avLst/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85840" y="3357720"/>
            <a:ext cx="1214280" cy="1071360"/>
          </a:xfrm>
          <a:prstGeom prst="wedgeEllipseCallout">
            <a:avLst>
              <a:gd name="adj1" fmla="val 44148"/>
              <a:gd name="adj2" fmla="val -20064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357120" y="5072040"/>
            <a:ext cx="1143000" cy="1071720"/>
          </a:xfrm>
          <a:prstGeom prst="wedgeEllipseCallout">
            <a:avLst>
              <a:gd name="adj1" fmla="val 31912"/>
              <a:gd name="adj2" fmla="val -39759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7358040" y="1500120"/>
            <a:ext cx="1081080" cy="961920"/>
          </a:xfrm>
          <a:prstGeom prst="wedgeEllipseCallout">
            <a:avLst>
              <a:gd name="adj1" fmla="val -37824"/>
              <a:gd name="adj2" fmla="val 33375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7286760" y="3071880"/>
            <a:ext cx="1295280" cy="1023840"/>
          </a:xfrm>
          <a:prstGeom prst="wedgeEllipseCallout">
            <a:avLst>
              <a:gd name="adj1" fmla="val -51013"/>
              <a:gd name="adj2" fmla="val 2115"/>
            </a:avLst>
          </a:prstGeom>
          <a:solidFill>
            <a:srgbClr val="ff0000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ы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7143840" y="4643280"/>
            <a:ext cx="1305000" cy="1195560"/>
          </a:xfrm>
          <a:prstGeom prst="wedgeEllipseCallout">
            <a:avLst>
              <a:gd name="adj1" fmla="val -38851"/>
              <a:gd name="adj2" fmla="val -30935"/>
            </a:avLst>
          </a:prstGeom>
          <a:solidFill>
            <a:srgbClr val="ff0000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576800" y="2286000"/>
            <a:ext cx="556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вук [а]  поётся, значит, 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джачок у буквы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оты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сини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у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вёрдос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гласных обозначае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9720" y="24289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7429680" y="24289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928800" y="6072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357120" y="6072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928800" y="435780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357120" y="435780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857160" y="2643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57120" y="264312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500960" y="4000680"/>
            <a:ext cx="46188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8072280" y="4000680"/>
            <a:ext cx="462240" cy="295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7858080" y="5786280"/>
            <a:ext cx="461880" cy="295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7286760" y="5786280"/>
            <a:ext cx="461880" cy="295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2430000" y="47862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вук [и]  поётся, значит, гл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иджачок у буквы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ты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зелёные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ув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Мягкос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ь согласных обозначае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1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ка к нам приш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сть гласных звуков прине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3" descr="гласные"/>
          <p:cNvPicPr/>
          <p:nvPr/>
        </p:nvPicPr>
        <p:blipFill>
          <a:blip r:embed="rId1"/>
          <a:stretch/>
        </p:blipFill>
        <p:spPr>
          <a:xfrm>
            <a:off x="1920960" y="2206800"/>
            <a:ext cx="5943600" cy="3614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571920" y="4000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4350600" y="3244680"/>
            <a:ext cx="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4350600" y="3244680"/>
            <a:ext cx="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4286160" y="38577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5075280" y="3643200"/>
            <a:ext cx="6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5791680" y="364320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э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6576120" y="36432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ы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8"/>
          <p:cNvSpPr/>
          <p:nvPr/>
        </p:nvSpPr>
        <p:spPr>
          <a:xfrm>
            <a:off x="7147440" y="3714840"/>
            <a:ext cx="4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 2</cp:lastModifiedBy>
  <dcterms:modified xsi:type="dcterms:W3CDTF">2013-03-09T13:07:24Z</dcterms:modified>
  <cp:revision>98</cp:revision>
  <dc:subject/>
  <dc:title>Мастер – класс  «Учение с увлечением…»</dc:title>
</cp:coreProperties>
</file>