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gif" ContentType="image/gif"/>
  <Override PartName="/ppt/media/image28.jpeg" ContentType="image/jpeg"/>
  <Override PartName="/ppt/media/image27.gif" ContentType="image/gif"/>
  <Override PartName="/ppt/media/image4.gif" ContentType="image/gif"/>
  <Override PartName="/ppt/media/image29.png" ContentType="image/png"/>
  <Override PartName="/ppt/media/image26.gif" ContentType="image/gif"/>
  <Override PartName="/ppt/media/image6.png" ContentType="image/png"/>
  <Override PartName="/ppt/media/image17.wmf" ContentType="image/x-wmf"/>
  <Override PartName="/ppt/media/image9.png" ContentType="image/png"/>
  <Override PartName="/ppt/media/image7.gif" ContentType="image/gif"/>
  <Override PartName="/ppt/media/image12.gif" ContentType="image/gif"/>
  <Override PartName="/ppt/media/image30.jpeg" ContentType="image/jpeg"/>
  <Override PartName="/ppt/media/image31.wmf" ContentType="image/x-wmf"/>
  <Override PartName="/ppt/media/image5.gif" ContentType="image/gif"/>
  <Override PartName="/ppt/media/image13.wmf" ContentType="image/x-wmf"/>
  <Override PartName="/ppt/media/image8.jpeg" ContentType="image/jpeg"/>
  <Override PartName="/ppt/media/image3.png" ContentType="image/png"/>
  <Override PartName="/ppt/media/image23.gif" ContentType="image/gif"/>
  <Override PartName="/ppt/media/image10.png" ContentType="image/png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gif" ContentType="image/gif"/>
  <Override PartName="/ppt/media/image15.jpeg" ContentType="image/jpeg"/>
  <Override PartName="/ppt/media/image16.gif" ContentType="image/gif"/>
  <Override PartName="/ppt/media/image19.wmf" ContentType="image/x-wmf"/>
  <Override PartName="/ppt/media/image25.gif" ContentType="image/gif"/>
  <Override PartName="/ppt/media/image21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0DA-BD1E-4E6D-8072-6C2072E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C28-8B0F-4D74-8F48-E1FD9CA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981-09C7-41E8-B795-A1143BE2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D22-9023-4394-AB9F-38581F6B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28B-348F-48D1-8BC8-F19B24BE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AC4-FEF0-41A6-B2DC-0BA5942D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986-055B-47EC-8A99-0BCE753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981-B5D4-42DD-8613-AC9A00D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62E-904F-4730-B4FF-00B1BD29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A34-B459-4714-BBA4-4E36EB7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05D-8D07-4F60-B1FB-B60532C2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F82-00A9-4E5A-93DC-99D2586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214D-04CB-4248-BD91-F2053B189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0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hyperlink" Target="http://chelyaby-priut.ucoz.ru/photo/12-0-2762" TargetMode="External"/><Relationship Id="rId10" Type="http://schemas.openxmlformats.org/officeDocument/2006/relationships/image" Target="../media/image7.gif"/><Relationship Id="rId11" Type="http://schemas.openxmlformats.org/officeDocument/2006/relationships/hyperlink" Target="http://chelyaby-priut.ucoz.ru/photo/12-0-2762" TargetMode="External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hyperlink" Target="http://chelyaby-priut.ucoz.ru/photo/12-0-2762" TargetMode="External"/><Relationship Id="rId5" Type="http://schemas.openxmlformats.org/officeDocument/2006/relationships/image" Target="../media/image7.gif"/><Relationship Id="rId6" Type="http://schemas.openxmlformats.org/officeDocument/2006/relationships/hyperlink" Target="http://chelyaby-priut.ucoz.ru/photo/12-0-2762" TargetMode="External"/><Relationship Id="rId7" Type="http://schemas.openxmlformats.org/officeDocument/2006/relationships/image" Target="../media/image7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6.gif"/><Relationship Id="rId27" Type="http://schemas.openxmlformats.org/officeDocument/2006/relationships/image" Target="../media/image16.gif"/><Relationship Id="rId28" Type="http://schemas.openxmlformats.org/officeDocument/2006/relationships/image" Target="../media/image16.gif"/><Relationship Id="rId29" Type="http://schemas.openxmlformats.org/officeDocument/2006/relationships/image" Target="../media/image16.gif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858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ое утр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57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3263760" cy="33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3200400" cy="285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69" descr="00ц0у6.gif"/>
          <p:cNvPicPr/>
          <p:nvPr/>
        </p:nvPicPr>
        <p:blipFill>
          <a:blip r:embed="rId2"/>
          <a:stretch/>
        </p:blipFill>
        <p:spPr>
          <a:xfrm>
            <a:off x="228600" y="3962520"/>
            <a:ext cx="2928960" cy="2371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0" descr="000к7.gif"/>
          <p:cNvPicPr/>
          <p:nvPr/>
        </p:nvPicPr>
        <p:blipFill>
          <a:blip r:embed="rId3"/>
          <a:stretch/>
        </p:blipFill>
        <p:spPr>
          <a:xfrm>
            <a:off x="380880" y="533520"/>
            <a:ext cx="2721240" cy="3330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70" descr="0113.gif"/>
          <p:cNvPicPr/>
          <p:nvPr/>
        </p:nvPicPr>
        <p:blipFill>
          <a:blip r:embed="rId4"/>
          <a:stretch/>
        </p:blipFill>
        <p:spPr>
          <a:xfrm>
            <a:off x="6019920" y="380880"/>
            <a:ext cx="2262240" cy="3471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69" descr="0043.gif"/>
          <p:cNvPicPr/>
          <p:nvPr/>
        </p:nvPicPr>
        <p:blipFill>
          <a:blip r:embed="rId5"/>
          <a:stretch/>
        </p:blipFill>
        <p:spPr>
          <a:xfrm flipH="1">
            <a:off x="3505320" y="31240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69" descr="50.gif"/>
          <p:cNvPicPr/>
          <p:nvPr/>
        </p:nvPicPr>
        <p:blipFill>
          <a:blip r:embed="rId6"/>
          <a:stretch/>
        </p:blipFill>
        <p:spPr>
          <a:xfrm flipH="1">
            <a:off x="3276360" y="76320"/>
            <a:ext cx="2571480" cy="297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69" descr="55.gif"/>
          <p:cNvPicPr/>
          <p:nvPr/>
        </p:nvPicPr>
        <p:blipFill>
          <a:blip r:embed="rId7"/>
          <a:stretch/>
        </p:blipFill>
        <p:spPr>
          <a:xfrm>
            <a:off x="6553080" y="3586320"/>
            <a:ext cx="22860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152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380880"/>
            <a:ext cx="1600200" cy="1447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81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581280"/>
            <a:ext cx="1904760" cy="1828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962520"/>
            <a:ext cx="1447920" cy="1295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28600"/>
            <a:ext cx="1905120" cy="18288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42900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152280"/>
            <a:ext cx="1904760" cy="1828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81080"/>
            <a:ext cx="2286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0574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828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5257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257800"/>
            <a:ext cx="2286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5410080"/>
            <a:ext cx="228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410080"/>
            <a:ext cx="228600" cy="1295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1981080"/>
            <a:ext cx="228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81680" y="1143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38280"/>
            <a:ext cx="12193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4191120"/>
            <a:ext cx="12189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5867280"/>
            <a:ext cx="1218960" cy="15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6171840" y="24379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286320" y="384804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134040" y="5524200"/>
            <a:ext cx="761760" cy="8384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685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2057400"/>
            <a:ext cx="7617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09880"/>
            <a:ext cx="762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5410080"/>
            <a:ext cx="7621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83808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52280"/>
            <a:ext cx="190476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600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914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65760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8120"/>
            <a:ext cx="1904760" cy="60948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4343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96252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3657240" y="54097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952560" y="118116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43120" y="194256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848720" y="640080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83808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52280"/>
            <a:ext cx="190476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600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914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657600"/>
            <a:ext cx="190476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048120"/>
            <a:ext cx="1904760" cy="60948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5029200"/>
            <a:ext cx="1905120" cy="16002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4343400"/>
            <a:ext cx="1905120" cy="68580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396252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657240" y="54097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952560" y="118116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543120" y="194256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1143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438280"/>
            <a:ext cx="1219320" cy="152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191120"/>
            <a:ext cx="121896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867280"/>
            <a:ext cx="1218960" cy="15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457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171840" y="2437920"/>
            <a:ext cx="762120" cy="838440"/>
          </a:xfrm>
          <a:prstGeom prst="triangle">
            <a:avLst>
              <a:gd name="adj" fmla="val 46458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6286320" y="384804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6134040" y="5524200"/>
            <a:ext cx="761760" cy="83844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685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057400"/>
            <a:ext cx="7617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3809880"/>
            <a:ext cx="7621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5410080"/>
            <a:ext cx="7621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4" idx="2"/>
          </p:cNvCxnSpPr>
          <p:nvPr/>
        </p:nvCxnSpPr>
        <p:spPr>
          <a:xfrm rot="5400000">
            <a:off x="2647080" y="1085760"/>
            <a:ext cx="3239280" cy="3658320"/>
          </a:xfrm>
          <a:prstGeom prst="curvedConnector2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"/>
          <p:cNvCxnSpPr>
            <a:stCxn id="215" idx="5"/>
            <a:endCxn id="204" idx="3"/>
          </p:cNvCxnSpPr>
          <p:nvPr/>
        </p:nvCxnSpPr>
        <p:spPr>
          <a:xfrm flipV="1" rot="10800000">
            <a:off x="5056920" y="2856600"/>
            <a:ext cx="1318320" cy="2972520"/>
          </a:xfrm>
          <a:prstGeom prst="curvedConnector5">
            <a:avLst>
              <a:gd name="adj1" fmla="val 58781"/>
              <a:gd name="adj2" fmla="val 50000"/>
              <a:gd name="adj3" fmla="val 58781"/>
            </a:avLst>
          </a:prstGeom>
          <a:ln w="57240">
            <a:solidFill>
              <a:srgbClr val="66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rot="10800000">
            <a:off x="1294560" y="2361600"/>
            <a:ext cx="4992120" cy="1800720"/>
          </a:xfrm>
          <a:prstGeom prst="curvedConnector2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"/>
          <p:cNvCxnSpPr>
            <a:stCxn id="217" idx="5"/>
            <a:endCxn id="200" idx="2"/>
          </p:cNvCxnSpPr>
          <p:nvPr/>
        </p:nvCxnSpPr>
        <p:spPr>
          <a:xfrm flipV="1" rot="16200000">
            <a:off x="4033800" y="3271320"/>
            <a:ext cx="2525040" cy="2439000"/>
          </a:xfrm>
          <a:prstGeom prst="curvedConnector5">
            <a:avLst>
              <a:gd name="adj1" fmla="val 54327"/>
              <a:gd name="adj2" fmla="val 50000"/>
              <a:gd name="adj3" fmla="val 54327"/>
            </a:avLst>
          </a:prstGeom>
          <a:ln w="5724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077320" y="63244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867280" y="9144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2286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4572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581280"/>
            <a:ext cx="1219320" cy="152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895480"/>
            <a:ext cx="762120" cy="8384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1240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572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86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114800"/>
            <a:ext cx="76176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21932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3352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76212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095880"/>
            <a:ext cx="1219320" cy="152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410080"/>
            <a:ext cx="762120" cy="8384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5715000"/>
            <a:ext cx="76176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28600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1600200"/>
            <a:ext cx="76212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18288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464832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5562720" y="4648320"/>
            <a:ext cx="761760" cy="838080"/>
          </a:xfrm>
          <a:prstGeom prst="triangle">
            <a:avLst>
              <a:gd name="adj" fmla="val 4645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42670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2590920"/>
            <a:ext cx="121932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609120" y="2590920"/>
            <a:ext cx="762120" cy="838080"/>
          </a:xfrm>
          <a:prstGeom prst="triangle">
            <a:avLst>
              <a:gd name="adj" fmla="val 4645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20968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6172200"/>
            <a:ext cx="121896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5486400"/>
            <a:ext cx="761760" cy="8380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5715000"/>
            <a:ext cx="762120" cy="914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876920" y="457200"/>
          <a:ext cx="38862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57200"/>
                    <a:ext cx="388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916 0.03333 L 0.05417 0.02222 E">
                                      <p:cBhvr>
                                        <p:cTn id="43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3510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057400" y="304920"/>
          <a:ext cx="5170320" cy="62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04920"/>
                    <a:ext cx="51703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29000" y="1371600"/>
            <a:ext cx="685800" cy="609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0574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666880"/>
            <a:ext cx="914400" cy="762120"/>
          </a:xfrm>
          <a:prstGeom prst="ellipse">
            <a:avLst/>
          </a:prstGeom>
          <a:solidFill>
            <a:srgbClr val="ebf5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3733920"/>
            <a:ext cx="9144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358128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45720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38862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54864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791320"/>
            <a:ext cx="914400" cy="761760"/>
          </a:xfrm>
          <a:prstGeom prst="ellipse">
            <a:avLst/>
          </a:prstGeom>
          <a:solidFill>
            <a:srgbClr val="ebf5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5715000"/>
            <a:ext cx="91440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5228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1600200"/>
            <a:ext cx="144792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12408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800600"/>
            <a:ext cx="144792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4419720"/>
            <a:ext cx="1447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2819520"/>
            <a:ext cx="144756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62920" y="1219320"/>
            <a:ext cx="14475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04920"/>
            <a:ext cx="144756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48520" y="228600"/>
            <a:ext cx="2590560" cy="2133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2362320"/>
            <a:ext cx="2590920" cy="2133360"/>
          </a:xfrm>
          <a:prstGeom prst="smileyFace">
            <a:avLst>
              <a:gd name="adj" fmla="val 92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4343400"/>
            <a:ext cx="2590920" cy="21337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808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3195"/>
                            </p:stCondLst>
                            <p:childTnLst>
                              <p:par>
                                <p:cTn id="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4195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6195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:\мамина папка\единая коллекция цифровых технологий\шаблоны для презентаций\Сказочные персонажи\зимние картинки\1b5f7ed2971d.gif"/>
          <p:cNvPicPr/>
          <p:nvPr/>
        </p:nvPicPr>
        <p:blipFill>
          <a:blip r:embed="rId2"/>
          <a:stretch/>
        </p:blipFill>
        <p:spPr>
          <a:xfrm>
            <a:off x="2438280" y="213372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animashky.ru/flist/objiv/11/170.gif"/>
          <p:cNvPicPr/>
          <p:nvPr/>
        </p:nvPicPr>
        <p:blipFill>
          <a:blip r:embed="rId3"/>
          <a:stretch/>
        </p:blipFill>
        <p:spPr>
          <a:xfrm>
            <a:off x="2743200" y="380880"/>
            <a:ext cx="228600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animashky.ru/flist/objiv/11/170.gif"/>
          <p:cNvPicPr/>
          <p:nvPr/>
        </p:nvPicPr>
        <p:blipFill>
          <a:blip r:embed="rId4"/>
          <a:stretch/>
        </p:blipFill>
        <p:spPr>
          <a:xfrm>
            <a:off x="5943600" y="1828800"/>
            <a:ext cx="281952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animashky.ru/flist/objiv/20/46.gif"/>
          <p:cNvPicPr/>
          <p:nvPr/>
        </p:nvPicPr>
        <p:blipFill>
          <a:blip r:embed="rId5"/>
          <a:stretch/>
        </p:blipFill>
        <p:spPr>
          <a:xfrm>
            <a:off x="7291440" y="3962520"/>
            <a:ext cx="1852560" cy="24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nimashky.ru/flist/objiv/20/46.gif"/>
          <p:cNvPicPr/>
          <p:nvPr/>
        </p:nvPicPr>
        <p:blipFill>
          <a:blip r:embed="rId6"/>
          <a:stretch/>
        </p:blipFill>
        <p:spPr>
          <a:xfrm>
            <a:off x="1219320" y="4495680"/>
            <a:ext cx="1677960" cy="219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257800" y="3733920"/>
            <a:ext cx="15541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52280" y="2057400"/>
            <a:ext cx="18655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chelyaby-priut.ucoz.ru/_ph/12/1/853937674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0"/>
            <a:ext cx="2948040" cy="1784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chelyaby-priut.ucoz.ru/_ph/12/1/85393767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236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166 -0.01111 L 3.33333E-006 -4.44444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ree"/>
          <p:cNvSpPr/>
          <p:nvPr/>
        </p:nvSpPr>
        <p:spPr>
          <a:xfrm>
            <a:off x="1752480" y="1268280"/>
            <a:ext cx="5400720" cy="558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0"/>
            <a:ext cx="2590920" cy="167652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133720"/>
            <a:ext cx="14479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5334120"/>
            <a:ext cx="1523880" cy="1295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638680"/>
            <a:ext cx="14475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733920"/>
            <a:ext cx="144792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86200"/>
            <a:ext cx="1600200" cy="13716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1981080"/>
            <a:ext cx="1524240" cy="1295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3962520" cy="35049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191120"/>
            <a:ext cx="914400" cy="2286000"/>
          </a:xfrm>
          <a:prstGeom prst="rect">
            <a:avLst/>
          </a:prstGeom>
          <a:solidFill>
            <a:srgbClr val="66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343400"/>
            <a:ext cx="914400" cy="2209680"/>
          </a:xfrm>
          <a:prstGeom prst="rect">
            <a:avLst/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81952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14600" y="2285280"/>
            <a:ext cx="152280" cy="76212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286000"/>
            <a:ext cx="533520" cy="6094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0400" y="1751760"/>
            <a:ext cx="228600" cy="11430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752480"/>
            <a:ext cx="533520" cy="76212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62520" y="1447200"/>
            <a:ext cx="380880" cy="10666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1447920"/>
            <a:ext cx="304920" cy="10666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648320" y="1828080"/>
            <a:ext cx="457200" cy="6858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828800"/>
            <a:ext cx="457200" cy="83808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62720" y="2133360"/>
            <a:ext cx="380880" cy="5331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133720"/>
            <a:ext cx="533520" cy="914400"/>
          </a:xfrm>
          <a:prstGeom prst="lin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59436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1814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3434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25780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495680"/>
            <a:ext cx="457200" cy="457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705720" y="2514600"/>
            <a:ext cx="304560" cy="3808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10280" y="1371240"/>
            <a:ext cx="0" cy="15238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523880" y="2057040"/>
            <a:ext cx="457200" cy="762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1295280"/>
            <a:ext cx="0" cy="14479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2370200">
            <a:off x="3190680" y="3371760"/>
            <a:ext cx="2717640" cy="1473120"/>
          </a:xfrm>
          <a:custGeom>
            <a:avLst/>
            <a:gdLst/>
            <a:ahLst/>
            <a:rect l="l" t="t" r="r" b="b"/>
            <a:pathLst>
              <a:path w="1832" h="1472">
                <a:moveTo>
                  <a:pt x="144" y="32"/>
                </a:moveTo>
                <a:cubicBezTo>
                  <a:pt x="948" y="16"/>
                  <a:pt x="1752" y="0"/>
                  <a:pt x="1776" y="128"/>
                </a:cubicBezTo>
                <a:cubicBezTo>
                  <a:pt x="1800" y="256"/>
                  <a:pt x="296" y="640"/>
                  <a:pt x="288" y="800"/>
                </a:cubicBezTo>
                <a:cubicBezTo>
                  <a:pt x="280" y="960"/>
                  <a:pt x="1624" y="984"/>
                  <a:pt x="1728" y="1088"/>
                </a:cubicBezTo>
                <a:cubicBezTo>
                  <a:pt x="1832" y="1192"/>
                  <a:pt x="1168" y="1384"/>
                  <a:pt x="912" y="1424"/>
                </a:cubicBezTo>
                <a:cubicBezTo>
                  <a:pt x="656" y="1464"/>
                  <a:pt x="344" y="1320"/>
                  <a:pt x="192" y="1328"/>
                </a:cubicBezTo>
                <a:cubicBezTo>
                  <a:pt x="40" y="1336"/>
                  <a:pt x="20" y="1404"/>
                  <a:pt x="0" y="147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952880"/>
            <a:ext cx="1523880" cy="121932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638680"/>
            <a:ext cx="533160" cy="609840"/>
          </a:xfrm>
          <a:prstGeom prst="irregularSeal1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97180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838080"/>
            <a:ext cx="1600200" cy="762120"/>
          </a:xfrm>
          <a:prstGeom prst="ellipse">
            <a:avLst/>
          </a:prstGeom>
          <a:solidFill>
            <a:srgbClr val="ccc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453200">
            <a:off x="836640" y="534960"/>
            <a:ext cx="915840" cy="1370160"/>
          </a:xfrm>
          <a:prstGeom prst="pentagon">
            <a:avLst/>
          </a:prstGeom>
          <a:solidFill>
            <a:srgbClr val="66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1619280" cy="153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41600" y="2084400"/>
            <a:ext cx="108000" cy="81000"/>
          </a:xfrm>
          <a:custGeom>
            <a:avLst/>
            <a:gdLst/>
            <a:ahLst/>
            <a:rect l="l" t="t" r="r" b="b"/>
            <a:pathLst>
              <a:path w="68" h="51">
                <a:moveTo>
                  <a:pt x="68" y="0"/>
                </a:moveTo>
                <a:cubicBezTo>
                  <a:pt x="45" y="17"/>
                  <a:pt x="13" y="26"/>
                  <a:pt x="0" y="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crow12"/>
          <p:cNvPicPr/>
          <p:nvPr/>
        </p:nvPicPr>
        <p:blipFill>
          <a:blip r:embed="rId2"/>
          <a:stretch/>
        </p:blipFill>
        <p:spPr>
          <a:xfrm>
            <a:off x="6858000" y="304920"/>
            <a:ext cx="2071800" cy="190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row12"/>
          <p:cNvPicPr/>
          <p:nvPr/>
        </p:nvPicPr>
        <p:blipFill>
          <a:blip r:embed="rId3"/>
          <a:stretch/>
        </p:blipFill>
        <p:spPr>
          <a:xfrm>
            <a:off x="6095880" y="411480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chelyaby-priut.ucoz.ru/_ph/12/1/85393767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4605480"/>
            <a:ext cx="289584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chelyaby-priut.ucoz.ru/_ph/12/1/85393767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63720"/>
            <a:ext cx="27432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438280" y="457200"/>
          <a:ext cx="4602240" cy="594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457200"/>
                    <a:ext cx="4602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0208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Tree"/>
          <p:cNvSpPr/>
          <p:nvPr/>
        </p:nvSpPr>
        <p:spPr>
          <a:xfrm>
            <a:off x="3743280" y="1268280"/>
            <a:ext cx="5400720" cy="558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ного бед таят леса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лк, медведь там и лиса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ш зверек живет в тревоге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 беды уносит ноги..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у-ка, быстро отгадай-к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зверек зовется? 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8" descr="35126b8bc2135f19cc605ec22bf9c868.gif"/>
          <p:cNvPicPr/>
          <p:nvPr/>
        </p:nvPicPr>
        <p:blipFill>
          <a:blip r:embed="rId2"/>
          <a:stretch/>
        </p:blipFill>
        <p:spPr>
          <a:xfrm>
            <a:off x="4267080" y="2666880"/>
            <a:ext cx="2967120" cy="37465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35126b8bc2135f19cc605ec22bf9c868.gif"/>
          <p:cNvPicPr/>
          <p:nvPr/>
        </p:nvPicPr>
        <p:blipFill>
          <a:blip r:embed="rId3"/>
          <a:stretch/>
        </p:blipFill>
        <p:spPr>
          <a:xfrm>
            <a:off x="1371600" y="4038480"/>
            <a:ext cx="1941480" cy="2451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35126b8bc2135f19cc605ec22bf9c868.gif"/>
          <p:cNvPicPr/>
          <p:nvPr/>
        </p:nvPicPr>
        <p:blipFill>
          <a:blip r:embed="rId4"/>
          <a:stretch/>
        </p:blipFill>
        <p:spPr>
          <a:xfrm>
            <a:off x="4114800" y="152280"/>
            <a:ext cx="1941480" cy="2451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35126b8bc2135f19cc605ec22bf9c868.gif"/>
          <p:cNvPicPr/>
          <p:nvPr/>
        </p:nvPicPr>
        <p:blipFill>
          <a:blip r:embed="rId5"/>
          <a:stretch/>
        </p:blipFill>
        <p:spPr>
          <a:xfrm>
            <a:off x="228600" y="304920"/>
            <a:ext cx="3125880" cy="3733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35126b8bc2135f19cc605ec22bf9c868.gif"/>
          <p:cNvPicPr/>
          <p:nvPr/>
        </p:nvPicPr>
        <p:blipFill>
          <a:blip r:embed="rId6"/>
          <a:stretch/>
        </p:blipFill>
        <p:spPr>
          <a:xfrm>
            <a:off x="7202520" y="4191120"/>
            <a:ext cx="19414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086600" y="2438280"/>
          <a:ext cx="15080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15080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19520" y="1523880"/>
          <a:ext cx="150804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523880"/>
                    <a:ext cx="1508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880" y="457200"/>
          <a:ext cx="1508400" cy="20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57200"/>
                    <a:ext cx="1508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7162920" y="3124080"/>
            <a:ext cx="1211040" cy="959040"/>
            <a:chOff x="7162920" y="3124080"/>
            <a:chExt cx="1211040" cy="959040"/>
          </a:xfrm>
        </p:grpSpPr>
        <p:graphicFrame>
          <p:nvGraphicFramePr>
            <p:cNvPr id="115" name=""/>
            <p:cNvGraphicFramePr/>
            <p:nvPr/>
          </p:nvGraphicFramePr>
          <p:xfrm>
            <a:off x="7162920" y="3657600"/>
            <a:ext cx="1211040" cy="425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62920" y="3657600"/>
                      <a:ext cx="121104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7315200" y="3124080"/>
            <a:ext cx="990720" cy="311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3124080"/>
                      <a:ext cx="99072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2895480" y="2362320"/>
            <a:ext cx="1211040" cy="958320"/>
            <a:chOff x="2895480" y="2362320"/>
            <a:chExt cx="1211040" cy="958320"/>
          </a:xfrm>
        </p:grpSpPr>
        <p:graphicFrame>
          <p:nvGraphicFramePr>
            <p:cNvPr id="120" name=""/>
            <p:cNvGraphicFramePr/>
            <p:nvPr/>
          </p:nvGraphicFramePr>
          <p:xfrm>
            <a:off x="2895480" y="2895480"/>
            <a:ext cx="1211040" cy="42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2895480"/>
                      <a:ext cx="12110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3047760" y="2362320"/>
            <a:ext cx="990720" cy="311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7760" y="2362320"/>
                      <a:ext cx="99072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" name=""/>
          <p:cNvGrpSpPr/>
          <p:nvPr/>
        </p:nvGrpSpPr>
        <p:grpSpPr>
          <a:xfrm>
            <a:off x="457200" y="1143000"/>
            <a:ext cx="1211040" cy="958320"/>
            <a:chOff x="457200" y="1143000"/>
            <a:chExt cx="1211040" cy="958320"/>
          </a:xfrm>
        </p:grpSpPr>
        <p:graphicFrame>
          <p:nvGraphicFramePr>
            <p:cNvPr id="125" name=""/>
            <p:cNvGraphicFramePr/>
            <p:nvPr/>
          </p:nvGraphicFramePr>
          <p:xfrm>
            <a:off x="457200" y="1676160"/>
            <a:ext cx="1211040" cy="425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" y="1676160"/>
                      <a:ext cx="12110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09480" y="1143000"/>
            <a:ext cx="990720" cy="311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9480" y="1143000"/>
                      <a:ext cx="99072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9" name=""/>
          <p:cNvGraphicFramePr/>
          <p:nvPr/>
        </p:nvGraphicFramePr>
        <p:xfrm>
          <a:off x="5715000" y="0"/>
          <a:ext cx="1508040" cy="1752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0"/>
                    <a:ext cx="1508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2280" y="4952880"/>
          <a:ext cx="1508400" cy="1600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52280" y="4952880"/>
                    <a:ext cx="1508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23"/>
          <a:stretch/>
        </p:blipFill>
        <p:spPr>
          <a:xfrm>
            <a:off x="2286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4"/>
          <a:stretch/>
        </p:blipFill>
        <p:spPr>
          <a:xfrm>
            <a:off x="7315200" y="76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5"/>
          <a:stretch/>
        </p:blipFill>
        <p:spPr>
          <a:xfrm>
            <a:off x="4495680" y="4648320"/>
            <a:ext cx="2133720" cy="1901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35126b8bc2135f19cc605ec22bf9c868.gif"/>
          <p:cNvPicPr/>
          <p:nvPr/>
        </p:nvPicPr>
        <p:blipFill>
          <a:blip r:embed="rId26"/>
          <a:stretch/>
        </p:blipFill>
        <p:spPr>
          <a:xfrm>
            <a:off x="1447920" y="3733920"/>
            <a:ext cx="2484360" cy="3136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35126b8bc2135f19cc605ec22bf9c868.gif"/>
          <p:cNvPicPr/>
          <p:nvPr/>
        </p:nvPicPr>
        <p:blipFill>
          <a:blip r:embed="rId27"/>
          <a:stretch/>
        </p:blipFill>
        <p:spPr>
          <a:xfrm>
            <a:off x="4343400" y="1523880"/>
            <a:ext cx="2424240" cy="3276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35126b8bc2135f19cc605ec22bf9c868.gif"/>
          <p:cNvPicPr/>
          <p:nvPr/>
        </p:nvPicPr>
        <p:blipFill>
          <a:blip r:embed="rId28"/>
          <a:stretch/>
        </p:blipFill>
        <p:spPr>
          <a:xfrm>
            <a:off x="7086600" y="4648320"/>
            <a:ext cx="194148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35126b8bc2135f19cc605ec22bf9c868.gif"/>
          <p:cNvPicPr/>
          <p:nvPr/>
        </p:nvPicPr>
        <p:blipFill>
          <a:blip r:embed="rId29"/>
          <a:stretch/>
        </p:blipFill>
        <p:spPr>
          <a:xfrm>
            <a:off x="1905120" y="0"/>
            <a:ext cx="194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ree"/>
          <p:cNvSpPr/>
          <p:nvPr/>
        </p:nvSpPr>
        <p:spPr>
          <a:xfrm>
            <a:off x="228600" y="22860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ree"/>
          <p:cNvSpPr/>
          <p:nvPr/>
        </p:nvSpPr>
        <p:spPr>
          <a:xfrm>
            <a:off x="228600" y="3962520"/>
            <a:ext cx="2514600" cy="21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ree"/>
          <p:cNvSpPr/>
          <p:nvPr/>
        </p:nvSpPr>
        <p:spPr>
          <a:xfrm>
            <a:off x="2438280" y="1523880"/>
            <a:ext cx="2514600" cy="2133720"/>
          </a:xfr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ree"/>
          <p:cNvSpPr/>
          <p:nvPr/>
        </p:nvSpPr>
        <p:spPr>
          <a:xfrm>
            <a:off x="4724280" y="312408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ree"/>
          <p:cNvSpPr/>
          <p:nvPr/>
        </p:nvSpPr>
        <p:spPr>
          <a:xfrm>
            <a:off x="6629400" y="4495680"/>
            <a:ext cx="2514600" cy="2133720"/>
          </a:xfr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ree"/>
          <p:cNvSpPr/>
          <p:nvPr/>
        </p:nvSpPr>
        <p:spPr>
          <a:xfrm>
            <a:off x="6400800" y="0"/>
            <a:ext cx="2514600" cy="2133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20:30Z</dcterms:created>
  <dc:creator>Александр</dc:creator>
  <dc:description/>
  <dc:language>en-US</dc:language>
  <cp:lastModifiedBy>Александр</cp:lastModifiedBy>
  <dcterms:modified xsi:type="dcterms:W3CDTF">2013-03-09T13:09:07Z</dcterms:modified>
  <cp:revision>30</cp:revision>
  <dc:subject/>
  <dc:title>Слайд 1</dc:title>
</cp:coreProperties>
</file>