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gif" ContentType="image/gif"/>
  <Override PartName="/ppt/media/image28.jpeg" ContentType="image/jpeg"/>
  <Override PartName="/ppt/media/image27.gif" ContentType="image/gif"/>
  <Override PartName="/ppt/media/image4.gif" ContentType="image/gif"/>
  <Override PartName="/ppt/media/image29.png" ContentType="image/png"/>
  <Override PartName="/ppt/media/image26.gif" ContentType="image/gif"/>
  <Override PartName="/ppt/media/image6.png" ContentType="image/png"/>
  <Override PartName="/ppt/media/image17.wmf" ContentType="image/x-wmf"/>
  <Override PartName="/ppt/media/image9.png" ContentType="image/png"/>
  <Override PartName="/ppt/media/image7.gif" ContentType="image/gif"/>
  <Override PartName="/ppt/media/image12.gif" ContentType="image/gif"/>
  <Override PartName="/ppt/media/image30.jpeg" ContentType="image/jpeg"/>
  <Override PartName="/ppt/media/image31.wmf" ContentType="image/x-wmf"/>
  <Override PartName="/ppt/media/image5.gif" ContentType="image/gif"/>
  <Override PartName="/ppt/media/image13.wmf" ContentType="image/x-wmf"/>
  <Override PartName="/ppt/media/image8.jpeg" ContentType="image/jpeg"/>
  <Override PartName="/ppt/media/image3.png" ContentType="image/png"/>
  <Override PartName="/ppt/media/image23.gif" ContentType="image/gif"/>
  <Override PartName="/ppt/media/image10.png" ContentType="image/png"/>
  <Override PartName="/ppt/media/image11.jpeg" ContentType="image/jpeg"/>
  <Override PartName="/ppt/media/image1.gif" ContentType="image/gif"/>
  <Override PartName="/ppt/media/image32.jpeg" ContentType="image/jpeg"/>
  <Override PartName="/ppt/media/image24.gif" ContentType="image/gif"/>
  <Override PartName="/ppt/media/image14.gif" ContentType="image/gif"/>
  <Override PartName="/ppt/media/image15.jpeg" ContentType="image/jpeg"/>
  <Override PartName="/ppt/media/image16.gif" ContentType="image/gif"/>
  <Override PartName="/ppt/media/image19.wmf" ContentType="image/x-wmf"/>
  <Override PartName="/ppt/media/image25.gif" ContentType="image/gif"/>
  <Override PartName="/ppt/media/image21.wmf" ContentType="image/x-wmf"/>
  <Override PartName="/ppt/media/image18.wmf" ContentType="image/x-wmf"/>
  <Override PartName="/ppt/media/image2.jpeg" ContentType="image/jpeg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024-CCF2-46AC-AD1F-36A42563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77D-4351-4A62-8CC9-0DDEF334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B70-B798-4EB6-9A41-747F1F3B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481-988A-4D35-B95E-D02C09B9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1CE-C590-49F0-8465-03AC52E8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97C-0FCC-4AD7-8CBE-6DA6A419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3E9-D958-4F81-B2C8-48D0F63B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E55-94BF-4774-A097-764245B4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543-33C2-46F2-887D-D5D7C9D4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20D-A4D4-4A25-8919-D09F48B3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D35-4604-45F5-A9D3-46606BF0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83D-7BD8-46D7-A553-58D0F534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B265-9574-4DD9-A142-E1D026E5F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0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hyperlink" Target="http://chelyaby-priut.ucoz.ru/photo/12-0-2762" TargetMode="External"/><Relationship Id="rId10" Type="http://schemas.openxmlformats.org/officeDocument/2006/relationships/image" Target="../media/image7.gif"/><Relationship Id="rId11" Type="http://schemas.openxmlformats.org/officeDocument/2006/relationships/hyperlink" Target="http://chelyaby-priut.ucoz.ru/photo/12-0-2762" TargetMode="External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hyperlink" Target="http://chelyaby-priut.ucoz.ru/photo/12-0-2762" TargetMode="External"/><Relationship Id="rId5" Type="http://schemas.openxmlformats.org/officeDocument/2006/relationships/image" Target="../media/image7.gif"/><Relationship Id="rId6" Type="http://schemas.openxmlformats.org/officeDocument/2006/relationships/hyperlink" Target="http://chelyaby-priut.ucoz.ru/photo/12-0-2762" TargetMode="External"/><Relationship Id="rId7" Type="http://schemas.openxmlformats.org/officeDocument/2006/relationships/image" Target="../media/image7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6.gif"/><Relationship Id="rId27" Type="http://schemas.openxmlformats.org/officeDocument/2006/relationships/image" Target="../media/image16.gif"/><Relationship Id="rId28" Type="http://schemas.openxmlformats.org/officeDocument/2006/relationships/image" Target="../media/image16.gif"/><Relationship Id="rId29" Type="http://schemas.openxmlformats.org/officeDocument/2006/relationships/image" Target="../media/image16.gif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68580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ое утро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2578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3263760" cy="3352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791320" y="762120"/>
            <a:ext cx="3200400" cy="2859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276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69" descr="00ц0у6.gif"/>
          <p:cNvPicPr/>
          <p:nvPr/>
        </p:nvPicPr>
        <p:blipFill>
          <a:blip r:embed="rId2"/>
          <a:stretch/>
        </p:blipFill>
        <p:spPr>
          <a:xfrm>
            <a:off x="228600" y="3962520"/>
            <a:ext cx="2928960" cy="23716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0" descr="000к7.gif"/>
          <p:cNvPicPr/>
          <p:nvPr/>
        </p:nvPicPr>
        <p:blipFill>
          <a:blip r:embed="rId3"/>
          <a:stretch/>
        </p:blipFill>
        <p:spPr>
          <a:xfrm>
            <a:off x="380880" y="533520"/>
            <a:ext cx="2721240" cy="33303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70" descr="0113.gif"/>
          <p:cNvPicPr/>
          <p:nvPr/>
        </p:nvPicPr>
        <p:blipFill>
          <a:blip r:embed="rId4"/>
          <a:stretch/>
        </p:blipFill>
        <p:spPr>
          <a:xfrm>
            <a:off x="6019920" y="380880"/>
            <a:ext cx="2262240" cy="34718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69" descr="0043.gif"/>
          <p:cNvPicPr/>
          <p:nvPr/>
        </p:nvPicPr>
        <p:blipFill>
          <a:blip r:embed="rId5"/>
          <a:stretch/>
        </p:blipFill>
        <p:spPr>
          <a:xfrm flipH="1">
            <a:off x="3505320" y="31240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69" descr="50.gif"/>
          <p:cNvPicPr/>
          <p:nvPr/>
        </p:nvPicPr>
        <p:blipFill>
          <a:blip r:embed="rId6"/>
          <a:stretch/>
        </p:blipFill>
        <p:spPr>
          <a:xfrm flipH="1">
            <a:off x="3276360" y="76320"/>
            <a:ext cx="2571480" cy="2976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69" descr="55.gif"/>
          <p:cNvPicPr/>
          <p:nvPr/>
        </p:nvPicPr>
        <p:blipFill>
          <a:blip r:embed="rId7"/>
          <a:stretch/>
        </p:blipFill>
        <p:spPr>
          <a:xfrm>
            <a:off x="6553080" y="3586320"/>
            <a:ext cx="22860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152280"/>
            <a:ext cx="1904760" cy="1828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380880"/>
            <a:ext cx="160020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581280"/>
            <a:ext cx="1904760" cy="1828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581280"/>
            <a:ext cx="1904760" cy="1828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3962520"/>
            <a:ext cx="1447920" cy="1295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228600"/>
            <a:ext cx="1905120" cy="1828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3429000"/>
            <a:ext cx="1904760" cy="1828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152280"/>
            <a:ext cx="1904760" cy="1828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1981080"/>
            <a:ext cx="2286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2057400"/>
            <a:ext cx="2286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1828800"/>
            <a:ext cx="2286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5257800"/>
            <a:ext cx="2286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5257800"/>
            <a:ext cx="2286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5410080"/>
            <a:ext cx="22860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410080"/>
            <a:ext cx="228600" cy="1295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1981080"/>
            <a:ext cx="22860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781680" y="1143000"/>
            <a:ext cx="121932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38280"/>
            <a:ext cx="1219320" cy="152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4191120"/>
            <a:ext cx="121896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5867280"/>
            <a:ext cx="1218960" cy="152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45720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6171840" y="2437920"/>
            <a:ext cx="762120" cy="838440"/>
          </a:xfrm>
          <a:prstGeom prst="triangle">
            <a:avLst>
              <a:gd name="adj" fmla="val 46458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6286320" y="384804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6134040" y="5524200"/>
            <a:ext cx="761760" cy="8384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01000" y="68580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2057400"/>
            <a:ext cx="761760" cy="9144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3809880"/>
            <a:ext cx="7621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5410080"/>
            <a:ext cx="76212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838080"/>
            <a:ext cx="190476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52280"/>
            <a:ext cx="1904760" cy="6858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600200"/>
            <a:ext cx="190512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914400"/>
            <a:ext cx="1905120" cy="6858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3657600"/>
            <a:ext cx="190476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048120"/>
            <a:ext cx="1904760" cy="60948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5029200"/>
            <a:ext cx="190512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4343400"/>
            <a:ext cx="1905120" cy="6858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96252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3657240" y="5409720"/>
            <a:ext cx="762120" cy="838440"/>
          </a:xfrm>
          <a:prstGeom prst="triangle">
            <a:avLst>
              <a:gd name="adj" fmla="val 46458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952560" y="1181160"/>
            <a:ext cx="761760" cy="8380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3543120" y="194256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45720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848720" y="6400800"/>
            <a:ext cx="6094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838080"/>
            <a:ext cx="190476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52280"/>
            <a:ext cx="1904760" cy="6858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600200"/>
            <a:ext cx="190512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914400"/>
            <a:ext cx="1905120" cy="6858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657600"/>
            <a:ext cx="190476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048120"/>
            <a:ext cx="1904760" cy="60948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5029200"/>
            <a:ext cx="190512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4343400"/>
            <a:ext cx="1905120" cy="6858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396252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3657240" y="5409720"/>
            <a:ext cx="762120" cy="838440"/>
          </a:xfrm>
          <a:prstGeom prst="triangle">
            <a:avLst>
              <a:gd name="adj" fmla="val 46458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952560" y="1181160"/>
            <a:ext cx="761760" cy="8380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3543120" y="194256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81680" y="1143000"/>
            <a:ext cx="121932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2438280"/>
            <a:ext cx="1219320" cy="152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4191120"/>
            <a:ext cx="121896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5867280"/>
            <a:ext cx="1218960" cy="152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45720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171840" y="2437920"/>
            <a:ext cx="762120" cy="838440"/>
          </a:xfrm>
          <a:prstGeom prst="triangle">
            <a:avLst>
              <a:gd name="adj" fmla="val 46458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6286320" y="384804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6134040" y="5524200"/>
            <a:ext cx="761760" cy="8384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001000" y="68580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2057400"/>
            <a:ext cx="761760" cy="9144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3809880"/>
            <a:ext cx="7621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53280" y="5410080"/>
            <a:ext cx="76212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4" idx="2"/>
          </p:cNvCxnSpPr>
          <p:nvPr/>
        </p:nvCxnSpPr>
        <p:spPr>
          <a:xfrm rot="5400000">
            <a:off x="2647080" y="1085760"/>
            <a:ext cx="3239280" cy="3658320"/>
          </a:xfrm>
          <a:prstGeom prst="curvedConnector2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"/>
          <p:cNvCxnSpPr>
            <a:stCxn id="215" idx="5"/>
            <a:endCxn id="204" idx="3"/>
          </p:cNvCxnSpPr>
          <p:nvPr/>
        </p:nvCxnSpPr>
        <p:spPr>
          <a:xfrm flipV="1" rot="10800000">
            <a:off x="5056920" y="2856600"/>
            <a:ext cx="1318320" cy="2972520"/>
          </a:xfrm>
          <a:prstGeom prst="curvedConnector5">
            <a:avLst>
              <a:gd name="adj1" fmla="val 58781"/>
              <a:gd name="adj2" fmla="val 50000"/>
              <a:gd name="adj3" fmla="val 58781"/>
            </a:avLst>
          </a:prstGeom>
          <a:ln w="57240">
            <a:solidFill>
              <a:srgbClr val="66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rot="10800000">
            <a:off x="1294560" y="2361600"/>
            <a:ext cx="4992120" cy="1800720"/>
          </a:xfrm>
          <a:prstGeom prst="curvedConnector2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5" name=""/>
          <p:cNvCxnSpPr>
            <a:stCxn id="217" idx="5"/>
            <a:endCxn id="200" idx="2"/>
          </p:cNvCxnSpPr>
          <p:nvPr/>
        </p:nvCxnSpPr>
        <p:spPr>
          <a:xfrm flipV="1" rot="16200000">
            <a:off x="4033800" y="3271320"/>
            <a:ext cx="2525040" cy="2439000"/>
          </a:xfrm>
          <a:prstGeom prst="curvedConnector5">
            <a:avLst>
              <a:gd name="adj1" fmla="val 54327"/>
              <a:gd name="adj2" fmla="val 50000"/>
              <a:gd name="adj3" fmla="val 54327"/>
            </a:avLst>
          </a:prstGeom>
          <a:ln w="57240">
            <a:solidFill>
              <a:srgbClr val="99ff66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077320" y="6324480"/>
            <a:ext cx="3808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0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867280" y="914400"/>
            <a:ext cx="121932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81480" y="22860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45720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581280"/>
            <a:ext cx="1219320" cy="1526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895480"/>
            <a:ext cx="762120" cy="83844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12408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572000"/>
            <a:ext cx="121932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388620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4114800"/>
            <a:ext cx="76176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1219320"/>
            <a:ext cx="121896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33520"/>
            <a:ext cx="76176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76212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095880"/>
            <a:ext cx="1219320" cy="1526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5410080"/>
            <a:ext cx="762120" cy="83844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5715000"/>
            <a:ext cx="76176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286000"/>
            <a:ext cx="121932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160020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182880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4648320"/>
            <a:ext cx="121896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5562720" y="4648320"/>
            <a:ext cx="761760" cy="838080"/>
          </a:xfrm>
          <a:prstGeom prst="triangle">
            <a:avLst>
              <a:gd name="adj" fmla="val 4645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67480" y="426708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2590920"/>
            <a:ext cx="121932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609120" y="2590920"/>
            <a:ext cx="762120" cy="838080"/>
          </a:xfrm>
          <a:prstGeom prst="triangle">
            <a:avLst>
              <a:gd name="adj" fmla="val 4645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220968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6172200"/>
            <a:ext cx="121896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5486400"/>
            <a:ext cx="76176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571500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4876920" y="457200"/>
          <a:ext cx="38862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457200"/>
                    <a:ext cx="388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916 0.03333 L 0.05417 0.02222 E">
                                      <p:cBhvr>
                                        <p:cTn id="43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35103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057400" y="304920"/>
          <a:ext cx="5170320" cy="624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04920"/>
                    <a:ext cx="517032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429000" y="1371600"/>
            <a:ext cx="685800" cy="6094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057400"/>
            <a:ext cx="91440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2666880"/>
            <a:ext cx="914400" cy="762120"/>
          </a:xfrm>
          <a:prstGeom prst="ellipse">
            <a:avLst/>
          </a:prstGeom>
          <a:solidFill>
            <a:srgbClr val="ebf5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10080" y="3733920"/>
            <a:ext cx="91440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3581280"/>
            <a:ext cx="91440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4572000"/>
            <a:ext cx="91440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3886200"/>
            <a:ext cx="91440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5486400"/>
            <a:ext cx="91440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5791320"/>
            <a:ext cx="914400" cy="761760"/>
          </a:xfrm>
          <a:prstGeom prst="ellipse">
            <a:avLst/>
          </a:prstGeom>
          <a:solidFill>
            <a:srgbClr val="ebf5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5715000"/>
            <a:ext cx="91440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152280"/>
            <a:ext cx="144792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1600200"/>
            <a:ext cx="144792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3124080"/>
            <a:ext cx="144792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4800600"/>
            <a:ext cx="144792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86600" y="4419720"/>
            <a:ext cx="144792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2819520"/>
            <a:ext cx="144756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62920" y="1219320"/>
            <a:ext cx="144756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304920"/>
            <a:ext cx="144756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248520" y="228600"/>
            <a:ext cx="2590560" cy="2133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2362320"/>
            <a:ext cx="2590920" cy="2133360"/>
          </a:xfrm>
          <a:prstGeom prst="smileyFace">
            <a:avLst>
              <a:gd name="adj" fmla="val 921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4343400"/>
            <a:ext cx="2590920" cy="21337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808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5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3195"/>
                            </p:stCondLst>
                            <p:childTnLst>
                              <p:par>
                                <p:cTn id="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4195"/>
                            </p:stCondLst>
                            <p:childTnLst>
                              <p:par>
                                <p:cTn id="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6195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D:\мамина папка\единая коллекция цифровых технологий\шаблоны для презентаций\Сказочные персонажи\зимние картинки\1b5f7ed2971d.gif"/>
          <p:cNvPicPr/>
          <p:nvPr/>
        </p:nvPicPr>
        <p:blipFill>
          <a:blip r:embed="rId2"/>
          <a:stretch/>
        </p:blipFill>
        <p:spPr>
          <a:xfrm>
            <a:off x="2438280" y="213372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animashky.ru/flist/objiv/11/170.gif"/>
          <p:cNvPicPr/>
          <p:nvPr/>
        </p:nvPicPr>
        <p:blipFill>
          <a:blip r:embed="rId3"/>
          <a:stretch/>
        </p:blipFill>
        <p:spPr>
          <a:xfrm>
            <a:off x="2743200" y="380880"/>
            <a:ext cx="2286000" cy="156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animashky.ru/flist/objiv/11/170.gif"/>
          <p:cNvPicPr/>
          <p:nvPr/>
        </p:nvPicPr>
        <p:blipFill>
          <a:blip r:embed="rId4"/>
          <a:stretch/>
        </p:blipFill>
        <p:spPr>
          <a:xfrm>
            <a:off x="5943600" y="1828800"/>
            <a:ext cx="2819520" cy="192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animashky.ru/flist/objiv/20/46.gif"/>
          <p:cNvPicPr/>
          <p:nvPr/>
        </p:nvPicPr>
        <p:blipFill>
          <a:blip r:embed="rId5"/>
          <a:stretch/>
        </p:blipFill>
        <p:spPr>
          <a:xfrm>
            <a:off x="7291440" y="3962520"/>
            <a:ext cx="1852560" cy="242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animashky.ru/flist/objiv/20/46.gif"/>
          <p:cNvPicPr/>
          <p:nvPr/>
        </p:nvPicPr>
        <p:blipFill>
          <a:blip r:embed="rId6"/>
          <a:stretch/>
        </p:blipFill>
        <p:spPr>
          <a:xfrm>
            <a:off x="1219320" y="4495680"/>
            <a:ext cx="1677960" cy="2194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257800" y="3733920"/>
            <a:ext cx="155412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152280" y="2057400"/>
            <a:ext cx="18655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chelyaby-priut.ucoz.ru/_ph/12/1/853937674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9920" y="0"/>
            <a:ext cx="2948040" cy="1784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chelyaby-priut.ucoz.ru/_ph/12/1/853937674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0"/>
            <a:ext cx="23623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166 -0.01111 L 3.33333E-006 -4.44444E-006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ree"/>
          <p:cNvSpPr/>
          <p:nvPr/>
        </p:nvSpPr>
        <p:spPr>
          <a:xfrm>
            <a:off x="1752480" y="1268280"/>
            <a:ext cx="5400720" cy="558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0"/>
            <a:ext cx="2590920" cy="167652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133720"/>
            <a:ext cx="144792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5334120"/>
            <a:ext cx="1523880" cy="12952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5638680"/>
            <a:ext cx="14475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3733920"/>
            <a:ext cx="144792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886200"/>
            <a:ext cx="1600200" cy="137160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1981080"/>
            <a:ext cx="1524240" cy="1295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048120"/>
            <a:ext cx="3962520" cy="35049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191120"/>
            <a:ext cx="914400" cy="2286000"/>
          </a:xfrm>
          <a:prstGeom prst="rect">
            <a:avLst/>
          </a:prstGeom>
          <a:solidFill>
            <a:srgbClr val="66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343400"/>
            <a:ext cx="914400" cy="2209680"/>
          </a:xfrm>
          <a:prstGeom prst="rect">
            <a:avLst/>
          </a:prstGeom>
          <a:solidFill>
            <a:srgbClr val="cccc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281952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14600" y="2285280"/>
            <a:ext cx="152280" cy="76212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2286000"/>
            <a:ext cx="533520" cy="60948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200400" y="1751760"/>
            <a:ext cx="228600" cy="114300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1752480"/>
            <a:ext cx="533520" cy="76212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62520" y="1447200"/>
            <a:ext cx="380880" cy="106668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1447920"/>
            <a:ext cx="304920" cy="106668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648320" y="1828080"/>
            <a:ext cx="457200" cy="68580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1828800"/>
            <a:ext cx="457200" cy="83808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562720" y="2133360"/>
            <a:ext cx="380880" cy="5331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2133720"/>
            <a:ext cx="533520" cy="91440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594360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518148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434340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525780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449568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6705720" y="2514600"/>
            <a:ext cx="304560" cy="3808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010280" y="1371240"/>
            <a:ext cx="0" cy="15238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523880" y="2057040"/>
            <a:ext cx="457200" cy="762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81080" y="1295280"/>
            <a:ext cx="0" cy="14479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2370200">
            <a:off x="3190680" y="3371760"/>
            <a:ext cx="2717640" cy="1473120"/>
          </a:xfrm>
          <a:custGeom>
            <a:avLst/>
            <a:gdLst/>
            <a:ahLst/>
            <a:rect l="l" t="t" r="r" b="b"/>
            <a:pathLst>
              <a:path w="1832" h="1472">
                <a:moveTo>
                  <a:pt x="144" y="32"/>
                </a:moveTo>
                <a:cubicBezTo>
                  <a:pt x="948" y="16"/>
                  <a:pt x="1752" y="0"/>
                  <a:pt x="1776" y="128"/>
                </a:cubicBezTo>
                <a:cubicBezTo>
                  <a:pt x="1800" y="256"/>
                  <a:pt x="296" y="640"/>
                  <a:pt x="288" y="800"/>
                </a:cubicBezTo>
                <a:cubicBezTo>
                  <a:pt x="280" y="960"/>
                  <a:pt x="1624" y="984"/>
                  <a:pt x="1728" y="1088"/>
                </a:cubicBezTo>
                <a:cubicBezTo>
                  <a:pt x="1832" y="1192"/>
                  <a:pt x="1168" y="1384"/>
                  <a:pt x="912" y="1424"/>
                </a:cubicBezTo>
                <a:cubicBezTo>
                  <a:pt x="656" y="1464"/>
                  <a:pt x="344" y="1320"/>
                  <a:pt x="192" y="1328"/>
                </a:cubicBezTo>
                <a:cubicBezTo>
                  <a:pt x="40" y="1336"/>
                  <a:pt x="20" y="1404"/>
                  <a:pt x="0" y="147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4952880"/>
            <a:ext cx="1523880" cy="1219320"/>
          </a:xfrm>
          <a:custGeom>
            <a:avLst/>
            <a:gdLst>
              <a:gd name="textAreaLeft" fmla="*/ 627840 w 1523880"/>
              <a:gd name="textAreaRight" fmla="*/ 896040 w 152388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638680"/>
            <a:ext cx="533160" cy="609840"/>
          </a:xfrm>
          <a:prstGeom prst="irregularSeal1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297180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838080"/>
            <a:ext cx="1600200" cy="762120"/>
          </a:xfrm>
          <a:prstGeom prst="ellipse">
            <a:avLst/>
          </a:prstGeom>
          <a:solidFill>
            <a:srgbClr val="cccc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453200">
            <a:off x="836640" y="534960"/>
            <a:ext cx="915840" cy="1370160"/>
          </a:xfrm>
          <a:prstGeom prst="pentagon">
            <a:avLst/>
          </a:prstGeom>
          <a:solidFill>
            <a:srgbClr val="66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1619280" cy="1535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67480" y="198108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1600200" cy="1455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41600" y="2084400"/>
            <a:ext cx="108000" cy="81000"/>
          </a:xfrm>
          <a:custGeom>
            <a:avLst/>
            <a:gdLst/>
            <a:ahLst/>
            <a:rect l="l" t="t" r="r" b="b"/>
            <a:pathLst>
              <a:path w="68" h="51">
                <a:moveTo>
                  <a:pt x="68" y="0"/>
                </a:moveTo>
                <a:cubicBezTo>
                  <a:pt x="45" y="17"/>
                  <a:pt x="13" y="26"/>
                  <a:pt x="0" y="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crow12"/>
          <p:cNvPicPr/>
          <p:nvPr/>
        </p:nvPicPr>
        <p:blipFill>
          <a:blip r:embed="rId2"/>
          <a:stretch/>
        </p:blipFill>
        <p:spPr>
          <a:xfrm>
            <a:off x="6858000" y="304920"/>
            <a:ext cx="2071800" cy="1904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crow12"/>
          <p:cNvPicPr/>
          <p:nvPr/>
        </p:nvPicPr>
        <p:blipFill>
          <a:blip r:embed="rId3"/>
          <a:stretch/>
        </p:blipFill>
        <p:spPr>
          <a:xfrm>
            <a:off x="6095880" y="4114800"/>
            <a:ext cx="259092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chelyaby-priut.ucoz.ru/_ph/12/1/85393767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4605480"/>
            <a:ext cx="2895840" cy="1752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chelyaby-priut.ucoz.ru/_ph/12/1/85393767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963720"/>
            <a:ext cx="2743200" cy="16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2438280" y="457200"/>
          <a:ext cx="4602240" cy="5943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457200"/>
                    <a:ext cx="4602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502080" cy="4292640"/>
          </a:xfrm>
          <a:prstGeom prst="rect">
            <a:avLst/>
          </a:prstGeom>
          <a:ln w="0">
            <a:noFill/>
          </a:ln>
        </p:spPr>
      </p:pic>
      <p:sp>
        <p:nvSpPr>
          <p:cNvPr id="101" name="Tree"/>
          <p:cNvSpPr/>
          <p:nvPr/>
        </p:nvSpPr>
        <p:spPr>
          <a:xfrm>
            <a:off x="3743280" y="1268280"/>
            <a:ext cx="5400720" cy="558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ного бед таят леса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лк, медведь там и лиса!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ш зверек живет в тревоге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 беды уносит ноги..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у-ка, быстро отгадай-ка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 зверек зовется? .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8" descr="35126b8bc2135f19cc605ec22bf9c868.gif"/>
          <p:cNvPicPr/>
          <p:nvPr/>
        </p:nvPicPr>
        <p:blipFill>
          <a:blip r:embed="rId2"/>
          <a:stretch/>
        </p:blipFill>
        <p:spPr>
          <a:xfrm>
            <a:off x="4267080" y="2666880"/>
            <a:ext cx="2967120" cy="37465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35126b8bc2135f19cc605ec22bf9c868.gif"/>
          <p:cNvPicPr/>
          <p:nvPr/>
        </p:nvPicPr>
        <p:blipFill>
          <a:blip r:embed="rId3"/>
          <a:stretch/>
        </p:blipFill>
        <p:spPr>
          <a:xfrm>
            <a:off x="1371600" y="4038480"/>
            <a:ext cx="1941480" cy="2451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35126b8bc2135f19cc605ec22bf9c868.gif"/>
          <p:cNvPicPr/>
          <p:nvPr/>
        </p:nvPicPr>
        <p:blipFill>
          <a:blip r:embed="rId4"/>
          <a:stretch/>
        </p:blipFill>
        <p:spPr>
          <a:xfrm>
            <a:off x="4114800" y="152280"/>
            <a:ext cx="1941480" cy="24512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35126b8bc2135f19cc605ec22bf9c868.gif"/>
          <p:cNvPicPr/>
          <p:nvPr/>
        </p:nvPicPr>
        <p:blipFill>
          <a:blip r:embed="rId5"/>
          <a:stretch/>
        </p:blipFill>
        <p:spPr>
          <a:xfrm>
            <a:off x="228600" y="304920"/>
            <a:ext cx="3125880" cy="37335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35126b8bc2135f19cc605ec22bf9c868.gif"/>
          <p:cNvPicPr/>
          <p:nvPr/>
        </p:nvPicPr>
        <p:blipFill>
          <a:blip r:embed="rId6"/>
          <a:stretch/>
        </p:blipFill>
        <p:spPr>
          <a:xfrm>
            <a:off x="7202520" y="4191120"/>
            <a:ext cx="194148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086600" y="2438280"/>
          <a:ext cx="15080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438280"/>
                    <a:ext cx="15080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819520" y="1523880"/>
          <a:ext cx="1508040" cy="22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523880"/>
                    <a:ext cx="15080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80880" y="457200"/>
          <a:ext cx="1508400" cy="20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57200"/>
                    <a:ext cx="15084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7162920" y="3124080"/>
            <a:ext cx="1211040" cy="959040"/>
            <a:chOff x="7162920" y="3124080"/>
            <a:chExt cx="1211040" cy="959040"/>
          </a:xfrm>
        </p:grpSpPr>
        <p:graphicFrame>
          <p:nvGraphicFramePr>
            <p:cNvPr id="115" name=""/>
            <p:cNvGraphicFramePr/>
            <p:nvPr/>
          </p:nvGraphicFramePr>
          <p:xfrm>
            <a:off x="7162920" y="3657600"/>
            <a:ext cx="1211040" cy="425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62920" y="3657600"/>
                      <a:ext cx="121104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7315200" y="3124080"/>
            <a:ext cx="990720" cy="311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3124080"/>
                      <a:ext cx="990720" cy="3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9" name=""/>
          <p:cNvGrpSpPr/>
          <p:nvPr/>
        </p:nvGrpSpPr>
        <p:grpSpPr>
          <a:xfrm>
            <a:off x="2895480" y="2362320"/>
            <a:ext cx="1211040" cy="958320"/>
            <a:chOff x="2895480" y="2362320"/>
            <a:chExt cx="1211040" cy="958320"/>
          </a:xfrm>
        </p:grpSpPr>
        <p:graphicFrame>
          <p:nvGraphicFramePr>
            <p:cNvPr id="120" name=""/>
            <p:cNvGraphicFramePr/>
            <p:nvPr/>
          </p:nvGraphicFramePr>
          <p:xfrm>
            <a:off x="2895480" y="2895480"/>
            <a:ext cx="1211040" cy="42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2895480"/>
                      <a:ext cx="121104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"/>
            <p:cNvGraphicFramePr/>
            <p:nvPr/>
          </p:nvGraphicFramePr>
          <p:xfrm>
            <a:off x="3047760" y="2362320"/>
            <a:ext cx="990720" cy="311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047760" y="2362320"/>
                      <a:ext cx="99072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4" name=""/>
          <p:cNvGrpSpPr/>
          <p:nvPr/>
        </p:nvGrpSpPr>
        <p:grpSpPr>
          <a:xfrm>
            <a:off x="457200" y="1143000"/>
            <a:ext cx="1211040" cy="958320"/>
            <a:chOff x="457200" y="1143000"/>
            <a:chExt cx="1211040" cy="958320"/>
          </a:xfrm>
        </p:grpSpPr>
        <p:graphicFrame>
          <p:nvGraphicFramePr>
            <p:cNvPr id="125" name=""/>
            <p:cNvGraphicFramePr/>
            <p:nvPr/>
          </p:nvGraphicFramePr>
          <p:xfrm>
            <a:off x="457200" y="1676160"/>
            <a:ext cx="1211040" cy="425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200" y="1676160"/>
                      <a:ext cx="121104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"/>
            <p:cNvGraphicFramePr/>
            <p:nvPr/>
          </p:nvGraphicFramePr>
          <p:xfrm>
            <a:off x="609480" y="1143000"/>
            <a:ext cx="990720" cy="311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9480" y="1143000"/>
                      <a:ext cx="99072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9" name=""/>
          <p:cNvGraphicFramePr/>
          <p:nvPr/>
        </p:nvGraphicFramePr>
        <p:xfrm>
          <a:off x="5715000" y="0"/>
          <a:ext cx="1508040" cy="1752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15000" y="0"/>
                    <a:ext cx="1508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52280" y="4952880"/>
          <a:ext cx="1508400" cy="1600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52280" y="4952880"/>
                    <a:ext cx="15084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23"/>
          <a:stretch/>
        </p:blipFill>
        <p:spPr>
          <a:xfrm>
            <a:off x="228600" y="2819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4"/>
          <a:stretch/>
        </p:blipFill>
        <p:spPr>
          <a:xfrm>
            <a:off x="7315200" y="76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5"/>
          <a:stretch/>
        </p:blipFill>
        <p:spPr>
          <a:xfrm>
            <a:off x="4495680" y="4648320"/>
            <a:ext cx="2133720" cy="19018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35126b8bc2135f19cc605ec22bf9c868.gif"/>
          <p:cNvPicPr/>
          <p:nvPr/>
        </p:nvPicPr>
        <p:blipFill>
          <a:blip r:embed="rId26"/>
          <a:stretch/>
        </p:blipFill>
        <p:spPr>
          <a:xfrm>
            <a:off x="1447920" y="3733920"/>
            <a:ext cx="2484360" cy="31366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" descr="35126b8bc2135f19cc605ec22bf9c868.gif"/>
          <p:cNvPicPr/>
          <p:nvPr/>
        </p:nvPicPr>
        <p:blipFill>
          <a:blip r:embed="rId27"/>
          <a:stretch/>
        </p:blipFill>
        <p:spPr>
          <a:xfrm>
            <a:off x="4343400" y="1523880"/>
            <a:ext cx="2424240" cy="3276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35126b8bc2135f19cc605ec22bf9c868.gif"/>
          <p:cNvPicPr/>
          <p:nvPr/>
        </p:nvPicPr>
        <p:blipFill>
          <a:blip r:embed="rId28"/>
          <a:stretch/>
        </p:blipFill>
        <p:spPr>
          <a:xfrm>
            <a:off x="7086600" y="4648320"/>
            <a:ext cx="194148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8" descr="35126b8bc2135f19cc605ec22bf9c868.gif"/>
          <p:cNvPicPr/>
          <p:nvPr/>
        </p:nvPicPr>
        <p:blipFill>
          <a:blip r:embed="rId29"/>
          <a:stretch/>
        </p:blipFill>
        <p:spPr>
          <a:xfrm>
            <a:off x="1905120" y="0"/>
            <a:ext cx="1941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ree"/>
          <p:cNvSpPr/>
          <p:nvPr/>
        </p:nvSpPr>
        <p:spPr>
          <a:xfrm>
            <a:off x="228600" y="228600"/>
            <a:ext cx="2514600" cy="2133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ree"/>
          <p:cNvSpPr/>
          <p:nvPr/>
        </p:nvSpPr>
        <p:spPr>
          <a:xfrm>
            <a:off x="228600" y="3962520"/>
            <a:ext cx="2514600" cy="2133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ree"/>
          <p:cNvSpPr/>
          <p:nvPr/>
        </p:nvSpPr>
        <p:spPr>
          <a:xfrm>
            <a:off x="2438280" y="1523880"/>
            <a:ext cx="2514600" cy="2133720"/>
          </a:xfr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ree"/>
          <p:cNvSpPr/>
          <p:nvPr/>
        </p:nvSpPr>
        <p:spPr>
          <a:xfrm>
            <a:off x="4724280" y="3124080"/>
            <a:ext cx="2514600" cy="2133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ree"/>
          <p:cNvSpPr/>
          <p:nvPr/>
        </p:nvSpPr>
        <p:spPr>
          <a:xfrm>
            <a:off x="6629400" y="4495680"/>
            <a:ext cx="2514600" cy="2133720"/>
          </a:xfr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ree"/>
          <p:cNvSpPr/>
          <p:nvPr/>
        </p:nvSpPr>
        <p:spPr>
          <a:xfrm>
            <a:off x="6400800" y="0"/>
            <a:ext cx="2514600" cy="2133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3:20:30Z</dcterms:created>
  <dc:creator>Александр</dc:creator>
  <dc:description/>
  <dc:language>en-US</dc:language>
  <cp:lastModifiedBy>Александр</cp:lastModifiedBy>
  <dcterms:modified xsi:type="dcterms:W3CDTF">2013-03-09T13:09:07Z</dcterms:modified>
  <cp:revision>30</cp:revision>
  <dc:subject/>
  <dc:title>Слайд 1</dc:title>
</cp:coreProperties>
</file>