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0.gif" ContentType="image/gif"/>
  <Override PartName="/ppt/media/image21.wmf" ContentType="image/x-wmf"/>
  <Override PartName="/ppt/media/image6.jpeg" ContentType="image/jpeg"/>
  <Override PartName="/ppt/media/image25.gif" ContentType="image/gif"/>
  <Override PartName="/ppt/media/image18.jpeg" ContentType="image/jpeg"/>
  <Override PartName="/ppt/media/image15.png" ContentType="image/png"/>
  <Override PartName="/ppt/media/image17.jpeg" ContentType="image/jpeg"/>
  <Override PartName="/ppt/media/image12.wmf" ContentType="image/x-wmf"/>
  <Override PartName="/ppt/media/image10.jpeg" ContentType="image/jpeg"/>
  <Override PartName="/ppt/media/image23.wmf" ContentType="image/x-wmf"/>
  <Override PartName="/ppt/media/image30.jpeg" ContentType="image/jpeg"/>
  <Override PartName="/ppt/media/image24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3.png" ContentType="image/png"/>
  <Override PartName="/ppt/media/image19.jpeg" ContentType="image/jpeg"/>
  <Override PartName="/ppt/media/image9.jpeg" ContentType="image/jpeg"/>
  <Override PartName="/ppt/media/image11.png" ContentType="image/png"/>
  <Override PartName="/ppt/media/image34.png" ContentType="image/png"/>
  <Override PartName="/ppt/media/image7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wmf" ContentType="image/x-wmf"/>
  <Override PartName="/ppt/media/image27.jpeg" ContentType="image/jpeg"/>
  <Override PartName="/ppt/media/image28.wmf" ContentType="image/x-wmf"/>
  <Override PartName="/ppt/media/image8.wmf" ContentType="image/x-wmf"/>
  <Override PartName="/ppt/media/image4.jpeg" ContentType="image/jpeg"/>
  <Override PartName="/ppt/media/image29.jpeg" ContentType="image/jpeg"/>
  <Override PartName="/ppt/media/image3.wmf" ContentType="image/x-wmf"/>
  <Override PartName="/ppt/media/image2.wmf" ContentType="image/x-wmf"/>
  <Override PartName="/ppt/media/image31.jpeg" ContentType="image/jpeg"/>
  <Override PartName="/ppt/media/image14.gif" ContentType="image/gif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88F0-9E83-4597-9F02-A4E55C8B3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6E50-97FB-45AD-927B-68101907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E6B7-0A73-490C-81F6-D347BC06C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650D-480D-4CF7-9F57-4AB3AEA60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5429-1407-48E6-91E6-8959F22E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BA07-95BD-4617-839D-169DBE81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ED35-5AB3-4D8E-8940-76A1F58F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15B2-20DD-4387-97F0-4F63E168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64C1-C3B7-404E-8A46-B1074FC1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59FC-32DF-4EE4-826E-F02C5542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9AA0-14D7-42A9-AC14-1F8DEF93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AE0A-6712-41C4-845E-73291258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FA9B-929B-4457-8C41-B380D43769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Forte"/>
              </a:rPr>
              <a:t>Die Brüder Grim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acob Ludwig Ca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eboren 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. Januar 178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ilhelm Ca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eboren 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4. Februar 178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03440" y="1981080"/>
            <a:ext cx="3773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8000"/>
                </a:solidFill>
                <a:latin typeface="Comic Sans MS"/>
              </a:rPr>
              <a:t>Sie studieren Rech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39657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ff"/>
                </a:solidFill>
                <a:uFillTx/>
                <a:latin typeface="Comic Sans MS"/>
              </a:rPr>
              <a:t>1806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beginnen die Brüder Märchen zu sammel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426708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419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e befragen viele Leute in der Gegen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23880" y="609480"/>
            <a:ext cx="579132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aher stammen die meisten Grimm Märchen aus Hess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3807000" cy="4125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095800" y="1600200"/>
            <a:ext cx="3411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1808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utter Dorothea Grimm stirb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akob nimmt eine Stelle als Bibliothekar in Kassel an, um die Geschwister zu versorg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ilhelm folgt ba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065240" y="1981080"/>
            <a:ext cx="3051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1812 und 18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2971800"/>
            <a:ext cx="42670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and I und II der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roadway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Broadway"/>
              </a:rPr>
              <a:t>Kinder und Hausmärche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roadway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erschein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ff"/>
                </a:solidFill>
                <a:uFillTx/>
                <a:latin typeface="Comic Sans MS"/>
              </a:rPr>
              <a:t>18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ff"/>
                </a:solidFill>
                <a:latin typeface="Comic Sans MS"/>
              </a:rPr>
              <a:t>Wilhelm heiratet Henrietta Dorothea W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ff"/>
                </a:solidFill>
                <a:latin typeface="Comic Sans MS"/>
              </a:rPr>
              <a:t>Sie hatte den Brüdern viel Material für die Märchensammlung gegeb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47920" y="2514600"/>
            <a:ext cx="26985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Times New Roman"/>
              </a:rPr>
              <a:t>Sie bekommen drei Kinder,</a:t>
            </a:r>
            <a:br>
              <a:rPr sz="4400"/>
            </a:br>
            <a:r>
              <a:rPr b="0" lang="en-GB" sz="4400" spc="-1" strike="noStrike">
                <a:solidFill>
                  <a:srgbClr val="a50021"/>
                </a:solidFill>
                <a:latin typeface="Times New Roman"/>
              </a:rPr>
              <a:t>Hermann, Rudolf und Augus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480060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Bis 18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e Brüder forschen und forschen und forschen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ie interessieren sich für Linguistik, mittelalterliche Literatur und Folkl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5800" y="2317680"/>
            <a:ext cx="380988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183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ie Brüder werden an die Universität </a:t>
            </a:r>
            <a:r>
              <a:rPr b="0" lang="en-GB" sz="4000" spc="-1" strike="noStrike" u="sng">
                <a:solidFill>
                  <a:srgbClr val="000000"/>
                </a:solidFill>
                <a:uFillTx/>
                <a:latin typeface="Comic Sans MS"/>
              </a:rPr>
              <a:t>Göttingen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berufen</a:t>
            </a:r>
            <a:r>
              <a:rPr b="0" lang="en-GB" sz="4000" spc="-1" strike="noStrike" u="sng">
                <a:solidFill>
                  <a:srgbClr val="000000"/>
                </a:solidFill>
                <a:uFillTx/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24280" y="2590920"/>
            <a:ext cx="381024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Die Eltern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Philipp Wilhelm Grim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Jur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orothea Grimm geb. Zimm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19920" y="1066680"/>
            <a:ext cx="149220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99"/>
                </a:solidFill>
                <a:latin typeface="Comic Sans MS"/>
              </a:rPr>
              <a:t>Die Brüder bleiben bis 1848 in Göttingen. Sie werden aus politischen Gründen gefeuer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86000" y="3200400"/>
            <a:ext cx="42670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e gehen an die Universität 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Berlin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609624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 u="sng">
                <a:solidFill>
                  <a:srgbClr val="ffff00"/>
                </a:solidFill>
                <a:uFillTx/>
                <a:latin typeface="Comic Sans MS"/>
              </a:rPr>
              <a:t>Die Professoren Grimm in Berl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22856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Jacob arbeitet an der Universität bis 1848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7960" y="22093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Wilhelm arbeitet an der Universität bis 185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8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c0066"/>
                </a:solidFill>
                <a:latin typeface="Comic Sans MS"/>
              </a:rPr>
              <a:t>Dann widmen sie sich eigenen Studi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981080" y="2065320"/>
            <a:ext cx="518184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acob insbesonde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teressiert sich für deutsche Sprachgeschichte. Er arbeitet an einer deutschen Grammatik und einem deutschen Wörterbuch.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ilhelm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il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90440" y="1981080"/>
            <a:ext cx="30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ie liegen auf dem St. Matthäus Friedhof in Berlin begrab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2666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ilhelm Grimm stirbt 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6. Dezember 185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552720" y="1219320"/>
            <a:ext cx="2590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akob Grimm stirbt am 20. September 186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819520" y="457200"/>
            <a:ext cx="3886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 Sans MS"/>
              </a:rPr>
              <a:t>Einige Märche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447920" y="1905120"/>
            <a:ext cx="6248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33cc"/>
                </a:solidFill>
                <a:latin typeface="Comic Sans MS"/>
              </a:rPr>
              <a:t>Einige Märche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9933"/>
                </a:solidFill>
                <a:latin typeface="Times New Roman"/>
              </a:rPr>
              <a:t>Hänsel und Gret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3784680" cy="5257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876920" y="1066680"/>
            <a:ext cx="368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3733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Rapunze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181480" y="0"/>
            <a:ext cx="271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Aschenputt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895480" y="2057400"/>
            <a:ext cx="35290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75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75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ie Kinder der Familie Grim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riedrich Hermann Georg Grimm (1783-178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acob Ludwig Carl Grimm (1785-186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ilhelm Carl Grimm (1786-1859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rl Friedrich Grimm (1787-185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erdinand Philipp Grimm (1788-184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udwig Emil Grimm (1790-186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riedrich Grimm (1791-179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arlotte (Lotte) Amalie Hassenpflug, neé Grimm (1793-183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eorg Eduard Grimm (1794-179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0" y="2743200"/>
            <a:ext cx="17953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Comic Sans MS"/>
              </a:rPr>
              <a:t>Der Wolf und die sieben Geißle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200400" y="838080"/>
            <a:ext cx="24112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35053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Rotkäppch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214880" y="228600"/>
            <a:ext cx="4383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2520" y="2057040"/>
            <a:ext cx="3886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Comic Sans MS"/>
              </a:rPr>
              <a:t>Dornrösch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01600" y="0"/>
            <a:ext cx="4638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Der Froschköni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4988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33cc"/>
                </a:solidFill>
                <a:uFillTx/>
                <a:latin typeface="Comic Sans MS"/>
              </a:rPr>
              <a:t>Hanau</a:t>
            </a:r>
            <a:br>
              <a:rPr sz="4400"/>
            </a:b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Geburtsort der Brüder Grim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352680" y="2895480"/>
            <a:ext cx="28958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Die Familie zieht 1791 nach Steinau u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1955880" cy="2209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934320" y="2971800"/>
            <a:ext cx="1752480" cy="129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124080" y="3276720"/>
            <a:ext cx="35053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Comic Sans MS"/>
              </a:rPr>
              <a:t>Der Vater stirbt </a:t>
            </a:r>
            <a:r>
              <a:rPr b="1" lang="en-GB" sz="4400" spc="-1" strike="noStrike" u="sng">
                <a:solidFill>
                  <a:srgbClr val="cc0000"/>
                </a:solidFill>
                <a:uFillTx/>
                <a:latin typeface="Comic Sans MS"/>
              </a:rPr>
              <a:t>1796</a:t>
            </a:r>
            <a:r>
              <a:rPr b="1" lang="en-GB" sz="4400" spc="-1" strike="noStrike">
                <a:solidFill>
                  <a:srgbClr val="cc0000"/>
                </a:solidFill>
                <a:latin typeface="Comic Sans MS"/>
              </a:rPr>
              <a:t>.</a:t>
            </a:r>
            <a:br>
              <a:rPr sz="4400"/>
            </a:br>
            <a:br>
              <a:rPr sz="4400"/>
            </a:br>
            <a:r>
              <a:rPr b="1" lang="en-GB" sz="4400" spc="-1" strike="noStrike">
                <a:solidFill>
                  <a:srgbClr val="cc0000"/>
                </a:solidFill>
                <a:latin typeface="Comic Sans MS"/>
              </a:rPr>
              <a:t>Mit elf Jahren wird Jacob Familienoberhaupt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76720" y="4267080"/>
            <a:ext cx="28191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17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cob und Wilhelm ziehen zu einer Tante nach Kass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ort besuchen sie das Gymnas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429000" y="3809880"/>
            <a:ext cx="266220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 u="sng">
                <a:solidFill>
                  <a:srgbClr val="ff0000"/>
                </a:solidFill>
                <a:uFillTx/>
                <a:latin typeface="Comic Sans MS"/>
              </a:rPr>
              <a:t>Kasse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84582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18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acob beginnt an der Universität Marburg zu studie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ilhelm folgt ihm ein Jahr spä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8600" y="2463840"/>
            <a:ext cx="5029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16:08:51Z</dcterms:created>
  <dc:creator>RM</dc:creator>
  <dc:description/>
  <dc:language>en-US</dc:language>
  <cp:lastModifiedBy>gg</cp:lastModifiedBy>
  <dcterms:modified xsi:type="dcterms:W3CDTF">2007-04-19T19:50:33Z</dcterms:modified>
  <cp:revision>30</cp:revision>
  <dc:subject/>
  <dc:title>Die Brüder Grimm</dc:title>
</cp:coreProperties>
</file>