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9B88-C073-4CC8-BFE2-27EC6BCD7F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1AF1-C543-4E37-ADE5-B7EF740D4C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3513-0FB3-447C-BC13-FFF75E9B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E966-473B-47DF-A8F9-D404BD3B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36B-CABA-437F-B185-DC897989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36F-8717-46BE-8368-7672F0A2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E6A2-6DDF-4C58-A9A6-C29ACA5F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9BC1-D76C-4BDE-91BE-61829DA2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48AA-7DE1-4A65-8C38-4608A162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B6C7-9EFF-4304-9124-C569D6EC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DCB3-7FF6-4A89-B7B4-90F393D8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6FE9-A751-44F2-A617-FD32A0D9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C6ED-841B-4337-A9D3-019B452E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A20-5FAC-49F1-B33B-D72A943D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4A0A-8652-451D-B3E8-36065B7D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3FC2-8D70-44C5-AAF4-619B444B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C2E6-BED2-4A93-9F0F-635ADB84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5140-F301-4A84-9090-36332211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98BB-D559-465B-88AA-52F9DB3F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E63DF-9625-4D33-9DB3-D59F92F2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AD14B-D2CE-4D60-B548-A4B4000E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AA4FC-8C8F-47E8-98CA-31C0D236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82FF0-6342-413B-88E0-DB9070CE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000ED-B88B-4299-A268-4AEDC7CF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4BD-E78B-44BB-B4C0-4549E7F5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C7F54-4D75-42C2-BF54-19CAE3C6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7A77A-2B17-4A4F-9F2E-D11E24DD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203F9-A1CE-41D5-834C-3E714DFF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A33E8-8F9D-413E-9AE7-0FB0A655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33B45-CB6A-43E6-9E60-A805372D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6B6E5-0BAB-4472-90FD-66DF4C0B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8D7E9-196C-430C-8D08-64FF4E5E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0BFD8-8FFC-44C2-BDE4-813D3B36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334B1-9F03-4AEF-B4E6-8F9210FC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EDC5A-3971-48B0-85B3-2B78276B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7C3B-3E6B-4836-9726-E0723CDD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9D3B8-FEA9-4E62-AE74-E3406043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E70EB-4B52-466D-89E9-09C3F1B4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D54D6-1000-4ABB-9CC0-9C57B587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F5A79-9D1D-4296-830F-B8BC8AE8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43E51-6E48-408F-84DA-448F38DD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A5AE7-AC5A-4ECE-8B6F-DA8DE4BE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A67DA-58B6-44AE-939D-475F64E3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BE0BF-11DE-4518-AF25-42E4EAB1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C098A-1969-4422-AC49-2E3A23A7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8C7-E1A7-4098-AA10-B50D7E21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984-4942-4A62-8B0C-C42FE622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5D83-1DAE-4FA9-8481-C5CE660F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597C-5E89-4E38-91EE-16D8BCE3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EE7-AE76-4B43-B2C7-90F1D823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6E14-B9B8-4892-9091-8F32A2B50E5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BC2A-899D-4890-BF21-6ED081D5E6A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C841-2FF0-497E-92FB-2089A103ECC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80BF-096B-4BF0-ABC8-2245CE3C8A9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Calibri"/>
              </a:rPr>
              <a:t>        </a:t>
            </a:r>
            <a:r>
              <a:rPr b="0" lang="ru-RU" sz="6000" spc="-1" strike="noStrike">
                <a:solidFill>
                  <a:srgbClr val="ffc000"/>
                </a:solidFill>
                <a:latin typeface="Calibri"/>
              </a:rPr>
              <a:t>Зажги свою мечту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69de3ad6f49a"/>
          <p:cNvPicPr/>
          <p:nvPr/>
        </p:nvPicPr>
        <p:blipFill>
          <a:blip r:embed="rId1"/>
          <a:stretch/>
        </p:blipFill>
        <p:spPr>
          <a:xfrm>
            <a:off x="684360" y="1989000"/>
            <a:ext cx="777528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Calibri"/>
              </a:rPr>
              <a:t>        </a:t>
            </a:r>
            <a:r>
              <a:rPr b="0" lang="ru-RU" sz="6000" spc="-1" strike="noStrike">
                <a:solidFill>
                  <a:srgbClr val="ffc000"/>
                </a:solidFill>
                <a:latin typeface="Calibri"/>
              </a:rPr>
              <a:t>Зажги свою мечту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4" descr="69de3ad6f49a"/>
          <p:cNvPicPr/>
          <p:nvPr/>
        </p:nvPicPr>
        <p:blipFill>
          <a:blip r:embed="rId1"/>
          <a:stretch/>
        </p:blipFill>
        <p:spPr>
          <a:xfrm>
            <a:off x="684360" y="1989000"/>
            <a:ext cx="777528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ru-RU" sz="6000" spc="-1" strike="noStrike">
                <a:solidFill>
                  <a:srgbClr val="ffc000"/>
                </a:solidFill>
                <a:latin typeface="Calibri"/>
              </a:rPr>
              <a:t>Корабль мечты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725480" y="2346480"/>
            <a:ext cx="569304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11280" y="836640"/>
            <a:ext cx="590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000" spc="-1" strike="noStrike">
                <a:solidFill>
                  <a:srgbClr val="083763"/>
                </a:solidFill>
                <a:latin typeface="Constantia"/>
              </a:rPr>
              <a:t>Счастье – это цель жизни человека, подлинное счастье достигается умением организовать свой внутренний мир – уметь ставить задачи, строить планы и реализовывать их, иметь мечту и воплощать её в жизнь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4" descr="BS01316_"/>
          <p:cNvPicPr/>
          <p:nvPr/>
        </p:nvPicPr>
        <p:blipFill>
          <a:blip r:embed="rId1"/>
          <a:stretch/>
        </p:blipFill>
        <p:spPr>
          <a:xfrm>
            <a:off x="6135840" y="692280"/>
            <a:ext cx="3008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95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28880" y="6091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04617b"/>
                </a:solidFill>
                <a:latin typeface="Calibri"/>
              </a:rPr>
              <a:t>Технология</a:t>
            </a: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ru-RU" sz="5400" spc="-1" strike="noStrike">
                <a:solidFill>
                  <a:srgbClr val="04617b"/>
                </a:solidFill>
                <a:latin typeface="Calibri"/>
              </a:rPr>
              <a:t>постановки цели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763"/>
                </a:solidFill>
                <a:latin typeface="Constantia"/>
              </a:rPr>
              <a:t>1.Безоговорочно прими тот факт, что ты достоин мечт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BD07311_"/>
          <p:cNvPicPr/>
          <p:nvPr/>
        </p:nvPicPr>
        <p:blipFill>
          <a:blip r:embed="rId1"/>
          <a:stretch/>
        </p:blipFill>
        <p:spPr>
          <a:xfrm>
            <a:off x="228600" y="228600"/>
            <a:ext cx="165744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BD07311_"/>
          <p:cNvPicPr/>
          <p:nvPr/>
        </p:nvPicPr>
        <p:blipFill>
          <a:blip r:embed="rId1"/>
          <a:stretch/>
        </p:blipFill>
        <p:spPr>
          <a:xfrm>
            <a:off x="324000" y="620640"/>
            <a:ext cx="1557360" cy="1800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826920" y="2637000"/>
            <a:ext cx="734544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83763"/>
                </a:solidFill>
                <a:latin typeface="Constantia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Достигай цели самостоятельно, будь независим от действий других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BD07311_"/>
          <p:cNvPicPr/>
          <p:nvPr/>
        </p:nvPicPr>
        <p:blipFill>
          <a:blip r:embed="rId1"/>
          <a:stretch/>
        </p:blipFill>
        <p:spPr>
          <a:xfrm>
            <a:off x="324000" y="620640"/>
            <a:ext cx="1557360" cy="1800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826920" y="2637000"/>
            <a:ext cx="734544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763"/>
                </a:solidFill>
                <a:latin typeface="Constantia"/>
              </a:rPr>
              <a:t>3. Достигая цели всегда приходиться жертвовать временем, усилиями, отказом от развлечений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BD07311_"/>
          <p:cNvPicPr/>
          <p:nvPr/>
        </p:nvPicPr>
        <p:blipFill>
          <a:blip r:embed="rId1"/>
          <a:stretch/>
        </p:blipFill>
        <p:spPr>
          <a:xfrm>
            <a:off x="324000" y="620640"/>
            <a:ext cx="1557360" cy="1800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826920" y="2637000"/>
            <a:ext cx="734544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763"/>
                </a:solidFill>
                <a:latin typeface="Constantia"/>
              </a:rPr>
              <a:t>4. Укажите точные сроки реализации цели, помните, что они должны быть реальным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763"/>
                </a:solidFill>
                <a:latin typeface="Constantia"/>
              </a:rPr>
              <a:t>5. Не слушайте негативных советов, достигайте мотивации успех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4" descr="BD07311_"/>
          <p:cNvPicPr/>
          <p:nvPr/>
        </p:nvPicPr>
        <p:blipFill>
          <a:blip r:embed="rId1"/>
          <a:stretch/>
        </p:blipFill>
        <p:spPr>
          <a:xfrm>
            <a:off x="228600" y="228600"/>
            <a:ext cx="165744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53880" y="189000"/>
            <a:ext cx="853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3763"/>
                </a:solidFill>
                <a:latin typeface="Times New Roman"/>
              </a:rPr>
              <a:t>Отсутствие мечты приводит к реализации праздных желаний, а это – дорога в никуда!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3" descr="BD04912_"/>
          <p:cNvPicPr/>
          <p:nvPr/>
        </p:nvPicPr>
        <p:blipFill>
          <a:blip r:embed="rId1"/>
          <a:stretch/>
        </p:blipFill>
        <p:spPr>
          <a:xfrm>
            <a:off x="1785960" y="2428920"/>
            <a:ext cx="50007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4:38:19Z</dcterms:created>
  <dc:creator>Parvan</dc:creator>
  <dc:description/>
  <dc:language>en-US</dc:language>
  <cp:lastModifiedBy>DNA7 X86</cp:lastModifiedBy>
  <dcterms:modified xsi:type="dcterms:W3CDTF">2010-09-17T03:18:56Z</dcterms:modified>
  <cp:revision>12</cp:revision>
  <dc:subject/>
  <dc:title>Тема: «Я умею ставить цели и достигать их» </dc:title>
</cp:coreProperties>
</file>