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png" ContentType="image/png"/>
  <Override PartName="/ppt/media/image8.wmf" ContentType="image/x-wmf"/>
  <Override PartName="/ppt/media/image9.wmf" ContentType="image/x-wmf"/>
  <Override PartName="/ppt/media/image10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52412-7424-47EB-8B08-E0BE68F99DC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A2293-5DB1-4766-B7CC-208F45D11FD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03E9-1775-4995-9977-BA68A5759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3472-831D-4684-8D80-E392CA856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99E5-832E-4C35-989F-4A64291D7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FC26-71B9-47FC-ADAC-9D11DBE66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09D27-00E3-43D3-B398-B1ADC25D8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B0698-CD06-491A-A71E-3154C371E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F5844-D828-4664-BAB3-0B5C81AA2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2FA94-51EC-487B-903B-D1E16D8C4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E4B2C-FA1F-45D4-BCE1-8D99C87DE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1EC96-BEB8-496F-BBE3-BFD30317A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EFD28-A885-4984-8F95-3F12B310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5FA5-AD32-4AC6-B342-7C4838C9B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CF6A3-1540-4429-A597-A047FF601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3789F-2F67-4D98-8C7D-DE25D1088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CD2D4-9C54-4C45-B65D-E57AEFCD6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F66E0-AC39-4B6D-9BB4-265F45F2A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16D29-A669-4772-9326-6A0A9D3B9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E1DB9-05B3-4A1A-B59D-F91FC3691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09B0A-C978-4AAE-A5DC-AA07B050A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F7788-75E9-4503-918E-508BE4F9E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D6AE5-0961-45D6-80EE-6C647744F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94968-112D-4EFB-9F30-EF7D7CE97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67FF-0E59-47B1-AFDC-92F227E8B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11B0F-B25E-42BE-BB4A-BAB7D95BD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AD2C3-F208-4280-B2CB-F1B951D48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92572-EC7A-47DF-90D9-25D10237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0E285-8E49-41A5-A4E2-908FC1C21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2364C-B286-4923-BA08-BADE815FD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EA748-F260-43BF-B060-54892E28B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5736A-850B-4969-8C02-36D7375CC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5EB9D-60F5-4FCA-B033-C4E00395A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A3E4C-ECEB-4CEE-B735-000448F77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FFADA-C183-40B1-8F71-1513F732C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BAEE-2C45-4CC9-A767-541771433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340EB-1F54-44A4-946E-8C5EB12F7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AE5A4-E628-4884-A8CD-9118AC182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4695F-010E-4AAC-ABD3-E6F44CE2A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D6475-E053-4C64-A449-876E6B9BD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79D56-897F-49A3-B3D6-2FBCCBF5D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B4FF6-8E85-4C8B-8310-E0F87A745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F1C1D-AFBF-4209-A7DB-8C31EC43C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3A30C-935C-4909-BA18-1A50C46F3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A8D69-DADC-43EF-AF35-C593E5B6A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4D46-29A1-4BDF-A5CC-857D6DE81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C027-42CE-4250-AD29-8AD98DA33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0B22-CDF2-44FD-B0D6-4EA62E8BE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0A18-FBFE-413C-A376-3A9D70D4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123E-60E4-473F-AF0D-84C99513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D7EFA-1C1F-4A6A-841E-B6D5EEA990AC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1B90A-3A91-407C-9DCD-68C566AF8EF8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B764E-4EED-40B3-A18E-A1F033EEC7D7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BCB59-BB2E-4CA9-AFF1-446682CAC872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c000"/>
                </a:solidFill>
                <a:latin typeface="Calibri"/>
              </a:rPr>
              <a:t>        </a:t>
            </a:r>
            <a:r>
              <a:rPr b="0" lang="ru-RU" sz="6000" spc="-1" strike="noStrike">
                <a:solidFill>
                  <a:srgbClr val="ffc000"/>
                </a:solidFill>
                <a:latin typeface="Calibri"/>
              </a:rPr>
              <a:t>Зажги свою мечту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4" name="Picture 4" descr="69de3ad6f49a"/>
          <p:cNvPicPr/>
          <p:nvPr/>
        </p:nvPicPr>
        <p:blipFill>
          <a:blip r:embed="rId1"/>
          <a:stretch/>
        </p:blipFill>
        <p:spPr>
          <a:xfrm>
            <a:off x="684360" y="1989000"/>
            <a:ext cx="7775280" cy="40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c000"/>
                </a:solidFill>
                <a:latin typeface="Calibri"/>
              </a:rPr>
              <a:t>        </a:t>
            </a:r>
            <a:r>
              <a:rPr b="0" lang="ru-RU" sz="6000" spc="-1" strike="noStrike">
                <a:solidFill>
                  <a:srgbClr val="ffc000"/>
                </a:solidFill>
                <a:latin typeface="Calibri"/>
              </a:rPr>
              <a:t>Зажги свою мечту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4" name="Picture 4" descr="69de3ad6f49a"/>
          <p:cNvPicPr/>
          <p:nvPr/>
        </p:nvPicPr>
        <p:blipFill>
          <a:blip r:embed="rId1"/>
          <a:stretch/>
        </p:blipFill>
        <p:spPr>
          <a:xfrm>
            <a:off x="684360" y="1989000"/>
            <a:ext cx="7775280" cy="40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4617b"/>
                </a:solidFill>
                <a:latin typeface="Calibri"/>
              </a:rPr>
              <a:t>         </a:t>
            </a:r>
            <a:r>
              <a:rPr b="0" lang="ru-RU" sz="6000" spc="-1" strike="noStrike">
                <a:solidFill>
                  <a:srgbClr val="ffc000"/>
                </a:solidFill>
                <a:latin typeface="Calibri"/>
              </a:rPr>
              <a:t>Корабль мечты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1725480" y="2346480"/>
            <a:ext cx="5693040" cy="35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611280" y="836640"/>
            <a:ext cx="5905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3000" spc="-1" strike="noStrike">
                <a:solidFill>
                  <a:srgbClr val="083763"/>
                </a:solidFill>
                <a:latin typeface="Constantia"/>
              </a:rPr>
              <a:t>Счастье – это цель жизни человека, подлинное счастье достигается умением организовать свой внутренний мир – уметь ставить задачи, строить планы и реализовывать их, иметь мечту и воплощать её в жизнь.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Picture 4" descr="BS01316_"/>
          <p:cNvPicPr/>
          <p:nvPr/>
        </p:nvPicPr>
        <p:blipFill>
          <a:blip r:embed="rId1"/>
          <a:stretch/>
        </p:blipFill>
        <p:spPr>
          <a:xfrm>
            <a:off x="6135840" y="692280"/>
            <a:ext cx="30081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8950"/>
                            </p:stCondLst>
                            <p:childTnLst>
                              <p:par>
                                <p:cTn id="32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28880" y="609120"/>
            <a:ext cx="7215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900" spc="-1" strike="noStrike">
                <a:solidFill>
                  <a:srgbClr val="04617b"/>
                </a:solidFill>
                <a:latin typeface="Calibri"/>
              </a:rPr>
              <a:t>Технология</a:t>
            </a:r>
            <a:r>
              <a:rPr b="1" i="1" lang="ru-RU" sz="36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i="1" lang="ru-RU" sz="5400" spc="-1" strike="noStrike">
                <a:solidFill>
                  <a:srgbClr val="04617b"/>
                </a:solidFill>
                <a:latin typeface="Calibri"/>
              </a:rPr>
              <a:t>постановки цели: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83763"/>
                </a:solidFill>
                <a:latin typeface="Constantia"/>
              </a:rPr>
              <a:t>1.Безоговорочно прими тот факт, что ты достоин мечты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Picture 4" descr="BD07311_"/>
          <p:cNvPicPr/>
          <p:nvPr/>
        </p:nvPicPr>
        <p:blipFill>
          <a:blip r:embed="rId1"/>
          <a:stretch/>
        </p:blipFill>
        <p:spPr>
          <a:xfrm>
            <a:off x="228600" y="228600"/>
            <a:ext cx="1657440" cy="17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0"/>
                            </p:stCondLst>
                            <p:childTnLst>
                              <p:par>
                                <p:cTn id="44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4" descr="BD07311_"/>
          <p:cNvPicPr/>
          <p:nvPr/>
        </p:nvPicPr>
        <p:blipFill>
          <a:blip r:embed="rId1"/>
          <a:stretch/>
        </p:blipFill>
        <p:spPr>
          <a:xfrm>
            <a:off x="324000" y="620640"/>
            <a:ext cx="1557360" cy="18003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 txBox="1"/>
          <p:nvPr/>
        </p:nvSpPr>
        <p:spPr>
          <a:xfrm>
            <a:off x="826920" y="2637000"/>
            <a:ext cx="7345440" cy="34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83763"/>
                </a:solidFill>
                <a:latin typeface="Constantia"/>
              </a:rPr>
              <a:t> </a:t>
            </a:r>
            <a:r>
              <a:rPr b="0" lang="ru-RU" sz="4000" spc="-1" strike="noStrike">
                <a:solidFill>
                  <a:srgbClr val="083763"/>
                </a:solidFill>
                <a:latin typeface="Constantia"/>
              </a:rPr>
              <a:t>2.</a:t>
            </a: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4000" spc="-1" strike="noStrike">
                <a:solidFill>
                  <a:srgbClr val="0b5395"/>
                </a:solidFill>
                <a:latin typeface="Constantia"/>
              </a:rPr>
              <a:t>Достигай цели самостоятельно, будь независим от действий других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3" descr="BD07311_"/>
          <p:cNvPicPr/>
          <p:nvPr/>
        </p:nvPicPr>
        <p:blipFill>
          <a:blip r:embed="rId1"/>
          <a:stretch/>
        </p:blipFill>
        <p:spPr>
          <a:xfrm>
            <a:off x="324000" y="620640"/>
            <a:ext cx="1557360" cy="18003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 txBox="1"/>
          <p:nvPr/>
        </p:nvSpPr>
        <p:spPr>
          <a:xfrm>
            <a:off x="826920" y="2637000"/>
            <a:ext cx="7345440" cy="34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83763"/>
                </a:solidFill>
                <a:latin typeface="Constantia"/>
              </a:rPr>
              <a:t>3. Достигая цели всегда приходиться жертвовать временем, усилиями, отказом от развлечений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3" descr="BD07311_"/>
          <p:cNvPicPr/>
          <p:nvPr/>
        </p:nvPicPr>
        <p:blipFill>
          <a:blip r:embed="rId1"/>
          <a:stretch/>
        </p:blipFill>
        <p:spPr>
          <a:xfrm>
            <a:off x="324000" y="620640"/>
            <a:ext cx="1557360" cy="180036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826920" y="2637000"/>
            <a:ext cx="7345440" cy="34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83763"/>
                </a:solidFill>
                <a:latin typeface="Constantia"/>
              </a:rPr>
              <a:t>4. Укажите точные сроки реализации цели, помните, что они должны быть реальными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83763"/>
                </a:solidFill>
                <a:latin typeface="Constantia"/>
              </a:rPr>
              <a:t>5. Не слушайте негативных советов, достигайте мотивации успеха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Picture 4" descr="BD07311_"/>
          <p:cNvPicPr/>
          <p:nvPr/>
        </p:nvPicPr>
        <p:blipFill>
          <a:blip r:embed="rId1"/>
          <a:stretch/>
        </p:blipFill>
        <p:spPr>
          <a:xfrm>
            <a:off x="228600" y="228600"/>
            <a:ext cx="1657440" cy="17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353880" y="189000"/>
            <a:ext cx="8539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83763"/>
                </a:solidFill>
                <a:latin typeface="Times New Roman"/>
              </a:rPr>
              <a:t>Отсутствие мечты приводит к реализации праздных желаний, а это – дорога в никуда!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icture 3" descr="BD04912_"/>
          <p:cNvPicPr/>
          <p:nvPr/>
        </p:nvPicPr>
        <p:blipFill>
          <a:blip r:embed="rId1"/>
          <a:stretch/>
        </p:blipFill>
        <p:spPr>
          <a:xfrm>
            <a:off x="1785960" y="2428920"/>
            <a:ext cx="500076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5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6000"/>
                            </p:stCondLst>
                            <p:childTnLst>
                              <p:par>
                                <p:cTn id="93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3T14:38:19Z</dcterms:created>
  <dc:creator>Parvan</dc:creator>
  <dc:description/>
  <dc:language>en-US</dc:language>
  <cp:lastModifiedBy>DNA7 X86</cp:lastModifiedBy>
  <dcterms:modified xsi:type="dcterms:W3CDTF">2010-09-17T03:18:56Z</dcterms:modified>
  <cp:revision>12</cp:revision>
  <dc:subject/>
  <dc:title>Тема: «Я умею ставить цели и достигать их» </dc:title>
</cp:coreProperties>
</file>