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7FE3-5473-4635-A171-7A77CB40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0137-BFF8-4BD4-8C3E-BA3F7B6E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DD1-A97C-4CDE-9023-1C135C54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4680-23DD-4F7B-8031-D0946680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ACC7-58FC-4660-90BD-FAA1E5C3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0AA6-9F2E-4292-8529-A1F8354C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B0B7-6432-4C0C-8AC1-AAC58EA5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F1C5-0AD8-4693-BA58-F94A95FC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B8D2-6F8F-48A9-A244-9CD3BF36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3FFC-48E7-43E3-BF38-C5FAAC32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EA85-CA75-4BEB-9601-1AEF415D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8B0-1FD1-40A7-832B-573D28E1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A119-8520-4B20-BE61-8C1823B3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C655-C716-486A-B566-BD739305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6F81-41FC-4D8C-957D-66B54783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4BF1-52B1-4557-BADB-8E3A7992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A27C-8A0E-4A93-9A35-E8AF46F4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36459-8072-4697-B5D2-2771376C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34B19-D12B-41E0-A1DF-DEC0DEEA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C27E5-4213-48C1-A206-9FF82DD4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FE456-AE49-47EA-9EEE-3D5EDCA7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D3D6A-6DFD-4727-AF95-AB326A4E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D2B9-9C87-4963-9FB7-97A8615A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6C845-6EEC-4485-BA4F-132ED577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B9E70-4872-4C01-842A-851DBEDD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6DE10-00E5-48FF-95B9-07BCECB5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FED76-3D5F-4EAF-A217-02D934A1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0FD68-34DB-4550-845D-CB0C4993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F2495-D7CB-4D1E-B392-5AD6F543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3E9F9-2AFD-47CF-BB5C-D6E0C5F8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918F-EB91-4384-9BB6-9E482DDE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3515-D57E-47CA-A154-3D3F5BE6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1C9-5B0D-415B-83AC-70E8E7FB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E326-0354-4878-A1CC-D2036E67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F68E-DE5D-40FB-B971-BED31CA5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1C40-9920-47F7-963B-9E82C62F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E7B6-5AF5-416F-8F9C-95BEE7CBDCE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9BDC-5EB9-498B-A8E9-7A0C56772B1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638D-8DC5-4A59-865C-BACE8EA71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79280" y="6025680"/>
            <a:ext cx="878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рок черчения. 9 класс. Учитель: Логунова Л.П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11280" y="2511360"/>
            <a:ext cx="7848360" cy="25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ктическая работа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Чтение и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полнение чертежей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алей"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417080" cy="354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324000" y="3960720"/>
          <a:ext cx="2160360" cy="1339920"/>
        </p:xfrm>
        <a:graphic>
          <a:graphicData uri="http://schemas.openxmlformats.org/drawingml/2006/table">
            <a:tbl>
              <a:tblPr/>
              <a:tblGrid>
                <a:gridCol w="287280"/>
                <a:gridCol w="1873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2843280" y="3933720"/>
          <a:ext cx="2016000" cy="1366560"/>
        </p:xfrm>
        <a:graphic>
          <a:graphicData uri="http://schemas.openxmlformats.org/drawingml/2006/table">
            <a:tbl>
              <a:tblPr/>
              <a:tblGrid>
                <a:gridCol w="268200"/>
                <a:gridCol w="1747800"/>
              </a:tblGrid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5364000" y="3933720"/>
          <a:ext cx="2016360" cy="1366560"/>
        </p:xfrm>
        <a:graphic>
          <a:graphicData uri="http://schemas.openxmlformats.org/drawingml/2006/table">
            <a:tbl>
              <a:tblPr/>
              <a:tblGrid>
                <a:gridCol w="268200"/>
                <a:gridCol w="1748160"/>
              </a:tblGrid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2340000" y="5661000"/>
            <a:ext cx="61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роанализируйте геометрическую форму детали по чертежу, запишите название геометрических тел, образующих форму детали в таблиц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417080" cy="354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250920" y="3960720"/>
          <a:ext cx="2233440" cy="1339920"/>
        </p:xfrm>
        <a:graphic>
          <a:graphicData uri="http://schemas.openxmlformats.org/drawingml/2006/table">
            <a:tbl>
              <a:tblPr/>
              <a:tblGrid>
                <a:gridCol w="296640"/>
                <a:gridCol w="1936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раллелепип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илинд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раллелепип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реугол. приз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2771640" y="3933720"/>
          <a:ext cx="2232000" cy="1366920"/>
        </p:xfrm>
        <a:graphic>
          <a:graphicData uri="http://schemas.openxmlformats.org/drawingml/2006/table">
            <a:tbl>
              <a:tblPr/>
              <a:tblGrid>
                <a:gridCol w="297000"/>
                <a:gridCol w="1935000"/>
              </a:tblGrid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раллелепип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сечен. кону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раллелепип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илинд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364000" y="3933720"/>
          <a:ext cx="2303640" cy="1366920"/>
        </p:xfrm>
        <a:graphic>
          <a:graphicData uri="http://schemas.openxmlformats.org/drawingml/2006/table">
            <a:tbl>
              <a:tblPr/>
              <a:tblGrid>
                <a:gridCol w="306720"/>
                <a:gridCol w="1996920"/>
              </a:tblGrid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раллелепип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реугол. приз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илинд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сеч. пирам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2340000" y="5516640"/>
            <a:ext cx="6119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роверьте задание, поставьте оце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0-1 ошибка – «5», 2-4 ошибки – «4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-7 ошибок – «3», более 7 ошибок – «2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4360" y="243000"/>
            <a:ext cx="896472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9280" y="252360"/>
            <a:ext cx="8856720" cy="62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Гимнастика для гла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gl4" descr=""/>
          <p:cNvPicPr/>
          <p:nvPr/>
        </p:nvPicPr>
        <p:blipFill>
          <a:blip r:embed="rId1"/>
          <a:stretch/>
        </p:blipFill>
        <p:spPr>
          <a:xfrm>
            <a:off x="0" y="1413000"/>
            <a:ext cx="853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500720" y="2897280"/>
            <a:ext cx="3886200" cy="3771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таль (опор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стоит из цилиндра и, поставленной на него по центру, квадратной призмы. Вдоль оси детали проходит сквозное цилиндрическое отверстие. Размеры цилиндра – диаметр основания 50 мм, высота 15 мм. Размеры призмы 30х30 мм, высота 30 мм. Диаметр сквозного отверстия 15 м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6120" y="1268280"/>
            <a:ext cx="4800600" cy="3657600"/>
          </a:xfrm>
          <a:prstGeom prst="hexagon">
            <a:avLst>
              <a:gd name="adj" fmla="val 32813"/>
              <a:gd name="vf" fmla="val 1154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еталь (подставка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остоит из параллелепипеда и цилиндра, расположенного в центре верхней грани параллелепипеда. По оси цилиндра просверлено сквозное цилиндрическое отверстие. Размеры параллелепипеда: осн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0х70 мм, высо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5 мм, диаметр основания цилиндра 50 мм, высота 45 мм. Диаметр сквозного отверстия 25 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4000" y="14112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Выполните чертёж детали по описани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Порядок чтения чертежей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Прочитать основную надпись чертеж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пределить, какие виды детали даны на чертеже, какой из них является главны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Рассмотреть виды во взаимной связи и попытаться определить форму детали со всеми подробностя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пределить по чертежу размеры детали и ее элемент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нёс нам ящик почтальон 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сылка мне и бра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Ящик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… 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нём шесть сторон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се стороны - квадрат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 что лежит в посылк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ам стружки и опилк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нфеты и баранк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щё с вареньем бан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Рисунок 5" descr="куб.jpg"/>
          <p:cNvPicPr/>
          <p:nvPr/>
        </p:nvPicPr>
        <p:blipFill>
          <a:blip r:embed="rId1"/>
          <a:stretch/>
        </p:blipFill>
        <p:spPr>
          <a:xfrm>
            <a:off x="5003640" y="2925720"/>
            <a:ext cx="360072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181440" y="260280"/>
            <a:ext cx="619308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Ц…, что такое? - спросил я у папы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ец рассмеялся : - Ц…, это шляп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тобы иметь представление верное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…, скажем так, это банка консервная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уба парохода- ц…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уба на нашей крыше - тоже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се трубы на ц… похожи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 я привёл пример такой 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лейдоскоп любимый мой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лаз от него не оторвёшь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тоже на ц… похож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Рисунок 6" descr="гео6.jpg"/>
          <p:cNvPicPr/>
          <p:nvPr/>
        </p:nvPicPr>
        <p:blipFill>
          <a:blip r:embed="rId1"/>
          <a:stretch/>
        </p:blipFill>
        <p:spPr>
          <a:xfrm>
            <a:off x="5435640" y="1773360"/>
            <a:ext cx="2665440" cy="179532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5" descr="гео7.jpg"/>
          <p:cNvPicPr/>
          <p:nvPr/>
        </p:nvPicPr>
        <p:blipFill>
          <a:blip r:embed="rId2"/>
          <a:stretch/>
        </p:blipFill>
        <p:spPr>
          <a:xfrm>
            <a:off x="2124000" y="4005360"/>
            <a:ext cx="3176640" cy="259056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7" descr="кал.jpg"/>
          <p:cNvPicPr/>
          <p:nvPr/>
        </p:nvPicPr>
        <p:blipFill>
          <a:blip r:embed="rId3"/>
          <a:stretch/>
        </p:blipFill>
        <p:spPr>
          <a:xfrm>
            <a:off x="6253200" y="3600360"/>
            <a:ext cx="22064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2360" y="189000"/>
            <a:ext cx="489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казала мама: - А сейчас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о … будет мой рассказ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высокой шапке звездочё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читает звёзды круглый год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- шляпа звездочёт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от какой он. Понял? То-то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ама у стола стоял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бутылки масло разливал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Где воронка? Нет воронки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ищи. Не стой в сторонк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Мама, с места я не тронусь 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скажи ещё про …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Воронка и есть в виде … лейк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у-ка, найди мне её поскорей-к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оронку я найти не смог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о мама сделала кулёк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ртон вкруг пальца обкрутил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 ловко скрепкой закрепил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асло льётся, мама рада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 вышел то, что над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Рисунок 5" descr="звезд.jpeg"/>
          <p:cNvPicPr/>
          <p:nvPr/>
        </p:nvPicPr>
        <p:blipFill>
          <a:blip r:embed="rId1"/>
          <a:srcRect l="0" t="0" r="20118" b="0"/>
          <a:stretch/>
        </p:blipFill>
        <p:spPr>
          <a:xfrm>
            <a:off x="4932360" y="260280"/>
            <a:ext cx="2460600" cy="41007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6" descr="voronka.jpg"/>
          <p:cNvPicPr/>
          <p:nvPr/>
        </p:nvPicPr>
        <p:blipFill>
          <a:blip r:embed="rId2"/>
          <a:stretch/>
        </p:blipFill>
        <p:spPr>
          <a:xfrm>
            <a:off x="3995640" y="4794120"/>
            <a:ext cx="336384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3920" y="189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Я видел картину. На этой картин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тоит … в песчаной пустыне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сё в … необычайно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ая-то есть в ней загадка и тайна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 Спасская башня на площади Красной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 детям, и взрослым знакома прекрасно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смотришь на башню, обычная с виду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 что на вершине у ней? …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Рисунок 6" descr="спас.jpg"/>
          <p:cNvPicPr/>
          <p:nvPr/>
        </p:nvPicPr>
        <p:blipFill>
          <a:blip r:embed="rId1"/>
          <a:stretch/>
        </p:blipFill>
        <p:spPr>
          <a:xfrm>
            <a:off x="5867280" y="3068640"/>
            <a:ext cx="2371680" cy="355932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5" descr="г3.jpg"/>
          <p:cNvPicPr/>
          <p:nvPr/>
        </p:nvPicPr>
        <p:blipFill>
          <a:blip r:embed="rId2"/>
          <a:stretch/>
        </p:blipFill>
        <p:spPr>
          <a:xfrm>
            <a:off x="2050920" y="4076640"/>
            <a:ext cx="31608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4560" y="131760"/>
            <a:ext cx="5832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дар! Удар! Ещё удар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Летит в ворота мячик - …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 это- … арбузный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елёный, круглый, вкусный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глядитесь лучше - … каков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н сделан из одних кругов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зрежьте на круги арбуз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 их попробуйте на вку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Рисунок 5" descr="арбузjpg.jpg"/>
          <p:cNvPicPr/>
          <p:nvPr/>
        </p:nvPicPr>
        <p:blipFill>
          <a:blip r:embed="rId1"/>
          <a:stretch/>
        </p:blipFill>
        <p:spPr>
          <a:xfrm>
            <a:off x="2195640" y="3933720"/>
            <a:ext cx="2320920" cy="23940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6" descr="futbol.jpg"/>
          <p:cNvPicPr/>
          <p:nvPr/>
        </p:nvPicPr>
        <p:blipFill>
          <a:blip r:embed="rId2"/>
          <a:stretch/>
        </p:blipFill>
        <p:spPr>
          <a:xfrm>
            <a:off x="5508720" y="2422440"/>
            <a:ext cx="2781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Пирамида здорового питани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Рисунок 7" descr="г12.jpg"/>
          <p:cNvPicPr/>
          <p:nvPr/>
        </p:nvPicPr>
        <p:blipFill>
          <a:blip r:embed="rId1"/>
          <a:stretch/>
        </p:blipFill>
        <p:spPr>
          <a:xfrm>
            <a:off x="2050920" y="1773360"/>
            <a:ext cx="48247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15560"/>
            <a:ext cx="6870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Расположение видов на чертеж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2152" t="5098" r="52627" b="8139"/>
          <a:stretch/>
        </p:blipFill>
        <p:spPr>
          <a:xfrm>
            <a:off x="0" y="1484280"/>
            <a:ext cx="5940360" cy="5373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rcRect l="65753" t="14941" r="4324" b="23461"/>
          <a:stretch/>
        </p:blipFill>
        <p:spPr>
          <a:xfrm>
            <a:off x="5867280" y="4076640"/>
            <a:ext cx="2737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7:04:43Z</dcterms:created>
  <dc:creator>Александр</dc:creator>
  <dc:description/>
  <dc:language>en-US</dc:language>
  <cp:lastModifiedBy>Александр</cp:lastModifiedBy>
  <dcterms:modified xsi:type="dcterms:W3CDTF">2013-03-09T16:13:20Z</dcterms:modified>
  <cp:revision>23</cp:revision>
  <dc:subject/>
  <dc:title>Слайд 1</dc:title>
</cp:coreProperties>
</file>