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FF7-988A-4232-A73F-FC9775F0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9BE-8346-402F-BBBB-03B62837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97D-1101-49D3-87B2-15918B07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8C9-ABF8-4E55-B4DA-456214F1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DB26-7E41-4747-99A0-C0E5314C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BF42-DA7E-479E-8F6D-6BDACB05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B5BF-6FBF-4CA6-8970-D33390FD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63AE-CD8F-4544-9D5B-7C30F1DF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BE56-955F-4FED-8D27-CDBA135E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6171-90CC-4FC2-B932-41F38C42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6D7C-C92F-4F39-BA83-5C1BD90E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E4A-F619-4D59-99BE-F69A786F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2454-4944-42E8-8353-80C5E16F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7693-71CB-4029-BB8F-96DCCB8C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4A7B-8023-4A5E-BD8B-419CF78A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7C0E-5C34-4848-8260-5A9CBB17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EAFC-7DD0-4C1E-A2AD-9D7BABAC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646E2-9CA5-45A1-9BF6-B3BE5A5E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A3DF9-8644-4B27-9D53-66CE32FB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42099-91A9-4C11-AD05-FA73F488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044D-E06F-498E-984F-ADD12503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5ADF-BF27-47C2-AE44-1EBD7004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9CE-1774-4FD6-BA65-56C56BC7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E16D-E4BC-487A-BAAF-D0D95359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8FA9-B0AB-4256-92F1-58DB922C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6236-8F30-4F9D-8429-E84762E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DDAC-1F9F-419F-8A93-EC5A5D87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6DEB-A9E8-4FCB-A620-50624834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92D36-506E-4CC2-805B-2A0AF32C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98321-3A9E-4D99-876E-154515C3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CAD-E193-475C-8C99-448B3518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987-0174-4A60-894C-6E20D291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0B7-C6A4-4702-92E6-8AABA5BC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EC3-00EC-42B7-89EF-F60366E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946-D6B8-4382-A377-396FE2A5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38A-90D1-4032-98DD-EDACC256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22F5-C74F-47B1-BA19-1AB6F05E9E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21B0-AAEF-42A4-AA2C-6BD6ED4C72A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131D-0E74-4169-906B-F0AF632CE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79280" y="6025680"/>
            <a:ext cx="878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ок черчения. 9 класс. Учитель: Логунова Л.П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11280" y="2511360"/>
            <a:ext cx="784836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ктическая работа: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Чтение 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полнение чертежей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алей"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417080" cy="354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324000" y="3960720"/>
          <a:ext cx="2160360" cy="1339920"/>
        </p:xfrm>
        <a:graphic>
          <a:graphicData uri="http://schemas.openxmlformats.org/drawingml/2006/table">
            <a:tbl>
              <a:tblPr/>
              <a:tblGrid>
                <a:gridCol w="287280"/>
                <a:gridCol w="1873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843280" y="3933720"/>
          <a:ext cx="2016000" cy="1366560"/>
        </p:xfrm>
        <a:graphic>
          <a:graphicData uri="http://schemas.openxmlformats.org/drawingml/2006/table">
            <a:tbl>
              <a:tblPr/>
              <a:tblGrid>
                <a:gridCol w="268200"/>
                <a:gridCol w="1747800"/>
              </a:tblGrid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364000" y="3933720"/>
          <a:ext cx="2016360" cy="1366560"/>
        </p:xfrm>
        <a:graphic>
          <a:graphicData uri="http://schemas.openxmlformats.org/drawingml/2006/table">
            <a:tbl>
              <a:tblPr/>
              <a:tblGrid>
                <a:gridCol w="268200"/>
                <a:gridCol w="1748160"/>
              </a:tblGrid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2340000" y="5661000"/>
            <a:ext cx="61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оанализируйте геометрическую форму детали по чертежу, запишите название геометрических тел, образующих форму детали в таблиц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417080" cy="354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250920" y="3960720"/>
          <a:ext cx="2233440" cy="1339920"/>
        </p:xfrm>
        <a:graphic>
          <a:graphicData uri="http://schemas.openxmlformats.org/drawingml/2006/table">
            <a:tbl>
              <a:tblPr/>
              <a:tblGrid>
                <a:gridCol w="296640"/>
                <a:gridCol w="1936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епи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илин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епи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еугол. п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771640" y="3933720"/>
          <a:ext cx="2232000" cy="1366920"/>
        </p:xfrm>
        <a:graphic>
          <a:graphicData uri="http://schemas.openxmlformats.org/drawingml/2006/table">
            <a:tbl>
              <a:tblPr/>
              <a:tblGrid>
                <a:gridCol w="297000"/>
                <a:gridCol w="1935000"/>
              </a:tblGrid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епи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сечен. кон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епи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илин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64000" y="3933720"/>
          <a:ext cx="2303640" cy="1366920"/>
        </p:xfrm>
        <a:graphic>
          <a:graphicData uri="http://schemas.openxmlformats.org/drawingml/2006/table">
            <a:tbl>
              <a:tblPr/>
              <a:tblGrid>
                <a:gridCol w="306720"/>
                <a:gridCol w="1996920"/>
              </a:tblGrid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епи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еугол. п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илин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сеч. пирам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2340000" y="5516640"/>
            <a:ext cx="611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оверьте задание, поставьте оц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0-1 ошибка – «5», 2-4 ошибки – «4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-7 ошибок – «3», более 7 ошибок – «2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4360" y="243000"/>
            <a:ext cx="896472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9280" y="252360"/>
            <a:ext cx="885672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Гимнастика для гл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gl4" descr=""/>
          <p:cNvPicPr/>
          <p:nvPr/>
        </p:nvPicPr>
        <p:blipFill>
          <a:blip r:embed="rId1"/>
          <a:stretch/>
        </p:blipFill>
        <p:spPr>
          <a:xfrm>
            <a:off x="0" y="1413000"/>
            <a:ext cx="853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00720" y="2897280"/>
            <a:ext cx="3886200" cy="3771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аль (опор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оит из цилиндра и, поставленной на него по центру, квадратной призмы. Вдоль оси детали проходит сквозное цилиндрическое отверстие. Размеры цилиндра – диаметр основания 50 мм, высота 15 мм. Размеры призмы 30х30 мм, высота 30 мм. Диаметр сквозного отверстия 15 м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6120" y="1268280"/>
            <a:ext cx="4800600" cy="3657600"/>
          </a:xfrm>
          <a:prstGeom prst="hexagon">
            <a:avLst>
              <a:gd name="adj" fmla="val 32813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таль (подставка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остоит из параллелепипеда и цилиндра, расположенного в центре верхней грани параллелепипеда. По оси цилиндра просверлено сквозное цилиндрическое отверстие. Размеры параллелепипеда: осн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0х70 мм, высо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 мм, диаметр основания цилиндра 50 мм, высота 45 мм. Диаметр сквозного отверстия 25 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14112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Выполните чертёж детали по описа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Порядок чтения чертежей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очитать основную надпись чертеж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пределить, какие виды детали даны на чертеже, какой из них является главны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ссмотреть виды во взаимной связи и попытаться определить форму детали со всеми подробност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пределить по чертежу размеры детали и ее элемент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нёс нам ящик почтальон 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ылка мне и бра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щи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… 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нём шесть сторон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се стороны - квадра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что лежит в посылк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ам стружки и опилк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нфеты и баранк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щё с вареньем бан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Рисунок 5" descr="куб.jpg"/>
          <p:cNvPicPr/>
          <p:nvPr/>
        </p:nvPicPr>
        <p:blipFill>
          <a:blip r:embed="rId1"/>
          <a:stretch/>
        </p:blipFill>
        <p:spPr>
          <a:xfrm>
            <a:off x="5003640" y="2925720"/>
            <a:ext cx="360072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81440" y="260280"/>
            <a:ext cx="6193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Ц…, что такое? - спросил я у папы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ец рассмеялся : - Ц…, это шляп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бы иметь представление верное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…, скажем так, это банка консервна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ба парохода- ц…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ба на нашей крыше - тоже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е трубы на ц… похож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я привёл пример такой 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лейдоскоп любимый мо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лаз от него не оторвёшь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тоже на ц… похож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Рисунок 6" descr="гео6.jpg"/>
          <p:cNvPicPr/>
          <p:nvPr/>
        </p:nvPicPr>
        <p:blipFill>
          <a:blip r:embed="rId1"/>
          <a:stretch/>
        </p:blipFill>
        <p:spPr>
          <a:xfrm>
            <a:off x="5435640" y="1773360"/>
            <a:ext cx="2665440" cy="17953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5" descr="гео7.jpg"/>
          <p:cNvPicPr/>
          <p:nvPr/>
        </p:nvPicPr>
        <p:blipFill>
          <a:blip r:embed="rId2"/>
          <a:stretch/>
        </p:blipFill>
        <p:spPr>
          <a:xfrm>
            <a:off x="2124000" y="4005360"/>
            <a:ext cx="3176640" cy="25905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7" descr="кал.jpg"/>
          <p:cNvPicPr/>
          <p:nvPr/>
        </p:nvPicPr>
        <p:blipFill>
          <a:blip r:embed="rId3"/>
          <a:stretch/>
        </p:blipFill>
        <p:spPr>
          <a:xfrm>
            <a:off x="6253200" y="3600360"/>
            <a:ext cx="22064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2360" y="189000"/>
            <a:ext cx="489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казала мама: - А сейчас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 … будет мой рассказ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высокой шапке звездочё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читает звёзды круглый год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- шляпа звездочёт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т какой он. Понял? То-то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ма у стола стоял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бутылки масло разливал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Где воронка? Нет воронк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ищи. Не стой в сторо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Мама, с места я не тронусь 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кажи ещё про …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Воронка и есть в виде … лей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у-ка, найди мне её поскорей-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ронку я найти не смог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о мама сделала кулёк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ртон вкруг пальца обкрутил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ловко скрепкой закрепил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сло льётся, мама рад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 вышел то, что над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Рисунок 5" descr="звезд.jpeg"/>
          <p:cNvPicPr/>
          <p:nvPr/>
        </p:nvPicPr>
        <p:blipFill>
          <a:blip r:embed="rId1"/>
          <a:srcRect l="0" t="0" r="20118" b="0"/>
          <a:stretch/>
        </p:blipFill>
        <p:spPr>
          <a:xfrm>
            <a:off x="4932360" y="260280"/>
            <a:ext cx="2460600" cy="41007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6" descr="voronka.jpg"/>
          <p:cNvPicPr/>
          <p:nvPr/>
        </p:nvPicPr>
        <p:blipFill>
          <a:blip r:embed="rId2"/>
          <a:stretch/>
        </p:blipFill>
        <p:spPr>
          <a:xfrm>
            <a:off x="3995640" y="4794120"/>
            <a:ext cx="336384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3920" y="189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Я видел картину. На этой картин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оит … в песчаной пустыне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сё в … необычайно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ая-то есть в ней загадка и тайн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Спасская башня на площади Красно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детям, и взрослым знакома прекрасно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мотришь на башню, обычная с виду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что на вершине у ней? …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Рисунок 6" descr="спас.jpg"/>
          <p:cNvPicPr/>
          <p:nvPr/>
        </p:nvPicPr>
        <p:blipFill>
          <a:blip r:embed="rId1"/>
          <a:stretch/>
        </p:blipFill>
        <p:spPr>
          <a:xfrm>
            <a:off x="5867280" y="3068640"/>
            <a:ext cx="2371680" cy="35593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" descr="г3.jpg"/>
          <p:cNvPicPr/>
          <p:nvPr/>
        </p:nvPicPr>
        <p:blipFill>
          <a:blip r:embed="rId2"/>
          <a:stretch/>
        </p:blipFill>
        <p:spPr>
          <a:xfrm>
            <a:off x="2050920" y="4076640"/>
            <a:ext cx="31608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4560" y="131760"/>
            <a:ext cx="5832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дар! Удар! Ещё удар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Летит в ворота мячик - …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это- … арбузны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елёный, круглый, вкусный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глядитесь лучше - … каков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н сделан из одних круг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режьте на круги арбуз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их попробуйте на вку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Рисунок 5" descr="арбузjpg.jpg"/>
          <p:cNvPicPr/>
          <p:nvPr/>
        </p:nvPicPr>
        <p:blipFill>
          <a:blip r:embed="rId1"/>
          <a:stretch/>
        </p:blipFill>
        <p:spPr>
          <a:xfrm>
            <a:off x="2195640" y="3933720"/>
            <a:ext cx="2320920" cy="23940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futbol.jpg"/>
          <p:cNvPicPr/>
          <p:nvPr/>
        </p:nvPicPr>
        <p:blipFill>
          <a:blip r:embed="rId2"/>
          <a:stretch/>
        </p:blipFill>
        <p:spPr>
          <a:xfrm>
            <a:off x="5508720" y="2422440"/>
            <a:ext cx="2781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Пирамида здорового питан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Рисунок 7" descr="г12.jpg"/>
          <p:cNvPicPr/>
          <p:nvPr/>
        </p:nvPicPr>
        <p:blipFill>
          <a:blip r:embed="rId1"/>
          <a:stretch/>
        </p:blipFill>
        <p:spPr>
          <a:xfrm>
            <a:off x="2050920" y="1773360"/>
            <a:ext cx="4824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1556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Расположение видов на чертеж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2152" t="5098" r="52627" b="8139"/>
          <a:stretch/>
        </p:blipFill>
        <p:spPr>
          <a:xfrm>
            <a:off x="0" y="1484280"/>
            <a:ext cx="5940360" cy="5373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rcRect l="65753" t="14941" r="4324" b="23461"/>
          <a:stretch/>
        </p:blipFill>
        <p:spPr>
          <a:xfrm>
            <a:off x="5867280" y="4076640"/>
            <a:ext cx="2737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7:04:43Z</dcterms:created>
  <dc:creator>Александр</dc:creator>
  <dc:description/>
  <dc:language>en-US</dc:language>
  <cp:lastModifiedBy>Александр</cp:lastModifiedBy>
  <dcterms:modified xsi:type="dcterms:W3CDTF">2013-03-09T16:13:20Z</dcterms:modified>
  <cp:revision>23</cp:revision>
  <dc:subject/>
  <dc:title>Слайд 1</dc:title>
</cp:coreProperties>
</file>