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20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10.gif" ContentType="image/gif"/>
  <Override PartName="/ppt/media/image31.jpeg" ContentType="image/jpeg"/>
  <Override PartName="/ppt/media/image4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30.gif" ContentType="image/gif"/>
  <Override PartName="/ppt/media/image40.jpeg" ContentType="image/jpeg"/>
  <Override PartName="/ppt/media/image4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39.gif" ContentType="image/gi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708D-F379-4B27-8F20-CFDE77BA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8532-6B71-4C5D-BADE-F7E54294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FF3D-6BD3-46A4-B154-E1B8B18F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AB59-D241-46BC-95B8-B917949D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0631-0164-4F8D-86AE-74103CB4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692D-5A31-40E8-83FC-130F70CE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6AAC-F5FF-493E-B284-0D6D9114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475B-23CC-4820-99CB-79988D8B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09CC-D9AE-4D12-AB90-5B8EF98E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C180-3B48-460B-8B51-45B5FD8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8FCC-CF3F-4994-BC8F-7B87E940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4AB8-F738-4335-9FB4-0F285121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B824-A8B6-461F-AC9A-FE7F638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FCA9-563A-4C53-A8AE-A2D71A13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31F6-0904-4933-84AB-11091AB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269F-C533-4149-921B-E957504E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2BDB-8E97-4967-87F6-A59FDB61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347F-FE21-4E4C-AD9A-865F5CE8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CDED-8EE4-4469-AC61-F76BA33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5563-10DC-4E4D-9FAD-05C39AF1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4B7D-E49A-48CA-85C0-F934FE50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77BE-760B-4BC3-AE5D-DD88B8C9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3F7C-2A7C-450E-A151-BD57789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47E3-B2F7-4F09-81B2-47E7C52D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8290-3FD0-4732-A306-8906C142D0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97A-B635-4405-888F-ED5A249679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lick01.begun.ru/click.jsp?url=TFYuZKOrqqv4cXulnW1I8FvaqjPTGLADpRnglyaKxZbihjnXE0mI39STzpkLF3ZvHmJVfL5*Gkpe8vIdDrc1BCBcYOiwQgUl71YK*IlMUN6OHROMNPa1nP36eYPLGuSpV0e2r3i6Jc4gMr91209j4Jw1jMWJ2EYonYW5uVoU-r4kklEviL1rb4o7kN48byGCY6R4ZJiLRPzT6uIAI0MGi9KsxV8Ogz6l7fV9hHBD7BuRmuXEv9BRjiAsZaogqFw3sc1i-foU0dpHHrWOAlF-G5d3l0B*36CeuyChOTuoyDF8QI3S8RRHMGXSaOXtX5WvRhfjgBkVgXmtRZH5s33ifYikfgUx74eGHtJDco8gARLyNSzCsmMom3dGXBt5opf*eHzqaG1l2hKYvcRyPUH2c5WxWQMVidJnnHO3lIIfn98dl4TUtswycWzIhvY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5e5ff"/>
                </a:solidFill>
                <a:latin typeface="Times New Roman"/>
              </a:rPr>
              <a:t>Презентация по информатике на тему : «Знаки зодиака. Гороскоп.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88000" y="5105520"/>
            <a:ext cx="452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Работу выполнила: ученица 8а класса Варданян Га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3205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Лев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Знак зодиака Лев"/>
          <p:cNvPicPr/>
          <p:nvPr/>
        </p:nvPicPr>
        <p:blipFill>
          <a:blip r:embed="rId1"/>
          <a:stretch/>
        </p:blipFill>
        <p:spPr>
          <a:xfrm>
            <a:off x="7380360" y="115920"/>
            <a:ext cx="1584360" cy="1944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24000" y="1414440"/>
            <a:ext cx="68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Львы - дети солнца, поэтому они всегда считают себя центром Вселенной и страшно удивляются, обнаружив, что кто-нибудь не желает выполнять их бесчисленные прихоти. Традиционно стараются занять самое высокое социальное положение. Львы благородны,    с самого детства стремятся защищать слабых, но часто благородство сопровождается редкостной мстительностью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Дева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Знак зодиака Дева"/>
          <p:cNvPicPr/>
          <p:nvPr/>
        </p:nvPicPr>
        <p:blipFill>
          <a:blip r:embed="rId1"/>
          <a:stretch/>
        </p:blipFill>
        <p:spPr>
          <a:xfrm>
            <a:off x="324000" y="4365720"/>
            <a:ext cx="1873080" cy="1727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68360" y="1224360"/>
            <a:ext cx="669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ланета Девы - это Меркурий, символ могучего интеллекта и магической силы. Поэтому в Деве как бы сосуществуют два начала: добро и зло, любовь и ненависть, тьма и свет. Всю свою жизнь Девы отчаянно стремятся найти равновесие между этими силами, поэтому вечно напряжены и боятся подпасть под влияние той или иной стихии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1800000" cy="2737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Весы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" descr="Знак зодиака Весы"/>
          <p:cNvPicPr/>
          <p:nvPr/>
        </p:nvPicPr>
        <p:blipFill>
          <a:blip r:embed="rId1"/>
          <a:stretch/>
        </p:blipFill>
        <p:spPr>
          <a:xfrm>
            <a:off x="971640" y="501336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00360" y="1414440"/>
            <a:ext cx="64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есы рождаются под влиянием сразу двух планет - Венеры и Сатурна. Поэтому они обладают хорошо развитой интуицией, обаятельны и очень общительны. Внутренняя гармония, свойственная Весам, делает гармоничными и их самих: Весы почти всегда изящны, хороши собой, тактичны и утонченны. От природы они очень добры и общительны и умеют легко и незаметно привязывать к себе людей..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79280" y="3068640"/>
            <a:ext cx="1359000" cy="1625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451640" y="115920"/>
            <a:ext cx="1397160" cy="1396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Скорпион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Знак зодиака Скорпион"/>
          <p:cNvPicPr/>
          <p:nvPr/>
        </p:nvPicPr>
        <p:blipFill>
          <a:blip r:embed="rId1"/>
          <a:stretch/>
        </p:blipFill>
        <p:spPr>
          <a:xfrm>
            <a:off x="179280" y="3933720"/>
            <a:ext cx="1873440" cy="1728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63640" y="979920"/>
            <a:ext cx="75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Хозяин Скорпиона Плутон. Рожденные под влиянием этой планеты наделены особой загадочной, магической властью. Устоять перед их чарами практически не возможно. Скорпионы легко постигают суть самых таинственных событий и явлений, благодаря прекрасно развитой интуиции и холодному уму. Скорпионы умны, бесстрашны, выносливы и никогда никому ни в чем не уступают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1835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Стрелец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Знак зодиака Стрелец"/>
          <p:cNvPicPr/>
          <p:nvPr/>
        </p:nvPicPr>
        <p:blipFill>
          <a:blip r:embed="rId1"/>
          <a:stretch/>
        </p:blipFill>
        <p:spPr>
          <a:xfrm>
            <a:off x="395280" y="1844640"/>
            <a:ext cx="1801800" cy="1728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11280" y="1749960"/>
            <a:ext cx="651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трельцы всю жизнь испытывают на себе влияние Юпитера, который делает своих питомцев счастливыми, везучими и богатыми. Стрельцы очень привлекательны, но никогда не станут пользоваться своей властью для того, чтобы кому-нибудь навредить..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71756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Козерог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" descr="Знак зодиака Козерог"/>
          <p:cNvPicPr/>
          <p:nvPr/>
        </p:nvPicPr>
        <p:blipFill>
          <a:blip r:embed="rId1"/>
          <a:stretch/>
        </p:blipFill>
        <p:spPr>
          <a:xfrm>
            <a:off x="324000" y="378936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35280" y="1403640"/>
            <a:ext cx="73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ланета Козерога - мрачный Сатурн. После того, как в XIX веке астрономы открыли Уран, он стал считаться вторым покровителем знака. Козерог представляет собой страстно-холодный тип, обычно он интеллектуален, очень сдержан и честолюбив, Никогда не прощает ошибок ни себе, ни другим. Очень целеустремлен, всегда твердо знает, чего хочет в жизни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Водолей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2" name="" descr="Знак зодиака Водолей"/>
          <p:cNvPicPr/>
          <p:nvPr/>
        </p:nvPicPr>
        <p:blipFill>
          <a:blip r:embed="rId1"/>
          <a:stretch/>
        </p:blipFill>
        <p:spPr>
          <a:xfrm>
            <a:off x="179280" y="2276640"/>
            <a:ext cx="1943280" cy="1225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79640" y="1699200"/>
            <a:ext cx="71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У Водолея два управителя: Уран и Сатурн. Они наделили Водолеев широтой ума, интеллектуальностью и способностью проникать в самые загадочные тайны мироздания. Основной движущей идеей и силой Водолея является какая-нибудь высшая идея, которую он стремится немедленно воплотить в жизнь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904760" cy="143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Рыбы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" descr="Знак зодиака Рыбы"/>
          <p:cNvPicPr/>
          <p:nvPr/>
        </p:nvPicPr>
        <p:blipFill>
          <a:blip r:embed="rId1"/>
          <a:stretch/>
        </p:blipFill>
        <p:spPr>
          <a:xfrm>
            <a:off x="468360" y="1628640"/>
            <a:ext cx="1511280" cy="1871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63640" y="1403640"/>
            <a:ext cx="73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сновное влияние на Рыб оказывает Нептун, дополнительная планета - Юпитер. Нептун символизирует область человеческого бессознательного, поэтому Рыбы обладают особым, мистическим складом ума и прекрасно развитой интуицией. Но Рыбы часто страдают от собственной неуравновешенности, легко поддаются чужому влиянию и могут впасть в уныние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93080" y="115920"/>
            <a:ext cx="1904760" cy="1434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днако, несмотря на все наши достижения последних лет, как и прежде, человек испытывает непреодолимое желание познать себя как личность, приподнять завесу времен и понять свой дальнейший путь и свое предназначение. Жаждет познать смысл своего существования на этом свете, ищет ответы на вопросы, на которые наука не в состоянии ответи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448000" cy="155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2448000" cy="1562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404640"/>
            <a:ext cx="2414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15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1155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115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15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1155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115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115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Характеристика знаков зодиа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Знаки зодиака"/>
          <p:cNvPicPr/>
          <p:nvPr/>
        </p:nvPicPr>
        <p:blipFill>
          <a:blip r:embed="rId1"/>
          <a:stretch/>
        </p:blipFill>
        <p:spPr>
          <a:xfrm>
            <a:off x="1258920" y="907920"/>
            <a:ext cx="6985080" cy="4105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8436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Гороскоп с его зодиакальным кругом пришел к нам из глубины веков как культурное наследие наших предк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-66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47280" y="476280"/>
            <a:ext cx="779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 традиционных до индустриальных культурах древних народов, общество имело более простой и в то же время более четкий понятный простому человеку поряд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2808360" cy="1960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24360" y="2997360"/>
            <a:ext cx="611964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Роль мужчины и женщины                                                               были четко распределены по рождению, семейная поддержка и культ предков помогали людям ассоциировать себя с чем-то большим, нежели их собственные нужды и потребности.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22194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404640"/>
            <a:ext cx="80661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овременное общество далеко ушло от этих первобытных догм, в наше время роль мужчины и женщины давно неограниченна их любовными отношениями,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3302280" cy="2176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48000" y="2708280"/>
            <a:ext cx="59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больше не достаточно просто любить вашего партнера и делать ежедневную работу по поддержанию вашего домашнего     хозяйства, современная пара - это также деловые партнеры и лучшие друзья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5084640"/>
            <a:ext cx="20160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Астрология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181440" y="765000"/>
            <a:ext cx="9325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гда в древнем Вавилоне закладывались основы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астрологи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знаки зодиака получили названия реальных созвездий. Первые астрономы заметили, что Солнце каждый год движется через одни и те же группы звезд. Характеристика знаков зодиака бесплатно, как мы думаем, будет полезна, если вы еще не знакомы с астрологи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4745160"/>
            <a:ext cx="3132000" cy="211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419640" y="4797360"/>
            <a:ext cx="273672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00720" y="4797360"/>
            <a:ext cx="26640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Овен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6912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Ни один из трех разновидностей Овнов не терпит скуки. Все они прирожденные весельчаки, очень любопытны и любят своих друз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Знак зодиака Овен"/>
          <p:cNvPicPr/>
          <p:nvPr/>
        </p:nvPicPr>
        <p:blipFill>
          <a:blip r:embed="rId1"/>
          <a:stretch/>
        </p:blipFill>
        <p:spPr>
          <a:xfrm>
            <a:off x="7020000" y="4149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1905120" cy="185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3354480"/>
            <a:ext cx="69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Любопытство иногда может сделать Овнов нетактичными, но не стоит обижаться на них всерьез: они никогда не хотят ничего дурного, а просто стремятся получше узнать жизнь во всех ее проявлениях...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Телец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76000" y="1341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Рожденные под знаком Тельца испытывают на себе сильное влияние Венеры и Луны, поэтому основой и движущей силой Тельцов является любовь в самом широком понимании этого слова. Тельцы стремятся полностью завладеть желанным объектом..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Знак зодиака Телец"/>
          <p:cNvPicPr/>
          <p:nvPr/>
        </p:nvPicPr>
        <p:blipFill>
          <a:blip r:embed="rId1"/>
          <a:stretch/>
        </p:blipFill>
        <p:spPr>
          <a:xfrm>
            <a:off x="250920" y="1628640"/>
            <a:ext cx="1511280" cy="201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093080" y="5229360"/>
            <a:ext cx="1904760" cy="143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Близнецы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" descr="Знак зодиака Близнецы"/>
          <p:cNvPicPr/>
          <p:nvPr/>
        </p:nvPicPr>
        <p:blipFill>
          <a:blip r:embed="rId1"/>
          <a:stretch/>
        </p:blipFill>
        <p:spPr>
          <a:xfrm>
            <a:off x="179280" y="3933720"/>
            <a:ext cx="1584360" cy="16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181080" y="97992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На всех без исключения Близнецов оказывает влияние Меркурий - бог торговцев, юристов, интеллектуалов и во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03640" y="98100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92360" y="3645000"/>
            <a:ext cx="68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оэтому у Близнецов исключительно хорошо развита интуиция, они постигают многие вещи инстинктивно и с животной ловкостью умеют выкручиваться из самых неприятных историй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164360" y="1413000"/>
            <a:ext cx="1873440" cy="280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Рак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Знак зодиака Рак"/>
          <p:cNvPicPr/>
          <p:nvPr/>
        </p:nvPicPr>
        <p:blipFill>
          <a:blip r:embed="rId1"/>
          <a:stretch/>
        </p:blipFill>
        <p:spPr>
          <a:xfrm>
            <a:off x="108000" y="3500280"/>
            <a:ext cx="1800000" cy="1513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195920"/>
            <a:ext cx="71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стречаются два типа Рака: Рак-полумесяц, чьи рога обращены к небу, и Рак-полумесяц, рога которого повернуты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93080" y="15573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3141720"/>
            <a:ext cx="72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ервые склонны к безудержному фантазированию и не выносят жизни на одном месте. Это Раки-бродяги. Второй тип предпочитает оседлый образ жизни. Это люди мрачные, живущие в соответствии с импульсами своего подсознания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8:39:55Z</dcterms:created>
  <dc:creator>Галя Варданян</dc:creator>
  <dc:description/>
  <dc:language>en-US</dc:language>
  <cp:lastModifiedBy>Галя Варданян</cp:lastModifiedBy>
  <dcterms:modified xsi:type="dcterms:W3CDTF">2010-03-20T18:18:04Z</dcterms:modified>
  <cp:revision>8</cp:revision>
  <dc:subject/>
  <dc:title>Презентация по информатике на тему : «Знаки зодиака. Гороскоп.»</dc:title>
</cp:coreProperties>
</file>