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32.gif" ContentType="image/gif"/>
  <Override PartName="/ppt/media/image42.jpeg" ContentType="image/jpeg"/>
  <Override PartName="/ppt/media/image20.gif" ContentType="image/gif"/>
  <Override PartName="/ppt/media/image18.gif" ContentType="image/gif"/>
  <Override PartName="/ppt/media/image23.gif" ContentType="image/gif"/>
  <Override PartName="/ppt/media/image17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8.jpeg" ContentType="image/jpeg"/>
  <Override PartName="/ppt/media/image37.gif" ContentType="image/gif"/>
  <Override PartName="/ppt/media/image29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12.jpeg" ContentType="image/jpeg"/>
  <Override PartName="/ppt/media/image10.gif" ContentType="image/gif"/>
  <Override PartName="/ppt/media/image31.jpeg" ContentType="image/jpeg"/>
  <Override PartName="/ppt/media/image4.jpeg" ContentType="image/jpeg"/>
  <Override PartName="/ppt/media/image25.gif" ContentType="image/gif"/>
  <Override PartName="/ppt/media/image6.jpeg" ContentType="image/jpeg"/>
  <Override PartName="/ppt/media/image27.jpeg" ContentType="image/jpeg"/>
  <Override PartName="/ppt/media/image33.jpeg" ContentType="image/jpeg"/>
  <Override PartName="/ppt/media/image34.gif" ContentType="image/gif"/>
  <Override PartName="/ppt/media/image30.gif" ContentType="image/gif"/>
  <Override PartName="/ppt/media/image40.jpeg" ContentType="image/jpeg"/>
  <Override PartName="/ppt/media/image43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5.gif" ContentType="image/gif"/>
  <Override PartName="/ppt/media/image5.jpeg" ContentType="image/jpeg"/>
  <Override PartName="/ppt/media/image26.jpeg" ContentType="image/jpeg"/>
  <Override PartName="/ppt/media/image13.gif" ContentType="image/gif"/>
  <Override PartName="/ppt/media/image16.jpeg" ContentType="image/jpeg"/>
  <Override PartName="/ppt/media/image39.gif" ContentType="image/gif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414E9-82F7-47EC-9CE2-B284F41B6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7D50B-3F2B-4810-AE6D-6518D389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70C61-18F2-45B5-AAE4-09E3F2D2E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EDA96-1CA6-4A6F-BF8E-491FE11E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4F83-D4C6-45E0-B3C9-2586E0F8C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9EF0-B80C-4E84-9165-42BC6ABA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98C7-2784-4678-B5C7-70E2593B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E22E-62D5-4E48-8296-4A67DB76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3D60-AA3A-43CA-BBC1-1A007F79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9156-9A40-46DA-8CC7-9800A48D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B1F7-03BD-45E1-A099-A0830765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8C034-D101-4EB6-B2FC-3CC2CAB1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A525-1C08-4760-94C1-240810A4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9CB6-ECFD-44D2-AEA9-E2BA9E87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6551-5E66-4E75-BA3A-ADAD045A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DB83-D33E-4CE2-93C7-90B159F12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F043-322E-4092-832C-E42CE362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D2AEC-2BC5-4296-8DF3-1F27B96F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CA6AE-509B-4FB9-BCEC-A1999ECC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D0BF1-6546-4502-90C5-DA69C4D6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D73FD-2CCB-43EE-AA6D-91B56E06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85F4C-6F95-4DAC-968F-E0D212D1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FEA4A-BFFE-407D-98A6-8B147171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75FDE-B173-45BE-9E48-75B39497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3A52-ACFC-4671-853A-BD39DCDD4B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B222-75DE-4257-A4C1-5C4812FEA7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lick01.begun.ru/click.jsp?url=TFYuZKOrqqv4cXulnW1I8FvaqjPTGLADpRnglyaKxZbihjnXE0mI39STzpkLF3ZvHmJVfL5*Gkpe8vIdDrc1BCBcYOiwQgUl71YK*IlMUN6OHROMNPa1nP36eYPLGuSpV0e2r3i6Jc4gMr91209j4Jw1jMWJ2EYonYW5uVoU-r4kklEviL1rb4o7kN48byGCY6R4ZJiLRPzT6uIAI0MGi9KsxV8Ogz6l7fV9hHBD7BuRmuXEv9BRjiAsZaogqFw3sc1i-foU0dpHHrWOAlF-G5d3l0B*36CeuyChOTuoyDF8QI3S8RRHMGXSaOXtX5WvRhfjgBkVgXmtRZH5s33ifYikfgUx74eGHtJDco8gARLyNSzCsmMom3dGXBt5opf*eHzqaG1l2hKYvcRyPUH2c5WxWQMVidJnnHO3lIIfn98dl4TUtswycWzIhvY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8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e5e5ff"/>
                </a:solidFill>
                <a:latin typeface="Times New Roman"/>
              </a:rPr>
              <a:t>Презентация по информатике на тему : «Знаки зодиака. Гороскоп.»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788000" y="5105520"/>
            <a:ext cx="4527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Работу выполнила: ученица 8а класса Варданян Га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55640" y="3645000"/>
            <a:ext cx="3205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e5ff"/>
                </a:solidFill>
                <a:latin typeface="Times New Roman"/>
              </a:rPr>
              <a:t>Знак зодиака Лев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" descr="Знак зодиака Лев"/>
          <p:cNvPicPr/>
          <p:nvPr/>
        </p:nvPicPr>
        <p:blipFill>
          <a:blip r:embed="rId1"/>
          <a:stretch/>
        </p:blipFill>
        <p:spPr>
          <a:xfrm>
            <a:off x="7380360" y="115920"/>
            <a:ext cx="1584360" cy="1944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124000" y="1414440"/>
            <a:ext cx="6875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Львы - дети солнца, поэтому они всегда считают себя центром Вселенной и страшно удивляются, обнаружив, что кто-нибудь не желает выполнять их бесчисленные прихоти. Традиционно стараются занять самое высокое социальное положение. Львы благородны,    с самого детства стремятся защищать слабых, но часто благородство сопровождается редкостной мстительностью..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79280" y="458136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e5ff"/>
                </a:solidFill>
                <a:latin typeface="Times New Roman"/>
              </a:rPr>
              <a:t>Знак зодиака Дева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8" name="" descr="Знак зодиака Дева"/>
          <p:cNvPicPr/>
          <p:nvPr/>
        </p:nvPicPr>
        <p:blipFill>
          <a:blip r:embed="rId1"/>
          <a:stretch/>
        </p:blipFill>
        <p:spPr>
          <a:xfrm>
            <a:off x="324000" y="4365720"/>
            <a:ext cx="1873080" cy="1727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268360" y="1224360"/>
            <a:ext cx="6696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Планета Девы - это Меркурий, символ могучего интеллекта и магической силы. Поэтому в Деве как бы сосуществуют два начала: добро и зло, любовь и ненависть, тьма и свет. Всю свою жизнь Девы отчаянно стремятся найти равновесие между этими силами, поэтому вечно напряжены и боятся подпасть под влияние той или иной стихии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1800000" cy="27370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e5ff"/>
                </a:solidFill>
                <a:latin typeface="Times New Roman"/>
              </a:rPr>
              <a:t>Знак зодиака Весы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2" name="" descr="Знак зодиака Весы"/>
          <p:cNvPicPr/>
          <p:nvPr/>
        </p:nvPicPr>
        <p:blipFill>
          <a:blip r:embed="rId1"/>
          <a:stretch/>
        </p:blipFill>
        <p:spPr>
          <a:xfrm>
            <a:off x="971640" y="5013360"/>
            <a:ext cx="1728720" cy="1584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700360" y="1414440"/>
            <a:ext cx="6443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Весы рождаются под влиянием сразу двух планет - Венеры и Сатурна. Поэтому они обладают хорошо развитой интуицией, обаятельны и очень общительны. Внутренняя гармония, свойственная Весам, делает гармоничными и их самих: Весы почти всегда изящны, хороши собой, тактичны и утонченны. От природы они очень добры и общительны и умеют легко и незаметно привязывать к себе людей..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1871640" cy="2663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763640" y="256536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179280" y="3068640"/>
            <a:ext cx="1359000" cy="1625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7451640" y="115920"/>
            <a:ext cx="1397160" cy="13968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e5ff"/>
                </a:solidFill>
                <a:latin typeface="Times New Roman"/>
              </a:rPr>
              <a:t>Знак зодиака Скорпион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9" name="" descr="Знак зодиака Скорпион"/>
          <p:cNvPicPr/>
          <p:nvPr/>
        </p:nvPicPr>
        <p:blipFill>
          <a:blip r:embed="rId1"/>
          <a:stretch/>
        </p:blipFill>
        <p:spPr>
          <a:xfrm>
            <a:off x="179280" y="3933720"/>
            <a:ext cx="1873440" cy="1728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63640" y="979920"/>
            <a:ext cx="7524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Хозяин Скорпиона Плутон. Рожденные под влиянием этой планеты наделены особой загадочной, магической властью. Устоять перед их чарами практически не возможно. Скорпионы легко постигают суть самых таинственных событий и явлений, благодаря прекрасно развитой интуиции и холодному уму. Скорпионы умны, бесстрашны, выносливы и никогда никому ни в чем не уступают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183528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e5ff"/>
                </a:solidFill>
                <a:latin typeface="Times New Roman"/>
              </a:rPr>
              <a:t>Знак зодиака Стрелец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3" name="" descr="Знак зодиака Стрелец"/>
          <p:cNvPicPr/>
          <p:nvPr/>
        </p:nvPicPr>
        <p:blipFill>
          <a:blip r:embed="rId1"/>
          <a:stretch/>
        </p:blipFill>
        <p:spPr>
          <a:xfrm>
            <a:off x="395280" y="1844640"/>
            <a:ext cx="1801800" cy="1728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411280" y="1749960"/>
            <a:ext cx="6515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Стрельцы всю жизнь испытывают на себе влияние Юпитера, который делает своих питомцев счастливыми, везучими и богатыми. Стрельцы очень привлекательны, но никогда не станут пользоваться своей властью для того, чтобы кому-нибудь навредить..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236000" y="333360"/>
            <a:ext cx="171756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e5ff"/>
                </a:solidFill>
                <a:latin typeface="Times New Roman"/>
              </a:rPr>
              <a:t>Знак зодиака Козерог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7" name="" descr="Знак зодиака Козерог"/>
          <p:cNvPicPr/>
          <p:nvPr/>
        </p:nvPicPr>
        <p:blipFill>
          <a:blip r:embed="rId1"/>
          <a:stretch/>
        </p:blipFill>
        <p:spPr>
          <a:xfrm>
            <a:off x="324000" y="3789360"/>
            <a:ext cx="1655640" cy="16556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835280" y="1403640"/>
            <a:ext cx="7308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Планета Козерога - мрачный Сатурн. После того, как в XIX веке астрономы открыли Уран, он стал считаться вторым покровителем знака. Козерог представляет собой страстно-холодный тип, обычно он интеллектуален, очень сдержан и честолюбив, Никогда не прощает ошибок ни себе, ни другим. Очень целеустремлен, всегда твердо знает, чего хочет в жизни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1944720" cy="1439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7524720" y="189000"/>
            <a:ext cx="1428840" cy="10764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1810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e5ff"/>
                </a:solidFill>
                <a:latin typeface="Times New Roman"/>
              </a:rPr>
              <a:t>Знак зодиака Водолей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2" name="" descr="Знак зодиака Водолей"/>
          <p:cNvPicPr/>
          <p:nvPr/>
        </p:nvPicPr>
        <p:blipFill>
          <a:blip r:embed="rId1"/>
          <a:stretch/>
        </p:blipFill>
        <p:spPr>
          <a:xfrm>
            <a:off x="179280" y="2276640"/>
            <a:ext cx="1943280" cy="12254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979640" y="1699200"/>
            <a:ext cx="7164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У Водолея два управителя: Уран и Сатурн. Они наделили Водолеев широтой ума, интеллектуальностью и способностью проникать в самые загадочные тайны мироздания. Основной движущей идеей и силой Водолея является какая-нибудь высшая идея, которую он стремится немедленно воплотить в жизнь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093080" y="189000"/>
            <a:ext cx="1904760" cy="1434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e5ff"/>
                </a:solidFill>
                <a:latin typeface="Times New Roman"/>
              </a:rPr>
              <a:t>Знак зодиака Рыбы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6" name="" descr="Знак зодиака Рыбы"/>
          <p:cNvPicPr/>
          <p:nvPr/>
        </p:nvPicPr>
        <p:blipFill>
          <a:blip r:embed="rId1"/>
          <a:stretch/>
        </p:blipFill>
        <p:spPr>
          <a:xfrm>
            <a:off x="468360" y="1628640"/>
            <a:ext cx="1511280" cy="1871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763640" y="1403640"/>
            <a:ext cx="7380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Основное влияние на Рыб оказывает Нептун, дополнительная планета - Юпитер. Нептун символизирует область человеческого бессознательного, поэтому Рыбы обладают особым, мистическим складом ума и прекрасно развитой интуицией. Но Рыбы часто страдают от собственной неуравновешенности, легко поддаются чужому влиянию и могут впасть в уныние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093080" y="115920"/>
            <a:ext cx="1904760" cy="14349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Однако, несмотря на все наши достижения последних лет, как и прежде, человек испытывает непреодолимое желание познать себя как личность, приподнять завесу времен и понять свой дальнейший путь и свое предназначение. Жаждет познать смысл своего существования на этом свете, ищет ответы на вопросы, на которые наука не в состоянии ответить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2448000" cy="15588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771640" y="189000"/>
            <a:ext cx="2448000" cy="1562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076720" y="404640"/>
            <a:ext cx="241452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1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155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1155" fill="hold"/>
                                        <p:tgtEl>
                                          <p:spTgt spid="1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2" dur="1155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" dur="1155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155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1155" fill="hold"/>
                                        <p:tgtEl>
                                          <p:spTgt spid="1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" dur="1155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1155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3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-17172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e5ff"/>
                </a:solidFill>
                <a:latin typeface="Times New Roman"/>
              </a:rPr>
              <a:t>Характеристика знаков зодиа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4" name="" descr="Знаки зодиака"/>
          <p:cNvPicPr/>
          <p:nvPr/>
        </p:nvPicPr>
        <p:blipFill>
          <a:blip r:embed="rId1"/>
          <a:stretch/>
        </p:blipFill>
        <p:spPr>
          <a:xfrm>
            <a:off x="1258920" y="907920"/>
            <a:ext cx="6985080" cy="4105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684360" y="508428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Гороскоп с его зодиакальным кругом пришел к нам из глубины веков как культурное наследие наших предков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1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-66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47280" y="476280"/>
            <a:ext cx="7797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В традиционных до индустриальных культурах древних народов, общество имело более простой и в то же время более четкий понятный простому человеку порядо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2808360" cy="1960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024360" y="2997360"/>
            <a:ext cx="611964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Роль мужчины и женщины                                                               были четко распределены по рождению, семейная поддержка и культ предков помогали людям ассоциировать себя с чем-то большим, нежели их собственные нужды и потребности.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2219400" cy="17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0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3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404640"/>
            <a:ext cx="806616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Современное общество далеко ушло от этих первобытных догм, в наше время роль мужчины и женщины давно неограниченна их любовными отношениями, 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9280" y="2565360"/>
            <a:ext cx="3302280" cy="2176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348000" y="2708280"/>
            <a:ext cx="5977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больше не достаточно просто любить вашего партнера и делать ежедневную работу по поддержанию вашего домашнего     хозяйства, современная пара - это также деловые партнеры и лучшие друзья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332000" y="5084640"/>
            <a:ext cx="201600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e5ff"/>
                </a:solidFill>
                <a:latin typeface="Times New Roman"/>
              </a:rPr>
              <a:t>Астрология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181440" y="765000"/>
            <a:ext cx="93250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Когда в древнем Вавилоне закладывались основы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imes New Roman"/>
                <a:hlinkClick r:id="rId1"/>
              </a:rPr>
              <a:t>астрологии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, знаки зодиака получили названия реальных созвездий. Первые астрономы заметили, что Солнце каждый год движется через одни и те же группы звезд. Характеристика знаков зодиака бесплатно, как мы думаем, будет полезна, если вы еще не знакомы с астрологи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08000" y="4745160"/>
            <a:ext cx="3132000" cy="2112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419640" y="4797360"/>
            <a:ext cx="2736720" cy="1871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300720" y="4797360"/>
            <a:ext cx="2664000" cy="1871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252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e5ff"/>
                </a:solidFill>
                <a:latin typeface="Times New Roman"/>
              </a:rPr>
              <a:t>Знак зодиака Овен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63640" y="1484280"/>
            <a:ext cx="69120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Ни один из трех разновидностей Овнов не терпит скуки. Все они прирожденные весельчаки, очень любопытны и любят своих друзей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Знак зодиака Овен"/>
          <p:cNvPicPr/>
          <p:nvPr/>
        </p:nvPicPr>
        <p:blipFill>
          <a:blip r:embed="rId1"/>
          <a:stretch/>
        </p:blipFill>
        <p:spPr>
          <a:xfrm>
            <a:off x="7020000" y="414972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020000" y="115920"/>
            <a:ext cx="1904760" cy="1434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79280" y="1557360"/>
            <a:ext cx="1905120" cy="1854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0920" y="3354480"/>
            <a:ext cx="691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Любопытство иногда может сделать Овнов нетактичными, но не стоит обижаться на них всерьез: они никогда не хотят ничего дурного, а просто стремятся получше узнать жизнь во всех ее проявлениях...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e5ff"/>
                </a:solidFill>
                <a:latin typeface="Times New Roman"/>
              </a:rPr>
              <a:t>Знак зодиака Телец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476000" y="134136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Рожденные под знаком Тельца испытывают на себе сильное влияние Венеры и Луны, поэтому основой и движущей силой Тельцов является любовь в самом широком понимании этого слова. Тельцы стремятся полностью завладеть желанным объектом...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" descr="Знак зодиака Телец"/>
          <p:cNvPicPr/>
          <p:nvPr/>
        </p:nvPicPr>
        <p:blipFill>
          <a:blip r:embed="rId1"/>
          <a:stretch/>
        </p:blipFill>
        <p:spPr>
          <a:xfrm>
            <a:off x="250920" y="1628640"/>
            <a:ext cx="1511280" cy="2016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093080" y="5229360"/>
            <a:ext cx="1904760" cy="1434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e5ff"/>
                </a:solidFill>
                <a:latin typeface="Times New Roman"/>
              </a:rPr>
              <a:t>Знак зодиака Близнецы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2" name="" descr="Знак зодиака Близнецы"/>
          <p:cNvPicPr/>
          <p:nvPr/>
        </p:nvPicPr>
        <p:blipFill>
          <a:blip r:embed="rId1"/>
          <a:stretch/>
        </p:blipFill>
        <p:spPr>
          <a:xfrm>
            <a:off x="179280" y="3933720"/>
            <a:ext cx="1584360" cy="1656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-181080" y="979920"/>
            <a:ext cx="547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На всех без исключения Близнецов оказывает влияние Меркурий - бог торговцев, юристов, интеллектуалов и вор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003640" y="981000"/>
            <a:ext cx="1905120" cy="18669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692360" y="3645000"/>
            <a:ext cx="684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Поэтому у Близнецов исключительно хорошо развита интуиция, они постигают многие вещи инстинктивно и с животной ловкостью умеют выкручиваться из самых неприятных историй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164360" y="1413000"/>
            <a:ext cx="1873440" cy="280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e5ff"/>
                </a:solidFill>
                <a:latin typeface="Times New Roman"/>
              </a:rPr>
              <a:t>Знак зодиака Рак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8" name="" descr="Знак зодиака Рак"/>
          <p:cNvPicPr/>
          <p:nvPr/>
        </p:nvPicPr>
        <p:blipFill>
          <a:blip r:embed="rId1"/>
          <a:stretch/>
        </p:blipFill>
        <p:spPr>
          <a:xfrm>
            <a:off x="108000" y="3500280"/>
            <a:ext cx="1800000" cy="1513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1195920"/>
            <a:ext cx="71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Встречаются два типа Рака: Рак-полумесяц, чьи рога обращены к небу, и Рак-полумесяц, рога которого повернуты к земл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93080" y="155736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3141720"/>
            <a:ext cx="72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Первые склонны к безудержному фантазированию и не выносят жизни на одном месте. Это Раки-бродяги. Второй тип предпочитает оседлый образ жизни. Это люди мрачные, живущие в соответствии с импульсами своего подсознания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18:39:55Z</dcterms:created>
  <dc:creator>Галя Варданян</dc:creator>
  <dc:description/>
  <dc:language>en-US</dc:language>
  <cp:lastModifiedBy>Галя Варданян</cp:lastModifiedBy>
  <dcterms:modified xsi:type="dcterms:W3CDTF">2010-03-20T18:18:04Z</dcterms:modified>
  <cp:revision>8</cp:revision>
  <dc:subject/>
  <dc:title>Презентация по информатике на тему : «Знаки зодиака. Гороскоп.»</dc:title>
</cp:coreProperties>
</file>