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694-721F-4940-9B20-516BDAAC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C8B-14BF-4254-AFB1-0C2D0D90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BD2-F411-49D9-BF79-43F95ACE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78D-131E-4EF9-8495-89347513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4F9-7818-425E-A558-207D7BCD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41D-0163-44CC-ABBA-5AFB24A8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999-915E-4B1D-B421-D0BDE5D6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0A6-03C6-472E-8D1F-8AD0A726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9C83-79F9-4ED7-9D1F-3FE4572C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A03-BCB3-4DDA-96A8-DE2A1302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049-400B-4C01-ACD1-CCBCC4FC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97C-4185-45B4-8ABA-E75B5FBC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192A-27BA-4A28-ABDD-9718816BD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1657440" cy="252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93080" y="907920"/>
            <a:ext cx="1674720" cy="2592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1800360" cy="266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219640" y="4076640"/>
            <a:ext cx="1727280" cy="252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050920" y="3716280"/>
            <a:ext cx="1675080" cy="28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236000" y="3789360"/>
            <a:ext cx="1649160" cy="275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124000" y="1413000"/>
            <a:ext cx="1319400" cy="223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348000" y="2565360"/>
            <a:ext cx="191448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755640" y="2133720"/>
            <a:ext cx="1362240" cy="212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219640" y="1700280"/>
            <a:ext cx="1914480" cy="272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76360" y="33336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ль пейзажа в романе Ф.М. Достоевского «Преступление и наказа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816360" cy="282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014720" cy="2808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700360" y="3429000"/>
            <a:ext cx="38178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666960" cy="5329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865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672000" cy="5545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4248000" cy="287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95280" y="3284640"/>
            <a:ext cx="1933560" cy="3257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2627280" y="3284640"/>
            <a:ext cx="21844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780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2472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1401840"/>
            <a:ext cx="8713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емный колор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сутствие раст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видно не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ько кам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ома, скрывающие горизо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игурки одиноко бредущих, сгорбленных, словно задавленных бездушной громадой города,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333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Изображение Петербур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5950080"/>
            <a:ext cx="1584360" cy="718920"/>
          </a:xfrm>
          <a:custGeom>
            <a:avLst/>
            <a:gdLst>
              <a:gd name="textAreaLeft" fmla="*/ 46440 w 1584360"/>
              <a:gd name="textAreaRight" fmla="*/ 1537920 w 1584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7589" h="21600">
                <a:moveTo>
                  <a:pt x="0" y="0"/>
                </a:moveTo>
                <a:lnTo>
                  <a:pt x="47589" y="0"/>
                </a:lnTo>
                <a:lnTo>
                  <a:pt x="47589" y="21600"/>
                </a:lnTo>
                <a:lnTo>
                  <a:pt x="0" y="21600"/>
                </a:lnTo>
                <a:close/>
              </a:path>
              <a:path fill="lightenLess" w="47589" h="21600">
                <a:moveTo>
                  <a:pt x="0" y="0"/>
                </a:moveTo>
                <a:lnTo>
                  <a:pt x="47589" y="0"/>
                </a:lnTo>
                <a:lnTo>
                  <a:pt x="46189" y="1400"/>
                </a:lnTo>
                <a:lnTo>
                  <a:pt x="1400" y="1400"/>
                </a:lnTo>
                <a:close/>
              </a:path>
              <a:path fill="darken" w="47589" h="21600">
                <a:moveTo>
                  <a:pt x="47589" y="0"/>
                </a:moveTo>
                <a:lnTo>
                  <a:pt x="47589" y="21600"/>
                </a:lnTo>
                <a:lnTo>
                  <a:pt x="46189" y="20200"/>
                </a:lnTo>
                <a:lnTo>
                  <a:pt x="46189" y="1400"/>
                </a:lnTo>
                <a:close/>
              </a:path>
              <a:path fill="darkenLess" w="47589" h="21600">
                <a:moveTo>
                  <a:pt x="47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89" y="20200"/>
                </a:lnTo>
                <a:close/>
              </a:path>
              <a:path fill="lighten" w="47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89" h="21600">
                <a:moveTo>
                  <a:pt x="16788" y="7301"/>
                </a:moveTo>
                <a:lnTo>
                  <a:pt x="17702" y="7301"/>
                </a:lnTo>
                <a:lnTo>
                  <a:pt x="18085" y="7667"/>
                </a:lnTo>
                <a:lnTo>
                  <a:pt x="27293" y="7667"/>
                </a:lnTo>
                <a:lnTo>
                  <a:pt x="27851" y="8224"/>
                </a:lnTo>
                <a:lnTo>
                  <a:pt x="27851" y="8772"/>
                </a:lnTo>
                <a:lnTo>
                  <a:pt x="29696" y="8772"/>
                </a:lnTo>
                <a:lnTo>
                  <a:pt x="30061" y="8224"/>
                </a:lnTo>
                <a:lnTo>
                  <a:pt x="30801" y="8224"/>
                </a:lnTo>
                <a:lnTo>
                  <a:pt x="30801" y="13376"/>
                </a:lnTo>
                <a:lnTo>
                  <a:pt x="30061" y="13376"/>
                </a:lnTo>
                <a:lnTo>
                  <a:pt x="29696" y="12828"/>
                </a:lnTo>
                <a:lnTo>
                  <a:pt x="27851" y="12828"/>
                </a:lnTo>
                <a:lnTo>
                  <a:pt x="27851" y="14107"/>
                </a:lnTo>
                <a:lnTo>
                  <a:pt x="18268" y="14107"/>
                </a:lnTo>
                <a:lnTo>
                  <a:pt x="18268" y="9877"/>
                </a:lnTo>
                <a:lnTo>
                  <a:pt x="18085" y="9877"/>
                </a:lnTo>
                <a:lnTo>
                  <a:pt x="17702" y="10243"/>
                </a:lnTo>
                <a:lnTo>
                  <a:pt x="16788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333360"/>
          <a:ext cx="8569080" cy="5937120"/>
        </p:xfrm>
        <a:graphic>
          <a:graphicData uri="http://schemas.openxmlformats.org/drawingml/2006/table">
            <a:tbl>
              <a:tblPr/>
              <a:tblGrid>
                <a:gridCol w="3670200"/>
                <a:gridCol w="4898880"/>
              </a:tblGrid>
              <a:tr h="29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черний пейза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ле убийств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кольниковым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рухи-процентщицы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чной пейза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идригайлов броди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ночному Петербургу 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язь, в туман. 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ще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о для самоубийств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1476360" y="5084640"/>
            <a:ext cx="1511280" cy="936720"/>
          </a:xfrm>
          <a:custGeom>
            <a:avLst/>
            <a:gdLst>
              <a:gd name="textAreaLeft" fmla="*/ 60480 w 1511280"/>
              <a:gd name="textAreaRight" fmla="*/ 1450800 w 1511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4844" h="21600">
                <a:moveTo>
                  <a:pt x="0" y="0"/>
                </a:moveTo>
                <a:lnTo>
                  <a:pt x="34844" y="0"/>
                </a:lnTo>
                <a:lnTo>
                  <a:pt x="34844" y="21600"/>
                </a:lnTo>
                <a:lnTo>
                  <a:pt x="0" y="21600"/>
                </a:lnTo>
                <a:close/>
              </a:path>
              <a:path fill="lightenLess" w="34844" h="21600">
                <a:moveTo>
                  <a:pt x="0" y="0"/>
                </a:moveTo>
                <a:lnTo>
                  <a:pt x="34844" y="0"/>
                </a:lnTo>
                <a:lnTo>
                  <a:pt x="33444" y="1400"/>
                </a:lnTo>
                <a:lnTo>
                  <a:pt x="1400" y="1400"/>
                </a:lnTo>
                <a:close/>
              </a:path>
              <a:path fill="darken" w="34844" h="21600">
                <a:moveTo>
                  <a:pt x="34844" y="0"/>
                </a:moveTo>
                <a:lnTo>
                  <a:pt x="34844" y="21600"/>
                </a:lnTo>
                <a:lnTo>
                  <a:pt x="33444" y="20200"/>
                </a:lnTo>
                <a:lnTo>
                  <a:pt x="33444" y="1400"/>
                </a:lnTo>
                <a:close/>
              </a:path>
              <a:path fill="darkenLess" w="34844" h="21600">
                <a:moveTo>
                  <a:pt x="34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44" y="20200"/>
                </a:lnTo>
                <a:close/>
              </a:path>
              <a:path fill="lighten" w="34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44" h="21600">
                <a:moveTo>
                  <a:pt x="10415" y="7301"/>
                </a:moveTo>
                <a:lnTo>
                  <a:pt x="11329" y="7301"/>
                </a:lnTo>
                <a:lnTo>
                  <a:pt x="11712" y="7667"/>
                </a:lnTo>
                <a:lnTo>
                  <a:pt x="20921" y="7667"/>
                </a:lnTo>
                <a:lnTo>
                  <a:pt x="21478" y="8224"/>
                </a:lnTo>
                <a:lnTo>
                  <a:pt x="21478" y="8772"/>
                </a:lnTo>
                <a:lnTo>
                  <a:pt x="23323" y="8772"/>
                </a:lnTo>
                <a:lnTo>
                  <a:pt x="23689" y="8224"/>
                </a:lnTo>
                <a:lnTo>
                  <a:pt x="24428" y="8224"/>
                </a:lnTo>
                <a:lnTo>
                  <a:pt x="24428" y="13376"/>
                </a:lnTo>
                <a:lnTo>
                  <a:pt x="23689" y="13376"/>
                </a:lnTo>
                <a:lnTo>
                  <a:pt x="23323" y="12828"/>
                </a:lnTo>
                <a:lnTo>
                  <a:pt x="21478" y="12828"/>
                </a:lnTo>
                <a:lnTo>
                  <a:pt x="21478" y="14107"/>
                </a:lnTo>
                <a:lnTo>
                  <a:pt x="11895" y="14107"/>
                </a:lnTo>
                <a:lnTo>
                  <a:pt x="11895" y="9877"/>
                </a:lnTo>
                <a:lnTo>
                  <a:pt x="11712" y="9877"/>
                </a:lnTo>
                <a:lnTo>
                  <a:pt x="11329" y="10243"/>
                </a:lnTo>
                <a:lnTo>
                  <a:pt x="10415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50920" y="549360"/>
          <a:ext cx="8497800" cy="568764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кольник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идригай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тоевский хотел подчеркнуть, что для Раскольникова еще не все кончено, у него есть надежда свернуть со скользкой дороги бесчеловечных идей. Он еще молод, у него отзывчивое, доброе сердце. Он может духовно возроди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ой не видит впереди ничего светлого, он словно заблудился в тумане, из которого у него только один выход: найти «тот самый куст», под ко­торым он сведет счеты с жизнью, и для него наступит вечная ноч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951280" cy="3943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6000" y="404640"/>
            <a:ext cx="3097080" cy="396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76720" y="2133720"/>
            <a:ext cx="2809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313080" cy="468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67280" y="3141720"/>
            <a:ext cx="4781520" cy="345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80000" y="54936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дко где найдется столько мрачных,  резких и страшных влияний на душу человека,  как  в  Петербург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300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.М. Досто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24000" y="404640"/>
          <a:ext cx="8496000" cy="5875560"/>
        </p:xfrm>
        <a:graphic>
          <a:graphicData uri="http://schemas.openxmlformats.org/drawingml/2006/table">
            <a:tbl>
              <a:tblPr/>
              <a:tblGrid>
                <a:gridCol w="4824360"/>
                <a:gridCol w="1684080"/>
                <a:gridCol w="19875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а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ара страшная; летняя вонь; нестерпимая вонь; отвратительный, грустный колорит; глубочайшее омерзение .Время серенькое; день удушливый; дорога пыльная; пыль черная. Духота прежняя; вонючий, пыльный, зараженный городом возду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зовый  отблеск заката; последний луч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невшие, сгущавшиеся сумерк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невшая вода канавы, дикое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образное видение. Было темно, как 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гребе; темные пятна. Молочный, густ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уман; скользкая, грязная мостовая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крые дрож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ркие краски, состояние покоя и тишины, яркое красное солнце, яркий закат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аски светлые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ркие; пейзаж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олн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ветам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ленью, вежи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духом; та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ьют фонтаны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етит солнце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ветут сады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урчат ручьи 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хлад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лубой водой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506760" cy="5173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356000" y="692280"/>
            <a:ext cx="45388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Какую роль играет утренний пейзаж в эпилоге рома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йзаж в романе Достоевского используется для создания местного колорита; выступает в качестве фона, на котором разворачиваются события; служит дополнительным средством для более выразительного изображения действующих лиц (прием контраста или соответствия природных явлений чувствам и мыслям персонаж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 помощью пейзажа автор более ярко и достоверно отражает состояние безысходности, одиночества «маленького человека» в большом, бездушном городе, подчеркивает, что, живя в таких условиях, люди дичают, озлобляются, теряют человеческую сущность, доброту, милосердие, поэтому в их умах зарождаются жестокие бесчеловечные идеи. Но наступает утро, когда зараженная душным, зловонным городским воздухом душа очищается через страдание, открывается навстречу любви, надежде, поворачивается к людям. И в этом символическое значение пейза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681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йзаж может выступ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качестве ф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котор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ворачи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бытия,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черкивать 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стояние гер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ражая его чувств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еж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888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Роль пейза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ражение авторского отношения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ображение характерных черт мест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ласти, страны (создание местного колорит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ополнительное средство для бол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разительного изображения действующ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иц: путем контраста; путем соответ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родных явлений чувствам и мысл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сонаж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24000" y="836640"/>
            <a:ext cx="8424000" cy="4967280"/>
            <a:chOff x="324000" y="836640"/>
            <a:chExt cx="8424000" cy="4967280"/>
          </a:xfrm>
        </p:grpSpPr>
        <p:cxnSp>
          <p:nvCxnSpPr>
            <p:cNvPr id="60" name="_s6172"/>
            <p:cNvCxnSpPr>
              <a:stCxn id="61" idx="0"/>
              <a:endCxn id="62" idx="2"/>
            </p:cNvCxnSpPr>
            <p:nvPr/>
          </p:nvCxnSpPr>
          <p:spPr>
            <a:xfrm flipV="1" rot="16200000">
              <a:off x="5513040" y="1845000"/>
              <a:ext cx="993960" cy="2949120"/>
            </a:xfrm>
            <a:prstGeom prst="bentConnector3">
              <a:avLst>
                <a:gd name="adj1" fmla="val 127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6171"/>
            <p:cNvCxnSpPr>
              <a:stCxn id="64" idx="0"/>
              <a:endCxn id="62" idx="2"/>
            </p:cNvCxnSpPr>
            <p:nvPr/>
          </p:nvCxnSpPr>
          <p:spPr>
            <a:xfrm flipV="1">
              <a:off x="4535640" y="2822760"/>
              <a:ext cx="3960" cy="99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6170"/>
            <p:cNvCxnSpPr>
              <a:stCxn id="66" idx="0"/>
              <a:endCxn id="62" idx="2"/>
            </p:cNvCxnSpPr>
            <p:nvPr/>
          </p:nvCxnSpPr>
          <p:spPr>
            <a:xfrm flipH="1" flipV="1" rot="5400000">
              <a:off x="2565000" y="1845360"/>
              <a:ext cx="993960" cy="2949120"/>
            </a:xfrm>
            <a:prstGeom prst="bentConnector3">
              <a:avLst>
                <a:gd name="adj1" fmla="val 127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2" name="_s6166"/>
            <p:cNvSpPr/>
            <p:nvPr/>
          </p:nvSpPr>
          <p:spPr>
            <a:xfrm>
              <a:off x="3272400" y="83664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Пейзаж у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Достоевск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6167"/>
            <p:cNvSpPr/>
            <p:nvPr/>
          </p:nvSpPr>
          <p:spPr>
            <a:xfrm>
              <a:off x="324000" y="381708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Лет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168"/>
            <p:cNvSpPr/>
            <p:nvPr/>
          </p:nvSpPr>
          <p:spPr>
            <a:xfrm>
              <a:off x="3272400" y="381708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Вечер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6169"/>
            <p:cNvSpPr/>
            <p:nvPr/>
          </p:nvSpPr>
          <p:spPr>
            <a:xfrm>
              <a:off x="6220800" y="3817080"/>
              <a:ext cx="2527200" cy="198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Городско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асть 1 (1), с. 32. Жара страшная; летняя вонь; нестерпимая вонь; отвратительный, грустный колорит; глубочайшее омерз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асть 1 (5), с. 70. Время серенькое; день удушливый; дорога пыльная; пыль чер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асть 2 (6), с. 145. Духота прежняя; вонючий, пыльный, зараженный городом воз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асть 2 (6), с. 156. Розовый отблеск заката; последний луч; темневшие, сгущавшиеся сумерки, темневшая вода канавы, дикое, безобразное ви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асть 6 (6), с. 413. Было темно, как в погребе; темные пят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асть 6 (6), с. 415. Молочный, густой туман; скользкая, грязная мостовая; мокрые дрож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етербург Достое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608720" cy="431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35053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52880" cy="568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17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8:50:20Z</dcterms:created>
  <dc:creator>NET1_1</dc:creator>
  <dc:description/>
  <dc:language>en-US</dc:language>
  <cp:lastModifiedBy>МОУ СОШ № 9</cp:lastModifiedBy>
  <dcterms:modified xsi:type="dcterms:W3CDTF">2010-01-13T06:51:04Z</dcterms:modified>
  <cp:revision>23</cp:revision>
  <dc:subject/>
  <dc:title>Слайд 1</dc:title>
</cp:coreProperties>
</file>