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9.jpeg" ContentType="image/jpe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E934-6254-4C68-949F-FF33C7AAB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5EB7-7B8A-4A98-A995-E2300444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7717-2BDC-4F16-9777-72FB8C52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1E49-1778-4AFA-873E-9D9E2FEEE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85A1-FCFA-4482-9AA1-C68C2DF2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A89A-E06D-4A15-A762-DCDD6921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4709-ED7C-4C81-9CCA-A2574745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8EFA-C417-41C0-A69F-D0590063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61CB-35CB-455D-BD5E-E9714813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AF89-266F-4BD5-8CC6-DB0B003B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FBC3-CF08-41D1-B39D-DB437C96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66E6-E89D-43C5-92E1-409B1CC6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A8EB-F6E8-4975-BE63-F73F278DD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iziks.org.ua/wp-content/uploads/2008/12/pism-3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iziks.org.ua/wp-content/uploads/2008/12/never-fall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hyperlink" Target="http://fiziks.org.ua/wp-content/uploads/2008/12/nabor.jpg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hyperlink" Target="http://fiziks.org.ua/wp-content/uploads/2008/12/never-fall.jpg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iziks.org.ua/wp-content/uploads/2008/12/pism-3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sm-3" descr="">
            <a:hlinkClick r:id="rId2"/>
          </p:cNvPr>
          <p:cNvPicPr/>
          <p:nvPr/>
        </p:nvPicPr>
        <p:blipFill>
          <a:blip r:embed="rId3"/>
          <a:stretch/>
        </p:blipFill>
        <p:spPr>
          <a:xfrm rot="20309400">
            <a:off x="755640" y="3573360"/>
            <a:ext cx="3456000" cy="2522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9440" y="189000"/>
            <a:ext cx="7601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йонный конкурс исследовательских работ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роловская средня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учное общество учащихся Фроловской средней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222320" y="14835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кция: физ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491560"/>
            <a:ext cx="78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3166920"/>
                <a:tab algn="r" pos="6334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СЕКРЕТЫ    ФИЗИЧЕСКИХ   ИГРУШЕК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43280" y="4242600"/>
            <a:ext cx="6110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55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боту выполнил: ученик 7а класс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55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роловской средней шко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55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Лебедев Михаил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55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55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55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ководитель: учитель  физики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55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категории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занова Н. 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55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09800" y="630792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ролы - 2009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0"/>
            <a:ext cx="529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Пильщ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аналогичном «секрете» работает пильщик. Пильщик будет стоять на ногах совершенно прямо. Легким толчком  можно заставить его раскачиваться и он будет долго и равномерно покачиваться то вперед, то назад, совсем как настоящий пильщи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292720" y="692280"/>
            <a:ext cx="33019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тические игрушки        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540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лейдоско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оптический прибор-игрушка в виде трубки, содержащей внутри три продольных, сложенных под углом зеркальных стекла; при поворачивании трубки продольной оси цветные элементы, находящиеся между зеркалами, отражаются и создают меняющиеся симметричные узоры. Прибор был известен ещё в Древней Греции. В России калейдоскоп появился в XVIII в. благодаря Михаилу Васильевичу Ломоносову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ЛЕЙДОСКОП 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354120" cy="25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ЛЕКТРИЧЕСТВО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ЛЕКТРИЧЕСКАЯ КАРУСЕ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ЗАКЛЮЧЕ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заключении можно сказать, что действие всех физических игрушек подчиняется законам физ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я надеюсь, что все это позволит формировать интересы учащихся к физике, расширить знания по основным вопросам курса физики, способствовать развити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ворческих наклонностей учеников и практических умений при создании технических издел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писок источников и литератур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Л. Гальперштейн. Здравствуй, физика! — М.: Детская литература, 19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.Ю. Хилькевич.  ”Физика вокруг нас”, Библиотечка “Квант”, Выпуск 40. Москва, Наука, 1985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"Я познаю мир" . Автор-составитель Н.Г. Юрина, 200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 Дж.Уоккер "Физический фейерверк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и: http://www.gyroscope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ru.wikipedia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trizland.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fiziks.org.ua/kolybel-nyuton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never-fall" descr="">
            <a:hlinkClick r:id="rId2"/>
          </p:cNvPr>
          <p:cNvPicPr/>
          <p:nvPr/>
        </p:nvPicPr>
        <p:blipFill>
          <a:blip r:embed="rId3"/>
          <a:stretch/>
        </p:blipFill>
        <p:spPr>
          <a:xfrm rot="20761800">
            <a:off x="0" y="475920"/>
            <a:ext cx="2987640" cy="15717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И И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2349360"/>
            <a:ext cx="83520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ль моей работы – рассмотреть игрушки, работающие на основе физических явлений и выяснить в чем секрет действий этих игру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Изучить теорию действия игру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Создать школьный “Музей физической игрушки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Формировать интересы учащихся к физике, расширять их знания по основным вопросам курса физ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133720"/>
            <a:ext cx="9144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20634000">
            <a:off x="395280" y="4724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20627400">
            <a:off x="323640" y="69228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53" name="nabor" descr="">
            <a:hlinkClick r:id="rId4"/>
          </p:cNvPr>
          <p:cNvPicPr/>
          <p:nvPr/>
        </p:nvPicPr>
        <p:blipFill>
          <a:blip r:embed="rId5"/>
          <a:stretch/>
        </p:blipFill>
        <p:spPr>
          <a:xfrm rot="908400">
            <a:off x="6443280" y="765000"/>
            <a:ext cx="2436840" cy="1589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684072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ГРУШКИ ВОКРУГ Н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58920" y="1052280"/>
            <a:ext cx="64087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грушки -  известны с древних времен. И изготавливались из любых подручных материалов. В настоящее время в наших магазинах присутствует полное изобилие различных игрушек: пистолеты, грузовики, самолеты и подводные лодки, - все то, что движется, мигает, звучит. Меня заинтересовали игрушки имеющие физические основы в своем действ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 rot="5400000">
            <a:off x="4500000" y="981000"/>
            <a:ext cx="433440" cy="433080"/>
          </a:xfrm>
          <a:custGeom>
            <a:avLst/>
            <a:gdLst>
              <a:gd name="textAreaLeft" fmla="*/ 67680 w 433440"/>
              <a:gd name="textAreaRight" fmla="*/ 379440 w 433440"/>
              <a:gd name="textAreaTop" fmla="*/ 108360 h 433080"/>
              <a:gd name="textAreaBottom" fmla="*/ 325080 h 433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7739400">
            <a:off x="2520000" y="727560"/>
            <a:ext cx="647640" cy="433440"/>
          </a:xfrm>
          <a:custGeom>
            <a:avLst/>
            <a:gdLst>
              <a:gd name="textAreaLeft" fmla="*/ 101160 w 647640"/>
              <a:gd name="textAreaRight" fmla="*/ 567000 w 647640"/>
              <a:gd name="textAreaTop" fmla="*/ 108360 h 433440"/>
              <a:gd name="textAreaBottom" fmla="*/ 325080 h 433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3146400">
            <a:off x="6516720" y="763560"/>
            <a:ext cx="576000" cy="433440"/>
          </a:xfrm>
          <a:custGeom>
            <a:avLst/>
            <a:gdLst>
              <a:gd name="textAreaLeft" fmla="*/ 90000 w 576000"/>
              <a:gd name="textAreaRight" fmla="*/ 504000 w 576000"/>
              <a:gd name="textAreaTop" fmla="*/ 108360 h 433440"/>
              <a:gd name="textAreaBottom" fmla="*/ 325080 h 433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348000" y="1557360"/>
            <a:ext cx="2879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8100000"/>
                </a:gradFill>
                <a:latin typeface="Arial"/>
              </a:rPr>
              <a:t>МЕХАНИЧЕСК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81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564000" y="333360"/>
            <a:ext cx="2663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ИГРУШ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443640" y="1125360"/>
            <a:ext cx="24145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8100000"/>
                </a:gradFill>
                <a:latin typeface="Arial"/>
              </a:rPr>
              <a:t>ОПТИЧЕСК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197000"/>
            <a:ext cx="2736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00"/>
                    </a:gs>
                  </a:gsLst>
                  <a:lin ang="8100000"/>
                </a:gradFill>
                <a:latin typeface="Arial"/>
              </a:rPr>
              <a:t>ЭЛЕКТРИЧЕСК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sp>
        <p:nvSpPr>
          <p:cNvPr id="63" name=""/>
          <p:cNvSpPr/>
          <p:nvPr/>
        </p:nvSpPr>
        <p:spPr>
          <a:xfrm rot="7396800">
            <a:off x="2195640" y="2635920"/>
            <a:ext cx="1230480" cy="368280"/>
          </a:xfrm>
          <a:custGeom>
            <a:avLst/>
            <a:gdLst>
              <a:gd name="textAreaLeft" fmla="*/ 192240 w 1230480"/>
              <a:gd name="textAreaRight" fmla="*/ 1076760 w 1230480"/>
              <a:gd name="textAreaTop" fmla="*/ 92160 h 368280"/>
              <a:gd name="textAreaBottom" fmla="*/ 276480 h 368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71640" y="3573360"/>
            <a:ext cx="2089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АЯТНИКОВ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/>
          <p:nvPr/>
        </p:nvSpPr>
        <p:spPr>
          <a:xfrm rot="3431400">
            <a:off x="5943960" y="2632680"/>
            <a:ext cx="1224000" cy="36828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92160 h 368280"/>
              <a:gd name="textAreaBottom" fmla="*/ 276480 h 368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4215960" y="2631960"/>
            <a:ext cx="1079280" cy="368280"/>
          </a:xfrm>
          <a:custGeom>
            <a:avLst/>
            <a:gdLst>
              <a:gd name="textAreaLeft" fmla="*/ 168480 w 1079280"/>
              <a:gd name="textAreaRight" fmla="*/ 944640 w 1079280"/>
              <a:gd name="textAreaTop" fmla="*/ 92160 h 368280"/>
              <a:gd name="textAreaBottom" fmla="*/ 276480 h 368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708360" y="3573360"/>
            <a:ext cx="2305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ЕЗИНОМОТОР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156360" y="3573360"/>
            <a:ext cx="2087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АВНОВЕС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4076640"/>
            <a:ext cx="1728720" cy="1871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79280" y="6093000"/>
            <a:ext cx="1513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КОЛЫБ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НЬЮТО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pic>
        <p:nvPicPr>
          <p:cNvPr id="71" name="katush" descr=""/>
          <p:cNvPicPr/>
          <p:nvPr/>
        </p:nvPicPr>
        <p:blipFill>
          <a:blip r:embed="rId3"/>
          <a:stretch/>
        </p:blipFill>
        <p:spPr>
          <a:xfrm>
            <a:off x="3851280" y="4076640"/>
            <a:ext cx="1871640" cy="1800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835280" y="4076640"/>
            <a:ext cx="1657080" cy="1800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2195640" y="6021360"/>
            <a:ext cx="9475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ЙО-Й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995640" y="6021360"/>
            <a:ext cx="147312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КАТУШ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ПОЛЗУШ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pic>
        <p:nvPicPr>
          <p:cNvPr id="75" name="never-fall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0360" y="4076640"/>
            <a:ext cx="2819520" cy="1368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6156360" y="5734080"/>
            <a:ext cx="2479680" cy="68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НЕВАЛЯШ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ВАНЬКА - ВСТАНЬ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2781360"/>
            <a:ext cx="208116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ЭТЕКТРИЧЕСКАЯ КАРУС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77080" y="2708280"/>
            <a:ext cx="205092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КАЛЕЙДОСК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6804000" y="1628640"/>
            <a:ext cx="205740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65167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ханические игруш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3640" y="2781000"/>
            <a:ext cx="8351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игрушка, придуманная англичанином Саймоном Преббле  в 1967 году,  состоит из пяти металлических шариков, подвешенных на нитях. Действие игрушки основано на преобразований одной энергии в другую - кинетической в потенциальную, и наоборот. Если отклонить первый шарик и отпустить, то его энергия и импульс передадутся без изменения через три средних шарика последнему, который приобретёт ту же скорость и поднимется на ту же высоту. Он в свою очередь передаст свой импульс и энергию по цепочке снова первому шарику. Крайние маятники будут колебаться, а средние шарики будут покоиться. Если бы не было потерь механической энергии вследствие работы сил трения и упругости, то колебания продолжались бы вечно, но они затухают, т.к. в реальных механических системах всегда действуют силы сопротивления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32000" y="620640"/>
            <a:ext cx="2880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ятник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3800" y="1267560"/>
            <a:ext cx="26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Колыбель Ньютон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18730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 rot="1428600">
            <a:off x="6767280" y="34560"/>
            <a:ext cx="1503360" cy="2565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635280" y="907920"/>
            <a:ext cx="2016360" cy="17272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ЙО-Й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914400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Йо-йо — древняя игрушка, состоящая из двух катушек соединенных осью, к которой прикреплена и намотана верёвка. Работает на принципе  закона сохранения механической энергии - при броске, размотав целиком верёвку, начинает свой возврат по ней в руку играющ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ое упоминание о ней было найдено еще в Греции 500 лет до н.э.!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 rot="20415000">
            <a:off x="394920" y="259920"/>
            <a:ext cx="2125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katush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425680" cy="4464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4960" y="-360"/>
            <a:ext cx="8879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ТУШКА-ПОЛЗУШКА (РЕЗИНОМОТОР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80" y="4723920"/>
            <a:ext cx="914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а простая игрушка очень забавна. Можно мастерить сразу по нескольку таких “ползушек” и устраивали целые “танковые бои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76360" y="1197000"/>
            <a:ext cx="676764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мая простая  игрушка с резиновым мотором. Каталка приводиться в движении при помощи потенциальной энергии скрученной резины, которая высвобождается когда резина раскручивается. Скорость зависит от числа оборотов и жесткости рез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6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ханические игрушки на равновес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категория игрушек основана на явлении устойчивого равновесия: если при отклонении тела от положения равновесия  возникают силы, возвращающие его обратно, то такое  равновесие называют устойчивы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нька-встанька возвращается всегда в вертикальное положение - значит, это есть положение его устойчивого равновесия. Для тела, находящегося в состоянии устойчивого равновесия, выполняется условие: центр тяжести тела занимает самое низкое возможное положе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Ваньки-встаньки в нижней части находится тяжёлый полушар. Центр тяжести полушара - точка С - при наклоне приподнимается.  В самом деле, расстояние ВС больше расстояния АС. Значит, равновесие в первом случае устойчи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принципу “неваляшки” изготовляют разные вещи: солонка и перечница для кухни, часы,  чашка для малышей, шахматные фиг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olushar4" descr=""/>
          <p:cNvPicPr/>
          <p:nvPr/>
        </p:nvPicPr>
        <p:blipFill>
          <a:blip r:embed="rId2"/>
          <a:stretch/>
        </p:blipFill>
        <p:spPr>
          <a:xfrm>
            <a:off x="0" y="692280"/>
            <a:ext cx="370836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730872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р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тр тяжести (центр масс) тела может находиться вне тела, если это тело имеет сложную форму. Центр тяжести орла находится ниже точки подвеса на одной вертикали с ней, занимая самое низкое положение. При отклонении от положения равновесия центр тяжести приподнимается, сила тяжести и сила реакции подвеса не уравновешиваются, равнодействующая этих сил (красная стрелочка) возвращает тело к положению равновесия. Значит, это равновесие будет устойчив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sm-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24360" y="2997360"/>
            <a:ext cx="504036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8:54:52Z</dcterms:created>
  <dc:creator>СЕРГЕЙ</dc:creator>
  <dc:description/>
  <dc:language>en-US</dc:language>
  <cp:lastModifiedBy>Ученик</cp:lastModifiedBy>
  <dcterms:modified xsi:type="dcterms:W3CDTF">2009-02-10T11:49:11Z</dcterms:modified>
  <cp:revision>4</cp:revision>
  <dc:subject/>
  <dc:title>Слайд 1</dc:title>
</cp:coreProperties>
</file>