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19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C76-6C18-4D84-90BC-9C497B52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509-2810-4F39-A489-0BEFB977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E9D-137D-4DC3-834A-25D65434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C3A-1055-422B-8D68-AAAF33C9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754B5-818C-4A61-A132-7AFA7129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A9A1F-089A-4E27-8B42-EE4BECBA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0F7A5-0F6B-4D78-9ADA-91F6722A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90443-2B70-4B41-9079-9648BAD8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4596B-B151-4D00-8D4E-D3707584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29808-C113-407E-AD0C-86BDC15D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2BBC5-6570-4017-908C-A3BE60E3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D13-8BE6-4C99-8463-006C853F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63E03-E36C-446B-AEC9-EEA80B26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78DD1-4C3D-4904-956D-0979E515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81154-770E-4CDB-A885-6A34FA49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D5688-263F-4851-8C1C-EAB5594B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BBE27-46FB-43A8-802C-5FB58427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490-5607-40B7-8B47-DBF46013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25D-B40F-45EE-B5F1-90F9C8C3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BE8-75A9-4D1D-B16E-9D8A1240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083-9D8C-4BDC-8F3A-02C2201B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733-12A1-489A-B3B0-383C0876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BCE-F96E-4739-8DA7-CE281202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D74-C907-46D2-B538-E4F1B571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283C-836F-4EA1-8616-6ED8F791E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7AB7-72DC-492B-8863-60ACDFF71C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lementy.ru/images/news/he_atom_rus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arson.ru/images/Himia_jpeg_big/2-02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varson.ru/images/Himia_jpeg_big/2-02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school-collection.iv-edu.ru/dlrstore/a/af4cad24-e589-2925-b7a7-29f34edcc4c4/0300102.jpg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co.scilib.debryansk.ru/2infres/radiation/image/1_3.gif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wfpha.org/im/atom_model_02.gif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ealphis.narod.ru/pictures/atoms_dva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arson.ru/images/Himia_jpeg_big/2-02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sobiya.ru/SREDN_SKOOL/HIMIA/048/images/36_0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arson.ru/images/Himia_jpeg_big/2-01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cio.rsu.ru/webp/class3/potok96/Harchenko/images/thomb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izika.ru/theory/tema-17/index2.gif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-science.ru/img/images/theory/atom/planetmodel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wikiznanie.ru/ru-wz/images/4/4d/&#1042;&#1086;&#1076;&#1086;&#1088;&#1086;&#1076;_%28&#1084;&#1086;&#1076;&#1077;&#1083;&#1100;%29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Строени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атом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549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териал к уроку по химии. 8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Картинка 72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735200"/>
            <a:ext cx="59770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Картинка 1 из 4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36355360" y="-12600"/>
            <a:ext cx="2724120" cy="3809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Картинка 1 из 4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36355360" y="-12600"/>
            <a:ext cx="2724120" cy="3809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Картинка 15 из 49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104760"/>
            <a:ext cx="871380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дель  атома угле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Картинка 338 из 3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2060640"/>
            <a:ext cx="53629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дель атома аз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Картинка 358 из 3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844640"/>
            <a:ext cx="4640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дель атома с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Картинка 77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844640"/>
            <a:ext cx="521496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томиум. Бельгия. 1958 г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Картинка 361 из 377"/>
          <p:cNvPicPr/>
          <p:nvPr/>
        </p:nvPicPr>
        <p:blipFill>
          <a:blip r:embed="rId2"/>
          <a:stretch/>
        </p:blipFill>
        <p:spPr>
          <a:xfrm>
            <a:off x="1403280" y="1413000"/>
            <a:ext cx="66247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Картинка 1 из 4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0760" y="0"/>
            <a:ext cx="490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Картинка 100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71880" y="189000"/>
            <a:ext cx="4668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Картинка 90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0760" y="0"/>
            <a:ext cx="490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нглийский физик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жозеф Джон Томсон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(1856-1940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8000" y="3213000"/>
            <a:ext cx="353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Лауре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Нобелевск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Прем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906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Картинка 13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276640"/>
            <a:ext cx="4897440" cy="4036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19 из 63"/>
          <p:cNvPicPr/>
          <p:nvPr/>
        </p:nvPicPr>
        <p:blipFill>
          <a:blip r:embed="rId4"/>
          <a:stretch/>
        </p:blipFill>
        <p:spPr>
          <a:xfrm>
            <a:off x="5940360" y="189000"/>
            <a:ext cx="29037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нглийский физик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рнст Резерфорд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(1871 – 1937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3280" y="4076280"/>
            <a:ext cx="40435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Лауреа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Нобелевс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ре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08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Картинка 13 из 139"/>
          <p:cNvPicPr/>
          <p:nvPr/>
        </p:nvPicPr>
        <p:blipFill>
          <a:blip r:embed="rId2"/>
          <a:stretch/>
        </p:blipFill>
        <p:spPr>
          <a:xfrm>
            <a:off x="5940360" y="189000"/>
            <a:ext cx="2805120" cy="367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41 из 139"/>
          <p:cNvPicPr/>
          <p:nvPr/>
        </p:nvPicPr>
        <p:blipFill>
          <a:blip r:embed="rId3"/>
          <a:stretch/>
        </p:blipFill>
        <p:spPr>
          <a:xfrm>
            <a:off x="179280" y="1916280"/>
            <a:ext cx="32720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Картинка 74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346040"/>
            <a:ext cx="8713800" cy="41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атский физик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ильс Хенрик Давид Бо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1885 – 1962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2920" y="27432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Лауреа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Нобелевско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Прем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922 го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Картинка 22 из 68"/>
          <p:cNvPicPr/>
          <p:nvPr/>
        </p:nvPicPr>
        <p:blipFill>
          <a:blip r:embed="rId2"/>
          <a:stretch/>
        </p:blipFill>
        <p:spPr>
          <a:xfrm>
            <a:off x="730080" y="1916280"/>
            <a:ext cx="35704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ланетарная модель ат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Картинка 42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863720"/>
            <a:ext cx="5256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дель атома водо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Картинка 36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1905120"/>
            <a:ext cx="48369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3:55:49Z</dcterms:created>
  <dc:creator>Юзер</dc:creator>
  <dc:description/>
  <dc:language>en-US</dc:language>
  <cp:lastModifiedBy>1</cp:lastModifiedBy>
  <dcterms:modified xsi:type="dcterms:W3CDTF">2013-03-09T17:17:41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