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png" ContentType="image/png"/>
  <Override PartName="/ppt/media/image19.jpeg" ContentType="image/jpeg"/>
  <Override PartName="/ppt/media/image18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5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7A06-10E4-4AC5-928B-BC46F84D6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84E1-56C6-4976-B3A1-0A250942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5045-D049-4A0A-86F4-03CB97BAF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1747-877E-4DD7-A3C6-DF0B09DCB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D60F4-FBFF-44F3-A75D-24CDBC525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835A0-29F0-45EA-887C-1586E588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54B60-B0D9-488E-8AFC-D872A97D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89F72-DBDA-4683-B612-D6366EF8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4784A-8E09-497C-87E5-AA034073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36720-5244-40D0-B304-2F0155FA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579C6-A145-4F26-B178-3F0403EF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D7C2-862B-4C64-A597-F0DE99C9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843D4-035C-4676-859F-BE4EE18A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380F5-431D-4F60-BB4A-63640DFC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695F7-43A7-4C76-8709-86F4D921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C2EF7-0780-4B1C-8BF5-69846721A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36EBE-A782-40A7-B91C-C04751C00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6215-0824-4937-A15C-84511817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1C54-273C-4C5A-A5C3-6D4D5E06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7ACB-3A3E-4260-BCFC-E7CF8CBB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DCCD-6898-4525-8170-C3C1CEE9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7C16-95C1-4B20-89FF-2B9AEB8D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D6C6-9874-44B1-99C2-95372E58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D08A-F0F5-4170-B3FA-C84B173F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B132-E083-45A1-AC65-2F9F231EC2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27A1-EAE5-481D-9A8A-D07578420E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elementy.ru/images/news/he_atom_rus.jpg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varson.ru/images/Himia_jpeg_big/2-02.jpg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www.varson.ru/images/Himia_jpeg_big/2-02.jpg" TargetMode="External"/><Relationship Id="rId5" Type="http://schemas.openxmlformats.org/officeDocument/2006/relationships/image" Target="../media/image14.jpeg"/><Relationship Id="rId6" Type="http://schemas.openxmlformats.org/officeDocument/2006/relationships/hyperlink" Target="http://school-collection.iv-edu.ru/dlrstore/a/af4cad24-e589-2925-b7a7-29f34edcc4c4/0300102.jpg" TargetMode="External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co.scilib.debryansk.ru/2infres/radiation/image/1_3.gif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iwfpha.org/im/atom_model_02.gif" TargetMode="Externa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realphis.narod.ru/pictures/atoms_dva.jpg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varson.ru/images/Himia_jpeg_big/2-02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osobiya.ru/SREDN_SKOOL/HIMIA/048/images/36_01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varson.ru/images/Himia_jpeg_big/2-01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rcio.rsu.ru/webp/class3/potok96/Harchenko/images/thomb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fizika.ru/theory/tema-17/index2.gif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e-science.ru/img/images/theory/atom/planetmodel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wikiznanie.ru/ru-wz/images/4/4d/&#1042;&#1086;&#1076;&#1086;&#1088;&#1086;&#1076;_%28&#1084;&#1086;&#1076;&#1077;&#1083;&#1100;%29.png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 Black"/>
              </a:rPr>
              <a:t>Строение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 Black"/>
              </a:rPr>
              <a:t>атома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924360" y="549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атериал к уроку по химии. 8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Картинка 72 из 40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1735200"/>
            <a:ext cx="597708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Картинка 1 из 49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36355360" y="-12600"/>
            <a:ext cx="2724120" cy="3809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Картинка 1 из 49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36355360" y="-12600"/>
            <a:ext cx="2724120" cy="3809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Картинка 15 из 49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50920" y="104760"/>
            <a:ext cx="8713800" cy="65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Модель  атома углеро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Картинка 338 из 37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08000" y="2060640"/>
            <a:ext cx="536292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Модель атома азо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Картинка 358 из 37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24000" y="1844640"/>
            <a:ext cx="4640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Модель атома сер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Картинка 77 из 40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63640" y="1844640"/>
            <a:ext cx="521496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Атомиум. Бельгия. 1958 г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Картинка 361 из 377"/>
          <p:cNvPicPr/>
          <p:nvPr/>
        </p:nvPicPr>
        <p:blipFill>
          <a:blip r:embed="rId2"/>
          <a:stretch/>
        </p:blipFill>
        <p:spPr>
          <a:xfrm>
            <a:off x="1403280" y="1413000"/>
            <a:ext cx="662472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Картинка 1 из 49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20760" y="0"/>
            <a:ext cx="490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Картинка 100 из 40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71880" y="189000"/>
            <a:ext cx="46684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Картинка 90 из 40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20760" y="0"/>
            <a:ext cx="490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Английский физик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Джозеф Джон Томсон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(1856-1940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48000" y="3213000"/>
            <a:ext cx="3538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Лауреа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Нобелевско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Прем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1906 г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Картинка 13 из 40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2276640"/>
            <a:ext cx="4897440" cy="4036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Картинка 19 из 63"/>
          <p:cNvPicPr/>
          <p:nvPr/>
        </p:nvPicPr>
        <p:blipFill>
          <a:blip r:embed="rId4"/>
          <a:stretch/>
        </p:blipFill>
        <p:spPr>
          <a:xfrm>
            <a:off x="5940360" y="189000"/>
            <a:ext cx="290376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Английский физик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Эрнст Резерфорд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(1871 – 1937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3280" y="4076280"/>
            <a:ext cx="40435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Лауреа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Нобелевск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прем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908 г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Картинка 13 из 139"/>
          <p:cNvPicPr/>
          <p:nvPr/>
        </p:nvPicPr>
        <p:blipFill>
          <a:blip r:embed="rId2"/>
          <a:stretch/>
        </p:blipFill>
        <p:spPr>
          <a:xfrm>
            <a:off x="5940360" y="189000"/>
            <a:ext cx="2805120" cy="3671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Картинка 41 из 139"/>
          <p:cNvPicPr/>
          <p:nvPr/>
        </p:nvPicPr>
        <p:blipFill>
          <a:blip r:embed="rId3"/>
          <a:stretch/>
        </p:blipFill>
        <p:spPr>
          <a:xfrm>
            <a:off x="179280" y="1916280"/>
            <a:ext cx="327204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Картинка 74 из 40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346040"/>
            <a:ext cx="8713800" cy="41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Датский физик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Нильс Хенрик Давид Бор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(1885 – 1962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2920" y="274320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Лауреат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Нобелевской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Прем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1922 год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Картинка 22 из 68"/>
          <p:cNvPicPr/>
          <p:nvPr/>
        </p:nvPicPr>
        <p:blipFill>
          <a:blip r:embed="rId2"/>
          <a:stretch/>
        </p:blipFill>
        <p:spPr>
          <a:xfrm>
            <a:off x="730080" y="1916280"/>
            <a:ext cx="357048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ланетарная модель ато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Картинка 42 из 40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1863720"/>
            <a:ext cx="52560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Модель атома водоро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Картинка 36 из 40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58920" y="1905120"/>
            <a:ext cx="48369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3:55:49Z</dcterms:created>
  <dc:creator>Юзер</dc:creator>
  <dc:description/>
  <dc:language>en-US</dc:language>
  <cp:lastModifiedBy>1</cp:lastModifiedBy>
  <dcterms:modified xsi:type="dcterms:W3CDTF">2013-03-09T17:17:41Z</dcterms:modified>
  <cp:revision>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