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5DB7-580C-4E6B-9750-5B159B59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889B-4487-42E3-BF9C-FAA07FC7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96D-9265-4427-B786-4438A1A7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1C6-0DAF-4240-A518-34C25125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73C7-790A-4728-8DE3-EED3D067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2A39-9B5B-4173-8545-19AC1EFC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FA0-EDBB-48BC-9298-92F57285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0D28-60EE-481A-8D5C-E2A90DF5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9EC-9C45-444F-B6C2-56C67792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2F7-465C-47A6-B12F-ED09A5BE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935-5FB4-4548-B668-73F139BF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763-C04D-4373-B8FB-232D0883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AF37-6B27-41DD-BAA8-0E7EDF385A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" Target="slide21.xml"/><Relationship Id="rId7" Type="http://schemas.openxmlformats.org/officeDocument/2006/relationships/slide" Target="slide22.xml"/><Relationship Id="rId8" Type="http://schemas.openxmlformats.org/officeDocument/2006/relationships/slide" Target="slide20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МЕТОДИЧЕСКАЯ РАЗРАБОТКА</a:t>
            </a: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урока физ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4581360"/>
            <a:ext cx="8496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Учителя физ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МБОУ «СОШ №14» имени А.М. Мамо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г. Старый Оскол Белгород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повой Людмилы Леонасо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Скругленный прямоугольник 13"/>
          <p:cNvSpPr/>
          <p:nvPr/>
        </p:nvSpPr>
        <p:spPr>
          <a:xfrm>
            <a:off x="214200" y="928800"/>
            <a:ext cx="4286520" cy="1571400"/>
          </a:xfrm>
          <a:prstGeom prst="roundRect">
            <a:avLst>
              <a:gd name="adj" fmla="val 16667"/>
            </a:avLst>
          </a:prstGeom>
          <a:solidFill>
            <a:srgbClr val="99ff66">
              <a:alpha val="74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15"/>
          <p:cNvSpPr/>
          <p:nvPr/>
        </p:nvSpPr>
        <p:spPr>
          <a:xfrm>
            <a:off x="1857240" y="4714920"/>
            <a:ext cx="4643640" cy="1714320"/>
          </a:xfrm>
          <a:prstGeom prst="roundRect">
            <a:avLst>
              <a:gd name="adj" fmla="val 16667"/>
            </a:avLst>
          </a:prstGeom>
          <a:solidFill>
            <a:srgbClr val="99ff66">
              <a:alpha val="74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16"/>
          <p:cNvSpPr/>
          <p:nvPr/>
        </p:nvSpPr>
        <p:spPr>
          <a:xfrm>
            <a:off x="214200" y="2857680"/>
            <a:ext cx="4143600" cy="1714320"/>
          </a:xfrm>
          <a:prstGeom prst="roundRect">
            <a:avLst>
              <a:gd name="adj" fmla="val 16667"/>
            </a:avLst>
          </a:prstGeom>
          <a:solidFill>
            <a:srgbClr val="99ff66">
              <a:alpha val="74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17">
            <a:hlinkClick r:id="rId1" action="ppaction://hlinksldjump"/>
          </p:cNvPr>
          <p:cNvSpPr/>
          <p:nvPr/>
        </p:nvSpPr>
        <p:spPr>
          <a:xfrm>
            <a:off x="4714920" y="2786040"/>
            <a:ext cx="4214880" cy="1714680"/>
          </a:xfrm>
          <a:prstGeom prst="roundRect">
            <a:avLst>
              <a:gd name="adj" fmla="val 16667"/>
            </a:avLst>
          </a:prstGeom>
          <a:solidFill>
            <a:srgbClr val="99ff66">
              <a:alpha val="74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14"/>
          <p:cNvSpPr/>
          <p:nvPr/>
        </p:nvSpPr>
        <p:spPr>
          <a:xfrm>
            <a:off x="4714920" y="928800"/>
            <a:ext cx="4214880" cy="1571400"/>
          </a:xfrm>
          <a:prstGeom prst="roundRect">
            <a:avLst>
              <a:gd name="adj" fmla="val 16667"/>
            </a:avLst>
          </a:prstGeom>
          <a:solidFill>
            <a:srgbClr val="99ff66">
              <a:alpha val="74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1214280" y="2858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бор для измерения температуры -термо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1714680" y="1143000"/>
            <a:ext cx="31431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1597 г. Галилео Галилей придумал первый прибор для наблюдений за изменением температуры (термоскоп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207638508_1"/>
          <p:cNvPicPr/>
          <p:nvPr/>
        </p:nvPicPr>
        <p:blipFill>
          <a:blip r:embed="rId2"/>
          <a:stretch/>
        </p:blipFill>
        <p:spPr>
          <a:xfrm>
            <a:off x="285840" y="901800"/>
            <a:ext cx="1287360" cy="15793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5429160" y="1071720"/>
            <a:ext cx="29289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1714 г. голландский учё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. Фаренгейт изготовил ртутный термомет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6215040" y="3214800"/>
            <a:ext cx="24289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1730 г. французский физ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. Реомюр предложил спиртовой термомет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4"/>
          <p:cNvPicPr/>
          <p:nvPr/>
        </p:nvPicPr>
        <p:blipFill>
          <a:blip r:embed="rId3"/>
          <a:stretch/>
        </p:blipFill>
        <p:spPr>
          <a:xfrm>
            <a:off x="4754520" y="2828880"/>
            <a:ext cx="1281240" cy="1609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4"/>
          <a:stretch/>
        </p:blipFill>
        <p:spPr>
          <a:xfrm>
            <a:off x="285840" y="2925720"/>
            <a:ext cx="1182600" cy="15732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0"/>
          <p:cNvSpPr/>
          <p:nvPr/>
        </p:nvSpPr>
        <p:spPr>
          <a:xfrm>
            <a:off x="2071800" y="3143160"/>
            <a:ext cx="25002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ЕЛЬСИЙ  Андер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(1701-44), шведский астроном и физик.  Предложил  в1742году температурную шкалу (шкала Цельс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1"/>
          <p:cNvSpPr/>
          <p:nvPr/>
        </p:nvSpPr>
        <p:spPr>
          <a:xfrm>
            <a:off x="2071800" y="5000760"/>
            <a:ext cx="2571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1848 г. английский физик Вильям Томсон (лорд Кельвин) доказал возможность создания абсолютной шкалы температу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uilaamtomson(lordkelavin)"/>
          <p:cNvPicPr/>
          <p:nvPr/>
        </p:nvPicPr>
        <p:blipFill>
          <a:blip r:embed="rId5"/>
          <a:stretch/>
        </p:blipFill>
        <p:spPr>
          <a:xfrm>
            <a:off x="5211720" y="4784760"/>
            <a:ext cx="1195560" cy="1592280"/>
          </a:xfrm>
          <a:prstGeom prst="rect">
            <a:avLst/>
          </a:prstGeom>
          <a:ln w="0">
            <a:noFill/>
          </a:ln>
        </p:spPr>
      </p:pic>
      <p:sp>
        <p:nvSpPr>
          <p:cNvPr id="104" name="Управляющая кнопка: далее 18">
            <a:hlinkClick r:id="rId6" action="ppaction://hlinksldjump"/>
          </p:cNvPr>
          <p:cNvSpPr/>
          <p:nvPr/>
        </p:nvSpPr>
        <p:spPr>
          <a:xfrm>
            <a:off x="8215200" y="414324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Управляющая кнопка: далее 19">
            <a:hlinkClick r:id="rId7" action="ppaction://hlinksldjump"/>
          </p:cNvPr>
          <p:cNvSpPr/>
          <p:nvPr/>
        </p:nvSpPr>
        <p:spPr>
          <a:xfrm>
            <a:off x="8286840" y="2143080"/>
            <a:ext cx="357120" cy="214200"/>
          </a:xfrm>
          <a:custGeom>
            <a:avLst/>
            <a:gdLst>
              <a:gd name="textAreaLeft" fmla="*/ 13680 w 357120"/>
              <a:gd name="textAreaRight" fmla="*/ 343440 w 3571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7" y="3794"/>
                </a:moveTo>
                <a:lnTo>
                  <a:pt x="25000" y="10800"/>
                </a:lnTo>
                <a:lnTo>
                  <a:pt x="1098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Управляющая кнопка: далее 20">
            <a:hlinkClick r:id="rId8" action="ppaction://hlinksldjump"/>
          </p:cNvPr>
          <p:cNvSpPr/>
          <p:nvPr/>
        </p:nvSpPr>
        <p:spPr>
          <a:xfrm>
            <a:off x="3786120" y="4286160"/>
            <a:ext cx="357120" cy="214560"/>
          </a:xfrm>
          <a:custGeom>
            <a:avLst/>
            <a:gdLst>
              <a:gd name="textAreaLeft" fmla="*/ 13680 w 357120"/>
              <a:gd name="textAreaRight" fmla="*/ 343440 w 35712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35928" h="21600">
                <a:moveTo>
                  <a:pt x="0" y="0"/>
                </a:moveTo>
                <a:lnTo>
                  <a:pt x="35928" y="0"/>
                </a:lnTo>
                <a:lnTo>
                  <a:pt x="35928" y="21600"/>
                </a:lnTo>
                <a:lnTo>
                  <a:pt x="0" y="21600"/>
                </a:lnTo>
                <a:close/>
              </a:path>
              <a:path fill="lightenLess" w="35928" h="21600">
                <a:moveTo>
                  <a:pt x="0" y="0"/>
                </a:moveTo>
                <a:lnTo>
                  <a:pt x="35928" y="0"/>
                </a:lnTo>
                <a:lnTo>
                  <a:pt x="34528" y="1400"/>
                </a:lnTo>
                <a:lnTo>
                  <a:pt x="1400" y="1400"/>
                </a:lnTo>
                <a:close/>
              </a:path>
              <a:path fill="darken" w="35928" h="21600">
                <a:moveTo>
                  <a:pt x="35928" y="0"/>
                </a:moveTo>
                <a:lnTo>
                  <a:pt x="35928" y="21600"/>
                </a:lnTo>
                <a:lnTo>
                  <a:pt x="34528" y="20200"/>
                </a:lnTo>
                <a:lnTo>
                  <a:pt x="34528" y="1400"/>
                </a:lnTo>
                <a:close/>
              </a:path>
              <a:path fill="darkenLess" w="35928" h="21600">
                <a:moveTo>
                  <a:pt x="35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28" y="20200"/>
                </a:lnTo>
                <a:close/>
              </a:path>
              <a:path fill="lighten" w="35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28" h="21600">
                <a:moveTo>
                  <a:pt x="10957" y="3794"/>
                </a:moveTo>
                <a:lnTo>
                  <a:pt x="24970" y="10800"/>
                </a:lnTo>
                <a:lnTo>
                  <a:pt x="1095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кругленный прямоугольник 58"/>
          <p:cNvSpPr/>
          <p:nvPr/>
        </p:nvSpPr>
        <p:spPr>
          <a:xfrm>
            <a:off x="3500280" y="928800"/>
            <a:ext cx="5643720" cy="242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57"/>
          <p:cNvSpPr/>
          <p:nvPr/>
        </p:nvSpPr>
        <p:spPr>
          <a:xfrm>
            <a:off x="285840" y="3571920"/>
            <a:ext cx="8572320" cy="2786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"/>
          <p:cNvGrpSpPr/>
          <p:nvPr/>
        </p:nvGrpSpPr>
        <p:grpSpPr>
          <a:xfrm>
            <a:off x="3714840" y="1143000"/>
            <a:ext cx="5214960" cy="1861200"/>
            <a:chOff x="3714840" y="1143000"/>
            <a:chExt cx="5214960" cy="1861200"/>
          </a:xfrm>
        </p:grpSpPr>
        <p:sp>
          <p:nvSpPr>
            <p:cNvPr id="110" name="Rectangle 2"/>
            <p:cNvSpPr/>
            <p:nvPr/>
          </p:nvSpPr>
          <p:spPr>
            <a:xfrm>
              <a:off x="3714840" y="1885680"/>
              <a:ext cx="5214960" cy="11142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"/>
            <p:cNvSpPr/>
            <p:nvPr/>
          </p:nvSpPr>
          <p:spPr>
            <a:xfrm>
              <a:off x="3836160" y="1978560"/>
              <a:ext cx="4972320" cy="9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4"/>
            <p:cNvSpPr/>
            <p:nvPr/>
          </p:nvSpPr>
          <p:spPr>
            <a:xfrm>
              <a:off x="3957120" y="2071440"/>
              <a:ext cx="4730040" cy="742680"/>
            </a:xfrm>
            <a:custGeom>
              <a:avLst/>
              <a:gdLst>
                <a:gd name="textAreaLeft" fmla="*/ 720720 w 4730040"/>
                <a:gd name="textAreaRight" fmla="*/ 4009320 w 4730040"/>
                <a:gd name="textAreaTop" fmla="*/ 112680 h 742680"/>
                <a:gd name="textAreaBottom" fmla="*/ 630000 h 74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83" y="21600"/>
                  </a:lnTo>
                  <a:lnTo>
                    <a:pt x="186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5"/>
            <p:cNvSpPr/>
            <p:nvPr/>
          </p:nvSpPr>
          <p:spPr>
            <a:xfrm rot="2907000">
              <a:off x="4443120" y="1756080"/>
              <a:ext cx="848160" cy="358920"/>
            </a:xfrm>
            <a:custGeom>
              <a:avLst/>
              <a:gdLst>
                <a:gd name="textAreaLeft" fmla="*/ 1440 w 848160"/>
                <a:gd name="textAreaRight" fmla="*/ 846720 w 848160"/>
                <a:gd name="textAreaTop" fmla="*/ 0 h 358920"/>
                <a:gd name="textAreaBottom" fmla="*/ 170280 h 3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88" y="8675"/>
                  </a:moveTo>
                  <a:cubicBezTo>
                    <a:pt x="5784" y="6181"/>
                    <a:pt x="8149" y="4517"/>
                    <a:pt x="10800" y="4518"/>
                  </a:cubicBezTo>
                  <a:cubicBezTo>
                    <a:pt x="13450" y="4518"/>
                    <a:pt x="15815" y="6181"/>
                    <a:pt x="16711" y="8675"/>
                  </a:cubicBezTo>
                  <a:lnTo>
                    <a:pt x="20963" y="7146"/>
                  </a:lnTo>
                  <a:cubicBezTo>
                    <a:pt x="19422" y="2859"/>
                    <a:pt x="15356" y="-1"/>
                    <a:pt x="10799" y="0"/>
                  </a:cubicBezTo>
                  <a:cubicBezTo>
                    <a:pt x="6243" y="0"/>
                    <a:pt x="2177" y="2859"/>
                    <a:pt x="636" y="7146"/>
                  </a:cubicBezTo>
                  <a:lnTo>
                    <a:pt x="4888" y="867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6"/>
            <p:cNvGrpSpPr/>
            <p:nvPr/>
          </p:nvGrpSpPr>
          <p:grpSpPr>
            <a:xfrm>
              <a:off x="4199760" y="1143000"/>
              <a:ext cx="727560" cy="742680"/>
              <a:chOff x="4199760" y="1143000"/>
              <a:chExt cx="727560" cy="742680"/>
            </a:xfrm>
          </p:grpSpPr>
          <p:sp>
            <p:nvSpPr>
              <p:cNvPr id="115" name="Rectangle 7"/>
              <p:cNvSpPr/>
              <p:nvPr/>
            </p:nvSpPr>
            <p:spPr>
              <a:xfrm>
                <a:off x="4442040" y="1514160"/>
                <a:ext cx="242640" cy="27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8"/>
              <p:cNvSpPr/>
              <p:nvPr/>
            </p:nvSpPr>
            <p:spPr>
              <a:xfrm>
                <a:off x="4199760" y="1699920"/>
                <a:ext cx="727560" cy="185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9"/>
              <p:cNvSpPr/>
              <p:nvPr/>
            </p:nvSpPr>
            <p:spPr>
              <a:xfrm>
                <a:off x="4199760" y="1143000"/>
                <a:ext cx="727560" cy="46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AutoShape 10"/>
            <p:cNvSpPr/>
            <p:nvPr/>
          </p:nvSpPr>
          <p:spPr>
            <a:xfrm rot="2907000">
              <a:off x="5895000" y="1757160"/>
              <a:ext cx="846000" cy="358920"/>
            </a:xfrm>
            <a:custGeom>
              <a:avLst/>
              <a:gdLst>
                <a:gd name="textAreaLeft" fmla="*/ 1440 w 846000"/>
                <a:gd name="textAreaRight" fmla="*/ 844560 w 846000"/>
                <a:gd name="textAreaTop" fmla="*/ 0 h 358920"/>
                <a:gd name="textAreaBottom" fmla="*/ 170280 h 3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88" y="8675"/>
                  </a:moveTo>
                  <a:cubicBezTo>
                    <a:pt x="5784" y="6181"/>
                    <a:pt x="8149" y="4517"/>
                    <a:pt x="10800" y="4518"/>
                  </a:cubicBezTo>
                  <a:cubicBezTo>
                    <a:pt x="13450" y="4518"/>
                    <a:pt x="15815" y="6181"/>
                    <a:pt x="16711" y="8675"/>
                  </a:cubicBezTo>
                  <a:lnTo>
                    <a:pt x="20963" y="7146"/>
                  </a:lnTo>
                  <a:cubicBezTo>
                    <a:pt x="19422" y="2859"/>
                    <a:pt x="15356" y="-1"/>
                    <a:pt x="10799" y="0"/>
                  </a:cubicBezTo>
                  <a:cubicBezTo>
                    <a:pt x="6243" y="0"/>
                    <a:pt x="2177" y="2859"/>
                    <a:pt x="636" y="7146"/>
                  </a:cubicBezTo>
                  <a:lnTo>
                    <a:pt x="4888" y="867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11"/>
            <p:cNvGrpSpPr/>
            <p:nvPr/>
          </p:nvGrpSpPr>
          <p:grpSpPr>
            <a:xfrm>
              <a:off x="5655240" y="1143000"/>
              <a:ext cx="727560" cy="742680"/>
              <a:chOff x="5655240" y="1143000"/>
              <a:chExt cx="727560" cy="742680"/>
            </a:xfrm>
          </p:grpSpPr>
          <p:sp>
            <p:nvSpPr>
              <p:cNvPr id="120" name="Rectangle 12"/>
              <p:cNvSpPr/>
              <p:nvPr/>
            </p:nvSpPr>
            <p:spPr>
              <a:xfrm>
                <a:off x="5897520" y="1514160"/>
                <a:ext cx="242640" cy="27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13"/>
              <p:cNvSpPr/>
              <p:nvPr/>
            </p:nvSpPr>
            <p:spPr>
              <a:xfrm>
                <a:off x="5655240" y="1699920"/>
                <a:ext cx="727560" cy="185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4"/>
              <p:cNvSpPr/>
              <p:nvPr/>
            </p:nvSpPr>
            <p:spPr>
              <a:xfrm>
                <a:off x="5655240" y="1143000"/>
                <a:ext cx="727560" cy="46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15"/>
            <p:cNvGrpSpPr/>
            <p:nvPr/>
          </p:nvGrpSpPr>
          <p:grpSpPr>
            <a:xfrm>
              <a:off x="5899320" y="2018160"/>
              <a:ext cx="966240" cy="954720"/>
              <a:chOff x="5899320" y="2018160"/>
              <a:chExt cx="966240" cy="954720"/>
            </a:xfrm>
          </p:grpSpPr>
          <p:sp>
            <p:nvSpPr>
              <p:cNvPr id="124" name="Rectangle 16"/>
              <p:cNvSpPr/>
              <p:nvPr/>
            </p:nvSpPr>
            <p:spPr>
              <a:xfrm rot="2682000">
                <a:off x="6503400" y="2071440"/>
                <a:ext cx="120960" cy="31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17"/>
              <p:cNvSpPr/>
              <p:nvPr/>
            </p:nvSpPr>
            <p:spPr>
              <a:xfrm rot="2386200">
                <a:off x="6018480" y="2176920"/>
                <a:ext cx="727560" cy="636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AutoShape 18"/>
            <p:cNvSpPr/>
            <p:nvPr/>
          </p:nvSpPr>
          <p:spPr>
            <a:xfrm rot="3270000">
              <a:off x="7350480" y="1758960"/>
              <a:ext cx="848160" cy="358920"/>
            </a:xfrm>
            <a:custGeom>
              <a:avLst/>
              <a:gdLst>
                <a:gd name="textAreaLeft" fmla="*/ 1440 w 848160"/>
                <a:gd name="textAreaRight" fmla="*/ 846720 w 848160"/>
                <a:gd name="textAreaTop" fmla="*/ 0 h 358920"/>
                <a:gd name="textAreaBottom" fmla="*/ 170280 h 3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88" y="8675"/>
                  </a:moveTo>
                  <a:cubicBezTo>
                    <a:pt x="5784" y="6181"/>
                    <a:pt x="8149" y="4517"/>
                    <a:pt x="10800" y="4518"/>
                  </a:cubicBezTo>
                  <a:cubicBezTo>
                    <a:pt x="13450" y="4518"/>
                    <a:pt x="15815" y="6181"/>
                    <a:pt x="16711" y="8675"/>
                  </a:cubicBezTo>
                  <a:lnTo>
                    <a:pt x="20963" y="7146"/>
                  </a:lnTo>
                  <a:cubicBezTo>
                    <a:pt x="19422" y="2859"/>
                    <a:pt x="15356" y="-1"/>
                    <a:pt x="10799" y="0"/>
                  </a:cubicBezTo>
                  <a:cubicBezTo>
                    <a:pt x="6243" y="0"/>
                    <a:pt x="2177" y="2859"/>
                    <a:pt x="636" y="7146"/>
                  </a:cubicBezTo>
                  <a:lnTo>
                    <a:pt x="4888" y="867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19"/>
            <p:cNvGrpSpPr/>
            <p:nvPr/>
          </p:nvGrpSpPr>
          <p:grpSpPr>
            <a:xfrm>
              <a:off x="7110720" y="1143000"/>
              <a:ext cx="727560" cy="742680"/>
              <a:chOff x="7110720" y="1143000"/>
              <a:chExt cx="727560" cy="742680"/>
            </a:xfrm>
          </p:grpSpPr>
          <p:sp>
            <p:nvSpPr>
              <p:cNvPr id="128" name="Rectangle 20"/>
              <p:cNvSpPr/>
              <p:nvPr/>
            </p:nvSpPr>
            <p:spPr>
              <a:xfrm>
                <a:off x="7353000" y="1514160"/>
                <a:ext cx="242640" cy="27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AutoShape 21"/>
              <p:cNvSpPr/>
              <p:nvPr/>
            </p:nvSpPr>
            <p:spPr>
              <a:xfrm>
                <a:off x="7110720" y="1699920"/>
                <a:ext cx="727560" cy="185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22"/>
              <p:cNvSpPr/>
              <p:nvPr/>
            </p:nvSpPr>
            <p:spPr>
              <a:xfrm>
                <a:off x="7110720" y="1143000"/>
                <a:ext cx="727560" cy="46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23"/>
            <p:cNvGrpSpPr/>
            <p:nvPr/>
          </p:nvGrpSpPr>
          <p:grpSpPr>
            <a:xfrm>
              <a:off x="7363800" y="2076120"/>
              <a:ext cx="893160" cy="886680"/>
              <a:chOff x="7363800" y="2076120"/>
              <a:chExt cx="893160" cy="886680"/>
            </a:xfrm>
          </p:grpSpPr>
          <p:sp>
            <p:nvSpPr>
              <p:cNvPr id="132" name="Rectangle 24"/>
              <p:cNvSpPr/>
              <p:nvPr/>
            </p:nvSpPr>
            <p:spPr>
              <a:xfrm rot="2398800">
                <a:off x="7965000" y="2164320"/>
                <a:ext cx="121320" cy="25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25"/>
              <p:cNvSpPr/>
              <p:nvPr/>
            </p:nvSpPr>
            <p:spPr>
              <a:xfrm rot="18721800">
                <a:off x="7515720" y="2183400"/>
                <a:ext cx="588600" cy="67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H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Rectangle 26"/>
            <p:cNvSpPr/>
            <p:nvPr/>
          </p:nvSpPr>
          <p:spPr>
            <a:xfrm rot="2785200">
              <a:off x="5182560" y="2029680"/>
              <a:ext cx="9288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27"/>
            <p:cNvSpPr/>
            <p:nvPr/>
          </p:nvSpPr>
          <p:spPr>
            <a:xfrm>
              <a:off x="4321080" y="1235880"/>
              <a:ext cx="484920" cy="37116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371160"/>
                <a:gd name="textAreaBottom" fmla="*/ 282600 h 3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90" y="17099"/>
                  </a:moveTo>
                  <a:cubicBezTo>
                    <a:pt x="2655" y="15410"/>
                    <a:pt x="1741" y="13151"/>
                    <a:pt x="1741" y="10800"/>
                  </a:cubicBezTo>
                  <a:cubicBezTo>
                    <a:pt x="1741" y="5796"/>
                    <a:pt x="5796" y="1741"/>
                    <a:pt x="10800" y="1741"/>
                  </a:cubicBezTo>
                  <a:cubicBezTo>
                    <a:pt x="15803" y="1741"/>
                    <a:pt x="19859" y="5796"/>
                    <a:pt x="19859" y="10800"/>
                  </a:cubicBezTo>
                  <a:cubicBezTo>
                    <a:pt x="19859" y="13151"/>
                    <a:pt x="18944" y="15410"/>
                    <a:pt x="17309" y="17099"/>
                  </a:cubicBezTo>
                  <a:lnTo>
                    <a:pt x="18560" y="18310"/>
                  </a:lnTo>
                  <a:cubicBezTo>
                    <a:pt x="20510" y="16296"/>
                    <a:pt x="21600" y="1360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3603"/>
                    <a:pt x="1089" y="16296"/>
                    <a:pt x="3039" y="18310"/>
                  </a:cubicBezTo>
                  <a:lnTo>
                    <a:pt x="4290" y="1709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8"/>
            <p:cNvSpPr/>
            <p:nvPr/>
          </p:nvSpPr>
          <p:spPr>
            <a:xfrm>
              <a:off x="7232040" y="1235880"/>
              <a:ext cx="484920" cy="37116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371160"/>
                <a:gd name="textAreaBottom" fmla="*/ 257400 h 3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16199"/>
                  </a:moveTo>
                  <a:cubicBezTo>
                    <a:pt x="2234" y="14630"/>
                    <a:pt x="1620" y="12740"/>
                    <a:pt x="1620" y="10800"/>
                  </a:cubicBezTo>
                  <a:cubicBezTo>
                    <a:pt x="1620" y="5730"/>
                    <a:pt x="5730" y="1620"/>
                    <a:pt x="10800" y="1620"/>
                  </a:cubicBezTo>
                  <a:cubicBezTo>
                    <a:pt x="15869" y="1620"/>
                    <a:pt x="19980" y="5730"/>
                    <a:pt x="19980" y="10800"/>
                  </a:cubicBezTo>
                  <a:cubicBezTo>
                    <a:pt x="19980" y="12740"/>
                    <a:pt x="19365" y="14630"/>
                    <a:pt x="18224" y="16199"/>
                  </a:cubicBezTo>
                  <a:lnTo>
                    <a:pt x="19534" y="17152"/>
                  </a:lnTo>
                  <a:cubicBezTo>
                    <a:pt x="20876" y="15306"/>
                    <a:pt x="21600" y="1308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3082"/>
                    <a:pt x="723" y="15306"/>
                    <a:pt x="2065" y="17152"/>
                  </a:cubicBezTo>
                  <a:lnTo>
                    <a:pt x="3375" y="1619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29"/>
            <p:cNvSpPr/>
            <p:nvPr/>
          </p:nvSpPr>
          <p:spPr>
            <a:xfrm>
              <a:off x="5776560" y="1235880"/>
              <a:ext cx="484920" cy="37116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371160"/>
                <a:gd name="textAreaBottom" fmla="*/ 224640 h 3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60" y="14789"/>
                  </a:moveTo>
                  <a:cubicBezTo>
                    <a:pt x="2145" y="13549"/>
                    <a:pt x="1825" y="12184"/>
                    <a:pt x="1825" y="10800"/>
                  </a:cubicBezTo>
                  <a:cubicBezTo>
                    <a:pt x="1825" y="5843"/>
                    <a:pt x="5843" y="1825"/>
                    <a:pt x="10800" y="1825"/>
                  </a:cubicBezTo>
                  <a:cubicBezTo>
                    <a:pt x="15756" y="1825"/>
                    <a:pt x="19775" y="5843"/>
                    <a:pt x="19775" y="10800"/>
                  </a:cubicBezTo>
                  <a:cubicBezTo>
                    <a:pt x="19775" y="12184"/>
                    <a:pt x="19454" y="13549"/>
                    <a:pt x="18839" y="14789"/>
                  </a:cubicBezTo>
                  <a:lnTo>
                    <a:pt x="20474" y="15601"/>
                  </a:lnTo>
                  <a:cubicBezTo>
                    <a:pt x="21214" y="14108"/>
                    <a:pt x="21600" y="1246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465"/>
                    <a:pt x="385" y="14108"/>
                    <a:pt x="1125" y="15601"/>
                  </a:cubicBezTo>
                  <a:lnTo>
                    <a:pt x="2760" y="1478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30"/>
            <p:cNvSpPr/>
            <p:nvPr/>
          </p:nvSpPr>
          <p:spPr>
            <a:xfrm flipV="1">
              <a:off x="4563720" y="1328400"/>
              <a:ext cx="121320" cy="9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31"/>
            <p:cNvSpPr/>
            <p:nvPr/>
          </p:nvSpPr>
          <p:spPr>
            <a:xfrm>
              <a:off x="6018840" y="1421280"/>
              <a:ext cx="20196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32"/>
            <p:cNvSpPr/>
            <p:nvPr/>
          </p:nvSpPr>
          <p:spPr>
            <a:xfrm flipH="1" flipV="1">
              <a:off x="7352640" y="1328400"/>
              <a:ext cx="121320" cy="9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 rot="19000800">
              <a:off x="4442040" y="2257200"/>
              <a:ext cx="970200" cy="47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baseline="-25000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285840" y="214200"/>
                <a:ext cx="23619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bar>
                      <m:barPr>
                        <m:pos m:val="top"/>
                      </m:barPr>
                      <m:e>
                        <m:r>
                          <m:t xml:space="preserve">Е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44" name="Rectangle 36"/>
          <p:cNvSpPr/>
          <p:nvPr/>
        </p:nvSpPr>
        <p:spPr>
          <a:xfrm>
            <a:off x="4436640" y="2372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7"/>
          <p:cNvSpPr/>
          <p:nvPr/>
        </p:nvSpPr>
        <p:spPr>
          <a:xfrm>
            <a:off x="357120" y="1429200"/>
            <a:ext cx="25718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=Const   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при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  t = Const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51"/>
          <p:cNvSpPr/>
          <p:nvPr/>
        </p:nvSpPr>
        <p:spPr>
          <a:xfrm>
            <a:off x="642960" y="3786120"/>
            <a:ext cx="51433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 = 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3,76 · 10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 = 10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5,14 · 10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-2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ж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0" y="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8" name="Rectangle 53"/>
          <p:cNvSpPr/>
          <p:nvPr/>
        </p:nvSpPr>
        <p:spPr>
          <a:xfrm>
            <a:off x="4425120" y="50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4"/>
          <p:cNvSpPr/>
          <p:nvPr/>
        </p:nvSpPr>
        <p:spPr>
          <a:xfrm>
            <a:off x="285840" y="2999160"/>
            <a:ext cx="22143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357120" y="1928880"/>
                <a:ext cx="13575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Rectangle 5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5"/>
              <p:cNvSpPr txBox="1"/>
              <p:nvPr/>
            </p:nvSpPr>
            <p:spPr>
              <a:xfrm>
                <a:off x="6786720" y="3714840"/>
                <a:ext cx="137448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6"/>
              <p:cNvSpPr txBox="1"/>
              <p:nvPr/>
            </p:nvSpPr>
            <p:spPr>
              <a:xfrm>
                <a:off x="2928960" y="4643280"/>
                <a:ext cx="157176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к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Rectangle 6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4"/>
          <p:cNvSpPr/>
          <p:nvPr/>
        </p:nvSpPr>
        <p:spPr>
          <a:xfrm>
            <a:off x="4380840" y="108504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5"/>
          <p:cNvSpPr/>
          <p:nvPr/>
        </p:nvSpPr>
        <p:spPr>
          <a:xfrm>
            <a:off x="4714920" y="507348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0 если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0 или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0"/>
          <p:cNvSpPr/>
          <p:nvPr/>
        </p:nvSpPr>
        <p:spPr>
          <a:xfrm>
            <a:off x="5786280" y="4143240"/>
            <a:ext cx="64296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61"/>
          <p:cNvSpPr/>
          <p:nvPr/>
        </p:nvSpPr>
        <p:spPr>
          <a:xfrm>
            <a:off x="714240" y="478620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3"/>
          <p:cNvSpPr/>
          <p:nvPr/>
        </p:nvSpPr>
        <p:spPr>
          <a:xfrm>
            <a:off x="857160" y="461556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61645"/>
                </a:solidFill>
                <a:latin typeface="Arial"/>
                <a:ea typeface="Times New Roman"/>
              </a:rPr>
              <a:t>θ</a:t>
            </a:r>
            <a:r>
              <a:rPr b="1" lang="en-US" sz="3200" spc="-1" strike="noStrike">
                <a:solidFill>
                  <a:srgbClr val="161645"/>
                </a:solidFill>
                <a:latin typeface="Arial"/>
                <a:ea typeface="Times New Roman"/>
              </a:rPr>
              <a:t> = </a:t>
            </a:r>
            <a:r>
              <a:rPr b="1" lang="ru-RU" sz="3200" spc="-1" strike="noStrike">
                <a:solidFill>
                  <a:srgbClr val="161645"/>
                </a:solidFill>
                <a:latin typeface="Arial"/>
                <a:ea typeface="Times New Roman"/>
              </a:rPr>
              <a:t>кТ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право 62"/>
          <p:cNvSpPr/>
          <p:nvPr/>
        </p:nvSpPr>
        <p:spPr>
          <a:xfrm>
            <a:off x="2071800" y="4000680"/>
            <a:ext cx="714240" cy="7128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право 63"/>
          <p:cNvSpPr/>
          <p:nvPr/>
        </p:nvSpPr>
        <p:spPr>
          <a:xfrm>
            <a:off x="2143080" y="4357800"/>
            <a:ext cx="71460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ятиугольник 29"/>
          <p:cNvSpPr/>
          <p:nvPr/>
        </p:nvSpPr>
        <p:spPr>
          <a:xfrm>
            <a:off x="142920" y="3286080"/>
            <a:ext cx="2928960" cy="85716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39" y="0"/>
                </a:lnTo>
                <a:lnTo>
                  <a:pt x="21600" y="10800"/>
                </a:lnTo>
                <a:lnTo>
                  <a:pt x="184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ятиугольник 28"/>
          <p:cNvSpPr/>
          <p:nvPr/>
        </p:nvSpPr>
        <p:spPr>
          <a:xfrm>
            <a:off x="214200" y="4500720"/>
            <a:ext cx="2928960" cy="85716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39" y="0"/>
                </a:lnTo>
                <a:lnTo>
                  <a:pt x="21600" y="10800"/>
                </a:lnTo>
                <a:lnTo>
                  <a:pt x="184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16"/>
          <p:cNvSpPr/>
          <p:nvPr/>
        </p:nvSpPr>
        <p:spPr>
          <a:xfrm>
            <a:off x="3071880" y="3214800"/>
            <a:ext cx="5500800" cy="2857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500040" y="357120"/>
            <a:ext cx="72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ный нуль температуры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преде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емпература, при которой давление газа обращается в нуль при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V – const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ли объем идеального газа стремится к нулю при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 – c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4"/>
          <p:cNvSpPr/>
          <p:nvPr/>
        </p:nvSpPr>
        <p:spPr>
          <a:xfrm>
            <a:off x="2071800" y="185724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Arial"/>
              </a:rPr>
              <a:t>Абсолютная шкала температур – шкала Кельв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5"/>
          <p:cNvSpPr/>
          <p:nvPr/>
        </p:nvSpPr>
        <p:spPr>
          <a:xfrm>
            <a:off x="2442960" y="2357280"/>
            <a:ext cx="51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 – термодинамическая температу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6"/>
          <p:cNvSpPr/>
          <p:nvPr/>
        </p:nvSpPr>
        <p:spPr>
          <a:xfrm>
            <a:off x="214200" y="342900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[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]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= К (кельвин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072040" y="3714840"/>
            <a:ext cx="114480" cy="17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500880" y="3714840"/>
            <a:ext cx="114120" cy="17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"/>
          <p:cNvSpPr/>
          <p:nvPr/>
        </p:nvSpPr>
        <p:spPr>
          <a:xfrm>
            <a:off x="4929120" y="5357880"/>
            <a:ext cx="343080" cy="34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"/>
          <p:cNvSpPr/>
          <p:nvPr/>
        </p:nvSpPr>
        <p:spPr>
          <a:xfrm>
            <a:off x="6357960" y="5357880"/>
            <a:ext cx="342720" cy="34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4929120" y="4000680"/>
            <a:ext cx="343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6429240" y="4000680"/>
            <a:ext cx="285840" cy="45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"/>
          <p:cNvSpPr/>
          <p:nvPr/>
        </p:nvSpPr>
        <p:spPr>
          <a:xfrm>
            <a:off x="5000760" y="535788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6357960" y="5357880"/>
            <a:ext cx="342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4929120" y="5357880"/>
            <a:ext cx="343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8"/>
          <p:cNvSpPr/>
          <p:nvPr/>
        </p:nvSpPr>
        <p:spPr>
          <a:xfrm>
            <a:off x="6831360" y="5143680"/>
            <a:ext cx="114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-273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9"/>
          <p:cNvSpPr/>
          <p:nvPr/>
        </p:nvSpPr>
        <p:spPr>
          <a:xfrm>
            <a:off x="6789960" y="4643280"/>
            <a:ext cx="71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0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357960" y="4857840"/>
            <a:ext cx="357120" cy="46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1"/>
          <p:cNvSpPr/>
          <p:nvPr/>
        </p:nvSpPr>
        <p:spPr>
          <a:xfrm>
            <a:off x="7404480" y="3857760"/>
            <a:ext cx="102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100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2"/>
          <p:cNvSpPr/>
          <p:nvPr/>
        </p:nvSpPr>
        <p:spPr>
          <a:xfrm>
            <a:off x="4217400" y="514368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0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3"/>
          <p:cNvSpPr/>
          <p:nvPr/>
        </p:nvSpPr>
        <p:spPr>
          <a:xfrm>
            <a:off x="4043880" y="450072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273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5000760" y="4857840"/>
            <a:ext cx="342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5"/>
          <p:cNvSpPr/>
          <p:nvPr/>
        </p:nvSpPr>
        <p:spPr>
          <a:xfrm>
            <a:off x="3974760" y="3786120"/>
            <a:ext cx="92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373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6"/>
          <p:cNvSpPr/>
          <p:nvPr/>
        </p:nvSpPr>
        <p:spPr>
          <a:xfrm>
            <a:off x="500040" y="464328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=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+2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31"/>
          <p:cNvSpPr/>
          <p:nvPr/>
        </p:nvSpPr>
        <p:spPr>
          <a:xfrm>
            <a:off x="5143680" y="4000680"/>
            <a:ext cx="142848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33"/>
          <p:cNvSpPr/>
          <p:nvPr/>
        </p:nvSpPr>
        <p:spPr>
          <a:xfrm>
            <a:off x="4929120" y="4857840"/>
            <a:ext cx="142884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35"/>
          <p:cNvSpPr/>
          <p:nvPr/>
        </p:nvSpPr>
        <p:spPr>
          <a:xfrm>
            <a:off x="5143680" y="5357880"/>
            <a:ext cx="121428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Скругленный прямоугольник 7"/>
          <p:cNvSpPr/>
          <p:nvPr/>
        </p:nvSpPr>
        <p:spPr>
          <a:xfrm>
            <a:off x="4572000" y="114300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5"/>
          <p:cNvSpPr/>
          <p:nvPr/>
        </p:nvSpPr>
        <p:spPr>
          <a:xfrm>
            <a:off x="3929040" y="4572000"/>
            <a:ext cx="4357800" cy="9288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4"/>
          <p:cNvSpPr/>
          <p:nvPr/>
        </p:nvSpPr>
        <p:spPr>
          <a:xfrm>
            <a:off x="3643200" y="2214720"/>
            <a:ext cx="5214960" cy="1857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286080" y="2357280"/>
            <a:ext cx="56167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стоянная Больцмана связывает температуру </a:t>
            </a:r>
            <a:r>
              <a:rPr b="0" lang="el-GR" sz="2800" spc="-1" strike="noStrike">
                <a:solidFill>
                  <a:srgbClr val="000099"/>
                </a:solidFill>
                <a:latin typeface="Arial"/>
              </a:rPr>
              <a:t>θ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в энергетических единицах с температурой Т в кельви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 = 1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,38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·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 10 </a:t>
            </a:r>
            <a:r>
              <a:rPr b="1" lang="ru-RU" sz="32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23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Дж/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%E2%CF%CC%D8%C3%CD%C1%CE"/>
          <p:cNvPicPr/>
          <p:nvPr/>
        </p:nvPicPr>
        <p:blipFill>
          <a:blip r:embed="rId1"/>
          <a:stretch/>
        </p:blipFill>
        <p:spPr>
          <a:xfrm>
            <a:off x="176040" y="1249200"/>
            <a:ext cx="3036960" cy="407844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6"/>
          <p:cNvSpPr/>
          <p:nvPr/>
        </p:nvSpPr>
        <p:spPr>
          <a:xfrm>
            <a:off x="4643280" y="1143000"/>
            <a:ext cx="267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θ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=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кТ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8"/>
          <p:cNvSpPr/>
          <p:nvPr/>
        </p:nvSpPr>
        <p:spPr>
          <a:xfrm>
            <a:off x="1071720" y="35712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стоянная Больцм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ятиугольник 16"/>
          <p:cNvSpPr/>
          <p:nvPr/>
        </p:nvSpPr>
        <p:spPr>
          <a:xfrm>
            <a:off x="214200" y="3929040"/>
            <a:ext cx="5857920" cy="1357200"/>
          </a:xfrm>
          <a:custGeom>
            <a:avLst/>
            <a:gdLst>
              <a:gd name="textAreaLeft" fmla="*/ 0 w 5857920"/>
              <a:gd name="textAreaRight" fmla="*/ 5858280 w 5857920"/>
              <a:gd name="textAreaTop" fmla="*/ 0 h 1357200"/>
              <a:gd name="textAreaBottom" fmla="*/ 135756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с двумя скругленными противолежащими углами 13"/>
          <p:cNvSpPr/>
          <p:nvPr/>
        </p:nvSpPr>
        <p:spPr>
          <a:xfrm>
            <a:off x="5286240" y="1428840"/>
            <a:ext cx="2643480" cy="1571400"/>
          </a:xfrm>
          <a:custGeom>
            <a:avLst/>
            <a:gdLst/>
            <a:ahLst/>
            <a:rect l="l" t="t" r="r" b="b"/>
            <a:pathLst>
              <a:path w="2643188" h="1571625">
                <a:moveTo>
                  <a:pt x="261943" y="0"/>
                </a:moveTo>
                <a:lnTo>
                  <a:pt x="2643188" y="0"/>
                </a:lnTo>
                <a:lnTo>
                  <a:pt x="2643188" y="0"/>
                </a:lnTo>
                <a:lnTo>
                  <a:pt x="2643188" y="1309682"/>
                </a:lnTo>
                <a:cubicBezTo>
                  <a:pt x="2643188" y="1454349"/>
                  <a:pt x="2525912" y="1571625"/>
                  <a:pt x="2381245" y="1571625"/>
                </a:cubicBezTo>
                <a:lnTo>
                  <a:pt x="0" y="1571625"/>
                </a:lnTo>
                <a:lnTo>
                  <a:pt x="0" y="1571625"/>
                </a:lnTo>
                <a:lnTo>
                  <a:pt x="0" y="261943"/>
                </a:lnTo>
                <a:cubicBezTo>
                  <a:pt x="0" y="117276"/>
                  <a:pt x="117276" y="0"/>
                  <a:pt x="261943" y="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с двумя скругленными противолежащими углами 11"/>
          <p:cNvSpPr/>
          <p:nvPr/>
        </p:nvSpPr>
        <p:spPr>
          <a:xfrm>
            <a:off x="1785960" y="2500200"/>
            <a:ext cx="2071800" cy="1285920"/>
          </a:xfrm>
          <a:custGeom>
            <a:avLst/>
            <a:gdLst/>
            <a:ahLst/>
            <a:rect l="l" t="t" r="r" b="b"/>
            <a:pathLst>
              <a:path w="2071687" h="1285875">
                <a:moveTo>
                  <a:pt x="214317" y="0"/>
                </a:moveTo>
                <a:lnTo>
                  <a:pt x="2071687" y="0"/>
                </a:lnTo>
                <a:lnTo>
                  <a:pt x="2071687" y="0"/>
                </a:lnTo>
                <a:lnTo>
                  <a:pt x="2071687" y="1071558"/>
                </a:lnTo>
                <a:cubicBezTo>
                  <a:pt x="2071687" y="1189922"/>
                  <a:pt x="1975734" y="1285875"/>
                  <a:pt x="1857370" y="1285875"/>
                </a:cubicBezTo>
                <a:lnTo>
                  <a:pt x="0" y="1285875"/>
                </a:lnTo>
                <a:lnTo>
                  <a:pt x="0" y="1285875"/>
                </a:lnTo>
                <a:lnTo>
                  <a:pt x="0" y="214317"/>
                </a:lnTo>
                <a:cubicBezTo>
                  <a:pt x="0" y="95953"/>
                  <a:pt x="95953" y="0"/>
                  <a:pt x="214317" y="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с двумя скругленными противолежащими углами 9"/>
          <p:cNvSpPr/>
          <p:nvPr/>
        </p:nvSpPr>
        <p:spPr>
          <a:xfrm>
            <a:off x="1714680" y="1071720"/>
            <a:ext cx="2071440" cy="1285560"/>
          </a:xfrm>
          <a:custGeom>
            <a:avLst/>
            <a:gdLst/>
            <a:ahLst/>
            <a:rect l="l" t="t" r="r" b="b"/>
            <a:pathLst>
              <a:path w="2071688" h="1285875">
                <a:moveTo>
                  <a:pt x="214317" y="0"/>
                </a:moveTo>
                <a:lnTo>
                  <a:pt x="2071688" y="0"/>
                </a:lnTo>
                <a:lnTo>
                  <a:pt x="2071688" y="0"/>
                </a:lnTo>
                <a:lnTo>
                  <a:pt x="2071688" y="1071558"/>
                </a:lnTo>
                <a:cubicBezTo>
                  <a:pt x="2071688" y="1189922"/>
                  <a:pt x="1975735" y="1285875"/>
                  <a:pt x="1857371" y="1285875"/>
                </a:cubicBezTo>
                <a:lnTo>
                  <a:pt x="0" y="1285875"/>
                </a:lnTo>
                <a:lnTo>
                  <a:pt x="0" y="1285875"/>
                </a:lnTo>
                <a:lnTo>
                  <a:pt x="0" y="214317"/>
                </a:lnTo>
                <a:cubicBezTo>
                  <a:pt x="0" y="95953"/>
                  <a:pt x="95953" y="0"/>
                  <a:pt x="214317" y="0"/>
                </a:cubicBezTo>
                <a:close/>
              </a:path>
            </a:pathLst>
          </a:custGeom>
          <a:solidFill>
            <a:srgbClr val="bbe0e3"/>
          </a:solidFill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"/>
              <p:cNvSpPr txBox="1"/>
              <p:nvPr/>
            </p:nvSpPr>
            <p:spPr>
              <a:xfrm>
                <a:off x="1785960" y="1143000"/>
                <a:ext cx="192888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bar>
                      <m:barPr>
                        <m:pos m:val="top"/>
                      </m:barPr>
                      <m:e>
                        <m:r>
                          <m:t xml:space="preserve">Е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3"/>
              <p:cNvSpPr txBox="1"/>
              <p:nvPr/>
            </p:nvSpPr>
            <p:spPr>
              <a:xfrm>
                <a:off x="1785960" y="2428920"/>
                <a:ext cx="200016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к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5357880" y="1357200"/>
                <a:ext cx="2286000" cy="14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bar>
                      <m:barPr>
                        <m:pos m:val="top"/>
                      </m:barPr>
                      <m:e>
                        <m:r>
                          <m:t xml:space="preserve">Е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5" name="Rectangle 3"/>
          <p:cNvSpPr/>
          <p:nvPr/>
        </p:nvSpPr>
        <p:spPr>
          <a:xfrm>
            <a:off x="357120" y="3857760"/>
            <a:ext cx="822960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Зависимость давления г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от концентрации его молекул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285840" y="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мпература – мера средней кинетической энергии молек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авая фигурная скобка 12"/>
          <p:cNvSpPr/>
          <p:nvPr/>
        </p:nvSpPr>
        <p:spPr>
          <a:xfrm>
            <a:off x="4071960" y="1071720"/>
            <a:ext cx="1143000" cy="2571480"/>
          </a:xfrm>
          <a:custGeom>
            <a:avLst/>
            <a:gdLst>
              <a:gd name="textAreaLeft" fmla="*/ 0 w 1143000"/>
              <a:gd name="textAreaRight" fmla="*/ 412560 w 1143000"/>
              <a:gd name="textAreaTop" fmla="*/ 29520 h 2571480"/>
              <a:gd name="textAreaBottom" fmla="*/ 2541960 h 257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с двумя скругленными противолежащими углами 17"/>
          <p:cNvSpPr/>
          <p:nvPr/>
        </p:nvSpPr>
        <p:spPr>
          <a:xfrm>
            <a:off x="6286680" y="3857760"/>
            <a:ext cx="2428560" cy="1428480"/>
          </a:xfrm>
          <a:custGeom>
            <a:avLst/>
            <a:gdLst/>
            <a:ahLst/>
            <a:rect l="l" t="t" r="r" b="b"/>
            <a:pathLst>
              <a:path w="2428875" h="1428750">
                <a:moveTo>
                  <a:pt x="238130" y="0"/>
                </a:moveTo>
                <a:lnTo>
                  <a:pt x="2428875" y="0"/>
                </a:lnTo>
                <a:lnTo>
                  <a:pt x="2428875" y="0"/>
                </a:lnTo>
                <a:lnTo>
                  <a:pt x="2428875" y="1190620"/>
                </a:lnTo>
                <a:cubicBezTo>
                  <a:pt x="2428875" y="1322136"/>
                  <a:pt x="2322261" y="1428750"/>
                  <a:pt x="2190745" y="1428750"/>
                </a:cubicBezTo>
                <a:lnTo>
                  <a:pt x="0" y="1428750"/>
                </a:lnTo>
                <a:lnTo>
                  <a:pt x="0" y="1428750"/>
                </a:lnTo>
                <a:lnTo>
                  <a:pt x="0" y="238130"/>
                </a:lnTo>
                <a:cubicBezTo>
                  <a:pt x="0" y="106614"/>
                  <a:pt x="106614" y="0"/>
                  <a:pt x="238130" y="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6429240" y="4143240"/>
            <a:ext cx="2160720" cy="879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785880" y="2143080"/>
          <a:ext cx="7072200" cy="1390680"/>
        </p:xfrm>
        <a:graphic>
          <a:graphicData uri="http://schemas.openxmlformats.org/drawingml/2006/table">
            <a:tbl>
              <a:tblPr/>
              <a:tblGrid>
                <a:gridCol w="1674720"/>
                <a:gridCol w="1860480"/>
                <a:gridCol w="1768680"/>
                <a:gridCol w="1768320"/>
              </a:tblGrid>
              <a:tr h="785880"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что зна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что узнал нов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не соглас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есть вопросы</a:t>
                      </a:r>
                      <a:r>
                        <a:rPr b="0" lang="ru-RU" sz="20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604800"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sp>
        <p:nvSpPr>
          <p:cNvPr id="211" name="Rectangle 1"/>
          <p:cNvSpPr/>
          <p:nvPr/>
        </p:nvSpPr>
        <p:spPr>
          <a:xfrm>
            <a:off x="214200" y="221040"/>
            <a:ext cx="7929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Рефлекс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Что узнали? Что поняли? Что не поняли?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218440" cy="9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крепление материал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355640" y="23724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7120" y="1280880"/>
            <a:ext cx="8229600" cy="348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50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Как измеряется температу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Какие температурные шкалы Вы зн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Какие  температурные шкалы применяются в настоящее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врем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Достижим ли абсолютный нул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ьте температуру налитой жидкости и выразите ее в 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учащегося « Температуры в космос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Скругленный прямоугольник 20"/>
          <p:cNvSpPr/>
          <p:nvPr/>
        </p:nvSpPr>
        <p:spPr>
          <a:xfrm>
            <a:off x="6072120" y="4214880"/>
            <a:ext cx="271476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кругленный прямоугольник 21"/>
          <p:cNvSpPr/>
          <p:nvPr/>
        </p:nvSpPr>
        <p:spPr>
          <a:xfrm>
            <a:off x="3143160" y="4214880"/>
            <a:ext cx="271476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нтервал изменения температу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К&lt;Т&lt;10</a:t>
            </a:r>
            <a:r>
              <a:rPr b="1" lang="ru-RU" sz="1800" spc="-1" strike="noStrike" baseline="30000">
                <a:solidFill>
                  <a:srgbClr val="c00000"/>
                </a:solidFill>
                <a:latin typeface="Arial"/>
              </a:rPr>
              <a:t>16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22"/>
          <p:cNvSpPr/>
          <p:nvPr/>
        </p:nvSpPr>
        <p:spPr>
          <a:xfrm>
            <a:off x="6143760" y="3000240"/>
            <a:ext cx="271440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23"/>
          <p:cNvSpPr/>
          <p:nvPr/>
        </p:nvSpPr>
        <p:spPr>
          <a:xfrm>
            <a:off x="3286080" y="3000240"/>
            <a:ext cx="271476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8"/>
          <p:cNvSpPr/>
          <p:nvPr/>
        </p:nvSpPr>
        <p:spPr>
          <a:xfrm>
            <a:off x="3143160" y="1643040"/>
            <a:ext cx="285768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3"/>
          <p:cNvSpPr/>
          <p:nvPr/>
        </p:nvSpPr>
        <p:spPr>
          <a:xfrm>
            <a:off x="1500120" y="214200"/>
            <a:ext cx="6000840" cy="9288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Book Antiqua"/>
              </a:rPr>
              <a:t>Температу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71880" y="1571760"/>
            <a:ext cx="292896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бозна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ru-RU" sz="2400" spc="-1" strike="noStrike" baseline="30000">
                <a:solidFill>
                  <a:srgbClr val="c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     Т,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7"/>
          <p:cNvSpPr/>
          <p:nvPr/>
        </p:nvSpPr>
        <p:spPr>
          <a:xfrm>
            <a:off x="214200" y="1643040"/>
            <a:ext cx="271476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9"/>
          <p:cNvSpPr/>
          <p:nvPr/>
        </p:nvSpPr>
        <p:spPr>
          <a:xfrm>
            <a:off x="6215040" y="1643040"/>
            <a:ext cx="271476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10"/>
          <p:cNvSpPr/>
          <p:nvPr/>
        </p:nvSpPr>
        <p:spPr>
          <a:xfrm>
            <a:off x="214200" y="3071880"/>
            <a:ext cx="271476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1"/>
          <p:cNvSpPr/>
          <p:nvPr/>
        </p:nvSpPr>
        <p:spPr>
          <a:xfrm>
            <a:off x="935640" y="214200"/>
            <a:ext cx="4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Book Antiqu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2"/>
          <p:cNvSpPr/>
          <p:nvPr/>
        </p:nvSpPr>
        <p:spPr>
          <a:xfrm>
            <a:off x="7650720" y="214200"/>
            <a:ext cx="4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Book Antiqu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4"/>
          <p:cNvSpPr/>
          <p:nvPr/>
        </p:nvSpPr>
        <p:spPr>
          <a:xfrm>
            <a:off x="214200" y="3071880"/>
            <a:ext cx="30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ера средней кинетической энергии молеку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5"/>
          <p:cNvSpPr/>
          <p:nvPr/>
        </p:nvSpPr>
        <p:spPr>
          <a:xfrm>
            <a:off x="3571920" y="2928960"/>
            <a:ext cx="195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бсолютный нуль темп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7"/>
          <p:cNvSpPr/>
          <p:nvPr/>
        </p:nvSpPr>
        <p:spPr>
          <a:xfrm>
            <a:off x="6357960" y="307188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емпературные шк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8"/>
          <p:cNvSpPr/>
          <p:nvPr/>
        </p:nvSpPr>
        <p:spPr>
          <a:xfrm>
            <a:off x="3857760" y="4143240"/>
            <a:ext cx="195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9"/>
          <p:cNvSpPr/>
          <p:nvPr/>
        </p:nvSpPr>
        <p:spPr>
          <a:xfrm>
            <a:off x="6143760" y="421488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вязь температу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 =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t +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4"/>
          <p:cNvSpPr/>
          <p:nvPr/>
        </p:nvSpPr>
        <p:spPr>
          <a:xfrm>
            <a:off x="285840" y="1643040"/>
            <a:ext cx="257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Характеризует состояние теплового равновес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5"/>
          <p:cNvSpPr/>
          <p:nvPr/>
        </p:nvSpPr>
        <p:spPr>
          <a:xfrm>
            <a:off x="6286680" y="164304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боры для измерения темп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64-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упр. 12 (1,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214200" y="136512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Используемая 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.Я. Мякишев, Б.Б. Буховцев, Н.Н.Сотский «Физика 10», Просвещение, 2010 г.,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.М.Браверман «Вечера по физике», Просвещение, 1969 г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214200" y="28584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МЕТОДИЧЕСКАЯ РАЗРАБОТКА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урока физики   10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1071720" y="1143000"/>
            <a:ext cx="771516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урока: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« Температура и тепловое равновесие.  Определение температур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222268"/>
                </a:solidFill>
                <a:uFillTx/>
                <a:latin typeface="Arial"/>
              </a:rPr>
              <a:t>Цель урока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– формирование современных представлений о температуре как мере равновесного состояния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222268"/>
                </a:solidFill>
                <a:uFillTx/>
                <a:latin typeface="Arial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Arial"/>
              </a:rPr>
              <a:t>Образовательная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– дать представление о тепловом равновесии системы, сформировать понятие о температуре,  познакомить учащихся со способами измерения температуры; обосновать необходимость введения абсолютной шк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Arial"/>
              </a:rPr>
              <a:t>Развивающая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– формировать умения выполнять измерение температуры, выполнять анализ и сравнение разных температу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Arial"/>
              </a:rPr>
              <a:t>Воспитательная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– формирование нравственных норм поведения: дисциплинированности, организованности, твор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13"/>
          <p:cNvGrpSpPr/>
          <p:nvPr/>
        </p:nvGrpSpPr>
        <p:grpSpPr>
          <a:xfrm>
            <a:off x="2500200" y="999720"/>
            <a:ext cx="806400" cy="5383080"/>
            <a:chOff x="2500200" y="999720"/>
            <a:chExt cx="806400" cy="5383080"/>
          </a:xfrm>
        </p:grpSpPr>
        <p:sp>
          <p:nvSpPr>
            <p:cNvPr id="239" name="Oval 5"/>
            <p:cNvSpPr/>
            <p:nvPr/>
          </p:nvSpPr>
          <p:spPr>
            <a:xfrm>
              <a:off x="2500200" y="5614200"/>
              <a:ext cx="806400" cy="76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2"/>
            <p:cNvGrpSpPr/>
            <p:nvPr/>
          </p:nvGrpSpPr>
          <p:grpSpPr>
            <a:xfrm>
              <a:off x="2635200" y="999720"/>
              <a:ext cx="469800" cy="4614120"/>
              <a:chOff x="2635200" y="999720"/>
              <a:chExt cx="469800" cy="4614120"/>
            </a:xfrm>
          </p:grpSpPr>
          <p:sp>
            <p:nvSpPr>
              <p:cNvPr id="241" name="Line 4"/>
              <p:cNvSpPr/>
              <p:nvPr/>
            </p:nvSpPr>
            <p:spPr>
              <a:xfrm flipV="1">
                <a:off x="2904840" y="999720"/>
                <a:ext cx="0" cy="4614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6"/>
              <p:cNvSpPr/>
              <p:nvPr/>
            </p:nvSpPr>
            <p:spPr>
              <a:xfrm>
                <a:off x="2635200" y="5124240"/>
                <a:ext cx="469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7"/>
              <p:cNvSpPr/>
              <p:nvPr/>
            </p:nvSpPr>
            <p:spPr>
              <a:xfrm>
                <a:off x="2635200" y="1559520"/>
                <a:ext cx="469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Text Box 8"/>
          <p:cNvSpPr/>
          <p:nvPr/>
        </p:nvSpPr>
        <p:spPr>
          <a:xfrm>
            <a:off x="3786120" y="478620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0 С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кипение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3857760" y="135720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100 С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плавление ль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324000" y="18900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b115"/>
                </a:solidFill>
                <a:latin typeface="Arial"/>
              </a:rPr>
              <a:t>ШКАЛА</a:t>
            </a:r>
            <a:r>
              <a:rPr b="0" lang="ru-RU" sz="3200" spc="-1" strike="noStrike">
                <a:solidFill>
                  <a:srgbClr val="ffb115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b115"/>
                </a:solidFill>
                <a:latin typeface="Arial"/>
              </a:rPr>
              <a:t>ЦЕЛЬ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Выгнутая вниз стрелка 10">
            <a:hlinkClick r:id="rId1" action="ppaction://hlinksldjump"/>
          </p:cNvPr>
          <p:cNvSpPr/>
          <p:nvPr/>
        </p:nvSpPr>
        <p:spPr>
          <a:xfrm>
            <a:off x="8429760" y="6000840"/>
            <a:ext cx="428400" cy="428400"/>
          </a:xfrm>
          <a:custGeom>
            <a:avLst/>
            <a:gdLst>
              <a:gd name="textAreaLeft" fmla="*/ 66960 w 428400"/>
              <a:gd name="textAreaRight" fmla="*/ 308160 w 42840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026114"/>
                <a:lnTo>
                  <a:pt x="21386" y="5400"/>
                </a:lnTo>
                <a:lnTo>
                  <a:pt x="16200" y="0"/>
                </a:lnTo>
                <a:lnTo>
                  <a:pt x="10586" y="5400"/>
                </a:lnTo>
                <a:lnTo>
                  <a:pt x="13286" y="5400"/>
                </a:lnTo>
                <a:arcTo wR="6750" hR="21600" stAng="2373886" swAng="2560128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15"/>
          <p:cNvGrpSpPr/>
          <p:nvPr/>
        </p:nvGrpSpPr>
        <p:grpSpPr>
          <a:xfrm>
            <a:off x="2268360" y="1341360"/>
            <a:ext cx="719280" cy="4753080"/>
            <a:chOff x="2268360" y="1341360"/>
            <a:chExt cx="719280" cy="4753080"/>
          </a:xfrm>
        </p:grpSpPr>
        <p:sp>
          <p:nvSpPr>
            <p:cNvPr id="249" name="Line 2"/>
            <p:cNvSpPr/>
            <p:nvPr/>
          </p:nvSpPr>
          <p:spPr>
            <a:xfrm>
              <a:off x="2627280" y="1341360"/>
              <a:ext cx="0" cy="403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"/>
            <p:cNvSpPr/>
            <p:nvPr/>
          </p:nvSpPr>
          <p:spPr>
            <a:xfrm>
              <a:off x="2268360" y="5373720"/>
              <a:ext cx="719280" cy="720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"/>
            <p:cNvSpPr/>
            <p:nvPr/>
          </p:nvSpPr>
          <p:spPr>
            <a:xfrm>
              <a:off x="2411280" y="4797360"/>
              <a:ext cx="50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7"/>
            <p:cNvSpPr/>
            <p:nvPr/>
          </p:nvSpPr>
          <p:spPr>
            <a:xfrm>
              <a:off x="2411280" y="184464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8"/>
          <p:cNvSpPr/>
          <p:nvPr/>
        </p:nvSpPr>
        <p:spPr>
          <a:xfrm>
            <a:off x="3071880" y="435780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0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Таяние ль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2928960" y="142884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80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Кипени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4067280" y="18900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5857920" y="2286000"/>
            <a:ext cx="30733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b050"/>
                </a:solidFill>
                <a:latin typeface="Arial"/>
              </a:rPr>
              <a:t>Температурная шкала, один градус которой равен 1/80 разности температур кипения воды и таяния льда при атмосферном давлении, т. е. 1 °R — 5/4 °С. Практически вышла из употреб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4"/>
          <p:cNvSpPr/>
          <p:nvPr/>
        </p:nvSpPr>
        <p:spPr>
          <a:xfrm>
            <a:off x="2286360" y="285840"/>
            <a:ext cx="40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b115"/>
                </a:solidFill>
                <a:latin typeface="Arial"/>
              </a:rPr>
              <a:t>ШКАЛА</a:t>
            </a:r>
            <a:r>
              <a:rPr b="0" lang="ru-RU" sz="3200" spc="-1" strike="noStrike">
                <a:solidFill>
                  <a:srgbClr val="ffb115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b115"/>
                </a:solidFill>
                <a:latin typeface="Arial"/>
              </a:rPr>
              <a:t>РЕОМЮ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Выгнутая вниз стрелка 11">
            <a:hlinkClick r:id="rId1" action="ppaction://hlinksldjump"/>
          </p:cNvPr>
          <p:cNvSpPr/>
          <p:nvPr/>
        </p:nvSpPr>
        <p:spPr>
          <a:xfrm>
            <a:off x="8358120" y="6143760"/>
            <a:ext cx="428760" cy="285480"/>
          </a:xfrm>
          <a:custGeom>
            <a:avLst/>
            <a:gdLst>
              <a:gd name="textAreaLeft" fmla="*/ 80280 w 428760"/>
              <a:gd name="textAreaRight" fmla="*/ 312840 w 42876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00" hR="21600" stAng="10800000" swAng="-5400000"/>
                <a:lnTo>
                  <a:pt x="11700" y="21600"/>
                </a:lnTo>
                <a:arcTo wR="8100" hR="21600" stAng="5400000" swAng="-3327084"/>
                <a:lnTo>
                  <a:pt x="21343" y="5400"/>
                </a:lnTo>
                <a:lnTo>
                  <a:pt x="18000" y="0"/>
                </a:lnTo>
                <a:lnTo>
                  <a:pt x="14143" y="5400"/>
                </a:lnTo>
                <a:lnTo>
                  <a:pt x="15943" y="5400"/>
                </a:lnTo>
                <a:arcTo wR="8100" hR="21600" stAng="2072916" swAng="3033971"/>
                <a:lnTo>
                  <a:pt x="9900" y="21060"/>
                </a:lnTo>
                <a:arcTo wR="8100" hR="21600" stAng="5693113" swAng="5106887"/>
                <a:close/>
              </a:path>
              <a:path fill="darkenLess" w="21600" h="21600">
                <a:moveTo>
                  <a:pt x="0" y="0"/>
                </a:moveTo>
                <a:arcTo wR="8100" hR="21600" stAng="10800000" swAng="-5400000"/>
                <a:lnTo>
                  <a:pt x="11700" y="21600"/>
                </a:lnTo>
                <a:arcTo wR="8100" hR="21600" stAng="5400000" swAng="293113"/>
                <a:lnTo>
                  <a:pt x="9900" y="21060"/>
                </a:lnTo>
                <a:arcTo wR="8100" hR="21600" stAng="5693113" swAng="5106887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1"/>
          <p:cNvGrpSpPr/>
          <p:nvPr/>
        </p:nvGrpSpPr>
        <p:grpSpPr>
          <a:xfrm>
            <a:off x="2000160" y="1285920"/>
            <a:ext cx="719280" cy="4753080"/>
            <a:chOff x="2000160" y="1285920"/>
            <a:chExt cx="719280" cy="4753080"/>
          </a:xfrm>
        </p:grpSpPr>
        <p:sp>
          <p:nvSpPr>
            <p:cNvPr id="260" name="Line 5"/>
            <p:cNvSpPr/>
            <p:nvPr/>
          </p:nvSpPr>
          <p:spPr>
            <a:xfrm>
              <a:off x="2359080" y="1285920"/>
              <a:ext cx="1800" cy="403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6"/>
            <p:cNvSpPr/>
            <p:nvPr/>
          </p:nvSpPr>
          <p:spPr>
            <a:xfrm>
              <a:off x="2000160" y="5318280"/>
              <a:ext cx="719280" cy="720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7"/>
            <p:cNvSpPr/>
            <p:nvPr/>
          </p:nvSpPr>
          <p:spPr>
            <a:xfrm>
              <a:off x="2143080" y="4741920"/>
              <a:ext cx="50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2143080" y="4165560"/>
              <a:ext cx="50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2143080" y="3373560"/>
              <a:ext cx="50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0"/>
            <p:cNvSpPr/>
            <p:nvPr/>
          </p:nvSpPr>
          <p:spPr>
            <a:xfrm>
              <a:off x="2143080" y="178920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11"/>
          <p:cNvSpPr/>
          <p:nvPr/>
        </p:nvSpPr>
        <p:spPr>
          <a:xfrm>
            <a:off x="2786040" y="4500720"/>
            <a:ext cx="60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0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лёд+вода+нашатырь+поваренн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714760" y="392904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32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вода+лё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2714760" y="307188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96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температура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2714760" y="14288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212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Кипени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428760" y="214200"/>
            <a:ext cx="76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b115"/>
                </a:solidFill>
                <a:latin typeface="Arial"/>
              </a:rPr>
              <a:t>ШКАЛА ФАРЕНГЕЙ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6357960" y="1643040"/>
            <a:ext cx="257184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50"/>
                </a:solidFill>
                <a:latin typeface="Arial"/>
              </a:rPr>
              <a:t>температурная шкала, 1 градус которой (1 °F) равен 1/180 разности температур кипения воды и таяния льда при атмосферном давлении, а точка таяния льда имеет температуру +32 °F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Выгнутая вниз стрелка 14">
            <a:hlinkClick r:id="rId1" action="ppaction://hlinksldjump"/>
          </p:cNvPr>
          <p:cNvSpPr/>
          <p:nvPr/>
        </p:nvSpPr>
        <p:spPr>
          <a:xfrm>
            <a:off x="8429760" y="6143760"/>
            <a:ext cx="428400" cy="285480"/>
          </a:xfrm>
          <a:custGeom>
            <a:avLst/>
            <a:gdLst>
              <a:gd name="textAreaLeft" fmla="*/ 80280 w 428400"/>
              <a:gd name="textAreaRight" fmla="*/ 312480 w 42840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00" hR="21600" stAng="10800000" swAng="-5400000"/>
                <a:lnTo>
                  <a:pt x="11700" y="21600"/>
                </a:lnTo>
                <a:arcTo wR="8100" hR="21600" stAng="5400000" swAng="-3327084"/>
                <a:lnTo>
                  <a:pt x="21343" y="5400"/>
                </a:lnTo>
                <a:lnTo>
                  <a:pt x="18000" y="0"/>
                </a:lnTo>
                <a:lnTo>
                  <a:pt x="14143" y="5400"/>
                </a:lnTo>
                <a:lnTo>
                  <a:pt x="15943" y="5400"/>
                </a:lnTo>
                <a:arcTo wR="8100" hR="21600" stAng="2072916" swAng="3033971"/>
                <a:lnTo>
                  <a:pt x="9900" y="21060"/>
                </a:lnTo>
                <a:arcTo wR="8100" hR="21600" stAng="5693113" swAng="5106887"/>
                <a:close/>
              </a:path>
              <a:path fill="darkenLess" w="21600" h="21600">
                <a:moveTo>
                  <a:pt x="0" y="0"/>
                </a:moveTo>
                <a:arcTo wR="8100" hR="21600" stAng="10800000" swAng="-5400000"/>
                <a:lnTo>
                  <a:pt x="11700" y="21600"/>
                </a:lnTo>
                <a:arcTo wR="8100" hR="21600" stAng="5400000" swAng="293113"/>
                <a:lnTo>
                  <a:pt x="9900" y="21060"/>
                </a:lnTo>
                <a:arcTo wR="8100" hR="21600" stAng="5693113" swAng="5106887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571680" y="1003320"/>
            <a:ext cx="7929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22268"/>
                </a:solidFill>
                <a:uFillTx/>
                <a:latin typeface="Arial"/>
                <a:ea typeface="Times New Roman"/>
              </a:rPr>
              <a:t>Тип урока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  <a:ea typeface="Times New Roman"/>
              </a:rPr>
              <a:t> – изучение нового матери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642960" y="1653480"/>
            <a:ext cx="821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лан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рганизационный мо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Повторение вопросов для подготовки к изучению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Изучение нов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IV</a:t>
            </a:r>
            <a:r>
              <a:rPr b="0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Рефлексия «Что узнали? Что поняли? Что не поняли?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Закрепление материала. Презентация учащихся «Температуры в космос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VI</a:t>
            </a:r>
            <a:r>
              <a:rPr b="0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Домашнее зад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6956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торение изучен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57160" y="1642680"/>
            <a:ext cx="80726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99"/>
                </a:solidFill>
                <a:latin typeface="Century Schoolbook"/>
                <a:ea typeface="Times New Roman"/>
              </a:rPr>
              <a:t>Тепловое движение – это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99"/>
                </a:solidFill>
                <a:latin typeface="Century Schoolbook"/>
                <a:ea typeface="Times New Roman"/>
              </a:rPr>
              <a:t>Тепловые явления – это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99"/>
                </a:solidFill>
                <a:latin typeface="Century Schoolbook"/>
                <a:ea typeface="Times New Roman"/>
              </a:rPr>
              <a:t>Внутренняя энергия – это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99"/>
                </a:solidFill>
                <a:latin typeface="Century Schoolbook"/>
                <a:ea typeface="Times New Roman"/>
              </a:rPr>
              <a:t>Температура – это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99"/>
                </a:solidFill>
                <a:latin typeface="Century Schoolbook"/>
                <a:ea typeface="Times New Roman"/>
              </a:rPr>
              <a:t>Кинетическая энергия определяется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99"/>
                </a:solidFill>
                <a:latin typeface="Century Schoolbook"/>
                <a:ea typeface="Times New Roman"/>
              </a:rPr>
              <a:t>С увеличением скорости движения    молекул температура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99"/>
                </a:solidFill>
                <a:latin typeface="Century Schoolbook"/>
                <a:ea typeface="Times New Roman"/>
              </a:rPr>
              <a:t>Приборы для измерения температуры – это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99"/>
                </a:solidFill>
                <a:latin typeface="Century Schoolbook"/>
                <a:ea typeface="Times New Roman"/>
              </a:rPr>
              <a:t>На каком свойстве основано действие приборов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99"/>
                </a:solidFill>
                <a:latin typeface="Century Schoolbook"/>
                <a:ea typeface="Times New Roman"/>
              </a:rPr>
              <a:t>Какие мы знаем температуры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224280" y="92880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чите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кругленный прямоугольник 16"/>
          <p:cNvSpPr/>
          <p:nvPr/>
        </p:nvSpPr>
        <p:spPr>
          <a:xfrm>
            <a:off x="714240" y="285840"/>
            <a:ext cx="8143920" cy="16430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15"/>
          <p:cNvSpPr/>
          <p:nvPr/>
        </p:nvSpPr>
        <p:spPr>
          <a:xfrm>
            <a:off x="6500880" y="3429000"/>
            <a:ext cx="1071360" cy="1214280"/>
          </a:xfrm>
          <a:custGeom>
            <a:avLst/>
            <a:gdLst>
              <a:gd name="textAreaLeft" fmla="*/ 52200 w 1071360"/>
              <a:gd name="textAreaRight" fmla="*/ 1019160 w 1071360"/>
              <a:gd name="textAreaTop" fmla="*/ 52200 h 1214280"/>
              <a:gd name="textAreaBottom" fmla="*/ 1162080 h 1214280"/>
            </a:gdLst>
            <a:ahLst/>
            <a:rect l="textAreaLeft" t="textAreaTop" r="textAreaRight" b="textAreaBottom"/>
            <a:pathLst>
              <a:path w="21600" h="24480">
                <a:moveTo>
                  <a:pt x="3600" y="0"/>
                </a:moveTo>
                <a:arcTo wR="3600" hR="3600" stAng="16200000" swAng="-5400000"/>
                <a:lnTo>
                  <a:pt x="0" y="20880"/>
                </a:lnTo>
                <a:arcTo wR="3600" hR="3600" stAng="10800000" swAng="-5400000"/>
                <a:lnTo>
                  <a:pt x="18000" y="244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2" descr=""/>
          <p:cNvPicPr/>
          <p:nvPr/>
        </p:nvPicPr>
        <p:blipFill>
          <a:blip r:embed="rId1"/>
          <a:stretch/>
        </p:blipFill>
        <p:spPr>
          <a:xfrm>
            <a:off x="609480" y="165240"/>
            <a:ext cx="8272440" cy="1749240"/>
          </a:xfrm>
          <a:prstGeom prst="rect">
            <a:avLst/>
          </a:prstGeom>
          <a:ln w="0">
            <a:noFill/>
          </a:ln>
        </p:spPr>
      </p:pic>
      <p:sp>
        <p:nvSpPr>
          <p:cNvPr id="53" name="Стрелка вниз 4"/>
          <p:cNvSpPr/>
          <p:nvPr/>
        </p:nvSpPr>
        <p:spPr>
          <a:xfrm>
            <a:off x="4500720" y="2286000"/>
            <a:ext cx="500040" cy="114300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ffff00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6867360" y="357192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3"/>
          <p:cNvSpPr/>
          <p:nvPr/>
        </p:nvSpPr>
        <p:spPr>
          <a:xfrm>
            <a:off x="1714680" y="3500280"/>
            <a:ext cx="1071360" cy="1214640"/>
          </a:xfrm>
          <a:custGeom>
            <a:avLst/>
            <a:gdLst>
              <a:gd name="textAreaLeft" fmla="*/ 52200 w 1071360"/>
              <a:gd name="textAreaRight" fmla="*/ 1019160 w 1071360"/>
              <a:gd name="textAreaTop" fmla="*/ 52200 h 1214640"/>
              <a:gd name="textAreaBottom" fmla="*/ 1162440 h 1214640"/>
            </a:gdLst>
            <a:ahLst/>
            <a:rect l="textAreaLeft" t="textAreaTop" r="textAreaRight" b="textAreaBottom"/>
            <a:pathLst>
              <a:path w="21600" h="24488">
                <a:moveTo>
                  <a:pt x="3600" y="0"/>
                </a:moveTo>
                <a:arcTo wR="3600" hR="3600" stAng="16200000" swAng="-5400000"/>
                <a:lnTo>
                  <a:pt x="0" y="20888"/>
                </a:lnTo>
                <a:arcTo wR="3600" hR="3600" stAng="10800000" swAng="-5400000"/>
                <a:lnTo>
                  <a:pt x="18000" y="244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14"/>
          <p:cNvSpPr/>
          <p:nvPr/>
        </p:nvSpPr>
        <p:spPr>
          <a:xfrm>
            <a:off x="4143240" y="3500280"/>
            <a:ext cx="1071720" cy="1214640"/>
          </a:xfrm>
          <a:custGeom>
            <a:avLst/>
            <a:gdLst>
              <a:gd name="textAreaLeft" fmla="*/ 52200 w 1071720"/>
              <a:gd name="textAreaRight" fmla="*/ 1019520 w 1071720"/>
              <a:gd name="textAreaTop" fmla="*/ 52200 h 1214640"/>
              <a:gd name="textAreaBottom" fmla="*/ 1162440 h 1214640"/>
            </a:gdLst>
            <a:ahLst/>
            <a:rect l="textAreaLeft" t="textAreaTop" r="textAreaRight" b="textAreaBottom"/>
            <a:pathLst>
              <a:path w="21600" h="24480">
                <a:moveTo>
                  <a:pt x="3600" y="0"/>
                </a:moveTo>
                <a:arcTo wR="3600" hR="3600" stAng="16200000" swAng="-5400000"/>
                <a:lnTo>
                  <a:pt x="0" y="20880"/>
                </a:lnTo>
                <a:arcTo wR="3600" hR="3600" stAng="10800000" swAng="-5400000"/>
                <a:lnTo>
                  <a:pt x="18000" y="244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785960" y="3500280"/>
            <a:ext cx="9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V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4286160" y="3429000"/>
            <a:ext cx="7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Скругленный прямоугольник 20"/>
          <p:cNvSpPr/>
          <p:nvPr/>
        </p:nvSpPr>
        <p:spPr>
          <a:xfrm>
            <a:off x="6215040" y="4786200"/>
            <a:ext cx="271476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1"/>
          <p:cNvSpPr/>
          <p:nvPr/>
        </p:nvSpPr>
        <p:spPr>
          <a:xfrm>
            <a:off x="3000240" y="4857840"/>
            <a:ext cx="2714760" cy="92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22"/>
          <p:cNvSpPr/>
          <p:nvPr/>
        </p:nvSpPr>
        <p:spPr>
          <a:xfrm>
            <a:off x="6143760" y="3571920"/>
            <a:ext cx="271440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23"/>
          <p:cNvSpPr/>
          <p:nvPr/>
        </p:nvSpPr>
        <p:spPr>
          <a:xfrm>
            <a:off x="3143160" y="3571920"/>
            <a:ext cx="271476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8"/>
          <p:cNvSpPr/>
          <p:nvPr/>
        </p:nvSpPr>
        <p:spPr>
          <a:xfrm>
            <a:off x="3143160" y="2214720"/>
            <a:ext cx="2857680" cy="92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3"/>
          <p:cNvSpPr/>
          <p:nvPr/>
        </p:nvSpPr>
        <p:spPr>
          <a:xfrm>
            <a:off x="1857240" y="1000080"/>
            <a:ext cx="6000840" cy="9288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Book Antiqua"/>
              </a:rPr>
              <a:t>Температу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7"/>
          <p:cNvSpPr/>
          <p:nvPr/>
        </p:nvSpPr>
        <p:spPr>
          <a:xfrm>
            <a:off x="214200" y="2143080"/>
            <a:ext cx="271476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9"/>
          <p:cNvSpPr/>
          <p:nvPr/>
        </p:nvSpPr>
        <p:spPr>
          <a:xfrm>
            <a:off x="6215040" y="2214720"/>
            <a:ext cx="2714760" cy="92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0"/>
          <p:cNvSpPr/>
          <p:nvPr/>
        </p:nvSpPr>
        <p:spPr>
          <a:xfrm>
            <a:off x="214200" y="3571920"/>
            <a:ext cx="271476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4"/>
          <p:cNvSpPr/>
          <p:nvPr/>
        </p:nvSpPr>
        <p:spPr>
          <a:xfrm>
            <a:off x="74520" y="214200"/>
            <a:ext cx="62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Book Antiqua"/>
              </a:rPr>
              <a:t>Что</a:t>
            </a:r>
            <a:r>
              <a:rPr b="0" lang="ru-RU" sz="54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Book Antiqua"/>
              </a:rPr>
              <a:t>мы знаем о температу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428760" y="92880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мператур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характеризует степень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гретости тел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b0f0"/>
                </a:solidFill>
                <a:latin typeface="Arial"/>
              </a:rPr>
              <a:t>холодно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тепло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горяче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928800" y="2428920"/>
            <a:ext cx="2571480" cy="2770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j0288942.gif"/>
          <p:cNvPicPr/>
          <p:nvPr/>
        </p:nvPicPr>
        <p:blipFill>
          <a:blip r:embed="rId2"/>
          <a:stretch/>
        </p:blipFill>
        <p:spPr>
          <a:xfrm>
            <a:off x="5499000" y="2357280"/>
            <a:ext cx="2502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Скругленный прямоугольник 2"/>
          <p:cNvSpPr/>
          <p:nvPr/>
        </p:nvSpPr>
        <p:spPr>
          <a:xfrm>
            <a:off x="2214720" y="3214800"/>
            <a:ext cx="5857560" cy="1214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1500120" y="1071720"/>
            <a:ext cx="735804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пловое равновеси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состояние, при котором все макроскопические параметры сколь угодно долго остаются неизме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V, p, t – con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Скругленный прямоугольник 18"/>
          <p:cNvSpPr/>
          <p:nvPr/>
        </p:nvSpPr>
        <p:spPr>
          <a:xfrm>
            <a:off x="1285920" y="1571760"/>
            <a:ext cx="6572160" cy="3000240"/>
          </a:xfrm>
          <a:prstGeom prst="roundRect">
            <a:avLst>
              <a:gd name="adj" fmla="val 16667"/>
            </a:avLst>
          </a:prstGeom>
          <a:solidFill>
            <a:srgbClr val="bbe0e3">
              <a:alpha val="66000"/>
            </a:srgbClr>
          </a:solidFill>
          <a:ln w="572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17"/>
          <p:cNvSpPr/>
          <p:nvPr/>
        </p:nvSpPr>
        <p:spPr>
          <a:xfrm>
            <a:off x="428760" y="4929120"/>
            <a:ext cx="8286480" cy="1285920"/>
          </a:xfrm>
          <a:prstGeom prst="roundRect">
            <a:avLst>
              <a:gd name="adj" fmla="val 16667"/>
            </a:avLst>
          </a:prstGeom>
          <a:solidFill>
            <a:srgbClr val="ffff00">
              <a:alpha val="51000"/>
            </a:srgbClr>
          </a:solidFill>
          <a:ln w="572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"/>
          <p:cNvSpPr/>
          <p:nvPr/>
        </p:nvSpPr>
        <p:spPr>
          <a:xfrm>
            <a:off x="571680" y="507204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се тела, находящиеся друг с другом в тепловом равновесии, имеют одну и ту же темпер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память с прямым доступом 2"/>
          <p:cNvSpPr/>
          <p:nvPr/>
        </p:nvSpPr>
        <p:spPr>
          <a:xfrm>
            <a:off x="2000160" y="2000160"/>
            <a:ext cx="1571760" cy="1143000"/>
          </a:xfrm>
          <a:prstGeom prst="flowChartMagneticDrum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память с прямым доступом 3"/>
          <p:cNvSpPr/>
          <p:nvPr/>
        </p:nvSpPr>
        <p:spPr>
          <a:xfrm>
            <a:off x="4643280" y="2143080"/>
            <a:ext cx="1643400" cy="1000080"/>
          </a:xfrm>
          <a:prstGeom prst="flowChartMagneticDrum">
            <a:avLst/>
          </a:prstGeom>
          <a:solidFill>
            <a:srgbClr val="66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3857760" y="3286080"/>
            <a:ext cx="428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2286000" y="2967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2571840" y="3429000"/>
            <a:ext cx="121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4714920" y="342900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1" lang="en-US" sz="44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72bfc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9"/>
          <p:cNvSpPr/>
          <p:nvPr/>
        </p:nvSpPr>
        <p:spPr>
          <a:xfrm>
            <a:off x="4214880" y="23572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Блок-схема: память с прямым доступом 13"/>
          <p:cNvSpPr/>
          <p:nvPr/>
        </p:nvSpPr>
        <p:spPr>
          <a:xfrm>
            <a:off x="3571920" y="2000160"/>
            <a:ext cx="1571760" cy="1143000"/>
          </a:xfrm>
          <a:prstGeom prst="flowChartMagneticDrum">
            <a:avLst/>
          </a:prstGeom>
          <a:solidFill>
            <a:srgbClr val="ffcc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Блок-схема: память с прямым доступом 14"/>
          <p:cNvSpPr/>
          <p:nvPr/>
        </p:nvSpPr>
        <p:spPr>
          <a:xfrm>
            <a:off x="4643280" y="2143080"/>
            <a:ext cx="1643400" cy="1000080"/>
          </a:xfrm>
          <a:prstGeom prst="flowChartMagneticDrum">
            <a:avLst/>
          </a:prstGeom>
          <a:solidFill>
            <a:srgbClr val="ffcc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6"/>
          <p:cNvSpPr/>
          <p:nvPr/>
        </p:nvSpPr>
        <p:spPr>
          <a:xfrm>
            <a:off x="3857760" y="3286080"/>
            <a:ext cx="500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5"/>
          <p:cNvSpPr/>
          <p:nvPr/>
        </p:nvSpPr>
        <p:spPr>
          <a:xfrm>
            <a:off x="2643120" y="78588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теплообм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9"/>
          <p:cNvSpPr/>
          <p:nvPr/>
        </p:nvSpPr>
        <p:spPr>
          <a:xfrm>
            <a:off x="2161080" y="785880"/>
            <a:ext cx="568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пловое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6 -0.0007 L 0.1717 -0.0007 E">
                                      <p:cBhvr>
                                        <p:cTn id="16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21:39:51Z</dcterms:created>
  <dc:creator>Admin</dc:creator>
  <dc:description/>
  <dc:language>en-US</dc:language>
  <cp:lastModifiedBy>1</cp:lastModifiedBy>
  <dcterms:modified xsi:type="dcterms:W3CDTF">2013-03-05T17:48:51Z</dcterms:modified>
  <cp:revision>36</cp:revision>
  <dc:subject/>
  <dc:title>МЕТОДИЧЕСКАЯ РАЗРАБОТКА  урока физики</dc:title>
</cp:coreProperties>
</file>