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26A-F5D5-4890-B180-38C94455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4DD-DC99-42B3-9B5B-16743E55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551-E6BB-4808-848A-5DAD1847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049-3E12-4D35-A702-28CACFDD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B6B-E1B2-49B0-8A37-FA3D513A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373-AFFC-403A-8D07-7D350C08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6F3-26DF-4887-95BF-72E2D411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501-D59C-4E60-BCEC-69E89ACA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AA3-FCDE-49EC-A4CB-E3476A7A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F1E-90CF-4A1E-8BFE-87F91D3B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46C-47A6-41AF-98FF-95E3D199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517-30E8-4931-8DA0-7BE0651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F52E-A945-4794-B190-5FF6CFA9E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00040" y="785880"/>
            <a:ext cx="7643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пова  Светлана 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читель хи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кола: ГБОУ СОШ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мени Н.Г. Кузнецова № 14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ород 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Program Files (x86)\Microsoft Office\MEDIA\CAGCAT10\j0217698.wmf"/>
          <p:cNvPicPr/>
          <p:nvPr/>
        </p:nvPicPr>
        <p:blipFill>
          <a:blip r:embed="rId1"/>
          <a:stretch/>
        </p:blipFill>
        <p:spPr>
          <a:xfrm>
            <a:off x="214200" y="492912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Program Files (x86)\Microsoft Office\MEDIA\CAGCAT10\j0217698.wmf"/>
          <p:cNvPicPr/>
          <p:nvPr/>
        </p:nvPicPr>
        <p:blipFill>
          <a:blip r:embed="rId2"/>
          <a:stretch/>
        </p:blipFill>
        <p:spPr>
          <a:xfrm>
            <a:off x="7143840" y="2142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826920" y="1125360"/>
            <a:ext cx="7201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 И Д 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Х И М И Ч Е С К О 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С В Я З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5" name="Picture 5" descr="MC900433797[1]"/>
          <p:cNvPicPr/>
          <p:nvPr/>
        </p:nvPicPr>
        <p:blipFill>
          <a:blip r:embed="rId7"/>
          <a:stretch/>
        </p:blipFill>
        <p:spPr>
          <a:xfrm>
            <a:off x="214200" y="214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MC900433797[1]"/>
          <p:cNvPicPr/>
          <p:nvPr/>
        </p:nvPicPr>
        <p:blipFill>
          <a:blip r:embed="rId8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2085480" y="28584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ВИДЫ ХИМИЧЕСКОЙ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4"/>
          <p:cNvCxnSpPr/>
          <p:nvPr/>
        </p:nvCxnSpPr>
        <p:spPr>
          <a:xfrm flipH="1">
            <a:off x="1928520" y="856800"/>
            <a:ext cx="128664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Прямая со стрелкой 6"/>
          <p:cNvCxnSpPr>
            <a:endCxn id="50" idx="0"/>
          </p:cNvCxnSpPr>
          <p:nvPr/>
        </p:nvCxnSpPr>
        <p:spPr>
          <a:xfrm>
            <a:off x="4357800" y="856800"/>
            <a:ext cx="24192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8"/>
          <p:cNvCxnSpPr/>
          <p:nvPr/>
        </p:nvCxnSpPr>
        <p:spPr>
          <a:xfrm>
            <a:off x="5856840" y="856800"/>
            <a:ext cx="1143720" cy="207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xtBox 9"/>
          <p:cNvSpPr/>
          <p:nvPr/>
        </p:nvSpPr>
        <p:spPr>
          <a:xfrm>
            <a:off x="795960" y="3000240"/>
            <a:ext cx="26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ковален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3864600" y="300024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о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5728320" y="300024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металл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Прямая со стрелкой 13"/>
          <p:cNvCxnSpPr/>
          <p:nvPr/>
        </p:nvCxnSpPr>
        <p:spPr>
          <a:xfrm flipH="1">
            <a:off x="1356480" y="3643200"/>
            <a:ext cx="358200" cy="150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>
            <a:off x="2499120" y="3642840"/>
            <a:ext cx="42948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7"/>
          <p:cNvSpPr/>
          <p:nvPr/>
        </p:nvSpPr>
        <p:spPr>
          <a:xfrm>
            <a:off x="297360" y="5072040"/>
            <a:ext cx="20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непо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2437560" y="507204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о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900433797[1]"/>
          <p:cNvPicPr/>
          <p:nvPr/>
        </p:nvPicPr>
        <p:blipFill>
          <a:blip r:embed="rId1"/>
          <a:stretch/>
        </p:blipFill>
        <p:spPr>
          <a:xfrm>
            <a:off x="214200" y="21420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MC900433797[1]"/>
          <p:cNvPicPr/>
          <p:nvPr/>
        </p:nvPicPr>
        <p:blipFill>
          <a:blip r:embed="rId2"/>
          <a:stretch/>
        </p:blipFill>
        <p:spPr>
          <a:xfrm>
            <a:off x="7429680" y="5286240"/>
            <a:ext cx="14284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89880" y="357120"/>
            <a:ext cx="70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Металлическа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в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простых веществах-металл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078000" y="2500200"/>
            <a:ext cx="892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2500200" y="142884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gl381"/>
          <p:cNvPicPr/>
          <p:nvPr/>
        </p:nvPicPr>
        <p:blipFill>
          <a:blip r:embed="rId1"/>
          <a:stretch/>
        </p:blipFill>
        <p:spPr>
          <a:xfrm>
            <a:off x="4286160" y="2428920"/>
            <a:ext cx="417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1021320" y="285840"/>
            <a:ext cx="660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Ковалентная неполя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5"/>
          <p:cNvCxnSpPr/>
          <p:nvPr/>
        </p:nvCxnSpPr>
        <p:spPr>
          <a:xfrm flipH="1">
            <a:off x="4427280" y="1000080"/>
            <a:ext cx="216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xtBox 6"/>
          <p:cNvSpPr/>
          <p:nvPr/>
        </p:nvSpPr>
        <p:spPr>
          <a:xfrm>
            <a:off x="428760" y="2214720"/>
            <a:ext cx="82152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в п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росты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веществах – неметал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а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374400" y="285840"/>
            <a:ext cx="60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Ковалентная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поля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6"/>
          <p:cNvCxnSpPr/>
          <p:nvPr/>
        </p:nvCxnSpPr>
        <p:spPr>
          <a:xfrm>
            <a:off x="1071720" y="928800"/>
            <a:ext cx="23580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7"/>
          <p:cNvSpPr/>
          <p:nvPr/>
        </p:nvSpPr>
        <p:spPr>
          <a:xfrm>
            <a:off x="2000160" y="1571760"/>
            <a:ext cx="579924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в с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ложны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вещества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остоящи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из ат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разных неметал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С</a:t>
            </a: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SF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BO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1200600" y="189000"/>
            <a:ext cx="21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Ион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5"/>
          <p:cNvCxnSpPr/>
          <p:nvPr/>
        </p:nvCxnSpPr>
        <p:spPr>
          <a:xfrm>
            <a:off x="2050920" y="980640"/>
            <a:ext cx="209016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xtBox 6"/>
          <p:cNvSpPr/>
          <p:nvPr/>
        </p:nvSpPr>
        <p:spPr>
          <a:xfrm>
            <a:off x="1643040" y="1785960"/>
            <a:ext cx="61437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в с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ложны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вещества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остоящи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из ат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металлов и неметаллов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Na</a:t>
            </a:r>
            <a:r>
              <a:rPr b="1" i="1" lang="en-BZ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MgCl</a:t>
            </a:r>
            <a:r>
              <a:rPr b="1" i="1" lang="en-BZ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BaSO</a:t>
            </a:r>
            <a:r>
              <a:rPr b="1" i="1" lang="en-BZ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Li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749160" y="0"/>
            <a:ext cx="745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Определите вид химической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в каждом из данных соедин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511080" y="1071720"/>
            <a:ext cx="1688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(N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MC900433797[1]"/>
          <p:cNvPicPr/>
          <p:nvPr/>
        </p:nvPicPr>
        <p:blipFill>
          <a:blip r:embed="rId1"/>
          <a:stretch/>
        </p:blipFill>
        <p:spPr>
          <a:xfrm>
            <a:off x="30492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MC900433797[1]"/>
          <p:cNvPicPr/>
          <p:nvPr/>
        </p:nvPicPr>
        <p:blipFill>
          <a:blip r:embed="rId2"/>
          <a:stretch/>
        </p:blipFill>
        <p:spPr>
          <a:xfrm>
            <a:off x="6643800" y="1143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пов Николай Анатольевич</cp:lastModifiedBy>
  <dcterms:modified xsi:type="dcterms:W3CDTF">2013-03-09T13:16:59Z</dcterms:modified>
  <cp:revision>27</cp:revision>
  <dc:subject/>
  <dc:title>Слайд 1</dc:title>
</cp:coreProperties>
</file>