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C7C-0696-45DD-ADB2-D423596B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F51-DAC1-4D20-BD7E-26DDB931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035-80C7-4152-BE9D-3C5693EA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846-7E35-496D-A8BC-1318626E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D3D-7A6B-439E-B92D-FAA44546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BE4-795C-4B1A-AE3E-D38FDEFD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D19-75A4-468E-BA03-9C3671A7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CA43-3896-4C5B-B780-B3B46C07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1D7-952E-49D6-A051-E688F0CB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01E-192B-4A7D-B6C9-3747243D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0F0-4DD3-4E32-B6E9-46D0D159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260-D881-4F67-8DB8-753DD923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F0DF-15E1-46E7-8B96-9CCBF77EA7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00040" y="785880"/>
            <a:ext cx="7643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пова  Светлана 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читель хи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кола: ГБОУ СОШ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мени Н.Г. Кузнецова № 14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ород 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Program Files (x86)\Microsoft Office\MEDIA\CAGCAT10\j0217698.wmf"/>
          <p:cNvPicPr/>
          <p:nvPr/>
        </p:nvPicPr>
        <p:blipFill>
          <a:blip r:embed="rId1"/>
          <a:stretch/>
        </p:blipFill>
        <p:spPr>
          <a:xfrm>
            <a:off x="214200" y="4929120"/>
            <a:ext cx="1747800" cy="1693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Program Files (x86)\Microsoft Office\MEDIA\CAGCAT10\j0217698.wmf"/>
          <p:cNvPicPr/>
          <p:nvPr/>
        </p:nvPicPr>
        <p:blipFill>
          <a:blip r:embed="rId2"/>
          <a:stretch/>
        </p:blipFill>
        <p:spPr>
          <a:xfrm>
            <a:off x="7143840" y="2142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826920" y="1125360"/>
            <a:ext cx="7201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 И Д 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Х И М И Ч Е С К О 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С В Я З 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5" name="Picture 5" descr="MC900433797[1]"/>
          <p:cNvPicPr/>
          <p:nvPr/>
        </p:nvPicPr>
        <p:blipFill>
          <a:blip r:embed="rId7"/>
          <a:stretch/>
        </p:blipFill>
        <p:spPr>
          <a:xfrm>
            <a:off x="214200" y="214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MC900433797[1]"/>
          <p:cNvPicPr/>
          <p:nvPr/>
        </p:nvPicPr>
        <p:blipFill>
          <a:blip r:embed="rId8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2085480" y="285840"/>
            <a:ext cx="57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ВИДЫ ХИМИЧЕСКОЙ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Прямая со стрелкой 4"/>
          <p:cNvCxnSpPr/>
          <p:nvPr/>
        </p:nvCxnSpPr>
        <p:spPr>
          <a:xfrm flipH="1">
            <a:off x="1928520" y="856800"/>
            <a:ext cx="1286640" cy="21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Прямая со стрелкой 6"/>
          <p:cNvCxnSpPr>
            <a:endCxn id="50" idx="0"/>
          </p:cNvCxnSpPr>
          <p:nvPr/>
        </p:nvCxnSpPr>
        <p:spPr>
          <a:xfrm>
            <a:off x="4357800" y="856800"/>
            <a:ext cx="241920" cy="21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Прямая со стрелкой 8"/>
          <p:cNvCxnSpPr/>
          <p:nvPr/>
        </p:nvCxnSpPr>
        <p:spPr>
          <a:xfrm>
            <a:off x="5856840" y="856800"/>
            <a:ext cx="1143720" cy="207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xtBox 9"/>
          <p:cNvSpPr/>
          <p:nvPr/>
        </p:nvSpPr>
        <p:spPr>
          <a:xfrm>
            <a:off x="795960" y="3000240"/>
            <a:ext cx="26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ковален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3864600" y="300024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о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5728320" y="300024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металл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Прямая со стрелкой 13"/>
          <p:cNvCxnSpPr/>
          <p:nvPr/>
        </p:nvCxnSpPr>
        <p:spPr>
          <a:xfrm flipH="1">
            <a:off x="1356480" y="3643200"/>
            <a:ext cx="358200" cy="1501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>
            <a:off x="2499120" y="3642840"/>
            <a:ext cx="42948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7"/>
          <p:cNvSpPr/>
          <p:nvPr/>
        </p:nvSpPr>
        <p:spPr>
          <a:xfrm>
            <a:off x="297360" y="5072040"/>
            <a:ext cx="20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непо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2437560" y="507204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по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C900433797[1]"/>
          <p:cNvPicPr/>
          <p:nvPr/>
        </p:nvPicPr>
        <p:blipFill>
          <a:blip r:embed="rId1"/>
          <a:stretch/>
        </p:blipFill>
        <p:spPr>
          <a:xfrm>
            <a:off x="214200" y="21420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MC900433797[1]"/>
          <p:cNvPicPr/>
          <p:nvPr/>
        </p:nvPicPr>
        <p:blipFill>
          <a:blip r:embed="rId2"/>
          <a:stretch/>
        </p:blipFill>
        <p:spPr>
          <a:xfrm>
            <a:off x="7429680" y="5286240"/>
            <a:ext cx="14284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389880" y="357120"/>
            <a:ext cx="70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Металлическа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в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простых веществах-металл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3078000" y="2500200"/>
            <a:ext cx="892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2500200" y="1428840"/>
            <a:ext cx="863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gl381"/>
          <p:cNvPicPr/>
          <p:nvPr/>
        </p:nvPicPr>
        <p:blipFill>
          <a:blip r:embed="rId1"/>
          <a:stretch/>
        </p:blipFill>
        <p:spPr>
          <a:xfrm>
            <a:off x="4286160" y="2428920"/>
            <a:ext cx="4176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21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1021320" y="285840"/>
            <a:ext cx="660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Ковалентная неполя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5"/>
          <p:cNvCxnSpPr/>
          <p:nvPr/>
        </p:nvCxnSpPr>
        <p:spPr>
          <a:xfrm flipH="1">
            <a:off x="4427280" y="1000080"/>
            <a:ext cx="2160" cy="121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xtBox 6"/>
          <p:cNvSpPr/>
          <p:nvPr/>
        </p:nvSpPr>
        <p:spPr>
          <a:xfrm>
            <a:off x="428760" y="2214720"/>
            <a:ext cx="82152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в п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росты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х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веществах – неметал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ах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i="1" lang="en-BZ" sz="20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i="1" lang="en-BZ" sz="20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4"/>
          <p:cNvSpPr/>
          <p:nvPr/>
        </p:nvSpPr>
        <p:spPr>
          <a:xfrm>
            <a:off x="374400" y="285840"/>
            <a:ext cx="60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Ковалентная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поля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6"/>
          <p:cNvCxnSpPr/>
          <p:nvPr/>
        </p:nvCxnSpPr>
        <p:spPr>
          <a:xfrm>
            <a:off x="1071720" y="928800"/>
            <a:ext cx="23580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TextBox 7"/>
          <p:cNvSpPr/>
          <p:nvPr/>
        </p:nvSpPr>
        <p:spPr>
          <a:xfrm>
            <a:off x="2000160" y="1571760"/>
            <a:ext cx="579924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в с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ложны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х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вещества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х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остоящи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х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из ато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разных неметалл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НС</a:t>
            </a: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1" i="1" lang="en-BZ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i="1" lang="en-BZ" sz="20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SF</a:t>
            </a:r>
            <a:r>
              <a:rPr b="1" i="1" lang="en-BZ" sz="20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1" i="1" lang="en-BZ" sz="2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i="1" lang="en-BZ" sz="4000" spc="-1" strike="noStrike">
                <a:solidFill>
                  <a:srgbClr val="ff0000"/>
                </a:solidFill>
                <a:latin typeface="Calibri"/>
              </a:rPr>
              <a:t>BO</a:t>
            </a:r>
            <a:r>
              <a:rPr b="1" i="1" lang="en-BZ" sz="20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1200600" y="189000"/>
            <a:ext cx="21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Ион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Прямая со стрелкой 5"/>
          <p:cNvCxnSpPr/>
          <p:nvPr/>
        </p:nvCxnSpPr>
        <p:spPr>
          <a:xfrm>
            <a:off x="2050920" y="980640"/>
            <a:ext cx="209016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xtBox 6"/>
          <p:cNvSpPr/>
          <p:nvPr/>
        </p:nvSpPr>
        <p:spPr>
          <a:xfrm>
            <a:off x="1643040" y="1785960"/>
            <a:ext cx="61437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в с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ложны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х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вещества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х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остоящи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х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из ато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металлов и неметаллов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3600" spc="-1" strike="noStrike">
                <a:solidFill>
                  <a:srgbClr val="ff0000"/>
                </a:solidFill>
                <a:latin typeface="Calibri"/>
              </a:rPr>
              <a:t>Na</a:t>
            </a:r>
            <a:r>
              <a:rPr b="1" i="1" lang="en-BZ" sz="1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i="1" lang="en-BZ" sz="36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3600" spc="-1" strike="noStrike">
                <a:solidFill>
                  <a:srgbClr val="ff0000"/>
                </a:solidFill>
                <a:latin typeface="Calibri"/>
              </a:rPr>
              <a:t>K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3600" spc="-1" strike="noStrike">
                <a:solidFill>
                  <a:srgbClr val="ff0000"/>
                </a:solidFill>
                <a:latin typeface="Calibri"/>
              </a:rPr>
              <a:t>MgCl</a:t>
            </a:r>
            <a:r>
              <a:rPr b="1" i="1" lang="en-BZ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3600" spc="-1" strike="noStrike">
                <a:solidFill>
                  <a:srgbClr val="ff0000"/>
                </a:solidFill>
                <a:latin typeface="Calibri"/>
              </a:rPr>
              <a:t>BaSO</a:t>
            </a:r>
            <a:r>
              <a:rPr b="1" i="1" lang="en-BZ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3600" spc="-1" strike="noStrike">
                <a:solidFill>
                  <a:srgbClr val="ff0000"/>
                </a:solidFill>
                <a:latin typeface="Calibri"/>
              </a:rPr>
              <a:t>LiB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749160" y="0"/>
            <a:ext cx="745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Определите вид химической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в каждом из данных соедин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3511080" y="1071720"/>
            <a:ext cx="1688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(N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MC900433797[1]"/>
          <p:cNvPicPr/>
          <p:nvPr/>
        </p:nvPicPr>
        <p:blipFill>
          <a:blip r:embed="rId1"/>
          <a:stretch/>
        </p:blipFill>
        <p:spPr>
          <a:xfrm>
            <a:off x="304920" y="441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MC900433797[1]"/>
          <p:cNvPicPr/>
          <p:nvPr/>
        </p:nvPicPr>
        <p:blipFill>
          <a:blip r:embed="rId2"/>
          <a:stretch/>
        </p:blipFill>
        <p:spPr>
          <a:xfrm>
            <a:off x="6643800" y="1143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пов Николай Анатольевич</cp:lastModifiedBy>
  <dcterms:modified xsi:type="dcterms:W3CDTF">2013-03-09T13:16:59Z</dcterms:modified>
  <cp:revision>27</cp:revision>
  <dc:subject/>
  <dc:title>Слайд 1</dc:title>
</cp:coreProperties>
</file>