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4D7-BA72-4763-8FAB-1E32A211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076-2052-4E62-BFA8-DB7B60D7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F91-A6A8-4A5C-9287-14591B89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1DD-DEDD-47DC-94AE-5746D396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CC9-17DE-436E-8971-237F4FC2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FF8-2CFA-4A2C-B0A1-6C34579B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4DC-337D-45C2-9EE1-941C19CF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DD5-7082-43BF-93CE-9F21EBB8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F75-4E0E-47BD-B1CB-DBCD18E0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650-26CC-4D1E-AAB9-6738BD18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F5F-E224-4C0D-8EBA-2AFD4473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B03-9452-4C5B-85F2-95E0302D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1112-828D-4037-A5E1-37142FF08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00040" y="785880"/>
            <a:ext cx="7643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Попова  Светлана 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Учитель хи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Школа: ГБОУ СОШ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имени Н.Г. Кузнецова № 14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Город 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Program Files (x86)\Microsoft Office\MEDIA\CAGCAT10\j0217698.wmf"/>
          <p:cNvPicPr/>
          <p:nvPr/>
        </p:nvPicPr>
        <p:blipFill>
          <a:blip r:embed="rId1"/>
          <a:stretch/>
        </p:blipFill>
        <p:spPr>
          <a:xfrm>
            <a:off x="214200" y="492912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Program Files (x86)\Microsoft Office\MEDIA\CAGCAT10\j0217698.wmf"/>
          <p:cNvPicPr/>
          <p:nvPr/>
        </p:nvPicPr>
        <p:blipFill>
          <a:blip r:embed="rId2"/>
          <a:stretch/>
        </p:blipFill>
        <p:spPr>
          <a:xfrm>
            <a:off x="7143840" y="2142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Гидроксид железа(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Гидроксид це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Гидроксид свинца(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ll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Гидроксид алюм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59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Нитриде на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Фториде вод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Оксиде серы(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lV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Карбонате к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10560" y="836640"/>
            <a:ext cx="28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60093"/>
                </a:solidFill>
                <a:uFillTx/>
                <a:latin typeface="Arial"/>
              </a:rPr>
              <a:t>Щелочь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695840" y="83664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60093"/>
                </a:solidFill>
                <a:uFillTx/>
                <a:latin typeface="Arial"/>
              </a:rPr>
              <a:t>Водородная связь 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4"/>
          <p:cNvSpPr/>
          <p:nvPr/>
        </p:nvSpPr>
        <p:spPr>
          <a:xfrm>
            <a:off x="357120" y="214200"/>
            <a:ext cx="8501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акие вещества Х и У пропущены в цепочке превращен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85840" y="250020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Железо-----Х-----гидроксид железа(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)----У-----нитрат железа (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l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42960" y="385776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Х – хлорид железа 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У –оксид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Х-  хлорид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У-  оксид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Х-    оксид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У- хлорид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Х-  сульфат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У- оксид железа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lll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radley Hand ITC"/>
              </a:rPr>
              <a:t>Найти кислотные оксид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ц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б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алюм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хлора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на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берил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ambria"/>
              </a:rPr>
              <a:t>Оксид сер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285840" y="21420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Какая из реакций осуществляется с наибольшей скорость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28760" y="164304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Гранулы цинка и 10%-ный раствор соляной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орошок цинка и 30%-ный раствор соляной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0%-ный раствор соляной кислот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%-ный раствор гидроксида на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30%-ный раствор соляной кислоты и стружки маг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Agency FB"/>
              </a:rPr>
              <a:t>Какому веществу подходят характеристики: белого цвета, твердое, электролит, с ионной решеткой, реагирует с  растворимыми сол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Arial"/>
              </a:rPr>
              <a:t>Гидроксид меди(</a:t>
            </a: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Arial"/>
              </a:rPr>
              <a:t>Серная кис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Arial"/>
              </a:rPr>
              <a:t>Хлорид ка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cc"/>
                </a:solidFill>
                <a:latin typeface="Arial"/>
              </a:rPr>
              <a:t>Сульфат ба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Blackadder ITC"/>
              </a:rPr>
              <a:t>В каком утверждении есть ошиб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lackadder ITC"/>
              </a:rPr>
              <a:t>Соли – сложные соединения, имеющие твердое агрегатное состояние, многие из которых способны гидролизоваться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lackadder ITC"/>
              </a:rPr>
              <a:t>Соли – сложные соединения, имеющие твердое агрегатное состояние, многие из них растворимые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lackadder ITC"/>
              </a:rPr>
              <a:t>Соли – сложные соединения, имеющие твердое агрегатное состояние, являющиеся все сильными электроли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lackadder ITC"/>
              </a:rPr>
              <a:t>Соли – сложные соединения, имеющие твердое агрегатное состояние, среди которых есть сильные электрол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500"/>
                            </p:stCondLst>
                            <p:childTnLst>
                              <p:par>
                                <p:cTn id="3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айдите  две соли, которые не подвергаются гидролиз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200" y="20718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Карбонат на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Нитрат к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Хлорид алюм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Сульфат меди(</a:t>
            </a:r>
            <a:r>
              <a:rPr b="1" i="1" lang="en-US" sz="3200" spc="-1" strike="noStrike">
                <a:solidFill>
                  <a:srgbClr val="d60093"/>
                </a:solidFill>
                <a:latin typeface="Agency FB"/>
              </a:rPr>
              <a:t>ll</a:t>
            </a: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3280" y="200016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Хлорид ц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Сульфат алюм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Хлорид б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gency FB"/>
              </a:rPr>
              <a:t>Сульфит на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2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1456200" y="2928960"/>
            <a:ext cx="625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  <a:ea typeface="Times New Roman"/>
              </a:rPr>
              <a:t>Химическая зага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242892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6357960" y="4000680"/>
            <a:ext cx="242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тветьте на вопросы и из первых букв соберите название распространенного минерала в земной коре, куда входит алюми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Синтетическое моющее средство для в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Драгоценный белый металл, который называют «королева роскош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Элемент-неметалл, имеющий пять валент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Серебристо-белый легкий металл, используемый как и алюминий для получения легких сп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0_364f_e8f9a5a0_XL"/>
          <p:cNvPicPr/>
          <p:nvPr/>
        </p:nvPicPr>
        <p:blipFill>
          <a:blip r:embed="rId1"/>
          <a:stretch/>
        </p:blipFill>
        <p:spPr>
          <a:xfrm>
            <a:off x="4859280" y="4581360"/>
            <a:ext cx="3522600" cy="208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http://www.electric-lady-land.com/003.%20Fluorite-WL.jpg"/>
          <p:cNvPicPr/>
          <p:nvPr/>
        </p:nvPicPr>
        <p:blipFill>
          <a:blip r:embed="rId2"/>
          <a:stretch/>
        </p:blipFill>
        <p:spPr>
          <a:xfrm>
            <a:off x="357120" y="4643280"/>
            <a:ext cx="356724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1332000" y="476280"/>
            <a:ext cx="640872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Ш П А Т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08" name="Picture 5" descr="http://cs10204.vkontakte.ru/u48877108/133441035/y_cf474904.jpg"/>
          <p:cNvPicPr/>
          <p:nvPr/>
        </p:nvPicPr>
        <p:blipFill>
          <a:blip r:embed="rId1"/>
          <a:stretch/>
        </p:blipFill>
        <p:spPr>
          <a:xfrm>
            <a:off x="1357200" y="2500200"/>
            <a:ext cx="6210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Documents and Settings\Admin\Local Settings\Temporary Internet Files\Content.IE5\V5WW6N9V\MC900397074[1].wmf"/>
          <p:cNvPicPr/>
          <p:nvPr/>
        </p:nvPicPr>
        <p:blipFill>
          <a:blip r:embed="rId1"/>
          <a:stretch/>
        </p:blipFill>
        <p:spPr>
          <a:xfrm>
            <a:off x="250920" y="404640"/>
            <a:ext cx="866520" cy="858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Admin\Local Settings\Temporary Internet Files\Content.IE5\V5WW6N9V\MC900397074[1].wmf"/>
          <p:cNvPicPr/>
          <p:nvPr/>
        </p:nvPicPr>
        <p:blipFill>
          <a:blip r:embed="rId2"/>
          <a:stretch/>
        </p:blipFill>
        <p:spPr>
          <a:xfrm>
            <a:off x="8028000" y="5732640"/>
            <a:ext cx="866880" cy="8586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6" descr=""/>
          <p:cNvPicPr/>
          <p:nvPr/>
        </p:nvPicPr>
        <p:blipFill>
          <a:blip r:embed="rId3"/>
          <a:stretch/>
        </p:blipFill>
        <p:spPr>
          <a:xfrm>
            <a:off x="195120" y="1481040"/>
            <a:ext cx="87901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85840" y="271476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u.depositphotos.com/4610285/stock-photo-3d-character-with-question-ma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525600" y="1714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ылки на источники изобра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87520" y="2286000"/>
            <a:ext cx="45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жение вопросительного зна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357120" y="3857760"/>
            <a:ext cx="821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/yandsearch?p=1&amp;text=%D0%BC%D0%B8%D0%BD%D0%B5%D1%80%D0%B0%D0%BB%20%D1%88%D0%BF%D0%B0%D1%82&amp;pos=43&amp;rpt=simage&amp;img_url=http%3A%2F%2Faghosta.free.fr%2Fami%2Ftpe%2Ftpe%2Fimages%2Froches%2Ffluorit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652320" y="342900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жения шп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0040" y="5000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ылк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на источники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чебник для общеобразовательных учреждений 8 и 9 класс  - Г.Е. Рудзитис, Ф.Г.Фельд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3488040" y="189000"/>
            <a:ext cx="172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39640" y="765000"/>
            <a:ext cx="7920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МА: «Закрепление, совершенствование, обобщение знаний и подготовка к ЕГЭ по темам курса неорганической хим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иды химической связи и типы кристаллических реш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. Классы неорганических веществ и их химически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Генетическая связь между классами не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Скорость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. Гидролиз с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\Local Settings\Temporary Internet Files\Content.IE5\V5WW6N9V\MC900397074[1].wmf"/>
          <p:cNvPicPr/>
          <p:nvPr/>
        </p:nvPicPr>
        <p:blipFill>
          <a:blip r:embed="rId1"/>
          <a:stretch/>
        </p:blipFill>
        <p:spPr>
          <a:xfrm>
            <a:off x="250920" y="189000"/>
            <a:ext cx="677880" cy="59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Documents and Settings\Admin\Local Settings\Temporary Internet Files\Content.IE5\V5WW6N9V\MC900397074[1].wmf"/>
          <p:cNvPicPr/>
          <p:nvPr/>
        </p:nvPicPr>
        <p:blipFill>
          <a:blip r:embed="rId2"/>
          <a:stretch/>
        </p:blipFill>
        <p:spPr>
          <a:xfrm>
            <a:off x="7885080" y="5805360"/>
            <a:ext cx="8668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1700280" y="1557360"/>
            <a:ext cx="198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  <a:ea typeface="Times New Roman"/>
              </a:rPr>
              <a:t>маг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140280" y="256536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38560" y="3500280"/>
            <a:ext cx="12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аз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158440" y="4365720"/>
            <a:ext cx="23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крем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560520" y="476280"/>
            <a:ext cx="81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Наиболее электроотрицательный элеме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50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50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11280" y="189000"/>
            <a:ext cx="731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Многоэлементны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еществом буд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74120" y="1916280"/>
            <a:ext cx="147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з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491920" y="2708280"/>
            <a:ext cx="12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129560" y="3716280"/>
            <a:ext cx="26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од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940360" y="4941720"/>
            <a:ext cx="250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фосф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592200" y="189000"/>
            <a:ext cx="819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овалентная полярная связ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рисутствует в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27240" y="1844640"/>
            <a:ext cx="41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Бромиде на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353600" y="2924280"/>
            <a:ext cx="38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Нитрате ка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127600" y="4292640"/>
            <a:ext cx="44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Хлориде фос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078880" y="5367240"/>
            <a:ext cx="37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Нитриде ба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395280" y="404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Атомную</a:t>
            </a: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решетку</a:t>
            </a: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бразует вещество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50440" y="22050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нат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702080" y="3284640"/>
            <a:ext cx="26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кремнез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2934360" y="436572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поваренная с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4589640" y="5516640"/>
            <a:ext cx="41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соляная кис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525240" y="1500120"/>
            <a:ext cx="366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Оксид к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593000" y="2643120"/>
            <a:ext cx="36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Оксид ц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666880" y="3571920"/>
            <a:ext cx="454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Оксид серы (</a:t>
            </a:r>
            <a:r>
              <a:rPr b="1" i="1" lang="en-BZ" sz="4400" spc="-1" strike="noStrike">
                <a:solidFill>
                  <a:srgbClr val="222268"/>
                </a:solidFill>
                <a:latin typeface="Arial"/>
              </a:rPr>
              <a:t>lV</a:t>
            </a: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811680" y="4572000"/>
            <a:ext cx="430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Оксид меди (</a:t>
            </a:r>
            <a:r>
              <a:rPr b="1" i="1" lang="en-BZ" sz="4400" spc="-1" strike="noStrike">
                <a:solidFill>
                  <a:srgbClr val="222268"/>
                </a:solidFill>
                <a:latin typeface="Arial"/>
              </a:rPr>
              <a:t>ll</a:t>
            </a: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28800" y="21420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Arial"/>
                <a:ea typeface="Times New Roman"/>
              </a:rPr>
              <a:t>Амфотерный</a:t>
            </a: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d60093"/>
                </a:solidFill>
                <a:latin typeface="Arial"/>
                <a:ea typeface="Times New Roman"/>
              </a:rPr>
              <a:t>оксид это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8"/>
          <p:cNvSpPr/>
          <p:nvPr/>
        </p:nvSpPr>
        <p:spPr>
          <a:xfrm>
            <a:off x="357120" y="404640"/>
            <a:ext cx="857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ещество, которое не</a:t>
            </a:r>
            <a:r>
              <a:rPr b="1" i="1" lang="en-US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ступает в реакцию</a:t>
            </a:r>
            <a:r>
              <a:rPr b="1" i="1" lang="en-US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 серной кислото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43160" y="2714760"/>
            <a:ext cx="487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оксид алюми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940040" y="3571920"/>
            <a:ext cx="330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оксид б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2723760" y="4572000"/>
            <a:ext cx="213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натр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3520440" y="5572080"/>
            <a:ext cx="44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карбонат к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7:50:35Z</dcterms:created>
  <dc:creator>Гершановская</dc:creator>
  <dc:description/>
  <dc:language>en-US</dc:language>
  <cp:lastModifiedBy>Попов Николай Анатольевич</cp:lastModifiedBy>
  <dcterms:modified xsi:type="dcterms:W3CDTF">2013-03-09T13:05:53Z</dcterms:modified>
  <cp:revision>30</cp:revision>
  <dc:subject/>
  <dc:title>Слайд 1</dc:title>
</cp:coreProperties>
</file>