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explode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972-77C9-443F-9394-340E391C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406-3D34-4767-8B36-3EB7CE16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691-F531-41F6-8FC2-019E24D6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61F-C97B-4F6D-883E-F661C2B2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BC1-B232-415C-8F5C-B6AC5264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9CE-33F7-492D-A015-CAEE525D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5BA-D0B8-4AE9-B11A-0C05F9B8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A53-F58A-46DD-9DDD-432EE94C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659-AE00-4B47-BA80-3AF55173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BDE-CD42-4B6C-AC8B-243EFCD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033-BE84-491B-8131-4A972509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548-F9BE-413D-8AA1-E570E74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416D-A31F-48F4-803D-A6178CBCBD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4760" y="476280"/>
            <a:ext cx="5829120" cy="13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лександр Иванович Покрышк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1928880"/>
            <a:ext cx="4800600" cy="68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Documents and Settings\Димка\Рабочий стол\Покрышкин.jpg"/>
          <p:cNvPicPr/>
          <p:nvPr/>
        </p:nvPicPr>
        <p:blipFill>
          <a:blip r:embed="rId2"/>
          <a:stretch/>
        </p:blipFill>
        <p:spPr>
          <a:xfrm>
            <a:off x="1000080" y="2071800"/>
            <a:ext cx="485784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нский авиационный пол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Димка\Рабочий стол\Женский авиационный полк.jpg"/>
          <p:cNvPicPr/>
          <p:nvPr/>
        </p:nvPicPr>
        <p:blipFill>
          <a:blip r:embed="rId3"/>
          <a:stretch/>
        </p:blipFill>
        <p:spPr>
          <a:xfrm>
            <a:off x="155520" y="2071800"/>
            <a:ext cx="64692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7:40:52Z</dcterms:created>
  <dc:creator>Дима</dc:creator>
  <dc:description/>
  <dc:language>en-US</dc:language>
  <cp:lastModifiedBy>Дима</cp:lastModifiedBy>
  <dcterms:modified xsi:type="dcterms:W3CDTF">2011-08-14T07:52:44Z</dcterms:modified>
  <cp:revision>2</cp:revision>
  <dc:subject/>
  <dc:title>Александр Иванович Покрышкин</dc:title>
</cp:coreProperties>
</file>