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explod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03D-261D-4188-A149-FCE0963B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E1E-817C-42D3-8641-D6351956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C75-3DBE-4FFC-9946-E75673A2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2DF-9752-4C3B-97F0-867D3858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410-CD45-4C36-9D5F-8B1E90EC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DFB-C1ED-493A-9C90-0264DE57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B11-849D-4C57-A057-393AF59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703-B9F2-443C-9300-6C0ACA52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B86-E6A8-4BC3-9061-35A81F1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9D2-7771-405D-9713-C461E44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11A-0B26-45A4-B42F-B301916C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76B-D4A5-4014-A21B-E6FBA93C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C14-69ED-4295-A545-D051C502C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4760" y="476280"/>
            <a:ext cx="582912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ександр Иванович Покрыш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1928880"/>
            <a:ext cx="4800600" cy="68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Димка\Рабочий стол\Покрышкин.jpg"/>
          <p:cNvPicPr/>
          <p:nvPr/>
        </p:nvPicPr>
        <p:blipFill>
          <a:blip r:embed="rId2"/>
          <a:stretch/>
        </p:blipFill>
        <p:spPr>
          <a:xfrm>
            <a:off x="1000080" y="2071800"/>
            <a:ext cx="485784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нский авиационный пол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Димка\Рабочий стол\Женский авиационный полк.jpg"/>
          <p:cNvPicPr/>
          <p:nvPr/>
        </p:nvPicPr>
        <p:blipFill>
          <a:blip r:embed="rId3"/>
          <a:stretch/>
        </p:blipFill>
        <p:spPr>
          <a:xfrm>
            <a:off x="155520" y="2071800"/>
            <a:ext cx="64692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7:40:52Z</dcterms:created>
  <dc:creator>Дима</dc:creator>
  <dc:description/>
  <dc:language>en-US</dc:language>
  <cp:lastModifiedBy>Дима</cp:lastModifiedBy>
  <dcterms:modified xsi:type="dcterms:W3CDTF">2011-08-14T07:52:44Z</dcterms:modified>
  <cp:revision>2</cp:revision>
  <dc:subject/>
  <dc:title>Александр Иванович Покрышкин</dc:title>
</cp:coreProperties>
</file>