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9E1-61BE-41D1-A962-DEECB526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F4B-55C5-45A4-B0DB-67068540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F94-289F-4E1F-B245-BBB9B19D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23C-E63D-4EC0-B680-760E6884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00D5-EE48-47DA-A1B5-9968A154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FD7E-2F65-4AB4-8AA2-8A2F0C91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70DF-DED9-4A6E-B3C5-22D2CFB2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3875-C59D-42C3-B957-5F5ECA9D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ED52-009C-44B6-BF85-E201C75D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DE40-EF87-4FD9-B5BE-1806ABF2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1737-CF81-4A15-92C0-D10437BD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551-9856-4BDB-97C1-0C8B478D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33F4-F3B5-45D0-A3A8-263D7910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B677-639B-4030-85B3-08FFB718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7D91-8F34-43C3-9514-EF271425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AC67-68AC-49A7-9A9D-B2A2603E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3230-D53D-40D6-975C-D610AC68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21E6C-2DDF-4307-84BC-04DFF175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CD46F-7352-4DC0-9F68-F7917ABB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4BF2D-9B6F-4263-8147-2741BE20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B3DB9-77BB-4E7E-B54C-8F499A9D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CD45A-D0AF-4EA6-8312-AE83AE73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840-E882-47EE-95A0-DDA3416C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4BF36-04DC-4D8C-BD14-915F43C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D41AC-94F1-42D2-A722-1103678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03E19-11D7-4DAA-AADE-EFC883F7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D789A-40AB-45D9-87D8-0A9B4714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2E434-7EB0-4127-8D51-291DDC60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77A55-A60B-4771-8894-DB023384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94E7C-5CC5-49DE-978C-AA08D7D3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3A0E2-3CD6-446E-A44C-B3FE9343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3C65-0136-4101-A093-8C1CE33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67560-6E65-4088-BFE7-6D9642D7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590-78E9-4DC1-A1D4-065ADD1C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BB88A-108C-4D80-83C8-80ED0B9D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4368F-B951-4993-883E-3EC33581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10A7D-822A-44A8-B8C3-AFD9D644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ECB53-96FF-46B0-85A7-5AA4005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2BEC-6C26-4F52-8265-40E65E33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5B8C6-F5A1-419A-A8A1-C6FD4115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DA25-40D7-46FF-8567-0A3FF73A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5B1D2-5F32-4EBB-9207-0DF24883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4A2A-A699-4ED5-8109-C8A46A17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035DC-3756-4796-AF66-D2D726C2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F50-69A4-4A83-A133-EFE6B68D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AA6BD-4597-4A80-B6DB-2CE815D4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B4314-B389-420F-88B4-3497563F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BFFF5-EA58-47C0-8E31-280528F5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DF1B-F09A-40B5-86E0-9847C87C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5321D-6B33-4EEA-9C76-40E35D1D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15A02-2F1F-4A97-A9A2-F849624D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C512F-95B6-4D71-91E5-6525E28F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08964-1B84-494D-A0A9-014AB01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865A-5884-47CE-8616-FD0F3CB8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45230-C68D-4B8A-8BAE-54FF6649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B6E-746C-4E43-951C-5B3623CF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24BF7-A00E-419A-9813-A4392358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88124-AE76-4283-A7E4-92711A49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4A0C0-48C2-4F64-B833-930F732C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277D9-2BDB-412C-8769-57E55E93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CC467-E8E5-4A1E-865C-3DE2580C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2077-B973-4858-A08F-0463179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D1946-A95D-45EB-B6F0-FFCBEC80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B11B2-9482-4213-86BF-81F818F5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54263-57DB-47EE-9DC0-6D8FEE3C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CEAAF-1D94-495C-8F98-C3608F2C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EE7-E99A-4444-BF8E-1CC0970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73760-81FA-4CCB-AAFB-AC9A3EB5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F9FD8-EC2A-49BE-8FDE-FC405713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B0A8A-F001-44A8-A4EF-F09D0A18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825-603E-4B16-9F79-E3495085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DB0-080E-45FD-AC69-2511077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89A5-CEC0-41B3-95D4-FEF204FCDD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D754-78CA-4738-A0B5-B88D8253E6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FE35-52B2-44DF-BF49-D91237EA235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2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604B-5563-4411-8120-35DEEB9ADB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CCB0-40EB-4551-8A5E-9662E0B051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8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55DA-2E76-4E27-B01C-6627341D78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klopp.ru/uploads/posts/2008-04/thumbs/1208443666_orange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daler.ru/pictures/food/fruits/pxsp6skn456zku6ocrg3yhinec8t464n_1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7" descr="0_22dcb_2a2146ce_L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0_22dcb_2a2146ce_L"/>
          <p:cNvPicPr/>
          <p:nvPr/>
        </p:nvPicPr>
        <p:blipFill>
          <a:blip r:embed="rId2"/>
          <a:stretch/>
        </p:blipFill>
        <p:spPr>
          <a:xfrm>
            <a:off x="0" y="0"/>
            <a:ext cx="462276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Georgia"/>
              </a:rPr>
              <a:t>АПЕЛЬСИНОВЫЙ 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Georgia"/>
              </a:rPr>
              <a:t>СОК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759440" y="5942160"/>
            <a:ext cx="138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b2b2"/>
                </a:solidFill>
                <a:latin typeface="Arial"/>
              </a:rPr>
              <a:t>Биличенко </a:t>
            </a:r>
            <a:br>
              <a:rPr sz="1800"/>
            </a:br>
            <a:r>
              <a:rPr b="0" lang="ru-RU" sz="1800" spc="-1" strike="noStrike">
                <a:solidFill>
                  <a:srgbClr val="b2b2b2"/>
                </a:solidFill>
                <a:latin typeface="Arial"/>
              </a:rPr>
              <a:t>Антон</a:t>
            </a:r>
            <a:br>
              <a:rPr sz="1800"/>
            </a:br>
            <a:r>
              <a:rPr b="0" lang="ru-RU" sz="1800" spc="-1" strike="noStrike">
                <a:solidFill>
                  <a:srgbClr val="b2b2b2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ПЕЛЬСИНОВЫЙ СО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ьмём образец сока, масса которого 1 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го объём будет равен 0.001008 кубических м. (7см*7см*24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го плотность = 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,001008 = 99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Картинка 1 из 37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187488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оздействие на организ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са организма возрастает (зависит от количества выпитого со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вление в желудочной полости возраст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с тела возраст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рость кровотока не измен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 ЦНС не измен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9" descr="Картинка 6 из 33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войства составляющих компонентов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яется достаточно большое количество эне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ивизируется работа желудка и пищеварительной системы в ц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8" descr="Картинка 1 из 3331"/>
          <p:cNvPicPr/>
          <p:nvPr/>
        </p:nvPicPr>
        <p:blipFill>
          <a:blip r:embed="rId2"/>
          <a:stretch/>
        </p:blipFill>
        <p:spPr>
          <a:xfrm>
            <a:off x="5332320" y="1773360"/>
            <a:ext cx="2833920" cy="40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ХИМИЧЕСКИЙ СОСТА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%-й апельсиновый сок, пастеризова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1 литр использовано 3 кг апельсинов 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сновное сырье - апельси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8" descr="0_22781_7972257f_L"/>
          <p:cNvPicPr/>
          <p:nvPr/>
        </p:nvPicPr>
        <p:blipFill>
          <a:blip r:embed="rId2"/>
          <a:stretch/>
        </p:blipFill>
        <p:spPr>
          <a:xfrm>
            <a:off x="4648320" y="1698480"/>
            <a:ext cx="4038480" cy="433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Биологическая це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100 г сока приходится 45 килокалорий, 11,2 г углеводов, 0,1 г жиров, около 0,1 г натрия, 0,6 г протеи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ители, консерванты, ароматизаторы отсутству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7" descr="0_22dcb_2a2146ce_L"/>
          <p:cNvPicPr/>
          <p:nvPr/>
        </p:nvPicPr>
        <p:blipFill>
          <a:blip r:embed="rId2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0:58:03Z</dcterms:created>
  <dc:creator>007</dc:creator>
  <dc:description/>
  <dc:language>en-US</dc:language>
  <cp:lastModifiedBy>Вика</cp:lastModifiedBy>
  <dcterms:modified xsi:type="dcterms:W3CDTF">2009-04-05T09:44:27Z</dcterms:modified>
  <cp:revision>6</cp:revision>
  <dc:subject/>
  <dc:title>СОК</dc:title>
</cp:coreProperties>
</file>