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FC3-EACA-4DC3-AC58-EBE26467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BFC-45C0-4F25-B394-1931C39B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E95-FDC4-4377-A557-CCAA4C9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6EF-69BE-4226-9D47-9DB22371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C255-F3F5-4921-B84E-A15DAEB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CC0-68DF-4AD1-8EE2-A951F43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BAA4-DC00-4AE3-A369-BC716FE4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BE9-1AF6-4ABF-8879-6C4082D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CEFD-655B-4564-8AD7-9700B5C6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6AAC-91CE-47DD-A179-68FDBBC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E096-33DF-45E7-8FB9-ED8A869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C1B-7E4E-4648-84B5-1AEE31A1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975E-10B1-44B7-8DC3-54F5FD1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5E13-1BAA-4DDC-AEA7-74D3EBD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E18-471C-450E-8B66-7EC6486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F90E-F93C-41AF-8895-549B5D6E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4610-C23D-4C7C-B38F-3AAE05D3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77D90-A5EE-455C-9C2A-BF132CAB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EBA5D-2E25-4CCF-AE2B-D2EFE996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300FC-E533-408B-8F62-A123E63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BDA3F-9863-4B4A-8E88-23877551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4ED19-FBA9-40AB-B020-3307ECE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891-0983-494C-B26B-123BD4A5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BD2B6-16D8-4226-92D8-05635187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E516C-4DFB-46AA-AACD-62F5E94B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9A776-3C7E-42FD-9353-3B74E67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6291E-F054-4D07-9B49-B4CDC7E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5BA85-8965-452D-8B97-897D0EF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79A5E-9474-47B2-8791-0B2D654C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43988-737A-469A-97F1-649DCA5F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E9FA-242D-48F2-BBE1-E24008ED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CF70-020A-40E7-B37E-6ED8BB13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A6E6-BD0E-4FEB-96B8-054A57A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91C-5753-4A93-9435-BC27C27A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C0AC-2979-4478-9CC3-52A99910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57A1-C226-40D9-9CD7-BF0802DC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948D-873D-4945-A00B-E11153D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7696-08C1-4709-8E1B-5876B99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8045-9C8E-469C-A586-70953A5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3DA3-BC6D-4D86-A5E3-44CEDEC3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0570-1473-40ED-8D8C-1FFE3FCE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EE18-A0AF-4E38-93EE-38D0819B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0949-9C87-430F-A4EF-7FF7EFAE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8A27-287A-4EC1-8E67-D94F80BD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642-B6F1-4D93-876C-F115B5EB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1CC22-B66E-41D9-9FAC-722E8A5C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EBF91-0090-4945-970A-59336EE7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BEED-4F6D-42B9-A661-6D6217F5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A64E-C05C-4236-A643-9691C4D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E94CA-F1BF-4150-8737-B711FE25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60B2-5D75-489E-A2B0-FAA0870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C334-3A76-4891-923F-F83B622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9CA64-84C0-4902-8B32-0A8D4138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A502-EBA4-420C-B7C6-A55071CB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397A-D941-4E6B-8DED-B7104B42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9A3-4175-4BAD-9F1E-ED4C363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CB8B8-66A3-4BC8-8B91-F9F11EFC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DB0C-817A-4AAD-B568-9ADF8599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BE853-9C85-44A1-8888-7F2B8E10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399F8-22F3-4051-ADDA-1F85A8EF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59FE-4548-40CE-9849-C1BB1FD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D133E-D5F0-465A-9DA0-A203C5EE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16FF-4ECA-4A2E-9DE0-F0ECDFE9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04F9-268D-45CA-938E-57B300A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52F8-4E5D-479C-97D7-0FD3C78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E196-9552-49E0-9C5F-1532AFB9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64B-6B39-4EFE-9EFF-6575527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89AA-8D7F-4993-BE5E-591D95FB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123B-8088-4CCB-A388-443775D7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C98D-55AD-4514-9813-F8A43048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233-E394-455F-A087-10E88B3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910-A1D7-4081-A692-0ECF165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B013-136A-4202-ABAB-9AC1916E45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B44-9895-49C1-9D68-0DA3441B8D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1134-4BBB-4492-A355-65AE2E398D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F6A-CD92-4323-A40D-4DDCC90D67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5993-315D-42B3-93C3-5679F613B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60E-04F5-425F-BE5A-A594763E5E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klopp.ru/uploads/posts/2008-04/thumbs/1208443666_orange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daler.ru/pictures/food/fruits/pxsp6skn456zku6ocrg3yhinec8t464n_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0_22dcb_2a2146ce_L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0_22dcb_2a2146ce_L"/>
          <p:cNvPicPr/>
          <p:nvPr/>
        </p:nvPicPr>
        <p:blipFill>
          <a:blip r:embed="rId2"/>
          <a:stretch/>
        </p:blipFill>
        <p:spPr>
          <a:xfrm>
            <a:off x="0" y="0"/>
            <a:ext cx="462276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АПЕЛЬСИНОВЫЙ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СОК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59440" y="5942160"/>
            <a:ext cx="13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Биличенко </a:t>
            </a:r>
            <a:br>
              <a:rPr sz="1800"/>
            </a:b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Антон</a:t>
            </a:r>
            <a:br>
              <a:rPr sz="1800"/>
            </a:b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ПЕЛЬСИНОВЫЙ С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ьмём образец сока, масса которого 1 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объём будет равен 0.001008 кубических м. (7см*7см*24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плотность = 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001008 = 99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Картинка 1 из 37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87488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оздействие на организ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 организма возрастает (зависит от количества выпитого со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вление в желудочной полости возрас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с тела возрас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рость кровотока не из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 ЦНС не из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9" descr="Картинка 6 из 33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войства составляющих компонентов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яется достаточно большое количество эне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ивизируется работа желудка и пищеварительной системы в ц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8" descr="Картинка 1 из 3331"/>
          <p:cNvPicPr/>
          <p:nvPr/>
        </p:nvPicPr>
        <p:blipFill>
          <a:blip r:embed="rId2"/>
          <a:stretch/>
        </p:blipFill>
        <p:spPr>
          <a:xfrm>
            <a:off x="5332320" y="1773360"/>
            <a:ext cx="2833920" cy="40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ХИМИЧЕСКИЙ СОСТА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-й апельсиновый сок, пастеризова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1 литр использовано 3 кг апельсинов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сновное сырье - апельси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8" descr="0_22781_7972257f_L"/>
          <p:cNvPicPr/>
          <p:nvPr/>
        </p:nvPicPr>
        <p:blipFill>
          <a:blip r:embed="rId2"/>
          <a:stretch/>
        </p:blipFill>
        <p:spPr>
          <a:xfrm>
            <a:off x="4648320" y="1698480"/>
            <a:ext cx="4038480" cy="433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иологическая це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100 г сока приходится 45 килокалорий, 11,2 г углеводов, 0,1 г жиров, около 0,1 г натрия, 0,6 г протеи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ители, консерванты, ароматизаторы отсутству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7" descr="0_22dcb_2a2146ce_L"/>
          <p:cNvPicPr/>
          <p:nvPr/>
        </p:nvPicPr>
        <p:blipFill>
          <a:blip r:embed="rId2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58:03Z</dcterms:created>
  <dc:creator>007</dc:creator>
  <dc:description/>
  <dc:language>en-US</dc:language>
  <cp:lastModifiedBy>Вика</cp:lastModifiedBy>
  <dcterms:modified xsi:type="dcterms:W3CDTF">2009-04-05T09:44:27Z</dcterms:modified>
  <cp:revision>6</cp:revision>
  <dc:subject/>
  <dc:title>СОК</dc:title>
</cp:coreProperties>
</file>