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89D-87CE-4CAD-A5F0-EFB97544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A08-A2FC-4A78-94DA-8854A18B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01B1-565B-46FA-8EE0-D1CABE4B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E24-4325-4753-9F74-C14B34C7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0FB9-D4F5-4991-911A-1DC360A4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C143-4684-4B91-B5BC-7BD0473A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DDC1-FFF9-48C7-BF06-91AA85A4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8EF1-7A76-42A6-861F-76023A6A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5551-85D4-4238-B6A4-EB3FF9B8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0A0E-480D-4AA5-AFC5-3B2DA219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F0B3-7C21-4AE5-95D6-44E4A532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827A-0969-4F57-8913-0E44E1BC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C89D-780C-4183-8266-6A7167E8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47DC-A8D9-42A6-82E4-2A858ABF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4DFC-215C-4B9F-8F98-74C0E1C8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FBA8-64CF-4AE5-A03F-5625A27F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BDC5-0823-444A-8E7C-BF366474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14A0-7CA3-42D7-BDBB-9B89303D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B83-37A1-4B42-9016-494BDF83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689-D19A-487D-9472-F884C51E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9E2-7B36-40BA-B125-05BA93A4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A4F-F2A5-4122-B2F4-6025EB13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0F7-51B0-448A-9027-98BBA728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84F-FE99-45C9-8290-83E2A034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AFF5-AA3B-4BA4-9828-4D7B14ECD4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9FCA-E504-4238-99C9-71B92A5F6C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flipV="1" rot="10800000">
            <a:off x="-541800" y="3788280"/>
            <a:ext cx="1274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7200" spc="-1" strike="noStrike">
                <a:solidFill>
                  <a:srgbClr val="ffcc00"/>
                </a:solidFill>
                <a:latin typeface="Times New Roman"/>
              </a:rPr>
              <a:t>Идём дорогою добра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340000" y="-171360"/>
            <a:ext cx="482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50920" y="701640"/>
            <a:ext cx="1607328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imes New Roman"/>
              </a:rPr>
              <a:t>Благо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творительность – это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действия и поступки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аправленные на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общественную пользу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71640" y="1844640"/>
            <a:ext cx="7129440" cy="26640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79280" y="0"/>
            <a:ext cx="1607364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imes New Roman"/>
              </a:rPr>
              <a:t>Благо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творительность – это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00"/>
                </a:solidFill>
                <a:latin typeface="Times New Roman"/>
              </a:rPr>
              <a:t>            </a:t>
            </a:r>
            <a:r>
              <a:rPr b="1" lang="ru-RU" sz="6600" spc="-1" strike="noStrike">
                <a:solidFill>
                  <a:srgbClr val="ffcc00"/>
                </a:solidFill>
                <a:latin typeface="Times New Roman"/>
              </a:rPr>
              <a:t>безвозмездные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действия и поступки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аправленные на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общественную пользу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71160" y="-231840"/>
            <a:ext cx="8762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Спроси у жизни строгой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Какой идти дорогой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Куда по свету белому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отправиться с утра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Иди за солнцем следом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Хоть этот путь неведом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Иди, мой друг, всегда ид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Дорогою Добра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5202360"/>
            <a:ext cx="1943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31480" y="-303120"/>
            <a:ext cx="8998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Забудь свои заботы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адения и взлёты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е хнычь, когда судьба ведёт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себя не как сестра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о, если с другом худо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е уповай на чудо…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Спеши к нему, всегда иди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Дорогою Добра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30400" y="-303120"/>
            <a:ext cx="8416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Ах, сколько будет разных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Сомнений и соблазнов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е забывай, что эта жизнь –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е детская игра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Ты прочь гони соблазны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Усвой закон негласный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Иди, мой друг, всегда ид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Дорогою Добра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87280" y="-387360"/>
            <a:ext cx="7056720" cy="5616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360" y="4797360"/>
            <a:ext cx="900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00"/>
                </a:solidFill>
                <a:latin typeface="Times New Roman"/>
              </a:rPr>
              <a:t>Спешите делать добро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00000" y="191628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доброта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66760" y="107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2360" y="331920"/>
            <a:ext cx="8218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7200" spc="-1" strike="noStrike">
                <a:solidFill>
                  <a:srgbClr val="ffcc00"/>
                </a:solidFill>
                <a:latin typeface="Times New Roman"/>
              </a:rPr>
              <a:t>Доброта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тзывчивость, душев-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ное расположение к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людям, стремление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сделать добро другим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9280" y="1773360"/>
            <a:ext cx="107427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0600" spc="-1" strike="noStrike">
                <a:solidFill>
                  <a:srgbClr val="ffcc00"/>
                </a:solidFill>
                <a:latin typeface="Times New Roman"/>
              </a:rPr>
              <a:t>добро</a:t>
            </a: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желатель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-181080" y="1268280"/>
            <a:ext cx="1826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ffcc00"/>
                </a:solidFill>
                <a:latin typeface="Times New Roman"/>
              </a:rPr>
              <a:t>Доброжелатель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–человек,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доброжелательно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относящийся к кому-нибудь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2133720"/>
            <a:ext cx="92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благотворительность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4000" y="2133720"/>
            <a:ext cx="87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Добрые дела - </a:t>
            </a:r>
            <a:r>
              <a:rPr b="1" lang="ru-RU" sz="6600" spc="-1" strike="noStrike">
                <a:solidFill>
                  <a:srgbClr val="ffcc00"/>
                </a:solidFill>
                <a:latin typeface="Times New Roman"/>
              </a:rPr>
              <a:t>благие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4000" y="2349360"/>
            <a:ext cx="1002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Благо – добро, польза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42920" y="2284560"/>
            <a:ext cx="805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Творить - делать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03</cp:lastModifiedBy>
  <dcterms:modified xsi:type="dcterms:W3CDTF">2007-04-09T12:18:28Z</dcterms:modified>
  <cp:revision>9</cp:revision>
  <dc:subject/>
  <dc:title>PowerPoint Presentation</dc:title>
</cp:coreProperties>
</file>