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4B2-AB7A-4329-A9CA-1F03C0FA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7AC-CCAB-4F05-9F15-B28D802B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18D-1F1A-4BDD-921B-6A198D54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4CD-10AE-4779-A0DE-C9FB1D02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D82-1748-4581-A744-72BCD71D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C4F9-4415-43BF-8CC3-68AEF1D7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E80-64DF-462C-A3BA-060BE350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5DC4-B879-4579-BE42-3472078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72FE-D4F0-4924-9225-CA18167E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B60-D6E1-439F-AF5A-7851DFEF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BEE7-0CD3-4360-8F87-07498FA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8E2-F385-4AC7-9619-BC60065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8B6-D121-4E6B-976E-94737A1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B9D-4B77-4572-9DFC-6417539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5C5D-DEB2-4C11-84F7-C98F06EB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3A2-D9BD-40AB-AB39-7B9296D4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98F5-ED10-49B2-B163-2C7319C8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659-22D4-4EB8-BDEB-5DA82483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FE4-0E73-4E93-93F5-115E20A2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567-9FE7-4C88-B626-173F790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E3B-9115-4477-857E-7569B7F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E18-B692-4D3D-BEF3-1066167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AA4-7DDC-4087-B162-83C8943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AD3-CF5F-44E2-B8AC-9070141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880-9128-45BB-83FA-98C1682FF7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98F-808D-4F50-A2EB-59480FC0E9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 rot="10800000">
            <a:off x="-541800" y="3788280"/>
            <a:ext cx="127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Идём дорогою добр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40000" y="-171360"/>
            <a:ext cx="482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701640"/>
            <a:ext cx="160732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Благо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ворительность – эт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йствия и поступки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правленные 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бщественную польз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1844640"/>
            <a:ext cx="7129440" cy="26640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9280" y="0"/>
            <a:ext cx="1607364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Благо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ворительность – эт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безвозмездны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йствия и поступки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правленные 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бщественную польз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71160" y="-231840"/>
            <a:ext cx="8762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проси у жизни строго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ой идти дорогой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уда по свету белом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тправиться с утра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ди за солнцем след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оть этот путь невед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ди, мой друг, всегда ид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рогою Добр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5202360"/>
            <a:ext cx="194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480" y="-303120"/>
            <a:ext cx="8998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будь свои заботы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адения и взлёты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хнычь, когда судьба ведёт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ебя не как сестр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о, если с другом худо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уповай на чудо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пеши к нему, всегда иди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рогою Добр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0400" y="-303120"/>
            <a:ext cx="841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х, сколько будет разны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омнений и соблазнов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забывай, что эта жизнь –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детская игр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Ты прочь гони соблазны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свой закон негласны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ди, мой друг, всегда ид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рогою Добр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-387360"/>
            <a:ext cx="7056720" cy="5616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360" y="4797360"/>
            <a:ext cx="900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Спешите делать добро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0000" y="191628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доброта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6676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2360" y="331920"/>
            <a:ext cx="8218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Доброта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тзывчивость, душев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ное расположение к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людям, стремление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сделать добро другим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1773360"/>
            <a:ext cx="107427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0600" spc="-1" strike="noStrike">
                <a:solidFill>
                  <a:srgbClr val="ffcc00"/>
                </a:solidFill>
                <a:latin typeface="Times New Roman"/>
              </a:rPr>
              <a:t>добро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желател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181080" y="1268280"/>
            <a:ext cx="182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Доброжелатель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–человек,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оброжелательн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относящийся к кому-нибудь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2133720"/>
            <a:ext cx="92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благотворительност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213372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Добрые дела - </a:t>
            </a: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благ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2349360"/>
            <a:ext cx="1002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Благо – добро, польз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42920" y="228456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Творить - делат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3</cp:lastModifiedBy>
  <dcterms:modified xsi:type="dcterms:W3CDTF">2007-04-09T12:18:28Z</dcterms:modified>
  <cp:revision>9</cp:revision>
  <dc:subject/>
  <dc:title>PowerPoint Presentation</dc:title>
</cp:coreProperties>
</file>