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7.gif" ContentType="image/gif"/>
  <Override PartName="/ppt/media/image2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jpeg" ContentType="image/jpeg"/>
  <Override PartName="/ppt/media/image18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0E0-0EC0-4E43-86FA-1B1D008A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854-81F7-4368-8E38-57DF874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5AD-6C27-4D6F-A798-9A46ABFD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2E4-C548-48EA-93C9-63C5FF24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57D3-0747-4D4D-ADAE-2A838B2C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0B0E-F8FA-4ABF-9A7E-F33383C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81B4-1CD9-4E82-9866-684C5168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E288-DB44-422A-A3F5-362D28C0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2CA2-BD6F-48DD-B3D8-F2A5F727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88A6-3707-4E96-852C-A20F7B5D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6851-F4A5-48D7-863D-ED3518CA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9BD-F06A-4000-9619-3020B80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D448-4FF0-430F-AA42-72C507DD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2B8D-91DB-4C92-83C1-87D8E77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C56-4BF7-45BC-8F5B-0B1D215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254B-C53C-4BD5-8403-DD237E5A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63EC-566D-4E85-8D32-4513D979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6A0-7F79-4034-AB7A-E78A5BCC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FB1-D8C3-400D-9E7C-1D4BDD2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541-A635-45B2-B6B4-2A8368EC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DB9-F98C-4133-85DD-8D178A4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5C9-C744-46A0-B123-31F68788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13D-3E61-4E24-A3D5-424B6155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322-213F-4FB4-BAA7-B93E0EC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0"/>
          <p:cNvSpPr/>
          <p:nvPr/>
        </p:nvSpPr>
        <p:spPr>
          <a:xfrm>
            <a:off x="324000" y="1484280"/>
            <a:ext cx="8640720" cy="4537080"/>
          </a:xfrm>
          <a:prstGeom prst="wedgeRectCallout">
            <a:avLst>
              <a:gd name="adj1" fmla="val -51398"/>
              <a:gd name="adj2" fmla="val 61546"/>
            </a:avLst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Picture 7" descr="64208m"/>
          <p:cNvPicPr/>
          <p:nvPr/>
        </p:nvPicPr>
        <p:blipFill>
          <a:blip r:embed="rId2"/>
          <a:srcRect l="0" t="0" r="0" b="1845"/>
          <a:stretch/>
        </p:blipFill>
        <p:spPr>
          <a:xfrm>
            <a:off x="324000" y="190440"/>
            <a:ext cx="1223640" cy="115092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72EF-BEFF-447F-B5C4-17F89F4278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D697-2E1F-4CB5-B671-5B5ABCBBB9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nit.mpei.ac.ru/textbook/01_02_01_00.htm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учитель"/>
          <p:cNvPicPr/>
          <p:nvPr/>
        </p:nvPicPr>
        <p:blipFill>
          <a:blip r:embed="rId1"/>
          <a:stretch/>
        </p:blipFill>
        <p:spPr>
          <a:xfrm>
            <a:off x="285840" y="3857760"/>
            <a:ext cx="3016080" cy="2643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99920" y="4292640"/>
            <a:ext cx="445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7" descr=""/>
          <p:cNvPicPr/>
          <p:nvPr/>
        </p:nvPicPr>
        <p:blipFill>
          <a:blip r:embed="rId2"/>
          <a:stretch/>
        </p:blipFill>
        <p:spPr>
          <a:xfrm>
            <a:off x="3067200" y="615960"/>
            <a:ext cx="5795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ктивные  формы  и  методы  обучения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557360"/>
            <a:ext cx="86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, (различные  виды  игр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 ситу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через 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 и  парная  ра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ценочная»  деятельность  учащихся (результа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4a"/>
          <p:cNvPicPr/>
          <p:nvPr/>
        </p:nvPicPr>
        <p:blipFill>
          <a:blip r:embed="rId1"/>
          <a:stretch/>
        </p:blipFill>
        <p:spPr>
          <a:xfrm>
            <a:off x="4572000" y="4429080"/>
            <a:ext cx="40719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260360" y="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истема дидактических принц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"/>
          <p:cNvSpPr/>
          <p:nvPr/>
        </p:nvSpPr>
        <p:spPr>
          <a:xfrm>
            <a:off x="485640" y="1995480"/>
            <a:ext cx="2279880" cy="22622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целостн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едставления о мир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 ребенка должно бы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формировано обобщенно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остное предст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 мире (природе - обществ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- самом себе), о роли и мест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аждой науки в системе наук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1079640" y="4191120"/>
            <a:ext cx="2120760" cy="2108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 непрерывност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емственность меж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ми ступен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учения на уров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олог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я и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3240000" y="4648320"/>
            <a:ext cx="2246400" cy="201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минимакса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а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лж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ложи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ченику содерж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бразования п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аксимальному уровню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 ученик обязан усвои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это содерж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минимальному уров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5486400" y="4419720"/>
            <a:ext cx="2254320" cy="2060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омфорт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нятие по возмож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сех стрессообразующ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актор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чебного процесс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здание в школе и на урок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акой атмосфер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оторая расковыва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тей и в котор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ни чувствую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бя «как дом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6172200" y="2286000"/>
            <a:ext cx="2287440" cy="221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вариатив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едполагает развит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 учащих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риативного мышле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 есть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ним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озмож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азлич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ариантов ре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умения осуществл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истематическ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еребор вариа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572000" y="900000"/>
            <a:ext cx="2087640" cy="2014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творче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креативност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агает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аксимальну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ри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 творческое 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учебной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ьник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иобретение и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бственного опы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ворческой деятель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389320" y="900000"/>
            <a:ext cx="2109600" cy="2090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деятель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ирование лич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ченика и продвижение его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азвитии осуществляет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е тогда, когда он воспринима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готовое знание, а в процессе е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бственной деятельност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правле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 «открытие» им нов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н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3780000" y="2898720"/>
            <a:ext cx="1752480" cy="160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1"/>
          <p:cNvSpPr/>
          <p:nvPr/>
        </p:nvSpPr>
        <p:spPr>
          <a:xfrm>
            <a:off x="1219320" y="1676520"/>
            <a:ext cx="6705360" cy="373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f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179280" y="0"/>
            <a:ext cx="8962920" cy="6903720"/>
            <a:chOff x="179280" y="0"/>
            <a:chExt cx="8962920" cy="6903720"/>
          </a:xfrm>
        </p:grpSpPr>
        <p:pic>
          <p:nvPicPr>
            <p:cNvPr id="155" name="Picture 3" descr=""/>
            <p:cNvPicPr/>
            <p:nvPr/>
          </p:nvPicPr>
          <p:blipFill>
            <a:blip r:embed="rId1"/>
            <a:stretch/>
          </p:blipFill>
          <p:spPr>
            <a:xfrm>
              <a:off x="6975720" y="952200"/>
              <a:ext cx="216648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" descr=""/>
            <p:cNvPicPr/>
            <p:nvPr/>
          </p:nvPicPr>
          <p:blipFill>
            <a:blip r:embed="rId2"/>
            <a:stretch/>
          </p:blipFill>
          <p:spPr>
            <a:xfrm>
              <a:off x="771120" y="4364640"/>
              <a:ext cx="1720440" cy="14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"/>
            <p:cNvPicPr/>
            <p:nvPr/>
          </p:nvPicPr>
          <p:blipFill>
            <a:blip r:embed="rId3"/>
            <a:stretch/>
          </p:blipFill>
          <p:spPr>
            <a:xfrm>
              <a:off x="179280" y="1983600"/>
              <a:ext cx="1322280" cy="15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"/>
            <p:cNvPicPr/>
            <p:nvPr/>
          </p:nvPicPr>
          <p:blipFill>
            <a:blip r:embed="rId4"/>
            <a:stretch/>
          </p:blipFill>
          <p:spPr>
            <a:xfrm>
              <a:off x="6580800" y="4205880"/>
              <a:ext cx="1825200" cy="16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7" descr=""/>
            <p:cNvPicPr/>
            <p:nvPr/>
          </p:nvPicPr>
          <p:blipFill>
            <a:blip r:embed="rId5"/>
            <a:stretch/>
          </p:blipFill>
          <p:spPr>
            <a:xfrm>
              <a:off x="3625200" y="0"/>
              <a:ext cx="226620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8" descr=""/>
            <p:cNvPicPr/>
            <p:nvPr/>
          </p:nvPicPr>
          <p:blipFill>
            <a:blip r:embed="rId6"/>
            <a:stretch/>
          </p:blipFill>
          <p:spPr>
            <a:xfrm>
              <a:off x="1361880" y="158400"/>
              <a:ext cx="1466280" cy="13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7"/>
            <a:stretch/>
          </p:blipFill>
          <p:spPr>
            <a:xfrm>
              <a:off x="3429720" y="4999680"/>
              <a:ext cx="2261520" cy="190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1828800" y="2209680"/>
            <a:ext cx="5486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арактерной чертой технологии деятельностного метода обучения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является   способность  ученика проектировать   предстоящую деятельность,  быть ее субъ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28760" y="164304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«открытия» нового 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ефле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бщеметодологической направл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азвивающего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214200"/>
            <a:ext cx="6858000" cy="128592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ипология уроков в дидактической системе деятельностного метода 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5" name="Picture 2" descr="deti"/>
          <p:cNvPicPr/>
          <p:nvPr/>
        </p:nvPicPr>
        <p:blipFill>
          <a:blip r:embed="rId1"/>
          <a:stretch/>
        </p:blipFill>
        <p:spPr>
          <a:xfrm>
            <a:off x="5581800" y="3786120"/>
            <a:ext cx="35622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1720" cy="9288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e4649"/>
                </a:solidFill>
                <a:latin typeface="Arial"/>
              </a:rPr>
              <a:t>1. Урок «открытия» нового знания.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ая цел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: формирование способности учащихся к новому способу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цель: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расширение понятийной базы за счет включения в нее новы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и, задачи уроков рефлексии.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я учащихся определять область своего незнания, умения объяснять причины своих ошибок, отбирать задания для устранения этих пр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лгоритма рефлексивн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формированность способа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ычленять из общего способа действия отдельные операции, производить процессуальный конт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Урок общеметодологической направленности.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рмирование способности учащихся к новому способу действия, связанному с построением структуры изученных понятий и алгорит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явление теоретических основ построения содержательно-методических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42680" y="188640"/>
            <a:ext cx="7281720" cy="7398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. Урок развивающего контроля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44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рмирование способности учащихся к осуществлению контрольной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нтроль и самоконтроль изученных понятий и алгорит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1400" y="0"/>
            <a:ext cx="7358040" cy="121752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Times New Roman"/>
              </a:rPr>
              <a:t>Сравнительная характеристика объяснительно-иллюстративного и деятельностного метода обучения в организации учебного процесса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500040" y="1357200"/>
          <a:ext cx="8215200" cy="51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57200"/>
                    <a:ext cx="821520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уктура урока рефлексии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флекторно-оценоч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ворчески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j0356713[1]"/>
          <p:cNvPicPr/>
          <p:nvPr/>
        </p:nvPicPr>
        <p:blipFill>
          <a:blip r:embed="rId1"/>
          <a:stretch/>
        </p:blipFill>
        <p:spPr>
          <a:xfrm>
            <a:off x="5572080" y="464328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785960" y="1571760"/>
            <a:ext cx="67150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Образование, чтобы достичь своей цели  и для отдельного ученика и для общества,  должно базироваться на актуальном  и жизненном опыте отдельного челове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ью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02a499217de5"/>
          <p:cNvPicPr/>
          <p:nvPr/>
        </p:nvPicPr>
        <p:blipFill>
          <a:blip r:embed="rId1"/>
          <a:stretch/>
        </p:blipFill>
        <p:spPr>
          <a:xfrm>
            <a:off x="357120" y="414324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7286760" cy="7254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флекторно-оценочный этап</a:t>
            </a:r>
            <a:br>
              <a:rPr sz="40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7120" y="1378080"/>
          <a:ext cx="8358120" cy="519408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577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выявленных связей и отношений в «чистом» виде (графическое изображ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предложенных заданий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качества овладения каждым учащимся 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проверка учащихся по готовому образцу сво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проводить оценку собствен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в листе «Формирование способов действ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ображения освоения учащимися каждой конкре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358040" cy="113184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5840" y="1589040"/>
          <a:ext cx="8643960" cy="40546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л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ичных ошибок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ой отдель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спос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, дифференци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ений, построе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хода из затрудн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не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ок - выбор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вышенной труд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7043760" cy="106056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br>
              <a:rPr sz="40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85840" y="1397160"/>
          <a:ext cx="8643960" cy="498312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53640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71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по схеме, коррекция (для учащихся допустивших ошибк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стическая оценка возможностей, проверка качества овла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дифференцированной основе (учащиеся выбирают только те задания из числа предложенных, которые необходимы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 (по алгорит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творческого характера (задания повышенной трудности) для учащихся, выполнивших работу безошибо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зоны ближайше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00240" y="274320"/>
            <a:ext cx="522936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ооценка работы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00040" y="2286000"/>
          <a:ext cx="8001000" cy="283356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работы в листе «Формирование способов действ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ое удовлетворение собственной рабо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500040" y="157176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обучающихся в наибольшей степени развиваются навыки самостоятель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умения творчески, нестандартно решать учебные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положительная мотивация к познавательной деятельности и активной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 к предмету побуждает к чтению биологической литературы, что расширяет их познания в области данной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42720" y="213840"/>
            <a:ext cx="6070680" cy="12258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Преимущества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деятельностного подход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20720" y="357120"/>
            <a:ext cx="823896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64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писок использованной литератур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сова А. Утром – практика, вечером – теория // Российская газета. – 2006. – №286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аевцев А.В. Деятельностная альтернатива в образовании // Педагогика, № 10. – 2005. – С. 27-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ный подход стандарт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обьёва Л.В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Троснянская СО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 Тро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ные материалы и 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SzPct val="45000"/>
              <a:buFont typeface="Wingdings" charset="2"/>
              <a:buChar char="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nit.mpei.ac.ru/textbook/01_02_01_00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1116000" y="3143160"/>
            <a:ext cx="755964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3ba3"/>
                </a:solidFill>
                <a:latin typeface="Arial"/>
              </a:rPr>
              <a:t>Актуальность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6760" y="1428480"/>
            <a:ext cx="83581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За последние десятилетия чётко обозначилась тенденция к изменению сущности, целей и приоритетных ценностей российского начального общего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В связи с этим приоритетной становится развивающая функция обучения, которая должна обеспечить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2720" indent="-252720">
              <a:lnSpc>
                <a:spcPct val="112000"/>
              </a:lnSpc>
              <a:buClr>
                <a:srgbClr val="000080"/>
              </a:buClr>
              <a:buFont typeface="Wingdings" charset="2"/>
              <a:buChar char=""/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становление личности младшего школьн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2720" indent="-252720">
              <a:lnSpc>
                <a:spcPct val="112000"/>
              </a:lnSpc>
              <a:buClr>
                <a:srgbClr val="000080"/>
              </a:buClr>
              <a:buFont typeface="Wingdings" charset="2"/>
              <a:buChar char=""/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раскрытие его индивидуальных возможн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Особую значимость приобретают в начальной школе личностно- ориентированные педагогические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Наибольшее распространение  получила «технология деятельностного метода обучения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же  означает деятельностный подход?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у детей познавательного мотива (желания узнать, открыть, научиться) и конкретной учебной цели (понимания того, что именно нужно выяснить, освоить);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полнение учениками определённых действий для приобретения недостающих знани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явление и освоение учащимися способа действия, позволяющего осознанно применять приобретённые знания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ирование у школьников умения контролировать свои действия – как после их завершения, так и по ходу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ключение содержания обучения в контекст решения значимых жизненных зад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Деятельностный подход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это организация учебного процесса, в котором главное место отводится активной и разносторонней, в максимальной степени самостоятельной познавательной деятельности 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ятельностный подход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928520"/>
            <a:ext cx="8686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                                 думать                                 сотруднич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ся за дело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6"/>
          <p:cNvCxnSpPr/>
          <p:nvPr/>
        </p:nvCxnSpPr>
        <p:spPr>
          <a:xfrm>
            <a:off x="4572000" y="1071360"/>
            <a:ext cx="26438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8"/>
          <p:cNvCxnSpPr/>
          <p:nvPr/>
        </p:nvCxnSpPr>
        <p:spPr>
          <a:xfrm flipH="1">
            <a:off x="1642680" y="1070640"/>
            <a:ext cx="28584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10"/>
          <p:cNvCxnSpPr/>
          <p:nvPr/>
        </p:nvCxnSpPr>
        <p:spPr>
          <a:xfrm flipH="1">
            <a:off x="4498200" y="1071720"/>
            <a:ext cx="2520" cy="1715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/>
          <p:nvPr/>
        </p:nvCxnSpPr>
        <p:spPr>
          <a:xfrm flipH="1">
            <a:off x="2214360" y="1071360"/>
            <a:ext cx="2286720" cy="25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10" descr="4c"/>
          <p:cNvPicPr/>
          <p:nvPr/>
        </p:nvPicPr>
        <p:blipFill>
          <a:blip r:embed="rId1"/>
          <a:stretch/>
        </p:blipFill>
        <p:spPr>
          <a:xfrm>
            <a:off x="428760" y="4143240"/>
            <a:ext cx="4143240" cy="2427480"/>
          </a:xfrm>
          <a:prstGeom prst="rect">
            <a:avLst/>
          </a:prstGeom>
          <a:ln w="0">
            <a:noFill/>
          </a:ln>
        </p:spPr>
      </p:pic>
      <p:cxnSp>
        <p:nvCxnSpPr>
          <p:cNvPr id="103" name="Прямая со стрелкой 14"/>
          <p:cNvCxnSpPr/>
          <p:nvPr/>
        </p:nvCxnSpPr>
        <p:spPr>
          <a:xfrm>
            <a:off x="4500720" y="1071360"/>
            <a:ext cx="3072240" cy="3215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979640" y="0"/>
            <a:ext cx="647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Основные положения технологии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деятельностного метода обучения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228600" y="1752480"/>
            <a:ext cx="2843280" cy="2390760"/>
          </a:xfrm>
          <a:prstGeom prst="ellipse">
            <a:avLst/>
          </a:prstGeom>
          <a:solidFill>
            <a:srgbClr val="ff9966"/>
          </a:solidFill>
          <a:ln w="120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цесс обучения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всегда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514600" y="2666880"/>
            <a:ext cx="2771640" cy="2476800"/>
          </a:xfrm>
          <a:prstGeom prst="ellipse">
            <a:avLst/>
          </a:prstGeom>
          <a:solidFill>
            <a:srgbClr val="ffff66"/>
          </a:solidFill>
          <a:ln w="120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ам процесс 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должен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твор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5029200" y="3048120"/>
            <a:ext cx="3686040" cy="3024000"/>
          </a:xfrm>
          <a:prstGeom prst="ellipse">
            <a:avLst/>
          </a:prstGeom>
          <a:solidFill>
            <a:srgbClr val="00ff00"/>
          </a:solidFill>
          <a:ln w="120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учение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едпола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вмест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чебно-познава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деятельность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чащихся п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уководством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685440" y="5105520"/>
            <a:ext cx="1276200" cy="914400"/>
            <a:chOff x="685440" y="5105520"/>
            <a:chExt cx="1276200" cy="914400"/>
          </a:xfrm>
        </p:grpSpPr>
        <p:sp>
          <p:nvSpPr>
            <p:cNvPr id="110" name="AutoShape 7"/>
            <p:cNvSpPr/>
            <p:nvPr/>
          </p:nvSpPr>
          <p:spPr>
            <a:xfrm flipH="1">
              <a:off x="1733400" y="5511240"/>
              <a:ext cx="134640" cy="15012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00" h="238">
                  <a:moveTo>
                    <a:pt x="0" y="171"/>
                  </a:moveTo>
                  <a:lnTo>
                    <a:pt x="49" y="238"/>
                  </a:lnTo>
                  <a:lnTo>
                    <a:pt x="200" y="46"/>
                  </a:lnTo>
                  <a:lnTo>
                    <a:pt x="161" y="0"/>
                  </a:lnTo>
                  <a:lnTo>
                    <a:pt x="153" y="3"/>
                  </a:lnTo>
                  <a:lnTo>
                    <a:pt x="135" y="12"/>
                  </a:lnTo>
                  <a:lnTo>
                    <a:pt x="107" y="26"/>
                  </a:lnTo>
                  <a:lnTo>
                    <a:pt x="77" y="46"/>
                  </a:lnTo>
                  <a:lnTo>
                    <a:pt x="46" y="70"/>
                  </a:lnTo>
                  <a:lnTo>
                    <a:pt x="21" y="100"/>
                  </a:lnTo>
                  <a:lnTo>
                    <a:pt x="3" y="133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 flipH="1">
              <a:off x="929160" y="5810400"/>
              <a:ext cx="1016280" cy="191880"/>
            </a:xfrm>
            <a:custGeom>
              <a:avLst/>
              <a:gdLst>
                <a:gd name="textAreaLeft" fmla="*/ -360 w 1016280"/>
                <a:gd name="textAreaRight" fmla="*/ 1016280 w 1016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10" h="300">
                  <a:moveTo>
                    <a:pt x="1510" y="300"/>
                  </a:moveTo>
                  <a:lnTo>
                    <a:pt x="1499" y="299"/>
                  </a:lnTo>
                  <a:lnTo>
                    <a:pt x="1480" y="297"/>
                  </a:lnTo>
                  <a:lnTo>
                    <a:pt x="1453" y="295"/>
                  </a:lnTo>
                  <a:lnTo>
                    <a:pt x="1419" y="291"/>
                  </a:lnTo>
                  <a:lnTo>
                    <a:pt x="1379" y="285"/>
                  </a:lnTo>
                  <a:lnTo>
                    <a:pt x="1335" y="280"/>
                  </a:lnTo>
                  <a:lnTo>
                    <a:pt x="1287" y="274"/>
                  </a:lnTo>
                  <a:lnTo>
                    <a:pt x="1236" y="269"/>
                  </a:lnTo>
                  <a:lnTo>
                    <a:pt x="1184" y="263"/>
                  </a:lnTo>
                  <a:lnTo>
                    <a:pt x="1130" y="257"/>
                  </a:lnTo>
                  <a:lnTo>
                    <a:pt x="1076" y="252"/>
                  </a:lnTo>
                  <a:lnTo>
                    <a:pt x="1023" y="247"/>
                  </a:lnTo>
                  <a:lnTo>
                    <a:pt x="973" y="243"/>
                  </a:lnTo>
                  <a:lnTo>
                    <a:pt x="926" y="241"/>
                  </a:lnTo>
                  <a:lnTo>
                    <a:pt x="883" y="239"/>
                  </a:lnTo>
                  <a:lnTo>
                    <a:pt x="845" y="239"/>
                  </a:lnTo>
                  <a:lnTo>
                    <a:pt x="834" y="254"/>
                  </a:lnTo>
                  <a:lnTo>
                    <a:pt x="823" y="266"/>
                  </a:lnTo>
                  <a:lnTo>
                    <a:pt x="809" y="277"/>
                  </a:lnTo>
                  <a:lnTo>
                    <a:pt x="796" y="285"/>
                  </a:lnTo>
                  <a:lnTo>
                    <a:pt x="783" y="292"/>
                  </a:lnTo>
                  <a:lnTo>
                    <a:pt x="769" y="295"/>
                  </a:lnTo>
                  <a:lnTo>
                    <a:pt x="755" y="297"/>
                  </a:lnTo>
                  <a:lnTo>
                    <a:pt x="741" y="297"/>
                  </a:lnTo>
                  <a:lnTo>
                    <a:pt x="727" y="294"/>
                  </a:lnTo>
                  <a:lnTo>
                    <a:pt x="714" y="289"/>
                  </a:lnTo>
                  <a:lnTo>
                    <a:pt x="701" y="283"/>
                  </a:lnTo>
                  <a:lnTo>
                    <a:pt x="688" y="274"/>
                  </a:lnTo>
                  <a:lnTo>
                    <a:pt x="677" y="263"/>
                  </a:lnTo>
                  <a:lnTo>
                    <a:pt x="666" y="250"/>
                  </a:lnTo>
                  <a:lnTo>
                    <a:pt x="656" y="236"/>
                  </a:lnTo>
                  <a:lnTo>
                    <a:pt x="648" y="218"/>
                  </a:lnTo>
                  <a:lnTo>
                    <a:pt x="0" y="247"/>
                  </a:lnTo>
                  <a:lnTo>
                    <a:pt x="64" y="157"/>
                  </a:lnTo>
                  <a:lnTo>
                    <a:pt x="41" y="137"/>
                  </a:lnTo>
                  <a:lnTo>
                    <a:pt x="56" y="102"/>
                  </a:lnTo>
                  <a:lnTo>
                    <a:pt x="53" y="71"/>
                  </a:lnTo>
                  <a:lnTo>
                    <a:pt x="59" y="36"/>
                  </a:lnTo>
                  <a:lnTo>
                    <a:pt x="47" y="28"/>
                  </a:lnTo>
                  <a:lnTo>
                    <a:pt x="61" y="3"/>
                  </a:lnTo>
                  <a:lnTo>
                    <a:pt x="75" y="3"/>
                  </a:lnTo>
                  <a:lnTo>
                    <a:pt x="92" y="3"/>
                  </a:lnTo>
                  <a:lnTo>
                    <a:pt x="110" y="3"/>
                  </a:lnTo>
                  <a:lnTo>
                    <a:pt x="131" y="2"/>
                  </a:lnTo>
                  <a:lnTo>
                    <a:pt x="154" y="2"/>
                  </a:lnTo>
                  <a:lnTo>
                    <a:pt x="177" y="2"/>
                  </a:lnTo>
                  <a:lnTo>
                    <a:pt x="203" y="3"/>
                  </a:lnTo>
                  <a:lnTo>
                    <a:pt x="228" y="3"/>
                  </a:lnTo>
                  <a:lnTo>
                    <a:pt x="252" y="3"/>
                  </a:lnTo>
                  <a:lnTo>
                    <a:pt x="277" y="3"/>
                  </a:lnTo>
                  <a:lnTo>
                    <a:pt x="301" y="3"/>
                  </a:lnTo>
                  <a:lnTo>
                    <a:pt x="324" y="4"/>
                  </a:lnTo>
                  <a:lnTo>
                    <a:pt x="346" y="4"/>
                  </a:lnTo>
                  <a:lnTo>
                    <a:pt x="367" y="5"/>
                  </a:lnTo>
                  <a:lnTo>
                    <a:pt x="385" y="5"/>
                  </a:lnTo>
                  <a:lnTo>
                    <a:pt x="400" y="6"/>
                  </a:lnTo>
                  <a:lnTo>
                    <a:pt x="416" y="6"/>
                  </a:lnTo>
                  <a:lnTo>
                    <a:pt x="433" y="7"/>
                  </a:lnTo>
                  <a:lnTo>
                    <a:pt x="452" y="6"/>
                  </a:lnTo>
                  <a:lnTo>
                    <a:pt x="473" y="6"/>
                  </a:lnTo>
                  <a:lnTo>
                    <a:pt x="495" y="6"/>
                  </a:lnTo>
                  <a:lnTo>
                    <a:pt x="518" y="6"/>
                  </a:lnTo>
                  <a:lnTo>
                    <a:pt x="541" y="7"/>
                  </a:lnTo>
                  <a:lnTo>
                    <a:pt x="566" y="9"/>
                  </a:lnTo>
                  <a:lnTo>
                    <a:pt x="590" y="11"/>
                  </a:lnTo>
                  <a:lnTo>
                    <a:pt x="614" y="14"/>
                  </a:lnTo>
                  <a:lnTo>
                    <a:pt x="638" y="18"/>
                  </a:lnTo>
                  <a:lnTo>
                    <a:pt x="661" y="24"/>
                  </a:lnTo>
                  <a:lnTo>
                    <a:pt x="684" y="30"/>
                  </a:lnTo>
                  <a:lnTo>
                    <a:pt x="705" y="39"/>
                  </a:lnTo>
                  <a:lnTo>
                    <a:pt x="725" y="50"/>
                  </a:lnTo>
                  <a:lnTo>
                    <a:pt x="744" y="63"/>
                  </a:lnTo>
                  <a:lnTo>
                    <a:pt x="781" y="46"/>
                  </a:lnTo>
                  <a:lnTo>
                    <a:pt x="816" y="32"/>
                  </a:lnTo>
                  <a:lnTo>
                    <a:pt x="848" y="20"/>
                  </a:lnTo>
                  <a:lnTo>
                    <a:pt x="879" y="11"/>
                  </a:lnTo>
                  <a:lnTo>
                    <a:pt x="906" y="5"/>
                  </a:lnTo>
                  <a:lnTo>
                    <a:pt x="931" y="1"/>
                  </a:lnTo>
                  <a:lnTo>
                    <a:pt x="955" y="0"/>
                  </a:lnTo>
                  <a:lnTo>
                    <a:pt x="977" y="0"/>
                  </a:lnTo>
                  <a:lnTo>
                    <a:pt x="998" y="1"/>
                  </a:lnTo>
                  <a:lnTo>
                    <a:pt x="1018" y="4"/>
                  </a:lnTo>
                  <a:lnTo>
                    <a:pt x="1036" y="7"/>
                  </a:lnTo>
                  <a:lnTo>
                    <a:pt x="1053" y="13"/>
                  </a:lnTo>
                  <a:lnTo>
                    <a:pt x="1070" y="17"/>
                  </a:lnTo>
                  <a:lnTo>
                    <a:pt x="1085" y="23"/>
                  </a:lnTo>
                  <a:lnTo>
                    <a:pt x="1100" y="28"/>
                  </a:lnTo>
                  <a:lnTo>
                    <a:pt x="1115" y="34"/>
                  </a:lnTo>
                  <a:lnTo>
                    <a:pt x="1130" y="38"/>
                  </a:lnTo>
                  <a:lnTo>
                    <a:pt x="1145" y="43"/>
                  </a:lnTo>
                  <a:lnTo>
                    <a:pt x="1161" y="47"/>
                  </a:lnTo>
                  <a:lnTo>
                    <a:pt x="1177" y="51"/>
                  </a:lnTo>
                  <a:lnTo>
                    <a:pt x="1195" y="56"/>
                  </a:lnTo>
                  <a:lnTo>
                    <a:pt x="1211" y="60"/>
                  </a:lnTo>
                  <a:lnTo>
                    <a:pt x="1228" y="65"/>
                  </a:lnTo>
                  <a:lnTo>
                    <a:pt x="1244" y="68"/>
                  </a:lnTo>
                  <a:lnTo>
                    <a:pt x="1259" y="71"/>
                  </a:lnTo>
                  <a:lnTo>
                    <a:pt x="1275" y="73"/>
                  </a:lnTo>
                  <a:lnTo>
                    <a:pt x="1289" y="75"/>
                  </a:lnTo>
                  <a:lnTo>
                    <a:pt x="1302" y="78"/>
                  </a:lnTo>
                  <a:lnTo>
                    <a:pt x="1315" y="79"/>
                  </a:lnTo>
                  <a:lnTo>
                    <a:pt x="1325" y="80"/>
                  </a:lnTo>
                  <a:lnTo>
                    <a:pt x="1335" y="80"/>
                  </a:lnTo>
                  <a:lnTo>
                    <a:pt x="1343" y="80"/>
                  </a:lnTo>
                  <a:lnTo>
                    <a:pt x="1359" y="77"/>
                  </a:lnTo>
                  <a:lnTo>
                    <a:pt x="1380" y="71"/>
                  </a:lnTo>
                  <a:lnTo>
                    <a:pt x="1403" y="65"/>
                  </a:lnTo>
                  <a:lnTo>
                    <a:pt x="1427" y="58"/>
                  </a:lnTo>
                  <a:lnTo>
                    <a:pt x="1449" y="55"/>
                  </a:lnTo>
                  <a:lnTo>
                    <a:pt x="1470" y="52"/>
                  </a:lnTo>
                  <a:lnTo>
                    <a:pt x="1485" y="56"/>
                  </a:lnTo>
                  <a:lnTo>
                    <a:pt x="1495" y="63"/>
                  </a:lnTo>
                  <a:lnTo>
                    <a:pt x="1498" y="113"/>
                  </a:lnTo>
                  <a:lnTo>
                    <a:pt x="1503" y="185"/>
                  </a:lnTo>
                  <a:lnTo>
                    <a:pt x="1507" y="255"/>
                  </a:lnTo>
                  <a:lnTo>
                    <a:pt x="1510" y="3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 flipH="1">
              <a:off x="685080" y="5105520"/>
              <a:ext cx="1276200" cy="914400"/>
            </a:xfrm>
            <a:custGeom>
              <a:avLst/>
              <a:gdLst>
                <a:gd name="textAreaLeft" fmla="*/ -360 w 1276200"/>
                <a:gd name="textAreaRight" fmla="*/ 1276200 w 12762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896" h="1441">
                  <a:moveTo>
                    <a:pt x="1812" y="754"/>
                  </a:moveTo>
                  <a:lnTo>
                    <a:pt x="1803" y="691"/>
                  </a:lnTo>
                  <a:lnTo>
                    <a:pt x="1801" y="622"/>
                  </a:lnTo>
                  <a:lnTo>
                    <a:pt x="1803" y="556"/>
                  </a:lnTo>
                  <a:lnTo>
                    <a:pt x="1808" y="503"/>
                  </a:lnTo>
                  <a:lnTo>
                    <a:pt x="1799" y="507"/>
                  </a:lnTo>
                  <a:lnTo>
                    <a:pt x="1788" y="511"/>
                  </a:lnTo>
                  <a:lnTo>
                    <a:pt x="1778" y="516"/>
                  </a:lnTo>
                  <a:lnTo>
                    <a:pt x="1767" y="520"/>
                  </a:lnTo>
                  <a:lnTo>
                    <a:pt x="1754" y="525"/>
                  </a:lnTo>
                  <a:lnTo>
                    <a:pt x="1742" y="527"/>
                  </a:lnTo>
                  <a:lnTo>
                    <a:pt x="1730" y="528"/>
                  </a:lnTo>
                  <a:lnTo>
                    <a:pt x="1719" y="528"/>
                  </a:lnTo>
                  <a:lnTo>
                    <a:pt x="1709" y="523"/>
                  </a:lnTo>
                  <a:lnTo>
                    <a:pt x="1702" y="518"/>
                  </a:lnTo>
                  <a:lnTo>
                    <a:pt x="1696" y="510"/>
                  </a:lnTo>
                  <a:lnTo>
                    <a:pt x="1692" y="503"/>
                  </a:lnTo>
                  <a:lnTo>
                    <a:pt x="1689" y="494"/>
                  </a:lnTo>
                  <a:lnTo>
                    <a:pt x="1686" y="485"/>
                  </a:lnTo>
                  <a:lnTo>
                    <a:pt x="1685" y="477"/>
                  </a:lnTo>
                  <a:lnTo>
                    <a:pt x="1685" y="471"/>
                  </a:lnTo>
                  <a:lnTo>
                    <a:pt x="1683" y="460"/>
                  </a:lnTo>
                  <a:lnTo>
                    <a:pt x="1679" y="431"/>
                  </a:lnTo>
                  <a:lnTo>
                    <a:pt x="1671" y="392"/>
                  </a:lnTo>
                  <a:lnTo>
                    <a:pt x="1663" y="348"/>
                  </a:lnTo>
                  <a:lnTo>
                    <a:pt x="1659" y="326"/>
                  </a:lnTo>
                  <a:lnTo>
                    <a:pt x="1654" y="305"/>
                  </a:lnTo>
                  <a:lnTo>
                    <a:pt x="1647" y="286"/>
                  </a:lnTo>
                  <a:lnTo>
                    <a:pt x="1641" y="269"/>
                  </a:lnTo>
                  <a:lnTo>
                    <a:pt x="1636" y="256"/>
                  </a:lnTo>
                  <a:lnTo>
                    <a:pt x="1633" y="245"/>
                  </a:lnTo>
                  <a:lnTo>
                    <a:pt x="1629" y="238"/>
                  </a:lnTo>
                  <a:lnTo>
                    <a:pt x="1628" y="236"/>
                  </a:lnTo>
                  <a:lnTo>
                    <a:pt x="1626" y="230"/>
                  </a:lnTo>
                  <a:lnTo>
                    <a:pt x="1622" y="216"/>
                  </a:lnTo>
                  <a:lnTo>
                    <a:pt x="1614" y="201"/>
                  </a:lnTo>
                  <a:lnTo>
                    <a:pt x="1604" y="190"/>
                  </a:lnTo>
                  <a:lnTo>
                    <a:pt x="1598" y="176"/>
                  </a:lnTo>
                  <a:lnTo>
                    <a:pt x="1591" y="162"/>
                  </a:lnTo>
                  <a:lnTo>
                    <a:pt x="1585" y="151"/>
                  </a:lnTo>
                  <a:lnTo>
                    <a:pt x="1579" y="142"/>
                  </a:lnTo>
                  <a:lnTo>
                    <a:pt x="1572" y="132"/>
                  </a:lnTo>
                  <a:lnTo>
                    <a:pt x="1566" y="122"/>
                  </a:lnTo>
                  <a:lnTo>
                    <a:pt x="1557" y="113"/>
                  </a:lnTo>
                  <a:lnTo>
                    <a:pt x="1546" y="103"/>
                  </a:lnTo>
                  <a:lnTo>
                    <a:pt x="1535" y="89"/>
                  </a:lnTo>
                  <a:lnTo>
                    <a:pt x="1524" y="79"/>
                  </a:lnTo>
                  <a:lnTo>
                    <a:pt x="1514" y="72"/>
                  </a:lnTo>
                  <a:lnTo>
                    <a:pt x="1506" y="67"/>
                  </a:lnTo>
                  <a:lnTo>
                    <a:pt x="1498" y="63"/>
                  </a:lnTo>
                  <a:lnTo>
                    <a:pt x="1492" y="59"/>
                  </a:lnTo>
                  <a:lnTo>
                    <a:pt x="1487" y="54"/>
                  </a:lnTo>
                  <a:lnTo>
                    <a:pt x="1482" y="47"/>
                  </a:lnTo>
                  <a:lnTo>
                    <a:pt x="1453" y="32"/>
                  </a:lnTo>
                  <a:lnTo>
                    <a:pt x="1421" y="21"/>
                  </a:lnTo>
                  <a:lnTo>
                    <a:pt x="1389" y="12"/>
                  </a:lnTo>
                  <a:lnTo>
                    <a:pt x="1356" y="8"/>
                  </a:lnTo>
                  <a:lnTo>
                    <a:pt x="1323" y="7"/>
                  </a:lnTo>
                  <a:lnTo>
                    <a:pt x="1289" y="8"/>
                  </a:lnTo>
                  <a:lnTo>
                    <a:pt x="1256" y="12"/>
                  </a:lnTo>
                  <a:lnTo>
                    <a:pt x="1222" y="19"/>
                  </a:lnTo>
                  <a:lnTo>
                    <a:pt x="1188" y="27"/>
                  </a:lnTo>
                  <a:lnTo>
                    <a:pt x="1155" y="38"/>
                  </a:lnTo>
                  <a:lnTo>
                    <a:pt x="1121" y="52"/>
                  </a:lnTo>
                  <a:lnTo>
                    <a:pt x="1089" y="65"/>
                  </a:lnTo>
                  <a:lnTo>
                    <a:pt x="1058" y="81"/>
                  </a:lnTo>
                  <a:lnTo>
                    <a:pt x="1027" y="98"/>
                  </a:lnTo>
                  <a:lnTo>
                    <a:pt x="996" y="115"/>
                  </a:lnTo>
                  <a:lnTo>
                    <a:pt x="968" y="133"/>
                  </a:lnTo>
                  <a:lnTo>
                    <a:pt x="951" y="144"/>
                  </a:lnTo>
                  <a:lnTo>
                    <a:pt x="936" y="147"/>
                  </a:lnTo>
                  <a:lnTo>
                    <a:pt x="922" y="144"/>
                  </a:lnTo>
                  <a:lnTo>
                    <a:pt x="909" y="137"/>
                  </a:lnTo>
                  <a:lnTo>
                    <a:pt x="899" y="127"/>
                  </a:lnTo>
                  <a:lnTo>
                    <a:pt x="890" y="115"/>
                  </a:lnTo>
                  <a:lnTo>
                    <a:pt x="882" y="103"/>
                  </a:lnTo>
                  <a:lnTo>
                    <a:pt x="875" y="92"/>
                  </a:lnTo>
                  <a:lnTo>
                    <a:pt x="868" y="78"/>
                  </a:lnTo>
                  <a:lnTo>
                    <a:pt x="858" y="65"/>
                  </a:lnTo>
                  <a:lnTo>
                    <a:pt x="847" y="53"/>
                  </a:lnTo>
                  <a:lnTo>
                    <a:pt x="835" y="43"/>
                  </a:lnTo>
                  <a:lnTo>
                    <a:pt x="821" y="34"/>
                  </a:lnTo>
                  <a:lnTo>
                    <a:pt x="806" y="25"/>
                  </a:lnTo>
                  <a:lnTo>
                    <a:pt x="790" y="19"/>
                  </a:lnTo>
                  <a:lnTo>
                    <a:pt x="773" y="13"/>
                  </a:lnTo>
                  <a:lnTo>
                    <a:pt x="756" y="9"/>
                  </a:lnTo>
                  <a:lnTo>
                    <a:pt x="738" y="5"/>
                  </a:lnTo>
                  <a:lnTo>
                    <a:pt x="720" y="3"/>
                  </a:lnTo>
                  <a:lnTo>
                    <a:pt x="701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7" y="0"/>
                  </a:lnTo>
                  <a:lnTo>
                    <a:pt x="630" y="1"/>
                  </a:lnTo>
                  <a:lnTo>
                    <a:pt x="606" y="1"/>
                  </a:lnTo>
                  <a:lnTo>
                    <a:pt x="582" y="3"/>
                  </a:lnTo>
                  <a:lnTo>
                    <a:pt x="561" y="8"/>
                  </a:lnTo>
                  <a:lnTo>
                    <a:pt x="539" y="13"/>
                  </a:lnTo>
                  <a:lnTo>
                    <a:pt x="517" y="21"/>
                  </a:lnTo>
                  <a:lnTo>
                    <a:pt x="497" y="31"/>
                  </a:lnTo>
                  <a:lnTo>
                    <a:pt x="477" y="41"/>
                  </a:lnTo>
                  <a:lnTo>
                    <a:pt x="457" y="53"/>
                  </a:lnTo>
                  <a:lnTo>
                    <a:pt x="440" y="66"/>
                  </a:lnTo>
                  <a:lnTo>
                    <a:pt x="422" y="79"/>
                  </a:lnTo>
                  <a:lnTo>
                    <a:pt x="406" y="93"/>
                  </a:lnTo>
                  <a:lnTo>
                    <a:pt x="389" y="109"/>
                  </a:lnTo>
                  <a:lnTo>
                    <a:pt x="374" y="124"/>
                  </a:lnTo>
                  <a:lnTo>
                    <a:pt x="360" y="140"/>
                  </a:lnTo>
                  <a:lnTo>
                    <a:pt x="347" y="156"/>
                  </a:lnTo>
                  <a:lnTo>
                    <a:pt x="334" y="172"/>
                  </a:lnTo>
                  <a:lnTo>
                    <a:pt x="325" y="194"/>
                  </a:lnTo>
                  <a:lnTo>
                    <a:pt x="318" y="214"/>
                  </a:lnTo>
                  <a:lnTo>
                    <a:pt x="313" y="233"/>
                  </a:lnTo>
                  <a:lnTo>
                    <a:pt x="310" y="250"/>
                  </a:lnTo>
                  <a:lnTo>
                    <a:pt x="310" y="268"/>
                  </a:lnTo>
                  <a:lnTo>
                    <a:pt x="314" y="285"/>
                  </a:lnTo>
                  <a:lnTo>
                    <a:pt x="320" y="303"/>
                  </a:lnTo>
                  <a:lnTo>
                    <a:pt x="329" y="322"/>
                  </a:lnTo>
                  <a:lnTo>
                    <a:pt x="324" y="340"/>
                  </a:lnTo>
                  <a:lnTo>
                    <a:pt x="325" y="371"/>
                  </a:lnTo>
                  <a:lnTo>
                    <a:pt x="325" y="406"/>
                  </a:lnTo>
                  <a:lnTo>
                    <a:pt x="316" y="436"/>
                  </a:lnTo>
                  <a:lnTo>
                    <a:pt x="299" y="434"/>
                  </a:lnTo>
                  <a:lnTo>
                    <a:pt x="283" y="434"/>
                  </a:lnTo>
                  <a:lnTo>
                    <a:pt x="266" y="435"/>
                  </a:lnTo>
                  <a:lnTo>
                    <a:pt x="251" y="436"/>
                  </a:lnTo>
                  <a:lnTo>
                    <a:pt x="236" y="439"/>
                  </a:lnTo>
                  <a:lnTo>
                    <a:pt x="221" y="443"/>
                  </a:lnTo>
                  <a:lnTo>
                    <a:pt x="207" y="449"/>
                  </a:lnTo>
                  <a:lnTo>
                    <a:pt x="193" y="454"/>
                  </a:lnTo>
                  <a:lnTo>
                    <a:pt x="180" y="461"/>
                  </a:lnTo>
                  <a:lnTo>
                    <a:pt x="167" y="469"/>
                  </a:lnTo>
                  <a:lnTo>
                    <a:pt x="153" y="476"/>
                  </a:lnTo>
                  <a:lnTo>
                    <a:pt x="140" y="485"/>
                  </a:lnTo>
                  <a:lnTo>
                    <a:pt x="127" y="493"/>
                  </a:lnTo>
                  <a:lnTo>
                    <a:pt x="114" y="502"/>
                  </a:lnTo>
                  <a:lnTo>
                    <a:pt x="102" y="510"/>
                  </a:lnTo>
                  <a:lnTo>
                    <a:pt x="89" y="519"/>
                  </a:lnTo>
                  <a:lnTo>
                    <a:pt x="73" y="532"/>
                  </a:lnTo>
                  <a:lnTo>
                    <a:pt x="59" y="545"/>
                  </a:lnTo>
                  <a:lnTo>
                    <a:pt x="46" y="560"/>
                  </a:lnTo>
                  <a:lnTo>
                    <a:pt x="35" y="574"/>
                  </a:lnTo>
                  <a:lnTo>
                    <a:pt x="26" y="589"/>
                  </a:lnTo>
                  <a:lnTo>
                    <a:pt x="20" y="607"/>
                  </a:lnTo>
                  <a:lnTo>
                    <a:pt x="14" y="624"/>
                  </a:lnTo>
                  <a:lnTo>
                    <a:pt x="11" y="645"/>
                  </a:lnTo>
                  <a:lnTo>
                    <a:pt x="13" y="660"/>
                  </a:lnTo>
                  <a:lnTo>
                    <a:pt x="22" y="679"/>
                  </a:lnTo>
                  <a:lnTo>
                    <a:pt x="35" y="703"/>
                  </a:lnTo>
                  <a:lnTo>
                    <a:pt x="52" y="729"/>
                  </a:lnTo>
                  <a:lnTo>
                    <a:pt x="73" y="755"/>
                  </a:lnTo>
                  <a:lnTo>
                    <a:pt x="96" y="781"/>
                  </a:lnTo>
                  <a:lnTo>
                    <a:pt x="119" y="803"/>
                  </a:lnTo>
                  <a:lnTo>
                    <a:pt x="142" y="822"/>
                  </a:lnTo>
                  <a:lnTo>
                    <a:pt x="144" y="814"/>
                  </a:lnTo>
                  <a:lnTo>
                    <a:pt x="144" y="801"/>
                  </a:lnTo>
                  <a:lnTo>
                    <a:pt x="144" y="789"/>
                  </a:lnTo>
                  <a:lnTo>
                    <a:pt x="146" y="783"/>
                  </a:lnTo>
                  <a:lnTo>
                    <a:pt x="149" y="765"/>
                  </a:lnTo>
                  <a:lnTo>
                    <a:pt x="157" y="747"/>
                  </a:lnTo>
                  <a:lnTo>
                    <a:pt x="168" y="732"/>
                  </a:lnTo>
                  <a:lnTo>
                    <a:pt x="181" y="718"/>
                  </a:lnTo>
                  <a:lnTo>
                    <a:pt x="196" y="705"/>
                  </a:lnTo>
                  <a:lnTo>
                    <a:pt x="214" y="693"/>
                  </a:lnTo>
                  <a:lnTo>
                    <a:pt x="231" y="683"/>
                  </a:lnTo>
                  <a:lnTo>
                    <a:pt x="249" y="674"/>
                  </a:lnTo>
                  <a:lnTo>
                    <a:pt x="255" y="668"/>
                  </a:lnTo>
                  <a:lnTo>
                    <a:pt x="263" y="664"/>
                  </a:lnTo>
                  <a:lnTo>
                    <a:pt x="272" y="663"/>
                  </a:lnTo>
                  <a:lnTo>
                    <a:pt x="281" y="663"/>
                  </a:lnTo>
                  <a:lnTo>
                    <a:pt x="291" y="664"/>
                  </a:lnTo>
                  <a:lnTo>
                    <a:pt x="298" y="667"/>
                  </a:lnTo>
                  <a:lnTo>
                    <a:pt x="305" y="673"/>
                  </a:lnTo>
                  <a:lnTo>
                    <a:pt x="309" y="679"/>
                  </a:lnTo>
                  <a:lnTo>
                    <a:pt x="303" y="682"/>
                  </a:lnTo>
                  <a:lnTo>
                    <a:pt x="298" y="685"/>
                  </a:lnTo>
                  <a:lnTo>
                    <a:pt x="293" y="688"/>
                  </a:lnTo>
                  <a:lnTo>
                    <a:pt x="286" y="691"/>
                  </a:lnTo>
                  <a:lnTo>
                    <a:pt x="261" y="705"/>
                  </a:lnTo>
                  <a:lnTo>
                    <a:pt x="239" y="722"/>
                  </a:lnTo>
                  <a:lnTo>
                    <a:pt x="219" y="741"/>
                  </a:lnTo>
                  <a:lnTo>
                    <a:pt x="204" y="764"/>
                  </a:lnTo>
                  <a:lnTo>
                    <a:pt x="191" y="788"/>
                  </a:lnTo>
                  <a:lnTo>
                    <a:pt x="182" y="814"/>
                  </a:lnTo>
                  <a:lnTo>
                    <a:pt x="178" y="844"/>
                  </a:lnTo>
                  <a:lnTo>
                    <a:pt x="178" y="874"/>
                  </a:lnTo>
                  <a:lnTo>
                    <a:pt x="171" y="900"/>
                  </a:lnTo>
                  <a:lnTo>
                    <a:pt x="170" y="921"/>
                  </a:lnTo>
                  <a:lnTo>
                    <a:pt x="173" y="937"/>
                  </a:lnTo>
                  <a:lnTo>
                    <a:pt x="178" y="948"/>
                  </a:lnTo>
                  <a:lnTo>
                    <a:pt x="160" y="968"/>
                  </a:lnTo>
                  <a:lnTo>
                    <a:pt x="142" y="988"/>
                  </a:lnTo>
                  <a:lnTo>
                    <a:pt x="125" y="1006"/>
                  </a:lnTo>
                  <a:lnTo>
                    <a:pt x="106" y="1024"/>
                  </a:lnTo>
                  <a:lnTo>
                    <a:pt x="88" y="1042"/>
                  </a:lnTo>
                  <a:lnTo>
                    <a:pt x="67" y="1057"/>
                  </a:lnTo>
                  <a:lnTo>
                    <a:pt x="46" y="1072"/>
                  </a:lnTo>
                  <a:lnTo>
                    <a:pt x="23" y="1085"/>
                  </a:lnTo>
                  <a:lnTo>
                    <a:pt x="62" y="1105"/>
                  </a:lnTo>
                  <a:lnTo>
                    <a:pt x="70" y="1114"/>
                  </a:lnTo>
                  <a:lnTo>
                    <a:pt x="68" y="1122"/>
                  </a:lnTo>
                  <a:lnTo>
                    <a:pt x="60" y="1129"/>
                  </a:lnTo>
                  <a:lnTo>
                    <a:pt x="54" y="1137"/>
                  </a:lnTo>
                  <a:lnTo>
                    <a:pt x="74" y="1160"/>
                  </a:lnTo>
                  <a:lnTo>
                    <a:pt x="67" y="1168"/>
                  </a:lnTo>
                  <a:lnTo>
                    <a:pt x="58" y="1177"/>
                  </a:lnTo>
                  <a:lnTo>
                    <a:pt x="52" y="1185"/>
                  </a:lnTo>
                  <a:lnTo>
                    <a:pt x="54" y="1197"/>
                  </a:lnTo>
                  <a:lnTo>
                    <a:pt x="61" y="1201"/>
                  </a:lnTo>
                  <a:lnTo>
                    <a:pt x="70" y="1204"/>
                  </a:lnTo>
                  <a:lnTo>
                    <a:pt x="77" y="1207"/>
                  </a:lnTo>
                  <a:lnTo>
                    <a:pt x="77" y="1214"/>
                  </a:lnTo>
                  <a:lnTo>
                    <a:pt x="57" y="1240"/>
                  </a:lnTo>
                  <a:lnTo>
                    <a:pt x="59" y="1242"/>
                  </a:lnTo>
                  <a:lnTo>
                    <a:pt x="62" y="1243"/>
                  </a:lnTo>
                  <a:lnTo>
                    <a:pt x="63" y="1246"/>
                  </a:lnTo>
                  <a:lnTo>
                    <a:pt x="62" y="1249"/>
                  </a:lnTo>
                  <a:lnTo>
                    <a:pt x="95" y="1259"/>
                  </a:lnTo>
                  <a:lnTo>
                    <a:pt x="129" y="1265"/>
                  </a:lnTo>
                  <a:lnTo>
                    <a:pt x="162" y="1270"/>
                  </a:lnTo>
                  <a:lnTo>
                    <a:pt x="196" y="1272"/>
                  </a:lnTo>
                  <a:lnTo>
                    <a:pt x="230" y="1273"/>
                  </a:lnTo>
                  <a:lnTo>
                    <a:pt x="263" y="1273"/>
                  </a:lnTo>
                  <a:lnTo>
                    <a:pt x="297" y="1272"/>
                  </a:lnTo>
                  <a:lnTo>
                    <a:pt x="331" y="1270"/>
                  </a:lnTo>
                  <a:lnTo>
                    <a:pt x="365" y="1266"/>
                  </a:lnTo>
                  <a:lnTo>
                    <a:pt x="399" y="1264"/>
                  </a:lnTo>
                  <a:lnTo>
                    <a:pt x="433" y="1262"/>
                  </a:lnTo>
                  <a:lnTo>
                    <a:pt x="468" y="1259"/>
                  </a:lnTo>
                  <a:lnTo>
                    <a:pt x="502" y="1258"/>
                  </a:lnTo>
                  <a:lnTo>
                    <a:pt x="537" y="1257"/>
                  </a:lnTo>
                  <a:lnTo>
                    <a:pt x="572" y="1258"/>
                  </a:lnTo>
                  <a:lnTo>
                    <a:pt x="607" y="1260"/>
                  </a:lnTo>
                  <a:lnTo>
                    <a:pt x="574" y="1252"/>
                  </a:lnTo>
                  <a:lnTo>
                    <a:pt x="541" y="1248"/>
                  </a:lnTo>
                  <a:lnTo>
                    <a:pt x="509" y="1246"/>
                  </a:lnTo>
                  <a:lnTo>
                    <a:pt x="477" y="1245"/>
                  </a:lnTo>
                  <a:lnTo>
                    <a:pt x="445" y="1245"/>
                  </a:lnTo>
                  <a:lnTo>
                    <a:pt x="415" y="1247"/>
                  </a:lnTo>
                  <a:lnTo>
                    <a:pt x="383" y="1249"/>
                  </a:lnTo>
                  <a:lnTo>
                    <a:pt x="352" y="1252"/>
                  </a:lnTo>
                  <a:lnTo>
                    <a:pt x="320" y="1254"/>
                  </a:lnTo>
                  <a:lnTo>
                    <a:pt x="289" y="1258"/>
                  </a:lnTo>
                  <a:lnTo>
                    <a:pt x="258" y="1260"/>
                  </a:lnTo>
                  <a:lnTo>
                    <a:pt x="225" y="1261"/>
                  </a:lnTo>
                  <a:lnTo>
                    <a:pt x="193" y="1261"/>
                  </a:lnTo>
                  <a:lnTo>
                    <a:pt x="159" y="1259"/>
                  </a:lnTo>
                  <a:lnTo>
                    <a:pt x="126" y="1256"/>
                  </a:lnTo>
                  <a:lnTo>
                    <a:pt x="91" y="1249"/>
                  </a:lnTo>
                  <a:lnTo>
                    <a:pt x="81" y="1245"/>
                  </a:lnTo>
                  <a:lnTo>
                    <a:pt x="81" y="1234"/>
                  </a:lnTo>
                  <a:lnTo>
                    <a:pt x="85" y="1223"/>
                  </a:lnTo>
                  <a:lnTo>
                    <a:pt x="94" y="1214"/>
                  </a:lnTo>
                  <a:lnTo>
                    <a:pt x="129" y="1222"/>
                  </a:lnTo>
                  <a:lnTo>
                    <a:pt x="163" y="1227"/>
                  </a:lnTo>
                  <a:lnTo>
                    <a:pt x="197" y="1229"/>
                  </a:lnTo>
                  <a:lnTo>
                    <a:pt x="231" y="1230"/>
                  </a:lnTo>
                  <a:lnTo>
                    <a:pt x="264" y="1229"/>
                  </a:lnTo>
                  <a:lnTo>
                    <a:pt x="297" y="1227"/>
                  </a:lnTo>
                  <a:lnTo>
                    <a:pt x="330" y="1225"/>
                  </a:lnTo>
                  <a:lnTo>
                    <a:pt x="363" y="1222"/>
                  </a:lnTo>
                  <a:lnTo>
                    <a:pt x="396" y="1219"/>
                  </a:lnTo>
                  <a:lnTo>
                    <a:pt x="429" y="1216"/>
                  </a:lnTo>
                  <a:lnTo>
                    <a:pt x="463" y="1215"/>
                  </a:lnTo>
                  <a:lnTo>
                    <a:pt x="497" y="1214"/>
                  </a:lnTo>
                  <a:lnTo>
                    <a:pt x="531" y="1215"/>
                  </a:lnTo>
                  <a:lnTo>
                    <a:pt x="566" y="1218"/>
                  </a:lnTo>
                  <a:lnTo>
                    <a:pt x="602" y="1224"/>
                  </a:lnTo>
                  <a:lnTo>
                    <a:pt x="638" y="1231"/>
                  </a:lnTo>
                  <a:lnTo>
                    <a:pt x="608" y="1218"/>
                  </a:lnTo>
                  <a:lnTo>
                    <a:pt x="576" y="1208"/>
                  </a:lnTo>
                  <a:lnTo>
                    <a:pt x="544" y="1202"/>
                  </a:lnTo>
                  <a:lnTo>
                    <a:pt x="512" y="1198"/>
                  </a:lnTo>
                  <a:lnTo>
                    <a:pt x="479" y="1197"/>
                  </a:lnTo>
                  <a:lnTo>
                    <a:pt x="446" y="1197"/>
                  </a:lnTo>
                  <a:lnTo>
                    <a:pt x="413" y="1200"/>
                  </a:lnTo>
                  <a:lnTo>
                    <a:pt x="379" y="1203"/>
                  </a:lnTo>
                  <a:lnTo>
                    <a:pt x="344" y="1206"/>
                  </a:lnTo>
                  <a:lnTo>
                    <a:pt x="310" y="1209"/>
                  </a:lnTo>
                  <a:lnTo>
                    <a:pt x="275" y="1212"/>
                  </a:lnTo>
                  <a:lnTo>
                    <a:pt x="239" y="1214"/>
                  </a:lnTo>
                  <a:lnTo>
                    <a:pt x="204" y="1214"/>
                  </a:lnTo>
                  <a:lnTo>
                    <a:pt x="168" y="1212"/>
                  </a:lnTo>
                  <a:lnTo>
                    <a:pt x="131" y="1207"/>
                  </a:lnTo>
                  <a:lnTo>
                    <a:pt x="94" y="1200"/>
                  </a:lnTo>
                  <a:lnTo>
                    <a:pt x="74" y="1183"/>
                  </a:lnTo>
                  <a:lnTo>
                    <a:pt x="91" y="1162"/>
                  </a:lnTo>
                  <a:lnTo>
                    <a:pt x="124" y="1170"/>
                  </a:lnTo>
                  <a:lnTo>
                    <a:pt x="157" y="1175"/>
                  </a:lnTo>
                  <a:lnTo>
                    <a:pt x="189" y="1179"/>
                  </a:lnTo>
                  <a:lnTo>
                    <a:pt x="221" y="1182"/>
                  </a:lnTo>
                  <a:lnTo>
                    <a:pt x="253" y="1183"/>
                  </a:lnTo>
                  <a:lnTo>
                    <a:pt x="286" y="1183"/>
                  </a:lnTo>
                  <a:lnTo>
                    <a:pt x="318" y="1183"/>
                  </a:lnTo>
                  <a:lnTo>
                    <a:pt x="351" y="1182"/>
                  </a:lnTo>
                  <a:lnTo>
                    <a:pt x="383" y="1182"/>
                  </a:lnTo>
                  <a:lnTo>
                    <a:pt x="415" y="1181"/>
                  </a:lnTo>
                  <a:lnTo>
                    <a:pt x="446" y="1180"/>
                  </a:lnTo>
                  <a:lnTo>
                    <a:pt x="478" y="1179"/>
                  </a:lnTo>
                  <a:lnTo>
                    <a:pt x="509" y="1179"/>
                  </a:lnTo>
                  <a:lnTo>
                    <a:pt x="541" y="1179"/>
                  </a:lnTo>
                  <a:lnTo>
                    <a:pt x="573" y="1181"/>
                  </a:lnTo>
                  <a:lnTo>
                    <a:pt x="603" y="1183"/>
                  </a:lnTo>
                  <a:lnTo>
                    <a:pt x="613" y="1184"/>
                  </a:lnTo>
                  <a:lnTo>
                    <a:pt x="624" y="1187"/>
                  </a:lnTo>
                  <a:lnTo>
                    <a:pt x="634" y="1191"/>
                  </a:lnTo>
                  <a:lnTo>
                    <a:pt x="644" y="1194"/>
                  </a:lnTo>
                  <a:lnTo>
                    <a:pt x="654" y="1197"/>
                  </a:lnTo>
                  <a:lnTo>
                    <a:pt x="663" y="1200"/>
                  </a:lnTo>
                  <a:lnTo>
                    <a:pt x="671" y="1201"/>
                  </a:lnTo>
                  <a:lnTo>
                    <a:pt x="678" y="1200"/>
                  </a:lnTo>
                  <a:lnTo>
                    <a:pt x="642" y="1184"/>
                  </a:lnTo>
                  <a:lnTo>
                    <a:pt x="604" y="1173"/>
                  </a:lnTo>
                  <a:lnTo>
                    <a:pt x="567" y="1166"/>
                  </a:lnTo>
                  <a:lnTo>
                    <a:pt x="530" y="1161"/>
                  </a:lnTo>
                  <a:lnTo>
                    <a:pt x="492" y="1159"/>
                  </a:lnTo>
                  <a:lnTo>
                    <a:pt x="455" y="1159"/>
                  </a:lnTo>
                  <a:lnTo>
                    <a:pt x="418" y="1161"/>
                  </a:lnTo>
                  <a:lnTo>
                    <a:pt x="381" y="1163"/>
                  </a:lnTo>
                  <a:lnTo>
                    <a:pt x="342" y="1166"/>
                  </a:lnTo>
                  <a:lnTo>
                    <a:pt x="305" y="1169"/>
                  </a:lnTo>
                  <a:lnTo>
                    <a:pt x="268" y="1170"/>
                  </a:lnTo>
                  <a:lnTo>
                    <a:pt x="229" y="1171"/>
                  </a:lnTo>
                  <a:lnTo>
                    <a:pt x="192" y="1169"/>
                  </a:lnTo>
                  <a:lnTo>
                    <a:pt x="155" y="1166"/>
                  </a:lnTo>
                  <a:lnTo>
                    <a:pt x="117" y="1158"/>
                  </a:lnTo>
                  <a:lnTo>
                    <a:pt x="80" y="1148"/>
                  </a:lnTo>
                  <a:lnTo>
                    <a:pt x="80" y="1136"/>
                  </a:lnTo>
                  <a:lnTo>
                    <a:pt x="88" y="1129"/>
                  </a:lnTo>
                  <a:lnTo>
                    <a:pt x="96" y="1125"/>
                  </a:lnTo>
                  <a:lnTo>
                    <a:pt x="105" y="1119"/>
                  </a:lnTo>
                  <a:lnTo>
                    <a:pt x="140" y="1127"/>
                  </a:lnTo>
                  <a:lnTo>
                    <a:pt x="176" y="1133"/>
                  </a:lnTo>
                  <a:lnTo>
                    <a:pt x="212" y="1137"/>
                  </a:lnTo>
                  <a:lnTo>
                    <a:pt x="248" y="1139"/>
                  </a:lnTo>
                  <a:lnTo>
                    <a:pt x="283" y="1139"/>
                  </a:lnTo>
                  <a:lnTo>
                    <a:pt x="318" y="1139"/>
                  </a:lnTo>
                  <a:lnTo>
                    <a:pt x="354" y="1137"/>
                  </a:lnTo>
                  <a:lnTo>
                    <a:pt x="389" y="1136"/>
                  </a:lnTo>
                  <a:lnTo>
                    <a:pt x="424" y="1134"/>
                  </a:lnTo>
                  <a:lnTo>
                    <a:pt x="460" y="1133"/>
                  </a:lnTo>
                  <a:lnTo>
                    <a:pt x="496" y="1132"/>
                  </a:lnTo>
                  <a:lnTo>
                    <a:pt x="531" y="1132"/>
                  </a:lnTo>
                  <a:lnTo>
                    <a:pt x="566" y="1133"/>
                  </a:lnTo>
                  <a:lnTo>
                    <a:pt x="601" y="1135"/>
                  </a:lnTo>
                  <a:lnTo>
                    <a:pt x="637" y="1139"/>
                  </a:lnTo>
                  <a:lnTo>
                    <a:pt x="672" y="1146"/>
                  </a:lnTo>
                  <a:lnTo>
                    <a:pt x="689" y="1152"/>
                  </a:lnTo>
                  <a:lnTo>
                    <a:pt x="705" y="1162"/>
                  </a:lnTo>
                  <a:lnTo>
                    <a:pt x="722" y="1173"/>
                  </a:lnTo>
                  <a:lnTo>
                    <a:pt x="739" y="1184"/>
                  </a:lnTo>
                  <a:lnTo>
                    <a:pt x="755" y="1192"/>
                  </a:lnTo>
                  <a:lnTo>
                    <a:pt x="770" y="1194"/>
                  </a:lnTo>
                  <a:lnTo>
                    <a:pt x="785" y="1191"/>
                  </a:lnTo>
                  <a:lnTo>
                    <a:pt x="799" y="1178"/>
                  </a:lnTo>
                  <a:lnTo>
                    <a:pt x="833" y="1158"/>
                  </a:lnTo>
                  <a:lnTo>
                    <a:pt x="868" y="1145"/>
                  </a:lnTo>
                  <a:lnTo>
                    <a:pt x="902" y="1136"/>
                  </a:lnTo>
                  <a:lnTo>
                    <a:pt x="938" y="1132"/>
                  </a:lnTo>
                  <a:lnTo>
                    <a:pt x="974" y="1130"/>
                  </a:lnTo>
                  <a:lnTo>
                    <a:pt x="1010" y="1134"/>
                  </a:lnTo>
                  <a:lnTo>
                    <a:pt x="1047" y="1138"/>
                  </a:lnTo>
                  <a:lnTo>
                    <a:pt x="1083" y="1146"/>
                  </a:lnTo>
                  <a:lnTo>
                    <a:pt x="1120" y="1155"/>
                  </a:lnTo>
                  <a:lnTo>
                    <a:pt x="1157" y="1163"/>
                  </a:lnTo>
                  <a:lnTo>
                    <a:pt x="1194" y="1173"/>
                  </a:lnTo>
                  <a:lnTo>
                    <a:pt x="1231" y="1182"/>
                  </a:lnTo>
                  <a:lnTo>
                    <a:pt x="1268" y="1190"/>
                  </a:lnTo>
                  <a:lnTo>
                    <a:pt x="1306" y="1195"/>
                  </a:lnTo>
                  <a:lnTo>
                    <a:pt x="1343" y="1200"/>
                  </a:lnTo>
                  <a:lnTo>
                    <a:pt x="1379" y="1200"/>
                  </a:lnTo>
                  <a:lnTo>
                    <a:pt x="1396" y="1197"/>
                  </a:lnTo>
                  <a:lnTo>
                    <a:pt x="1412" y="1194"/>
                  </a:lnTo>
                  <a:lnTo>
                    <a:pt x="1429" y="1189"/>
                  </a:lnTo>
                  <a:lnTo>
                    <a:pt x="1444" y="1182"/>
                  </a:lnTo>
                  <a:lnTo>
                    <a:pt x="1459" y="1178"/>
                  </a:lnTo>
                  <a:lnTo>
                    <a:pt x="1475" y="1174"/>
                  </a:lnTo>
                  <a:lnTo>
                    <a:pt x="1490" y="1175"/>
                  </a:lnTo>
                  <a:lnTo>
                    <a:pt x="1505" y="1180"/>
                  </a:lnTo>
                  <a:lnTo>
                    <a:pt x="1510" y="1229"/>
                  </a:lnTo>
                  <a:lnTo>
                    <a:pt x="1514" y="1284"/>
                  </a:lnTo>
                  <a:lnTo>
                    <a:pt x="1517" y="1340"/>
                  </a:lnTo>
                  <a:lnTo>
                    <a:pt x="1522" y="1389"/>
                  </a:lnTo>
                  <a:lnTo>
                    <a:pt x="1480" y="1389"/>
                  </a:lnTo>
                  <a:lnTo>
                    <a:pt x="1438" y="1388"/>
                  </a:lnTo>
                  <a:lnTo>
                    <a:pt x="1397" y="1386"/>
                  </a:lnTo>
                  <a:lnTo>
                    <a:pt x="1356" y="1383"/>
                  </a:lnTo>
                  <a:lnTo>
                    <a:pt x="1317" y="1378"/>
                  </a:lnTo>
                  <a:lnTo>
                    <a:pt x="1276" y="1373"/>
                  </a:lnTo>
                  <a:lnTo>
                    <a:pt x="1237" y="1367"/>
                  </a:lnTo>
                  <a:lnTo>
                    <a:pt x="1196" y="1362"/>
                  </a:lnTo>
                  <a:lnTo>
                    <a:pt x="1156" y="1355"/>
                  </a:lnTo>
                  <a:lnTo>
                    <a:pt x="1116" y="1350"/>
                  </a:lnTo>
                  <a:lnTo>
                    <a:pt x="1075" y="1344"/>
                  </a:lnTo>
                  <a:lnTo>
                    <a:pt x="1033" y="1339"/>
                  </a:lnTo>
                  <a:lnTo>
                    <a:pt x="993" y="1335"/>
                  </a:lnTo>
                  <a:lnTo>
                    <a:pt x="950" y="1330"/>
                  </a:lnTo>
                  <a:lnTo>
                    <a:pt x="908" y="1328"/>
                  </a:lnTo>
                  <a:lnTo>
                    <a:pt x="865" y="1326"/>
                  </a:lnTo>
                  <a:lnTo>
                    <a:pt x="851" y="1335"/>
                  </a:lnTo>
                  <a:lnTo>
                    <a:pt x="845" y="1351"/>
                  </a:lnTo>
                  <a:lnTo>
                    <a:pt x="839" y="1369"/>
                  </a:lnTo>
                  <a:lnTo>
                    <a:pt x="833" y="1381"/>
                  </a:lnTo>
                  <a:lnTo>
                    <a:pt x="823" y="1387"/>
                  </a:lnTo>
                  <a:lnTo>
                    <a:pt x="812" y="1392"/>
                  </a:lnTo>
                  <a:lnTo>
                    <a:pt x="799" y="1395"/>
                  </a:lnTo>
                  <a:lnTo>
                    <a:pt x="784" y="1397"/>
                  </a:lnTo>
                  <a:lnTo>
                    <a:pt x="771" y="1398"/>
                  </a:lnTo>
                  <a:lnTo>
                    <a:pt x="757" y="1396"/>
                  </a:lnTo>
                  <a:lnTo>
                    <a:pt x="745" y="1393"/>
                  </a:lnTo>
                  <a:lnTo>
                    <a:pt x="733" y="1386"/>
                  </a:lnTo>
                  <a:lnTo>
                    <a:pt x="719" y="1381"/>
                  </a:lnTo>
                  <a:lnTo>
                    <a:pt x="709" y="1372"/>
                  </a:lnTo>
                  <a:lnTo>
                    <a:pt x="702" y="1360"/>
                  </a:lnTo>
                  <a:lnTo>
                    <a:pt x="697" y="1347"/>
                  </a:lnTo>
                  <a:lnTo>
                    <a:pt x="691" y="1333"/>
                  </a:lnTo>
                  <a:lnTo>
                    <a:pt x="686" y="1320"/>
                  </a:lnTo>
                  <a:lnTo>
                    <a:pt x="679" y="1310"/>
                  </a:lnTo>
                  <a:lnTo>
                    <a:pt x="670" y="1303"/>
                  </a:lnTo>
                  <a:lnTo>
                    <a:pt x="634" y="1304"/>
                  </a:lnTo>
                  <a:lnTo>
                    <a:pt x="597" y="1305"/>
                  </a:lnTo>
                  <a:lnTo>
                    <a:pt x="559" y="1307"/>
                  </a:lnTo>
                  <a:lnTo>
                    <a:pt x="523" y="1310"/>
                  </a:lnTo>
                  <a:lnTo>
                    <a:pt x="486" y="1313"/>
                  </a:lnTo>
                  <a:lnTo>
                    <a:pt x="449" y="1316"/>
                  </a:lnTo>
                  <a:lnTo>
                    <a:pt x="412" y="1319"/>
                  </a:lnTo>
                  <a:lnTo>
                    <a:pt x="375" y="1322"/>
                  </a:lnTo>
                  <a:lnTo>
                    <a:pt x="339" y="1327"/>
                  </a:lnTo>
                  <a:lnTo>
                    <a:pt x="302" y="1330"/>
                  </a:lnTo>
                  <a:lnTo>
                    <a:pt x="265" y="1333"/>
                  </a:lnTo>
                  <a:lnTo>
                    <a:pt x="229" y="1336"/>
                  </a:lnTo>
                  <a:lnTo>
                    <a:pt x="193" y="1339"/>
                  </a:lnTo>
                  <a:lnTo>
                    <a:pt x="157" y="1341"/>
                  </a:lnTo>
                  <a:lnTo>
                    <a:pt x="120" y="1342"/>
                  </a:lnTo>
                  <a:lnTo>
                    <a:pt x="85" y="1343"/>
                  </a:lnTo>
                  <a:lnTo>
                    <a:pt x="71" y="1329"/>
                  </a:lnTo>
                  <a:lnTo>
                    <a:pt x="78" y="1320"/>
                  </a:lnTo>
                  <a:lnTo>
                    <a:pt x="85" y="1317"/>
                  </a:lnTo>
                  <a:lnTo>
                    <a:pt x="94" y="1315"/>
                  </a:lnTo>
                  <a:lnTo>
                    <a:pt x="104" y="1315"/>
                  </a:lnTo>
                  <a:lnTo>
                    <a:pt x="112" y="1314"/>
                  </a:lnTo>
                  <a:lnTo>
                    <a:pt x="118" y="1311"/>
                  </a:lnTo>
                  <a:lnTo>
                    <a:pt x="122" y="1307"/>
                  </a:lnTo>
                  <a:lnTo>
                    <a:pt x="123" y="1297"/>
                  </a:lnTo>
                  <a:lnTo>
                    <a:pt x="77" y="1301"/>
                  </a:lnTo>
                  <a:lnTo>
                    <a:pt x="70" y="1292"/>
                  </a:lnTo>
                  <a:lnTo>
                    <a:pt x="73" y="1284"/>
                  </a:lnTo>
                  <a:lnTo>
                    <a:pt x="81" y="1277"/>
                  </a:lnTo>
                  <a:lnTo>
                    <a:pt x="85" y="1269"/>
                  </a:lnTo>
                  <a:lnTo>
                    <a:pt x="74" y="1279"/>
                  </a:lnTo>
                  <a:lnTo>
                    <a:pt x="65" y="1290"/>
                  </a:lnTo>
                  <a:lnTo>
                    <a:pt x="54" y="1301"/>
                  </a:lnTo>
                  <a:lnTo>
                    <a:pt x="44" y="1311"/>
                  </a:lnTo>
                  <a:lnTo>
                    <a:pt x="34" y="1324"/>
                  </a:lnTo>
                  <a:lnTo>
                    <a:pt x="23" y="1333"/>
                  </a:lnTo>
                  <a:lnTo>
                    <a:pt x="13" y="1344"/>
                  </a:lnTo>
                  <a:lnTo>
                    <a:pt x="2" y="1354"/>
                  </a:lnTo>
                  <a:lnTo>
                    <a:pt x="0" y="1364"/>
                  </a:lnTo>
                  <a:lnTo>
                    <a:pt x="0" y="1371"/>
                  </a:lnTo>
                  <a:lnTo>
                    <a:pt x="3" y="1376"/>
                  </a:lnTo>
                  <a:lnTo>
                    <a:pt x="9" y="1381"/>
                  </a:lnTo>
                  <a:lnTo>
                    <a:pt x="14" y="1385"/>
                  </a:lnTo>
                  <a:lnTo>
                    <a:pt x="22" y="1388"/>
                  </a:lnTo>
                  <a:lnTo>
                    <a:pt x="28" y="1393"/>
                  </a:lnTo>
                  <a:lnTo>
                    <a:pt x="34" y="1398"/>
                  </a:lnTo>
                  <a:lnTo>
                    <a:pt x="61" y="1397"/>
                  </a:lnTo>
                  <a:lnTo>
                    <a:pt x="95" y="1396"/>
                  </a:lnTo>
                  <a:lnTo>
                    <a:pt x="134" y="1394"/>
                  </a:lnTo>
                  <a:lnTo>
                    <a:pt x="178" y="1391"/>
                  </a:lnTo>
                  <a:lnTo>
                    <a:pt x="225" y="1386"/>
                  </a:lnTo>
                  <a:lnTo>
                    <a:pt x="274" y="1382"/>
                  </a:lnTo>
                  <a:lnTo>
                    <a:pt x="325" y="1377"/>
                  </a:lnTo>
                  <a:lnTo>
                    <a:pt x="376" y="1373"/>
                  </a:lnTo>
                  <a:lnTo>
                    <a:pt x="427" y="1369"/>
                  </a:lnTo>
                  <a:lnTo>
                    <a:pt x="476" y="1364"/>
                  </a:lnTo>
                  <a:lnTo>
                    <a:pt x="522" y="1361"/>
                  </a:lnTo>
                  <a:lnTo>
                    <a:pt x="564" y="1356"/>
                  </a:lnTo>
                  <a:lnTo>
                    <a:pt x="601" y="1354"/>
                  </a:lnTo>
                  <a:lnTo>
                    <a:pt x="633" y="1352"/>
                  </a:lnTo>
                  <a:lnTo>
                    <a:pt x="658" y="1352"/>
                  </a:lnTo>
                  <a:lnTo>
                    <a:pt x="676" y="1352"/>
                  </a:lnTo>
                  <a:lnTo>
                    <a:pt x="681" y="1361"/>
                  </a:lnTo>
                  <a:lnTo>
                    <a:pt x="687" y="1370"/>
                  </a:lnTo>
                  <a:lnTo>
                    <a:pt x="693" y="1380"/>
                  </a:lnTo>
                  <a:lnTo>
                    <a:pt x="701" y="1387"/>
                  </a:lnTo>
                  <a:lnTo>
                    <a:pt x="710" y="1396"/>
                  </a:lnTo>
                  <a:lnTo>
                    <a:pt x="720" y="1403"/>
                  </a:lnTo>
                  <a:lnTo>
                    <a:pt x="731" y="1408"/>
                  </a:lnTo>
                  <a:lnTo>
                    <a:pt x="744" y="1412"/>
                  </a:lnTo>
                  <a:lnTo>
                    <a:pt x="767" y="1418"/>
                  </a:lnTo>
                  <a:lnTo>
                    <a:pt x="788" y="1418"/>
                  </a:lnTo>
                  <a:lnTo>
                    <a:pt x="806" y="1411"/>
                  </a:lnTo>
                  <a:lnTo>
                    <a:pt x="823" y="1403"/>
                  </a:lnTo>
                  <a:lnTo>
                    <a:pt x="839" y="1393"/>
                  </a:lnTo>
                  <a:lnTo>
                    <a:pt x="855" y="1382"/>
                  </a:lnTo>
                  <a:lnTo>
                    <a:pt x="871" y="1373"/>
                  </a:lnTo>
                  <a:lnTo>
                    <a:pt x="888" y="1366"/>
                  </a:lnTo>
                  <a:lnTo>
                    <a:pt x="929" y="1367"/>
                  </a:lnTo>
                  <a:lnTo>
                    <a:pt x="970" y="1370"/>
                  </a:lnTo>
                  <a:lnTo>
                    <a:pt x="1012" y="1373"/>
                  </a:lnTo>
                  <a:lnTo>
                    <a:pt x="1053" y="1376"/>
                  </a:lnTo>
                  <a:lnTo>
                    <a:pt x="1095" y="1382"/>
                  </a:lnTo>
                  <a:lnTo>
                    <a:pt x="1137" y="1387"/>
                  </a:lnTo>
                  <a:lnTo>
                    <a:pt x="1179" y="1394"/>
                  </a:lnTo>
                  <a:lnTo>
                    <a:pt x="1221" y="1400"/>
                  </a:lnTo>
                  <a:lnTo>
                    <a:pt x="1264" y="1407"/>
                  </a:lnTo>
                  <a:lnTo>
                    <a:pt x="1307" y="1414"/>
                  </a:lnTo>
                  <a:lnTo>
                    <a:pt x="1350" y="1420"/>
                  </a:lnTo>
                  <a:lnTo>
                    <a:pt x="1392" y="1426"/>
                  </a:lnTo>
                  <a:lnTo>
                    <a:pt x="1435" y="1431"/>
                  </a:lnTo>
                  <a:lnTo>
                    <a:pt x="1478" y="1436"/>
                  </a:lnTo>
                  <a:lnTo>
                    <a:pt x="1521" y="1439"/>
                  </a:lnTo>
                  <a:lnTo>
                    <a:pt x="1565" y="1441"/>
                  </a:lnTo>
                  <a:lnTo>
                    <a:pt x="1605" y="1400"/>
                  </a:lnTo>
                  <a:lnTo>
                    <a:pt x="1895" y="819"/>
                  </a:lnTo>
                  <a:lnTo>
                    <a:pt x="1896" y="804"/>
                  </a:lnTo>
                  <a:lnTo>
                    <a:pt x="1892" y="796"/>
                  </a:lnTo>
                  <a:lnTo>
                    <a:pt x="1884" y="790"/>
                  </a:lnTo>
                  <a:lnTo>
                    <a:pt x="1872" y="787"/>
                  </a:lnTo>
                  <a:lnTo>
                    <a:pt x="1859" y="786"/>
                  </a:lnTo>
                  <a:lnTo>
                    <a:pt x="1844" y="784"/>
                  </a:lnTo>
                  <a:lnTo>
                    <a:pt x="1831" y="781"/>
                  </a:lnTo>
                  <a:lnTo>
                    <a:pt x="1819" y="776"/>
                  </a:lnTo>
                  <a:lnTo>
                    <a:pt x="1812" y="75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 flipH="1">
              <a:off x="730800" y="5476320"/>
              <a:ext cx="215640" cy="47016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21" h="744">
                  <a:moveTo>
                    <a:pt x="321" y="236"/>
                  </a:moveTo>
                  <a:lnTo>
                    <a:pt x="306" y="264"/>
                  </a:lnTo>
                  <a:lnTo>
                    <a:pt x="288" y="296"/>
                  </a:lnTo>
                  <a:lnTo>
                    <a:pt x="270" y="331"/>
                  </a:lnTo>
                  <a:lnTo>
                    <a:pt x="251" y="369"/>
                  </a:lnTo>
                  <a:lnTo>
                    <a:pt x="230" y="408"/>
                  </a:lnTo>
                  <a:lnTo>
                    <a:pt x="210" y="448"/>
                  </a:lnTo>
                  <a:lnTo>
                    <a:pt x="189" y="487"/>
                  </a:lnTo>
                  <a:lnTo>
                    <a:pt x="170" y="527"/>
                  </a:lnTo>
                  <a:lnTo>
                    <a:pt x="151" y="564"/>
                  </a:lnTo>
                  <a:lnTo>
                    <a:pt x="133" y="599"/>
                  </a:lnTo>
                  <a:lnTo>
                    <a:pt x="117" y="632"/>
                  </a:lnTo>
                  <a:lnTo>
                    <a:pt x="102" y="660"/>
                  </a:lnTo>
                  <a:lnTo>
                    <a:pt x="90" y="685"/>
                  </a:lnTo>
                  <a:lnTo>
                    <a:pt x="79" y="704"/>
                  </a:lnTo>
                  <a:lnTo>
                    <a:pt x="72" y="718"/>
                  </a:lnTo>
                  <a:lnTo>
                    <a:pt x="68" y="724"/>
                  </a:lnTo>
                  <a:lnTo>
                    <a:pt x="63" y="730"/>
                  </a:lnTo>
                  <a:lnTo>
                    <a:pt x="59" y="736"/>
                  </a:lnTo>
                  <a:lnTo>
                    <a:pt x="53" y="742"/>
                  </a:lnTo>
                  <a:lnTo>
                    <a:pt x="47" y="744"/>
                  </a:lnTo>
                  <a:lnTo>
                    <a:pt x="57" y="721"/>
                  </a:lnTo>
                  <a:lnTo>
                    <a:pt x="69" y="697"/>
                  </a:lnTo>
                  <a:lnTo>
                    <a:pt x="81" y="671"/>
                  </a:lnTo>
                  <a:lnTo>
                    <a:pt x="94" y="645"/>
                  </a:lnTo>
                  <a:lnTo>
                    <a:pt x="107" y="619"/>
                  </a:lnTo>
                  <a:lnTo>
                    <a:pt x="120" y="594"/>
                  </a:lnTo>
                  <a:lnTo>
                    <a:pt x="132" y="569"/>
                  </a:lnTo>
                  <a:lnTo>
                    <a:pt x="144" y="546"/>
                  </a:lnTo>
                  <a:lnTo>
                    <a:pt x="153" y="529"/>
                  </a:lnTo>
                  <a:lnTo>
                    <a:pt x="163" y="511"/>
                  </a:lnTo>
                  <a:lnTo>
                    <a:pt x="173" y="494"/>
                  </a:lnTo>
                  <a:lnTo>
                    <a:pt x="182" y="475"/>
                  </a:lnTo>
                  <a:lnTo>
                    <a:pt x="189" y="457"/>
                  </a:lnTo>
                  <a:lnTo>
                    <a:pt x="195" y="441"/>
                  </a:lnTo>
                  <a:lnTo>
                    <a:pt x="199" y="423"/>
                  </a:lnTo>
                  <a:lnTo>
                    <a:pt x="199" y="408"/>
                  </a:lnTo>
                  <a:lnTo>
                    <a:pt x="173" y="452"/>
                  </a:lnTo>
                  <a:lnTo>
                    <a:pt x="161" y="484"/>
                  </a:lnTo>
                  <a:lnTo>
                    <a:pt x="144" y="517"/>
                  </a:lnTo>
                  <a:lnTo>
                    <a:pt x="126" y="551"/>
                  </a:lnTo>
                  <a:lnTo>
                    <a:pt x="104" y="585"/>
                  </a:lnTo>
                  <a:lnTo>
                    <a:pt x="83" y="620"/>
                  </a:lnTo>
                  <a:lnTo>
                    <a:pt x="63" y="655"/>
                  </a:lnTo>
                  <a:lnTo>
                    <a:pt x="47" y="691"/>
                  </a:lnTo>
                  <a:lnTo>
                    <a:pt x="35" y="728"/>
                  </a:lnTo>
                  <a:lnTo>
                    <a:pt x="26" y="732"/>
                  </a:lnTo>
                  <a:lnTo>
                    <a:pt x="38" y="693"/>
                  </a:lnTo>
                  <a:lnTo>
                    <a:pt x="52" y="657"/>
                  </a:lnTo>
                  <a:lnTo>
                    <a:pt x="69" y="621"/>
                  </a:lnTo>
                  <a:lnTo>
                    <a:pt x="86" y="585"/>
                  </a:lnTo>
                  <a:lnTo>
                    <a:pt x="105" y="551"/>
                  </a:lnTo>
                  <a:lnTo>
                    <a:pt x="124" y="516"/>
                  </a:lnTo>
                  <a:lnTo>
                    <a:pt x="143" y="480"/>
                  </a:lnTo>
                  <a:lnTo>
                    <a:pt x="163" y="445"/>
                  </a:lnTo>
                  <a:lnTo>
                    <a:pt x="163" y="441"/>
                  </a:lnTo>
                  <a:lnTo>
                    <a:pt x="167" y="431"/>
                  </a:lnTo>
                  <a:lnTo>
                    <a:pt x="175" y="417"/>
                  </a:lnTo>
                  <a:lnTo>
                    <a:pt x="184" y="400"/>
                  </a:lnTo>
                  <a:lnTo>
                    <a:pt x="194" y="382"/>
                  </a:lnTo>
                  <a:lnTo>
                    <a:pt x="203" y="362"/>
                  </a:lnTo>
                  <a:lnTo>
                    <a:pt x="208" y="343"/>
                  </a:lnTo>
                  <a:lnTo>
                    <a:pt x="211" y="325"/>
                  </a:lnTo>
                  <a:lnTo>
                    <a:pt x="203" y="343"/>
                  </a:lnTo>
                  <a:lnTo>
                    <a:pt x="192" y="363"/>
                  </a:lnTo>
                  <a:lnTo>
                    <a:pt x="181" y="385"/>
                  </a:lnTo>
                  <a:lnTo>
                    <a:pt x="167" y="408"/>
                  </a:lnTo>
                  <a:lnTo>
                    <a:pt x="154" y="432"/>
                  </a:lnTo>
                  <a:lnTo>
                    <a:pt x="141" y="456"/>
                  </a:lnTo>
                  <a:lnTo>
                    <a:pt x="127" y="482"/>
                  </a:lnTo>
                  <a:lnTo>
                    <a:pt x="114" y="507"/>
                  </a:lnTo>
                  <a:lnTo>
                    <a:pt x="99" y="532"/>
                  </a:lnTo>
                  <a:lnTo>
                    <a:pt x="86" y="556"/>
                  </a:lnTo>
                  <a:lnTo>
                    <a:pt x="73" y="580"/>
                  </a:lnTo>
                  <a:lnTo>
                    <a:pt x="61" y="602"/>
                  </a:lnTo>
                  <a:lnTo>
                    <a:pt x="50" y="623"/>
                  </a:lnTo>
                  <a:lnTo>
                    <a:pt x="41" y="643"/>
                  </a:lnTo>
                  <a:lnTo>
                    <a:pt x="32" y="660"/>
                  </a:lnTo>
                  <a:lnTo>
                    <a:pt x="26" y="676"/>
                  </a:lnTo>
                  <a:lnTo>
                    <a:pt x="24" y="677"/>
                  </a:lnTo>
                  <a:lnTo>
                    <a:pt x="22" y="676"/>
                  </a:lnTo>
                  <a:lnTo>
                    <a:pt x="20" y="673"/>
                  </a:lnTo>
                  <a:lnTo>
                    <a:pt x="20" y="668"/>
                  </a:lnTo>
                  <a:lnTo>
                    <a:pt x="30" y="643"/>
                  </a:lnTo>
                  <a:lnTo>
                    <a:pt x="41" y="618"/>
                  </a:lnTo>
                  <a:lnTo>
                    <a:pt x="52" y="594"/>
                  </a:lnTo>
                  <a:lnTo>
                    <a:pt x="63" y="569"/>
                  </a:lnTo>
                  <a:lnTo>
                    <a:pt x="75" y="546"/>
                  </a:lnTo>
                  <a:lnTo>
                    <a:pt x="87" y="523"/>
                  </a:lnTo>
                  <a:lnTo>
                    <a:pt x="99" y="499"/>
                  </a:lnTo>
                  <a:lnTo>
                    <a:pt x="111" y="476"/>
                  </a:lnTo>
                  <a:lnTo>
                    <a:pt x="124" y="453"/>
                  </a:lnTo>
                  <a:lnTo>
                    <a:pt x="136" y="429"/>
                  </a:lnTo>
                  <a:lnTo>
                    <a:pt x="147" y="405"/>
                  </a:lnTo>
                  <a:lnTo>
                    <a:pt x="159" y="379"/>
                  </a:lnTo>
                  <a:lnTo>
                    <a:pt x="170" y="353"/>
                  </a:lnTo>
                  <a:lnTo>
                    <a:pt x="181" y="327"/>
                  </a:lnTo>
                  <a:lnTo>
                    <a:pt x="191" y="299"/>
                  </a:lnTo>
                  <a:lnTo>
                    <a:pt x="200" y="271"/>
                  </a:lnTo>
                  <a:lnTo>
                    <a:pt x="191" y="293"/>
                  </a:lnTo>
                  <a:lnTo>
                    <a:pt x="180" y="314"/>
                  </a:lnTo>
                  <a:lnTo>
                    <a:pt x="169" y="336"/>
                  </a:lnTo>
                  <a:lnTo>
                    <a:pt x="158" y="356"/>
                  </a:lnTo>
                  <a:lnTo>
                    <a:pt x="147" y="378"/>
                  </a:lnTo>
                  <a:lnTo>
                    <a:pt x="136" y="400"/>
                  </a:lnTo>
                  <a:lnTo>
                    <a:pt x="124" y="422"/>
                  </a:lnTo>
                  <a:lnTo>
                    <a:pt x="113" y="444"/>
                  </a:lnTo>
                  <a:lnTo>
                    <a:pt x="102" y="466"/>
                  </a:lnTo>
                  <a:lnTo>
                    <a:pt x="90" y="488"/>
                  </a:lnTo>
                  <a:lnTo>
                    <a:pt x="79" y="510"/>
                  </a:lnTo>
                  <a:lnTo>
                    <a:pt x="68" y="532"/>
                  </a:lnTo>
                  <a:lnTo>
                    <a:pt x="57" y="555"/>
                  </a:lnTo>
                  <a:lnTo>
                    <a:pt x="46" y="577"/>
                  </a:lnTo>
                  <a:lnTo>
                    <a:pt x="35" y="599"/>
                  </a:lnTo>
                  <a:lnTo>
                    <a:pt x="25" y="622"/>
                  </a:lnTo>
                  <a:lnTo>
                    <a:pt x="12" y="626"/>
                  </a:lnTo>
                  <a:lnTo>
                    <a:pt x="19" y="585"/>
                  </a:lnTo>
                  <a:lnTo>
                    <a:pt x="16" y="584"/>
                  </a:lnTo>
                  <a:lnTo>
                    <a:pt x="8" y="579"/>
                  </a:lnTo>
                  <a:lnTo>
                    <a:pt x="2" y="574"/>
                  </a:lnTo>
                  <a:lnTo>
                    <a:pt x="0" y="566"/>
                  </a:lnTo>
                  <a:lnTo>
                    <a:pt x="16" y="533"/>
                  </a:lnTo>
                  <a:lnTo>
                    <a:pt x="34" y="497"/>
                  </a:lnTo>
                  <a:lnTo>
                    <a:pt x="52" y="459"/>
                  </a:lnTo>
                  <a:lnTo>
                    <a:pt x="72" y="418"/>
                  </a:lnTo>
                  <a:lnTo>
                    <a:pt x="92" y="377"/>
                  </a:lnTo>
                  <a:lnTo>
                    <a:pt x="111" y="334"/>
                  </a:lnTo>
                  <a:lnTo>
                    <a:pt x="131" y="293"/>
                  </a:lnTo>
                  <a:lnTo>
                    <a:pt x="151" y="251"/>
                  </a:lnTo>
                  <a:lnTo>
                    <a:pt x="170" y="210"/>
                  </a:lnTo>
                  <a:lnTo>
                    <a:pt x="187" y="171"/>
                  </a:lnTo>
                  <a:lnTo>
                    <a:pt x="205" y="135"/>
                  </a:lnTo>
                  <a:lnTo>
                    <a:pt x="221" y="100"/>
                  </a:lnTo>
                  <a:lnTo>
                    <a:pt x="235" y="69"/>
                  </a:lnTo>
                  <a:lnTo>
                    <a:pt x="248" y="41"/>
                  </a:lnTo>
                  <a:lnTo>
                    <a:pt x="259" y="18"/>
                  </a:lnTo>
                  <a:lnTo>
                    <a:pt x="266" y="0"/>
                  </a:lnTo>
                  <a:lnTo>
                    <a:pt x="267" y="26"/>
                  </a:lnTo>
                  <a:lnTo>
                    <a:pt x="268" y="57"/>
                  </a:lnTo>
                  <a:lnTo>
                    <a:pt x="271" y="91"/>
                  </a:lnTo>
                  <a:lnTo>
                    <a:pt x="275" y="125"/>
                  </a:lnTo>
                  <a:lnTo>
                    <a:pt x="282" y="159"/>
                  </a:lnTo>
                  <a:lnTo>
                    <a:pt x="290" y="190"/>
                  </a:lnTo>
                  <a:lnTo>
                    <a:pt x="304" y="216"/>
                  </a:lnTo>
                  <a:lnTo>
                    <a:pt x="321" y="23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 flipH="1">
              <a:off x="1334880" y="5122440"/>
              <a:ext cx="399240" cy="29448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595" h="466">
                  <a:moveTo>
                    <a:pt x="543" y="101"/>
                  </a:moveTo>
                  <a:lnTo>
                    <a:pt x="547" y="112"/>
                  </a:lnTo>
                  <a:lnTo>
                    <a:pt x="551" y="124"/>
                  </a:lnTo>
                  <a:lnTo>
                    <a:pt x="556" y="134"/>
                  </a:lnTo>
                  <a:lnTo>
                    <a:pt x="561" y="145"/>
                  </a:lnTo>
                  <a:lnTo>
                    <a:pt x="568" y="155"/>
                  </a:lnTo>
                  <a:lnTo>
                    <a:pt x="575" y="165"/>
                  </a:lnTo>
                  <a:lnTo>
                    <a:pt x="584" y="175"/>
                  </a:lnTo>
                  <a:lnTo>
                    <a:pt x="595" y="184"/>
                  </a:lnTo>
                  <a:lnTo>
                    <a:pt x="577" y="211"/>
                  </a:lnTo>
                  <a:lnTo>
                    <a:pt x="558" y="240"/>
                  </a:lnTo>
                  <a:lnTo>
                    <a:pt x="538" y="267"/>
                  </a:lnTo>
                  <a:lnTo>
                    <a:pt x="517" y="293"/>
                  </a:lnTo>
                  <a:lnTo>
                    <a:pt x="495" y="321"/>
                  </a:lnTo>
                  <a:lnTo>
                    <a:pt x="474" y="347"/>
                  </a:lnTo>
                  <a:lnTo>
                    <a:pt x="455" y="373"/>
                  </a:lnTo>
                  <a:lnTo>
                    <a:pt x="436" y="400"/>
                  </a:lnTo>
                  <a:lnTo>
                    <a:pt x="425" y="392"/>
                  </a:lnTo>
                  <a:lnTo>
                    <a:pt x="413" y="383"/>
                  </a:lnTo>
                  <a:lnTo>
                    <a:pt x="402" y="375"/>
                  </a:lnTo>
                  <a:lnTo>
                    <a:pt x="390" y="367"/>
                  </a:lnTo>
                  <a:lnTo>
                    <a:pt x="377" y="360"/>
                  </a:lnTo>
                  <a:lnTo>
                    <a:pt x="364" y="356"/>
                  </a:lnTo>
                  <a:lnTo>
                    <a:pt x="348" y="355"/>
                  </a:lnTo>
                  <a:lnTo>
                    <a:pt x="332" y="356"/>
                  </a:lnTo>
                  <a:lnTo>
                    <a:pt x="313" y="357"/>
                  </a:lnTo>
                  <a:lnTo>
                    <a:pt x="298" y="365"/>
                  </a:lnTo>
                  <a:lnTo>
                    <a:pt x="286" y="378"/>
                  </a:lnTo>
                  <a:lnTo>
                    <a:pt x="277" y="393"/>
                  </a:lnTo>
                  <a:lnTo>
                    <a:pt x="269" y="410"/>
                  </a:lnTo>
                  <a:lnTo>
                    <a:pt x="265" y="426"/>
                  </a:lnTo>
                  <a:lnTo>
                    <a:pt x="261" y="442"/>
                  </a:lnTo>
                  <a:lnTo>
                    <a:pt x="260" y="454"/>
                  </a:lnTo>
                  <a:lnTo>
                    <a:pt x="255" y="456"/>
                  </a:lnTo>
                  <a:lnTo>
                    <a:pt x="249" y="459"/>
                  </a:lnTo>
                  <a:lnTo>
                    <a:pt x="244" y="461"/>
                  </a:lnTo>
                  <a:lnTo>
                    <a:pt x="238" y="462"/>
                  </a:lnTo>
                  <a:lnTo>
                    <a:pt x="233" y="465"/>
                  </a:lnTo>
                  <a:lnTo>
                    <a:pt x="226" y="466"/>
                  </a:lnTo>
                  <a:lnTo>
                    <a:pt x="222" y="466"/>
                  </a:lnTo>
                  <a:lnTo>
                    <a:pt x="216" y="465"/>
                  </a:lnTo>
                  <a:lnTo>
                    <a:pt x="205" y="454"/>
                  </a:lnTo>
                  <a:lnTo>
                    <a:pt x="192" y="443"/>
                  </a:lnTo>
                  <a:lnTo>
                    <a:pt x="178" y="432"/>
                  </a:lnTo>
                  <a:lnTo>
                    <a:pt x="163" y="422"/>
                  </a:lnTo>
                  <a:lnTo>
                    <a:pt x="145" y="415"/>
                  </a:lnTo>
                  <a:lnTo>
                    <a:pt x="126" y="412"/>
                  </a:lnTo>
                  <a:lnTo>
                    <a:pt x="107" y="413"/>
                  </a:lnTo>
                  <a:lnTo>
                    <a:pt x="86" y="418"/>
                  </a:lnTo>
                  <a:lnTo>
                    <a:pt x="76" y="427"/>
                  </a:lnTo>
                  <a:lnTo>
                    <a:pt x="65" y="434"/>
                  </a:lnTo>
                  <a:lnTo>
                    <a:pt x="54" y="437"/>
                  </a:lnTo>
                  <a:lnTo>
                    <a:pt x="44" y="438"/>
                  </a:lnTo>
                  <a:lnTo>
                    <a:pt x="34" y="436"/>
                  </a:lnTo>
                  <a:lnTo>
                    <a:pt x="26" y="431"/>
                  </a:lnTo>
                  <a:lnTo>
                    <a:pt x="18" y="422"/>
                  </a:lnTo>
                  <a:lnTo>
                    <a:pt x="11" y="411"/>
                  </a:lnTo>
                  <a:lnTo>
                    <a:pt x="20" y="324"/>
                  </a:lnTo>
                  <a:lnTo>
                    <a:pt x="31" y="328"/>
                  </a:lnTo>
                  <a:lnTo>
                    <a:pt x="41" y="335"/>
                  </a:lnTo>
                  <a:lnTo>
                    <a:pt x="52" y="343"/>
                  </a:lnTo>
                  <a:lnTo>
                    <a:pt x="63" y="350"/>
                  </a:lnTo>
                  <a:lnTo>
                    <a:pt x="74" y="358"/>
                  </a:lnTo>
                  <a:lnTo>
                    <a:pt x="87" y="364"/>
                  </a:lnTo>
                  <a:lnTo>
                    <a:pt x="100" y="366"/>
                  </a:lnTo>
                  <a:lnTo>
                    <a:pt x="114" y="365"/>
                  </a:lnTo>
                  <a:lnTo>
                    <a:pt x="100" y="352"/>
                  </a:lnTo>
                  <a:lnTo>
                    <a:pt x="85" y="338"/>
                  </a:lnTo>
                  <a:lnTo>
                    <a:pt x="69" y="325"/>
                  </a:lnTo>
                  <a:lnTo>
                    <a:pt x="53" y="313"/>
                  </a:lnTo>
                  <a:lnTo>
                    <a:pt x="38" y="300"/>
                  </a:lnTo>
                  <a:lnTo>
                    <a:pt x="22" y="286"/>
                  </a:lnTo>
                  <a:lnTo>
                    <a:pt x="10" y="270"/>
                  </a:lnTo>
                  <a:lnTo>
                    <a:pt x="0" y="253"/>
                  </a:lnTo>
                  <a:lnTo>
                    <a:pt x="2" y="221"/>
                  </a:lnTo>
                  <a:lnTo>
                    <a:pt x="9" y="193"/>
                  </a:lnTo>
                  <a:lnTo>
                    <a:pt x="19" y="169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8" y="106"/>
                  </a:lnTo>
                  <a:lnTo>
                    <a:pt x="91" y="85"/>
                  </a:lnTo>
                  <a:lnTo>
                    <a:pt x="118" y="61"/>
                  </a:lnTo>
                  <a:lnTo>
                    <a:pt x="134" y="46"/>
                  </a:lnTo>
                  <a:lnTo>
                    <a:pt x="152" y="35"/>
                  </a:lnTo>
                  <a:lnTo>
                    <a:pt x="170" y="24"/>
                  </a:lnTo>
                  <a:lnTo>
                    <a:pt x="190" y="17"/>
                  </a:lnTo>
                  <a:lnTo>
                    <a:pt x="210" y="10"/>
                  </a:lnTo>
                  <a:lnTo>
                    <a:pt x="232" y="6"/>
                  </a:lnTo>
                  <a:lnTo>
                    <a:pt x="254" y="3"/>
                  </a:lnTo>
                  <a:lnTo>
                    <a:pt x="276" y="0"/>
                  </a:lnTo>
                  <a:lnTo>
                    <a:pt x="298" y="0"/>
                  </a:lnTo>
                  <a:lnTo>
                    <a:pt x="321" y="0"/>
                  </a:lnTo>
                  <a:lnTo>
                    <a:pt x="343" y="1"/>
                  </a:lnTo>
                  <a:lnTo>
                    <a:pt x="366" y="4"/>
                  </a:lnTo>
                  <a:lnTo>
                    <a:pt x="388" y="7"/>
                  </a:lnTo>
                  <a:lnTo>
                    <a:pt x="409" y="10"/>
                  </a:lnTo>
                  <a:lnTo>
                    <a:pt x="429" y="14"/>
                  </a:lnTo>
                  <a:lnTo>
                    <a:pt x="449" y="18"/>
                  </a:lnTo>
                  <a:lnTo>
                    <a:pt x="467" y="23"/>
                  </a:lnTo>
                  <a:lnTo>
                    <a:pt x="481" y="31"/>
                  </a:lnTo>
                  <a:lnTo>
                    <a:pt x="494" y="41"/>
                  </a:lnTo>
                  <a:lnTo>
                    <a:pt x="505" y="52"/>
                  </a:lnTo>
                  <a:lnTo>
                    <a:pt x="516" y="64"/>
                  </a:lnTo>
                  <a:lnTo>
                    <a:pt x="525" y="76"/>
                  </a:lnTo>
                  <a:lnTo>
                    <a:pt x="535" y="89"/>
                  </a:lnTo>
                  <a:lnTo>
                    <a:pt x="543" y="10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2"/>
            <p:cNvSpPr/>
            <p:nvPr/>
          </p:nvSpPr>
          <p:spPr>
            <a:xfrm flipH="1">
              <a:off x="1516320" y="5133600"/>
              <a:ext cx="82080" cy="17424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21" h="274">
                  <a:moveTo>
                    <a:pt x="95" y="0"/>
                  </a:moveTo>
                  <a:lnTo>
                    <a:pt x="95" y="8"/>
                  </a:lnTo>
                  <a:lnTo>
                    <a:pt x="92" y="15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78" y="33"/>
                  </a:lnTo>
                  <a:lnTo>
                    <a:pt x="75" y="38"/>
                  </a:lnTo>
                  <a:lnTo>
                    <a:pt x="75" y="43"/>
                  </a:lnTo>
                  <a:lnTo>
                    <a:pt x="79" y="48"/>
                  </a:lnTo>
                  <a:lnTo>
                    <a:pt x="121" y="14"/>
                  </a:lnTo>
                  <a:lnTo>
                    <a:pt x="116" y="23"/>
                  </a:lnTo>
                  <a:lnTo>
                    <a:pt x="111" y="32"/>
                  </a:lnTo>
                  <a:lnTo>
                    <a:pt x="104" y="41"/>
                  </a:lnTo>
                  <a:lnTo>
                    <a:pt x="97" y="48"/>
                  </a:lnTo>
                  <a:lnTo>
                    <a:pt x="90" y="56"/>
                  </a:lnTo>
                  <a:lnTo>
                    <a:pt x="82" y="64"/>
                  </a:lnTo>
                  <a:lnTo>
                    <a:pt x="74" y="71"/>
                  </a:lnTo>
                  <a:lnTo>
                    <a:pt x="67" y="80"/>
                  </a:lnTo>
                  <a:lnTo>
                    <a:pt x="56" y="101"/>
                  </a:lnTo>
                  <a:lnTo>
                    <a:pt x="46" y="123"/>
                  </a:lnTo>
                  <a:lnTo>
                    <a:pt x="38" y="145"/>
                  </a:lnTo>
                  <a:lnTo>
                    <a:pt x="32" y="168"/>
                  </a:lnTo>
                  <a:lnTo>
                    <a:pt x="27" y="192"/>
                  </a:lnTo>
                  <a:lnTo>
                    <a:pt x="25" y="217"/>
                  </a:lnTo>
                  <a:lnTo>
                    <a:pt x="25" y="245"/>
                  </a:lnTo>
                  <a:lnTo>
                    <a:pt x="27" y="274"/>
                  </a:lnTo>
                  <a:lnTo>
                    <a:pt x="8" y="231"/>
                  </a:lnTo>
                  <a:lnTo>
                    <a:pt x="0" y="190"/>
                  </a:lnTo>
                  <a:lnTo>
                    <a:pt x="1" y="150"/>
                  </a:lnTo>
                  <a:lnTo>
                    <a:pt x="8" y="113"/>
                  </a:lnTo>
                  <a:lnTo>
                    <a:pt x="22" y="79"/>
                  </a:lnTo>
                  <a:lnTo>
                    <a:pt x="39" y="48"/>
                  </a:lnTo>
                  <a:lnTo>
                    <a:pt x="60" y="22"/>
                  </a:lnTo>
                  <a:lnTo>
                    <a:pt x="81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 flipH="1">
              <a:off x="1421280" y="5198760"/>
              <a:ext cx="72720" cy="8676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10" h="137">
                  <a:moveTo>
                    <a:pt x="4" y="137"/>
                  </a:moveTo>
                  <a:lnTo>
                    <a:pt x="0" y="130"/>
                  </a:lnTo>
                  <a:lnTo>
                    <a:pt x="1" y="120"/>
                  </a:lnTo>
                  <a:lnTo>
                    <a:pt x="6" y="110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4" y="75"/>
                  </a:lnTo>
                  <a:lnTo>
                    <a:pt x="46" y="64"/>
                  </a:lnTo>
                  <a:lnTo>
                    <a:pt x="58" y="52"/>
                  </a:lnTo>
                  <a:lnTo>
                    <a:pt x="72" y="40"/>
                  </a:lnTo>
                  <a:lnTo>
                    <a:pt x="85" y="26"/>
                  </a:lnTo>
                  <a:lnTo>
                    <a:pt x="98" y="13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 flipH="1">
              <a:off x="1390320" y="5209920"/>
              <a:ext cx="68040" cy="7560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0" h="117">
                  <a:moveTo>
                    <a:pt x="0" y="117"/>
                  </a:moveTo>
                  <a:lnTo>
                    <a:pt x="4" y="101"/>
                  </a:lnTo>
                  <a:lnTo>
                    <a:pt x="11" y="84"/>
                  </a:lnTo>
                  <a:lnTo>
                    <a:pt x="21" y="69"/>
                  </a:lnTo>
                  <a:lnTo>
                    <a:pt x="33" y="53"/>
                  </a:lnTo>
                  <a:lnTo>
                    <a:pt x="46" y="39"/>
                  </a:lnTo>
                  <a:lnTo>
                    <a:pt x="60" y="25"/>
                  </a:lnTo>
                  <a:lnTo>
                    <a:pt x="75" y="12"/>
                  </a:lnTo>
                  <a:lnTo>
                    <a:pt x="89" y="0"/>
                  </a:lnTo>
                  <a:lnTo>
                    <a:pt x="100" y="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"/>
            <p:cNvSpPr/>
            <p:nvPr/>
          </p:nvSpPr>
          <p:spPr>
            <a:xfrm flipH="1">
              <a:off x="1369800" y="5225760"/>
              <a:ext cx="55080" cy="4716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2" h="74">
                  <a:moveTo>
                    <a:pt x="0" y="74"/>
                  </a:moveTo>
                  <a:lnTo>
                    <a:pt x="2" y="62"/>
                  </a:lnTo>
                  <a:lnTo>
                    <a:pt x="8" y="51"/>
                  </a:lnTo>
                  <a:lnTo>
                    <a:pt x="16" y="42"/>
                  </a:lnTo>
                  <a:lnTo>
                    <a:pt x="24" y="33"/>
                  </a:lnTo>
                  <a:lnTo>
                    <a:pt x="34" y="25"/>
                  </a:lnTo>
                  <a:lnTo>
                    <a:pt x="45" y="16"/>
                  </a:lnTo>
                  <a:lnTo>
                    <a:pt x="56" y="9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6"/>
            <p:cNvSpPr/>
            <p:nvPr/>
          </p:nvSpPr>
          <p:spPr>
            <a:xfrm flipH="1">
              <a:off x="1254600" y="5225760"/>
              <a:ext cx="318240" cy="347040"/>
            </a:xfrm>
            <a:custGeom>
              <a:avLst/>
              <a:gdLst>
                <a:gd name="textAreaLeft" fmla="*/ 360 w 318240"/>
                <a:gd name="textAreaRight" fmla="*/ 318960 w 31824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475" h="546">
                  <a:moveTo>
                    <a:pt x="463" y="23"/>
                  </a:moveTo>
                  <a:lnTo>
                    <a:pt x="473" y="44"/>
                  </a:lnTo>
                  <a:lnTo>
                    <a:pt x="475" y="65"/>
                  </a:lnTo>
                  <a:lnTo>
                    <a:pt x="473" y="85"/>
                  </a:lnTo>
                  <a:lnTo>
                    <a:pt x="466" y="105"/>
                  </a:lnTo>
                  <a:lnTo>
                    <a:pt x="456" y="125"/>
                  </a:lnTo>
                  <a:lnTo>
                    <a:pt x="446" y="145"/>
                  </a:lnTo>
                  <a:lnTo>
                    <a:pt x="438" y="163"/>
                  </a:lnTo>
                  <a:lnTo>
                    <a:pt x="432" y="183"/>
                  </a:lnTo>
                  <a:lnTo>
                    <a:pt x="426" y="197"/>
                  </a:lnTo>
                  <a:lnTo>
                    <a:pt x="409" y="206"/>
                  </a:lnTo>
                  <a:lnTo>
                    <a:pt x="388" y="212"/>
                  </a:lnTo>
                  <a:lnTo>
                    <a:pt x="367" y="215"/>
                  </a:lnTo>
                  <a:lnTo>
                    <a:pt x="351" y="219"/>
                  </a:lnTo>
                  <a:lnTo>
                    <a:pt x="343" y="225"/>
                  </a:lnTo>
                  <a:lnTo>
                    <a:pt x="349" y="236"/>
                  </a:lnTo>
                  <a:lnTo>
                    <a:pt x="373" y="252"/>
                  </a:lnTo>
                  <a:lnTo>
                    <a:pt x="377" y="271"/>
                  </a:lnTo>
                  <a:lnTo>
                    <a:pt x="379" y="295"/>
                  </a:lnTo>
                  <a:lnTo>
                    <a:pt x="379" y="320"/>
                  </a:lnTo>
                  <a:lnTo>
                    <a:pt x="378" y="348"/>
                  </a:lnTo>
                  <a:lnTo>
                    <a:pt x="374" y="376"/>
                  </a:lnTo>
                  <a:lnTo>
                    <a:pt x="369" y="403"/>
                  </a:lnTo>
                  <a:lnTo>
                    <a:pt x="360" y="429"/>
                  </a:lnTo>
                  <a:lnTo>
                    <a:pt x="349" y="451"/>
                  </a:lnTo>
                  <a:lnTo>
                    <a:pt x="337" y="466"/>
                  </a:lnTo>
                  <a:lnTo>
                    <a:pt x="324" y="483"/>
                  </a:lnTo>
                  <a:lnTo>
                    <a:pt x="309" y="499"/>
                  </a:lnTo>
                  <a:lnTo>
                    <a:pt x="293" y="513"/>
                  </a:lnTo>
                  <a:lnTo>
                    <a:pt x="275" y="527"/>
                  </a:lnTo>
                  <a:lnTo>
                    <a:pt x="255" y="537"/>
                  </a:lnTo>
                  <a:lnTo>
                    <a:pt x="234" y="543"/>
                  </a:lnTo>
                  <a:lnTo>
                    <a:pt x="209" y="544"/>
                  </a:lnTo>
                  <a:lnTo>
                    <a:pt x="191" y="546"/>
                  </a:lnTo>
                  <a:lnTo>
                    <a:pt x="171" y="545"/>
                  </a:lnTo>
                  <a:lnTo>
                    <a:pt x="150" y="542"/>
                  </a:lnTo>
                  <a:lnTo>
                    <a:pt x="129" y="537"/>
                  </a:lnTo>
                  <a:lnTo>
                    <a:pt x="107" y="530"/>
                  </a:lnTo>
                  <a:lnTo>
                    <a:pt x="85" y="522"/>
                  </a:lnTo>
                  <a:lnTo>
                    <a:pt x="66" y="513"/>
                  </a:lnTo>
                  <a:lnTo>
                    <a:pt x="46" y="504"/>
                  </a:lnTo>
                  <a:lnTo>
                    <a:pt x="54" y="493"/>
                  </a:lnTo>
                  <a:lnTo>
                    <a:pt x="61" y="483"/>
                  </a:lnTo>
                  <a:lnTo>
                    <a:pt x="69" y="473"/>
                  </a:lnTo>
                  <a:lnTo>
                    <a:pt x="78" y="463"/>
                  </a:lnTo>
                  <a:lnTo>
                    <a:pt x="84" y="452"/>
                  </a:lnTo>
                  <a:lnTo>
                    <a:pt x="91" y="441"/>
                  </a:lnTo>
                  <a:lnTo>
                    <a:pt x="95" y="429"/>
                  </a:lnTo>
                  <a:lnTo>
                    <a:pt x="97" y="416"/>
                  </a:lnTo>
                  <a:lnTo>
                    <a:pt x="89" y="407"/>
                  </a:lnTo>
                  <a:lnTo>
                    <a:pt x="80" y="415"/>
                  </a:lnTo>
                  <a:lnTo>
                    <a:pt x="73" y="426"/>
                  </a:lnTo>
                  <a:lnTo>
                    <a:pt x="67" y="439"/>
                  </a:lnTo>
                  <a:lnTo>
                    <a:pt x="61" y="452"/>
                  </a:lnTo>
                  <a:lnTo>
                    <a:pt x="54" y="464"/>
                  </a:lnTo>
                  <a:lnTo>
                    <a:pt x="45" y="472"/>
                  </a:lnTo>
                  <a:lnTo>
                    <a:pt x="33" y="474"/>
                  </a:lnTo>
                  <a:lnTo>
                    <a:pt x="17" y="470"/>
                  </a:lnTo>
                  <a:lnTo>
                    <a:pt x="16" y="439"/>
                  </a:lnTo>
                  <a:lnTo>
                    <a:pt x="10" y="404"/>
                  </a:lnTo>
                  <a:lnTo>
                    <a:pt x="2" y="371"/>
                  </a:lnTo>
                  <a:lnTo>
                    <a:pt x="0" y="341"/>
                  </a:lnTo>
                  <a:lnTo>
                    <a:pt x="10" y="337"/>
                  </a:lnTo>
                  <a:lnTo>
                    <a:pt x="18" y="335"/>
                  </a:lnTo>
                  <a:lnTo>
                    <a:pt x="26" y="335"/>
                  </a:lnTo>
                  <a:lnTo>
                    <a:pt x="31" y="338"/>
                  </a:lnTo>
                  <a:lnTo>
                    <a:pt x="41" y="351"/>
                  </a:lnTo>
                  <a:lnTo>
                    <a:pt x="55" y="364"/>
                  </a:lnTo>
                  <a:lnTo>
                    <a:pt x="72" y="377"/>
                  </a:lnTo>
                  <a:lnTo>
                    <a:pt x="91" y="387"/>
                  </a:lnTo>
                  <a:lnTo>
                    <a:pt x="113" y="394"/>
                  </a:lnTo>
                  <a:lnTo>
                    <a:pt x="136" y="396"/>
                  </a:lnTo>
                  <a:lnTo>
                    <a:pt x="160" y="393"/>
                  </a:lnTo>
                  <a:lnTo>
                    <a:pt x="186" y="384"/>
                  </a:lnTo>
                  <a:lnTo>
                    <a:pt x="202" y="374"/>
                  </a:lnTo>
                  <a:lnTo>
                    <a:pt x="212" y="361"/>
                  </a:lnTo>
                  <a:lnTo>
                    <a:pt x="217" y="346"/>
                  </a:lnTo>
                  <a:lnTo>
                    <a:pt x="219" y="329"/>
                  </a:lnTo>
                  <a:lnTo>
                    <a:pt x="218" y="312"/>
                  </a:lnTo>
                  <a:lnTo>
                    <a:pt x="216" y="293"/>
                  </a:lnTo>
                  <a:lnTo>
                    <a:pt x="212" y="275"/>
                  </a:lnTo>
                  <a:lnTo>
                    <a:pt x="208" y="259"/>
                  </a:lnTo>
                  <a:lnTo>
                    <a:pt x="232" y="229"/>
                  </a:lnTo>
                  <a:lnTo>
                    <a:pt x="258" y="194"/>
                  </a:lnTo>
                  <a:lnTo>
                    <a:pt x="284" y="157"/>
                  </a:lnTo>
                  <a:lnTo>
                    <a:pt x="309" y="119"/>
                  </a:lnTo>
                  <a:lnTo>
                    <a:pt x="332" y="85"/>
                  </a:lnTo>
                  <a:lnTo>
                    <a:pt x="352" y="56"/>
                  </a:lnTo>
                  <a:lnTo>
                    <a:pt x="366" y="33"/>
                  </a:lnTo>
                  <a:lnTo>
                    <a:pt x="375" y="21"/>
                  </a:lnTo>
                  <a:lnTo>
                    <a:pt x="381" y="13"/>
                  </a:lnTo>
                  <a:lnTo>
                    <a:pt x="387" y="6"/>
                  </a:lnTo>
                  <a:lnTo>
                    <a:pt x="395" y="2"/>
                  </a:lnTo>
                  <a:lnTo>
                    <a:pt x="407" y="0"/>
                  </a:lnTo>
                  <a:lnTo>
                    <a:pt x="415" y="1"/>
                  </a:lnTo>
                  <a:lnTo>
                    <a:pt x="423" y="1"/>
                  </a:lnTo>
                  <a:lnTo>
                    <a:pt x="432" y="2"/>
                  </a:lnTo>
                  <a:lnTo>
                    <a:pt x="440" y="3"/>
                  </a:lnTo>
                  <a:lnTo>
                    <a:pt x="448" y="5"/>
                  </a:lnTo>
                  <a:lnTo>
                    <a:pt x="454" y="9"/>
                  </a:lnTo>
                  <a:lnTo>
                    <a:pt x="460" y="14"/>
                  </a:lnTo>
                  <a:lnTo>
                    <a:pt x="463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7"/>
            <p:cNvSpPr/>
            <p:nvPr/>
          </p:nvSpPr>
          <p:spPr>
            <a:xfrm flipH="1">
              <a:off x="1280880" y="5236920"/>
              <a:ext cx="55080" cy="932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3" h="146">
                  <a:moveTo>
                    <a:pt x="66" y="0"/>
                  </a:moveTo>
                  <a:lnTo>
                    <a:pt x="56" y="9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31" y="42"/>
                  </a:lnTo>
                  <a:lnTo>
                    <a:pt x="24" y="54"/>
                  </a:lnTo>
                  <a:lnTo>
                    <a:pt x="19" y="66"/>
                  </a:lnTo>
                  <a:lnTo>
                    <a:pt x="15" y="78"/>
                  </a:lnTo>
                  <a:lnTo>
                    <a:pt x="14" y="92"/>
                  </a:lnTo>
                  <a:lnTo>
                    <a:pt x="24" y="94"/>
                  </a:lnTo>
                  <a:lnTo>
                    <a:pt x="34" y="90"/>
                  </a:lnTo>
                  <a:lnTo>
                    <a:pt x="45" y="84"/>
                  </a:lnTo>
                  <a:lnTo>
                    <a:pt x="56" y="77"/>
                  </a:lnTo>
                  <a:lnTo>
                    <a:pt x="66" y="73"/>
                  </a:lnTo>
                  <a:lnTo>
                    <a:pt x="73" y="72"/>
                  </a:lnTo>
                  <a:lnTo>
                    <a:pt x="80" y="76"/>
                  </a:lnTo>
                  <a:lnTo>
                    <a:pt x="83" y="89"/>
                  </a:lnTo>
                  <a:lnTo>
                    <a:pt x="80" y="106"/>
                  </a:lnTo>
                  <a:lnTo>
                    <a:pt x="73" y="121"/>
                  </a:lnTo>
                  <a:lnTo>
                    <a:pt x="64" y="134"/>
                  </a:lnTo>
                  <a:lnTo>
                    <a:pt x="54" y="146"/>
                  </a:lnTo>
                  <a:lnTo>
                    <a:pt x="43" y="146"/>
                  </a:lnTo>
                  <a:lnTo>
                    <a:pt x="74" y="97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4"/>
                  </a:lnTo>
                  <a:lnTo>
                    <a:pt x="42" y="101"/>
                  </a:lnTo>
                  <a:lnTo>
                    <a:pt x="35" y="110"/>
                  </a:lnTo>
                  <a:lnTo>
                    <a:pt x="27" y="116"/>
                  </a:lnTo>
                  <a:lnTo>
                    <a:pt x="17" y="116"/>
                  </a:lnTo>
                  <a:lnTo>
                    <a:pt x="5" y="109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3" y="71"/>
                  </a:lnTo>
                  <a:lnTo>
                    <a:pt x="11" y="54"/>
                  </a:lnTo>
                  <a:lnTo>
                    <a:pt x="21" y="38"/>
                  </a:lnTo>
                  <a:lnTo>
                    <a:pt x="34" y="22"/>
                  </a:lnTo>
                  <a:lnTo>
                    <a:pt x="49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8"/>
            <p:cNvSpPr/>
            <p:nvPr/>
          </p:nvSpPr>
          <p:spPr>
            <a:xfrm flipH="1">
              <a:off x="1357200" y="5241600"/>
              <a:ext cx="53640" cy="4104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0" h="66">
                  <a:moveTo>
                    <a:pt x="80" y="0"/>
                  </a:moveTo>
                  <a:lnTo>
                    <a:pt x="0" y="66"/>
                  </a:lnTo>
                  <a:lnTo>
                    <a:pt x="5" y="56"/>
                  </a:lnTo>
                  <a:lnTo>
                    <a:pt x="11" y="46"/>
                  </a:lnTo>
                  <a:lnTo>
                    <a:pt x="20" y="35"/>
                  </a:lnTo>
                  <a:lnTo>
                    <a:pt x="29" y="24"/>
                  </a:lnTo>
                  <a:lnTo>
                    <a:pt x="40" y="14"/>
                  </a:lnTo>
                  <a:lnTo>
                    <a:pt x="52" y="6"/>
                  </a:lnTo>
                  <a:lnTo>
                    <a:pt x="66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9"/>
            <p:cNvSpPr/>
            <p:nvPr/>
          </p:nvSpPr>
          <p:spPr>
            <a:xfrm flipH="1">
              <a:off x="1597320" y="5260680"/>
              <a:ext cx="97920" cy="7740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46" h="123">
                  <a:moveTo>
                    <a:pt x="146" y="111"/>
                  </a:moveTo>
                  <a:lnTo>
                    <a:pt x="144" y="112"/>
                  </a:lnTo>
                  <a:lnTo>
                    <a:pt x="137" y="109"/>
                  </a:lnTo>
                  <a:lnTo>
                    <a:pt x="128" y="106"/>
                  </a:lnTo>
                  <a:lnTo>
                    <a:pt x="119" y="103"/>
                  </a:lnTo>
                  <a:lnTo>
                    <a:pt x="112" y="102"/>
                  </a:lnTo>
                  <a:lnTo>
                    <a:pt x="107" y="104"/>
                  </a:lnTo>
                  <a:lnTo>
                    <a:pt x="110" y="111"/>
                  </a:lnTo>
                  <a:lnTo>
                    <a:pt x="121" y="123"/>
                  </a:lnTo>
                  <a:lnTo>
                    <a:pt x="103" y="114"/>
                  </a:lnTo>
                  <a:lnTo>
                    <a:pt x="87" y="103"/>
                  </a:lnTo>
                  <a:lnTo>
                    <a:pt x="70" y="91"/>
                  </a:lnTo>
                  <a:lnTo>
                    <a:pt x="55" y="78"/>
                  </a:lnTo>
                  <a:lnTo>
                    <a:pt x="39" y="63"/>
                  </a:lnTo>
                  <a:lnTo>
                    <a:pt x="26" y="48"/>
                  </a:lnTo>
                  <a:lnTo>
                    <a:pt x="12" y="3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4" y="23"/>
                  </a:lnTo>
                  <a:lnTo>
                    <a:pt x="27" y="34"/>
                  </a:lnTo>
                  <a:lnTo>
                    <a:pt x="39" y="44"/>
                  </a:lnTo>
                  <a:lnTo>
                    <a:pt x="51" y="55"/>
                  </a:lnTo>
                  <a:lnTo>
                    <a:pt x="63" y="64"/>
                  </a:lnTo>
                  <a:lnTo>
                    <a:pt x="77" y="73"/>
                  </a:lnTo>
                  <a:lnTo>
                    <a:pt x="91" y="82"/>
                  </a:lnTo>
                  <a:lnTo>
                    <a:pt x="106" y="89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16"/>
                  </a:lnTo>
                  <a:lnTo>
                    <a:pt x="72" y="19"/>
                  </a:lnTo>
                  <a:lnTo>
                    <a:pt x="77" y="19"/>
                  </a:lnTo>
                  <a:lnTo>
                    <a:pt x="146" y="1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0"/>
            <p:cNvSpPr/>
            <p:nvPr/>
          </p:nvSpPr>
          <p:spPr>
            <a:xfrm flipH="1">
              <a:off x="1640880" y="5285880"/>
              <a:ext cx="69480" cy="5544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3" h="87">
                  <a:moveTo>
                    <a:pt x="103" y="86"/>
                  </a:moveTo>
                  <a:lnTo>
                    <a:pt x="94" y="87"/>
                  </a:lnTo>
                  <a:lnTo>
                    <a:pt x="85" y="85"/>
                  </a:lnTo>
                  <a:lnTo>
                    <a:pt x="76" y="80"/>
                  </a:lnTo>
                  <a:lnTo>
                    <a:pt x="67" y="75"/>
                  </a:lnTo>
                  <a:lnTo>
                    <a:pt x="57" y="68"/>
                  </a:lnTo>
                  <a:lnTo>
                    <a:pt x="49" y="61"/>
                  </a:lnTo>
                  <a:lnTo>
                    <a:pt x="40" y="53"/>
                  </a:lnTo>
                  <a:lnTo>
                    <a:pt x="34" y="46"/>
                  </a:lnTo>
                  <a:lnTo>
                    <a:pt x="31" y="38"/>
                  </a:lnTo>
                  <a:lnTo>
                    <a:pt x="27" y="32"/>
                  </a:lnTo>
                  <a:lnTo>
                    <a:pt x="22" y="28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6" y="17"/>
                  </a:lnTo>
                  <a:lnTo>
                    <a:pt x="3" y="11"/>
                  </a:lnTo>
                  <a:lnTo>
                    <a:pt x="0" y="4"/>
                  </a:lnTo>
                  <a:lnTo>
                    <a:pt x="9" y="0"/>
                  </a:lnTo>
                  <a:lnTo>
                    <a:pt x="103" y="8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1"/>
            <p:cNvSpPr/>
            <p:nvPr/>
          </p:nvSpPr>
          <p:spPr>
            <a:xfrm flipH="1">
              <a:off x="1443600" y="5366520"/>
              <a:ext cx="104400" cy="9180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6" h="146">
                  <a:moveTo>
                    <a:pt x="138" y="49"/>
                  </a:moveTo>
                  <a:lnTo>
                    <a:pt x="146" y="67"/>
                  </a:lnTo>
                  <a:lnTo>
                    <a:pt x="154" y="86"/>
                  </a:lnTo>
                  <a:lnTo>
                    <a:pt x="156" y="107"/>
                  </a:lnTo>
                  <a:lnTo>
                    <a:pt x="149" y="127"/>
                  </a:lnTo>
                  <a:lnTo>
                    <a:pt x="139" y="134"/>
                  </a:lnTo>
                  <a:lnTo>
                    <a:pt x="130" y="141"/>
                  </a:lnTo>
                  <a:lnTo>
                    <a:pt x="118" y="144"/>
                  </a:lnTo>
                  <a:lnTo>
                    <a:pt x="105" y="146"/>
                  </a:lnTo>
                  <a:lnTo>
                    <a:pt x="92" y="146"/>
                  </a:lnTo>
                  <a:lnTo>
                    <a:pt x="78" y="144"/>
                  </a:lnTo>
                  <a:lnTo>
                    <a:pt x="65" y="142"/>
                  </a:lnTo>
                  <a:lnTo>
                    <a:pt x="52" y="138"/>
                  </a:lnTo>
                  <a:lnTo>
                    <a:pt x="42" y="133"/>
                  </a:lnTo>
                  <a:lnTo>
                    <a:pt x="34" y="128"/>
                  </a:lnTo>
                  <a:lnTo>
                    <a:pt x="28" y="121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11" y="97"/>
                  </a:lnTo>
                  <a:lnTo>
                    <a:pt x="7" y="88"/>
                  </a:lnTo>
                  <a:lnTo>
                    <a:pt x="0" y="81"/>
                  </a:lnTo>
                  <a:lnTo>
                    <a:pt x="7" y="61"/>
                  </a:lnTo>
                  <a:lnTo>
                    <a:pt x="9" y="40"/>
                  </a:lnTo>
                  <a:lnTo>
                    <a:pt x="14" y="21"/>
                  </a:lnTo>
                  <a:lnTo>
                    <a:pt x="29" y="9"/>
                  </a:lnTo>
                  <a:lnTo>
                    <a:pt x="46" y="2"/>
                  </a:lnTo>
                  <a:lnTo>
                    <a:pt x="63" y="0"/>
                  </a:lnTo>
                  <a:lnTo>
                    <a:pt x="78" y="4"/>
                  </a:lnTo>
                  <a:lnTo>
                    <a:pt x="93" y="10"/>
                  </a:lnTo>
                  <a:lnTo>
                    <a:pt x="107" y="19"/>
                  </a:lnTo>
                  <a:lnTo>
                    <a:pt x="119" y="29"/>
                  </a:lnTo>
                  <a:lnTo>
                    <a:pt x="130" y="40"/>
                  </a:lnTo>
                  <a:lnTo>
                    <a:pt x="138" y="4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2"/>
            <p:cNvSpPr/>
            <p:nvPr/>
          </p:nvSpPr>
          <p:spPr>
            <a:xfrm flipH="1">
              <a:off x="1594080" y="5406480"/>
              <a:ext cx="105840" cy="820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57" h="129">
                  <a:moveTo>
                    <a:pt x="156" y="62"/>
                  </a:moveTo>
                  <a:lnTo>
                    <a:pt x="157" y="79"/>
                  </a:lnTo>
                  <a:lnTo>
                    <a:pt x="154" y="97"/>
                  </a:lnTo>
                  <a:lnTo>
                    <a:pt x="147" y="112"/>
                  </a:lnTo>
                  <a:lnTo>
                    <a:pt x="135" y="122"/>
                  </a:lnTo>
                  <a:lnTo>
                    <a:pt x="122" y="126"/>
                  </a:lnTo>
                  <a:lnTo>
                    <a:pt x="109" y="129"/>
                  </a:lnTo>
                  <a:lnTo>
                    <a:pt x="97" y="129"/>
                  </a:lnTo>
                  <a:lnTo>
                    <a:pt x="85" y="128"/>
                  </a:lnTo>
                  <a:lnTo>
                    <a:pt x="74" y="124"/>
                  </a:lnTo>
                  <a:lnTo>
                    <a:pt x="63" y="121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4" y="107"/>
                  </a:lnTo>
                  <a:lnTo>
                    <a:pt x="27" y="100"/>
                  </a:lnTo>
                  <a:lnTo>
                    <a:pt x="19" y="93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2" y="75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3"/>
                  </a:lnTo>
                  <a:lnTo>
                    <a:pt x="12" y="25"/>
                  </a:lnTo>
                  <a:lnTo>
                    <a:pt x="19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65" y="0"/>
                  </a:lnTo>
                  <a:lnTo>
                    <a:pt x="81" y="2"/>
                  </a:lnTo>
                  <a:lnTo>
                    <a:pt x="97" y="8"/>
                  </a:lnTo>
                  <a:lnTo>
                    <a:pt x="111" y="17"/>
                  </a:lnTo>
                  <a:lnTo>
                    <a:pt x="123" y="27"/>
                  </a:lnTo>
                  <a:lnTo>
                    <a:pt x="135" y="38"/>
                  </a:lnTo>
                  <a:lnTo>
                    <a:pt x="146" y="5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3"/>
            <p:cNvSpPr/>
            <p:nvPr/>
          </p:nvSpPr>
          <p:spPr>
            <a:xfrm flipH="1">
              <a:off x="1497240" y="5431680"/>
              <a:ext cx="18720" cy="1404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" h="24">
                  <a:moveTo>
                    <a:pt x="29" y="24"/>
                  </a:moveTo>
                  <a:lnTo>
                    <a:pt x="0" y="15"/>
                  </a:lnTo>
                  <a:lnTo>
                    <a:pt x="3" y="1"/>
                  </a:lnTo>
                  <a:lnTo>
                    <a:pt x="14" y="0"/>
                  </a:lnTo>
                  <a:lnTo>
                    <a:pt x="21" y="5"/>
                  </a:lnTo>
                  <a:lnTo>
                    <a:pt x="26" y="15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4"/>
            <p:cNvSpPr/>
            <p:nvPr/>
          </p:nvSpPr>
          <p:spPr>
            <a:xfrm flipH="1">
              <a:off x="1609200" y="5457240"/>
              <a:ext cx="16920" cy="136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5" h="23">
                  <a:moveTo>
                    <a:pt x="25" y="20"/>
                  </a:moveTo>
                  <a:lnTo>
                    <a:pt x="21" y="22"/>
                  </a:lnTo>
                  <a:lnTo>
                    <a:pt x="14" y="23"/>
                  </a:lnTo>
                  <a:lnTo>
                    <a:pt x="9" y="22"/>
                  </a:lnTo>
                  <a:lnTo>
                    <a:pt x="5" y="17"/>
                  </a:lnTo>
                  <a:lnTo>
                    <a:pt x="0" y="0"/>
                  </a:lnTo>
                  <a:lnTo>
                    <a:pt x="8" y="1"/>
                  </a:lnTo>
                  <a:lnTo>
                    <a:pt x="18" y="5"/>
                  </a:lnTo>
                  <a:lnTo>
                    <a:pt x="24" y="11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5"/>
            <p:cNvSpPr/>
            <p:nvPr/>
          </p:nvSpPr>
          <p:spPr>
            <a:xfrm flipH="1">
              <a:off x="1575000" y="5482440"/>
              <a:ext cx="34560" cy="4428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" h="69">
                  <a:moveTo>
                    <a:pt x="52" y="69"/>
                  </a:moveTo>
                  <a:lnTo>
                    <a:pt x="45" y="67"/>
                  </a:lnTo>
                  <a:lnTo>
                    <a:pt x="39" y="64"/>
                  </a:lnTo>
                  <a:lnTo>
                    <a:pt x="31" y="62"/>
                  </a:lnTo>
                  <a:lnTo>
                    <a:pt x="24" y="59"/>
                  </a:lnTo>
                  <a:lnTo>
                    <a:pt x="18" y="57"/>
                  </a:lnTo>
                  <a:lnTo>
                    <a:pt x="11" y="52"/>
                  </a:lnTo>
                  <a:lnTo>
                    <a:pt x="6" y="47"/>
                  </a:lnTo>
                  <a:lnTo>
                    <a:pt x="0" y="40"/>
                  </a:lnTo>
                  <a:lnTo>
                    <a:pt x="46" y="0"/>
                  </a:lnTo>
                  <a:lnTo>
                    <a:pt x="52" y="15"/>
                  </a:lnTo>
                  <a:lnTo>
                    <a:pt x="53" y="33"/>
                  </a:lnTo>
                  <a:lnTo>
                    <a:pt x="52" y="51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6"/>
            <p:cNvSpPr/>
            <p:nvPr/>
          </p:nvSpPr>
          <p:spPr>
            <a:xfrm flipH="1">
              <a:off x="1187640" y="5488920"/>
              <a:ext cx="70920" cy="5832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06" h="94">
                  <a:moveTo>
                    <a:pt x="106" y="3"/>
                  </a:moveTo>
                  <a:lnTo>
                    <a:pt x="96" y="18"/>
                  </a:lnTo>
                  <a:lnTo>
                    <a:pt x="85" y="32"/>
                  </a:lnTo>
                  <a:lnTo>
                    <a:pt x="74" y="46"/>
                  </a:lnTo>
                  <a:lnTo>
                    <a:pt x="61" y="57"/>
                  </a:lnTo>
                  <a:lnTo>
                    <a:pt x="47" y="66"/>
                  </a:lnTo>
                  <a:lnTo>
                    <a:pt x="32" y="76"/>
                  </a:lnTo>
                  <a:lnTo>
                    <a:pt x="17" y="85"/>
                  </a:lnTo>
                  <a:lnTo>
                    <a:pt x="0" y="94"/>
                  </a:lnTo>
                  <a:lnTo>
                    <a:pt x="7" y="77"/>
                  </a:lnTo>
                  <a:lnTo>
                    <a:pt x="16" y="59"/>
                  </a:lnTo>
                  <a:lnTo>
                    <a:pt x="25" y="41"/>
                  </a:lnTo>
                  <a:lnTo>
                    <a:pt x="36" y="26"/>
                  </a:lnTo>
                  <a:lnTo>
                    <a:pt x="51" y="13"/>
                  </a:lnTo>
                  <a:lnTo>
                    <a:pt x="66" y="4"/>
                  </a:lnTo>
                  <a:lnTo>
                    <a:pt x="85" y="0"/>
                  </a:lnTo>
                  <a:lnTo>
                    <a:pt x="106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7"/>
            <p:cNvSpPr/>
            <p:nvPr/>
          </p:nvSpPr>
          <p:spPr>
            <a:xfrm flipH="1">
              <a:off x="1451520" y="5533200"/>
              <a:ext cx="18720" cy="936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9" h="16">
                  <a:moveTo>
                    <a:pt x="29" y="13"/>
                  </a:moveTo>
                  <a:lnTo>
                    <a:pt x="23" y="14"/>
                  </a:lnTo>
                  <a:lnTo>
                    <a:pt x="15" y="16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8"/>
            <p:cNvSpPr/>
            <p:nvPr/>
          </p:nvSpPr>
          <p:spPr>
            <a:xfrm flipH="1">
              <a:off x="1648800" y="5544360"/>
              <a:ext cx="178920" cy="142560"/>
            </a:xfrm>
            <a:custGeom>
              <a:avLst/>
              <a:gdLst>
                <a:gd name="textAreaLeft" fmla="*/ -360 w 178920"/>
                <a:gd name="textAreaRight" fmla="*/ 178920 w 178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68" h="226">
                  <a:moveTo>
                    <a:pt x="182" y="45"/>
                  </a:moveTo>
                  <a:lnTo>
                    <a:pt x="190" y="50"/>
                  </a:lnTo>
                  <a:lnTo>
                    <a:pt x="198" y="53"/>
                  </a:lnTo>
                  <a:lnTo>
                    <a:pt x="208" y="56"/>
                  </a:lnTo>
                  <a:lnTo>
                    <a:pt x="216" y="60"/>
                  </a:lnTo>
                  <a:lnTo>
                    <a:pt x="226" y="61"/>
                  </a:lnTo>
                  <a:lnTo>
                    <a:pt x="236" y="61"/>
                  </a:lnTo>
                  <a:lnTo>
                    <a:pt x="245" y="60"/>
                  </a:lnTo>
                  <a:lnTo>
                    <a:pt x="254" y="57"/>
                  </a:lnTo>
                  <a:lnTo>
                    <a:pt x="257" y="59"/>
                  </a:lnTo>
                  <a:lnTo>
                    <a:pt x="262" y="62"/>
                  </a:lnTo>
                  <a:lnTo>
                    <a:pt x="268" y="67"/>
                  </a:lnTo>
                  <a:lnTo>
                    <a:pt x="268" y="77"/>
                  </a:lnTo>
                  <a:lnTo>
                    <a:pt x="260" y="85"/>
                  </a:lnTo>
                  <a:lnTo>
                    <a:pt x="250" y="92"/>
                  </a:lnTo>
                  <a:lnTo>
                    <a:pt x="239" y="97"/>
                  </a:lnTo>
                  <a:lnTo>
                    <a:pt x="227" y="100"/>
                  </a:lnTo>
                  <a:lnTo>
                    <a:pt x="214" y="101"/>
                  </a:lnTo>
                  <a:lnTo>
                    <a:pt x="201" y="101"/>
                  </a:lnTo>
                  <a:lnTo>
                    <a:pt x="188" y="99"/>
                  </a:lnTo>
                  <a:lnTo>
                    <a:pt x="176" y="95"/>
                  </a:lnTo>
                  <a:lnTo>
                    <a:pt x="167" y="89"/>
                  </a:lnTo>
                  <a:lnTo>
                    <a:pt x="158" y="84"/>
                  </a:lnTo>
                  <a:lnTo>
                    <a:pt x="151" y="79"/>
                  </a:lnTo>
                  <a:lnTo>
                    <a:pt x="143" y="76"/>
                  </a:lnTo>
                  <a:lnTo>
                    <a:pt x="133" y="74"/>
                  </a:lnTo>
                  <a:lnTo>
                    <a:pt x="123" y="75"/>
                  </a:lnTo>
                  <a:lnTo>
                    <a:pt x="110" y="78"/>
                  </a:lnTo>
                  <a:lnTo>
                    <a:pt x="96" y="86"/>
                  </a:lnTo>
                  <a:lnTo>
                    <a:pt x="81" y="96"/>
                  </a:lnTo>
                  <a:lnTo>
                    <a:pt x="72" y="106"/>
                  </a:lnTo>
                  <a:lnTo>
                    <a:pt x="64" y="117"/>
                  </a:lnTo>
                  <a:lnTo>
                    <a:pt x="59" y="129"/>
                  </a:lnTo>
                  <a:lnTo>
                    <a:pt x="55" y="141"/>
                  </a:lnTo>
                  <a:lnTo>
                    <a:pt x="53" y="153"/>
                  </a:lnTo>
                  <a:lnTo>
                    <a:pt x="50" y="166"/>
                  </a:lnTo>
                  <a:lnTo>
                    <a:pt x="46" y="178"/>
                  </a:lnTo>
                  <a:lnTo>
                    <a:pt x="9" y="226"/>
                  </a:lnTo>
                  <a:lnTo>
                    <a:pt x="7" y="214"/>
                  </a:lnTo>
                  <a:lnTo>
                    <a:pt x="2" y="183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13" y="84"/>
                  </a:lnTo>
                  <a:lnTo>
                    <a:pt x="23" y="67"/>
                  </a:lnTo>
                  <a:lnTo>
                    <a:pt x="34" y="52"/>
                  </a:lnTo>
                  <a:lnTo>
                    <a:pt x="46" y="39"/>
                  </a:lnTo>
                  <a:lnTo>
                    <a:pt x="59" y="27"/>
                  </a:lnTo>
                  <a:lnTo>
                    <a:pt x="75" y="17"/>
                  </a:lnTo>
                  <a:lnTo>
                    <a:pt x="93" y="8"/>
                  </a:lnTo>
                  <a:lnTo>
                    <a:pt x="115" y="0"/>
                  </a:lnTo>
                  <a:lnTo>
                    <a:pt x="129" y="3"/>
                  </a:lnTo>
                  <a:lnTo>
                    <a:pt x="140" y="7"/>
                  </a:lnTo>
                  <a:lnTo>
                    <a:pt x="148" y="12"/>
                  </a:lnTo>
                  <a:lnTo>
                    <a:pt x="156" y="19"/>
                  </a:lnTo>
                  <a:lnTo>
                    <a:pt x="164" y="27"/>
                  </a:lnTo>
                  <a:lnTo>
                    <a:pt x="170" y="33"/>
                  </a:lnTo>
                  <a:lnTo>
                    <a:pt x="176" y="40"/>
                  </a:lnTo>
                  <a:lnTo>
                    <a:pt x="182" y="4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9"/>
            <p:cNvSpPr/>
            <p:nvPr/>
          </p:nvSpPr>
          <p:spPr>
            <a:xfrm flipH="1">
              <a:off x="1145520" y="5547600"/>
              <a:ext cx="295920" cy="159840"/>
            </a:xfrm>
            <a:custGeom>
              <a:avLst/>
              <a:gdLst>
                <a:gd name="textAreaLeft" fmla="*/ 360 w 295920"/>
                <a:gd name="textAreaRight" fmla="*/ 296640 w 2959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40" h="251">
                  <a:moveTo>
                    <a:pt x="440" y="66"/>
                  </a:moveTo>
                  <a:lnTo>
                    <a:pt x="437" y="91"/>
                  </a:lnTo>
                  <a:lnTo>
                    <a:pt x="426" y="110"/>
                  </a:lnTo>
                  <a:lnTo>
                    <a:pt x="410" y="125"/>
                  </a:lnTo>
                  <a:lnTo>
                    <a:pt x="390" y="136"/>
                  </a:lnTo>
                  <a:lnTo>
                    <a:pt x="369" y="147"/>
                  </a:lnTo>
                  <a:lnTo>
                    <a:pt x="348" y="159"/>
                  </a:lnTo>
                  <a:lnTo>
                    <a:pt x="331" y="173"/>
                  </a:lnTo>
                  <a:lnTo>
                    <a:pt x="317" y="191"/>
                  </a:lnTo>
                  <a:lnTo>
                    <a:pt x="324" y="192"/>
                  </a:lnTo>
                  <a:lnTo>
                    <a:pt x="330" y="192"/>
                  </a:lnTo>
                  <a:lnTo>
                    <a:pt x="334" y="190"/>
                  </a:lnTo>
                  <a:lnTo>
                    <a:pt x="339" y="188"/>
                  </a:lnTo>
                  <a:lnTo>
                    <a:pt x="344" y="185"/>
                  </a:lnTo>
                  <a:lnTo>
                    <a:pt x="349" y="182"/>
                  </a:lnTo>
                  <a:lnTo>
                    <a:pt x="355" y="179"/>
                  </a:lnTo>
                  <a:lnTo>
                    <a:pt x="360" y="177"/>
                  </a:lnTo>
                  <a:lnTo>
                    <a:pt x="358" y="185"/>
                  </a:lnTo>
                  <a:lnTo>
                    <a:pt x="355" y="193"/>
                  </a:lnTo>
                  <a:lnTo>
                    <a:pt x="351" y="201"/>
                  </a:lnTo>
                  <a:lnTo>
                    <a:pt x="347" y="207"/>
                  </a:lnTo>
                  <a:lnTo>
                    <a:pt x="342" y="213"/>
                  </a:lnTo>
                  <a:lnTo>
                    <a:pt x="335" y="217"/>
                  </a:lnTo>
                  <a:lnTo>
                    <a:pt x="326" y="222"/>
                  </a:lnTo>
                  <a:lnTo>
                    <a:pt x="317" y="225"/>
                  </a:lnTo>
                  <a:lnTo>
                    <a:pt x="310" y="227"/>
                  </a:lnTo>
                  <a:lnTo>
                    <a:pt x="302" y="227"/>
                  </a:lnTo>
                  <a:lnTo>
                    <a:pt x="294" y="225"/>
                  </a:lnTo>
                  <a:lnTo>
                    <a:pt x="288" y="222"/>
                  </a:lnTo>
                  <a:lnTo>
                    <a:pt x="282" y="217"/>
                  </a:lnTo>
                  <a:lnTo>
                    <a:pt x="279" y="212"/>
                  </a:lnTo>
                  <a:lnTo>
                    <a:pt x="277" y="206"/>
                  </a:lnTo>
                  <a:lnTo>
                    <a:pt x="278" y="202"/>
                  </a:lnTo>
                  <a:lnTo>
                    <a:pt x="276" y="188"/>
                  </a:lnTo>
                  <a:lnTo>
                    <a:pt x="278" y="177"/>
                  </a:lnTo>
                  <a:lnTo>
                    <a:pt x="283" y="168"/>
                  </a:lnTo>
                  <a:lnTo>
                    <a:pt x="290" y="160"/>
                  </a:lnTo>
                  <a:lnTo>
                    <a:pt x="297" y="152"/>
                  </a:lnTo>
                  <a:lnTo>
                    <a:pt x="301" y="144"/>
                  </a:lnTo>
                  <a:lnTo>
                    <a:pt x="302" y="134"/>
                  </a:lnTo>
                  <a:lnTo>
                    <a:pt x="298" y="122"/>
                  </a:lnTo>
                  <a:lnTo>
                    <a:pt x="290" y="134"/>
                  </a:lnTo>
                  <a:lnTo>
                    <a:pt x="280" y="144"/>
                  </a:lnTo>
                  <a:lnTo>
                    <a:pt x="271" y="152"/>
                  </a:lnTo>
                  <a:lnTo>
                    <a:pt x="264" y="161"/>
                  </a:lnTo>
                  <a:lnTo>
                    <a:pt x="258" y="170"/>
                  </a:lnTo>
                  <a:lnTo>
                    <a:pt x="255" y="180"/>
                  </a:lnTo>
                  <a:lnTo>
                    <a:pt x="257" y="193"/>
                  </a:lnTo>
                  <a:lnTo>
                    <a:pt x="264" y="208"/>
                  </a:lnTo>
                  <a:lnTo>
                    <a:pt x="259" y="214"/>
                  </a:lnTo>
                  <a:lnTo>
                    <a:pt x="254" y="216"/>
                  </a:lnTo>
                  <a:lnTo>
                    <a:pt x="248" y="216"/>
                  </a:lnTo>
                  <a:lnTo>
                    <a:pt x="243" y="214"/>
                  </a:lnTo>
                  <a:lnTo>
                    <a:pt x="237" y="211"/>
                  </a:lnTo>
                  <a:lnTo>
                    <a:pt x="232" y="207"/>
                  </a:lnTo>
                  <a:lnTo>
                    <a:pt x="227" y="204"/>
                  </a:lnTo>
                  <a:lnTo>
                    <a:pt x="224" y="202"/>
                  </a:lnTo>
                  <a:lnTo>
                    <a:pt x="222" y="189"/>
                  </a:lnTo>
                  <a:lnTo>
                    <a:pt x="223" y="178"/>
                  </a:lnTo>
                  <a:lnTo>
                    <a:pt x="226" y="167"/>
                  </a:lnTo>
                  <a:lnTo>
                    <a:pt x="232" y="157"/>
                  </a:lnTo>
                  <a:lnTo>
                    <a:pt x="236" y="147"/>
                  </a:lnTo>
                  <a:lnTo>
                    <a:pt x="243" y="138"/>
                  </a:lnTo>
                  <a:lnTo>
                    <a:pt x="247" y="127"/>
                  </a:lnTo>
                  <a:lnTo>
                    <a:pt x="252" y="116"/>
                  </a:lnTo>
                  <a:lnTo>
                    <a:pt x="246" y="118"/>
                  </a:lnTo>
                  <a:lnTo>
                    <a:pt x="240" y="121"/>
                  </a:lnTo>
                  <a:lnTo>
                    <a:pt x="232" y="124"/>
                  </a:lnTo>
                  <a:lnTo>
                    <a:pt x="225" y="129"/>
                  </a:lnTo>
                  <a:lnTo>
                    <a:pt x="219" y="135"/>
                  </a:lnTo>
                  <a:lnTo>
                    <a:pt x="213" y="141"/>
                  </a:lnTo>
                  <a:lnTo>
                    <a:pt x="209" y="149"/>
                  </a:lnTo>
                  <a:lnTo>
                    <a:pt x="207" y="157"/>
                  </a:lnTo>
                  <a:lnTo>
                    <a:pt x="201" y="202"/>
                  </a:lnTo>
                  <a:lnTo>
                    <a:pt x="196" y="206"/>
                  </a:lnTo>
                  <a:lnTo>
                    <a:pt x="190" y="208"/>
                  </a:lnTo>
                  <a:lnTo>
                    <a:pt x="185" y="207"/>
                  </a:lnTo>
                  <a:lnTo>
                    <a:pt x="180" y="206"/>
                  </a:lnTo>
                  <a:lnTo>
                    <a:pt x="176" y="203"/>
                  </a:lnTo>
                  <a:lnTo>
                    <a:pt x="173" y="197"/>
                  </a:lnTo>
                  <a:lnTo>
                    <a:pt x="169" y="192"/>
                  </a:lnTo>
                  <a:lnTo>
                    <a:pt x="167" y="185"/>
                  </a:lnTo>
                  <a:lnTo>
                    <a:pt x="167" y="177"/>
                  </a:lnTo>
                  <a:lnTo>
                    <a:pt x="170" y="166"/>
                  </a:lnTo>
                  <a:lnTo>
                    <a:pt x="176" y="152"/>
                  </a:lnTo>
                  <a:lnTo>
                    <a:pt x="182" y="138"/>
                  </a:lnTo>
                  <a:lnTo>
                    <a:pt x="190" y="125"/>
                  </a:lnTo>
                  <a:lnTo>
                    <a:pt x="198" y="112"/>
                  </a:lnTo>
                  <a:lnTo>
                    <a:pt x="204" y="101"/>
                  </a:lnTo>
                  <a:lnTo>
                    <a:pt x="210" y="92"/>
                  </a:lnTo>
                  <a:lnTo>
                    <a:pt x="200" y="95"/>
                  </a:lnTo>
                  <a:lnTo>
                    <a:pt x="190" y="100"/>
                  </a:lnTo>
                  <a:lnTo>
                    <a:pt x="181" y="105"/>
                  </a:lnTo>
                  <a:lnTo>
                    <a:pt x="174" y="112"/>
                  </a:lnTo>
                  <a:lnTo>
                    <a:pt x="166" y="121"/>
                  </a:lnTo>
                  <a:lnTo>
                    <a:pt x="161" y="129"/>
                  </a:lnTo>
                  <a:lnTo>
                    <a:pt x="154" y="138"/>
                  </a:lnTo>
                  <a:lnTo>
                    <a:pt x="150" y="148"/>
                  </a:lnTo>
                  <a:lnTo>
                    <a:pt x="131" y="161"/>
                  </a:lnTo>
                  <a:lnTo>
                    <a:pt x="113" y="176"/>
                  </a:lnTo>
                  <a:lnTo>
                    <a:pt x="98" y="190"/>
                  </a:lnTo>
                  <a:lnTo>
                    <a:pt x="83" y="204"/>
                  </a:lnTo>
                  <a:lnTo>
                    <a:pt x="66" y="217"/>
                  </a:lnTo>
                  <a:lnTo>
                    <a:pt x="51" y="230"/>
                  </a:lnTo>
                  <a:lnTo>
                    <a:pt x="32" y="241"/>
                  </a:lnTo>
                  <a:lnTo>
                    <a:pt x="12" y="251"/>
                  </a:lnTo>
                  <a:lnTo>
                    <a:pt x="5" y="251"/>
                  </a:lnTo>
                  <a:lnTo>
                    <a:pt x="0" y="247"/>
                  </a:lnTo>
                  <a:lnTo>
                    <a:pt x="0" y="238"/>
                  </a:lnTo>
                  <a:lnTo>
                    <a:pt x="1" y="227"/>
                  </a:lnTo>
                  <a:lnTo>
                    <a:pt x="6" y="222"/>
                  </a:lnTo>
                  <a:lnTo>
                    <a:pt x="10" y="215"/>
                  </a:lnTo>
                  <a:lnTo>
                    <a:pt x="15" y="208"/>
                  </a:lnTo>
                  <a:lnTo>
                    <a:pt x="21" y="202"/>
                  </a:lnTo>
                  <a:lnTo>
                    <a:pt x="28" y="194"/>
                  </a:lnTo>
                  <a:lnTo>
                    <a:pt x="34" y="186"/>
                  </a:lnTo>
                  <a:lnTo>
                    <a:pt x="43" y="179"/>
                  </a:lnTo>
                  <a:lnTo>
                    <a:pt x="52" y="171"/>
                  </a:lnTo>
                  <a:lnTo>
                    <a:pt x="65" y="159"/>
                  </a:lnTo>
                  <a:lnTo>
                    <a:pt x="78" y="147"/>
                  </a:lnTo>
                  <a:lnTo>
                    <a:pt x="93" y="135"/>
                  </a:lnTo>
                  <a:lnTo>
                    <a:pt x="107" y="123"/>
                  </a:lnTo>
                  <a:lnTo>
                    <a:pt x="122" y="111"/>
                  </a:lnTo>
                  <a:lnTo>
                    <a:pt x="136" y="99"/>
                  </a:lnTo>
                  <a:lnTo>
                    <a:pt x="153" y="88"/>
                  </a:lnTo>
                  <a:lnTo>
                    <a:pt x="168" y="77"/>
                  </a:lnTo>
                  <a:lnTo>
                    <a:pt x="185" y="66"/>
                  </a:lnTo>
                  <a:lnTo>
                    <a:pt x="201" y="55"/>
                  </a:lnTo>
                  <a:lnTo>
                    <a:pt x="219" y="45"/>
                  </a:lnTo>
                  <a:lnTo>
                    <a:pt x="236" y="35"/>
                  </a:lnTo>
                  <a:lnTo>
                    <a:pt x="255" y="25"/>
                  </a:lnTo>
                  <a:lnTo>
                    <a:pt x="274" y="16"/>
                  </a:lnTo>
                  <a:lnTo>
                    <a:pt x="292" y="8"/>
                  </a:lnTo>
                  <a:lnTo>
                    <a:pt x="312" y="0"/>
                  </a:lnTo>
                  <a:lnTo>
                    <a:pt x="332" y="1"/>
                  </a:lnTo>
                  <a:lnTo>
                    <a:pt x="351" y="3"/>
                  </a:lnTo>
                  <a:lnTo>
                    <a:pt x="370" y="9"/>
                  </a:lnTo>
                  <a:lnTo>
                    <a:pt x="388" y="15"/>
                  </a:lnTo>
                  <a:lnTo>
                    <a:pt x="403" y="25"/>
                  </a:lnTo>
                  <a:lnTo>
                    <a:pt x="417" y="36"/>
                  </a:lnTo>
                  <a:lnTo>
                    <a:pt x="429" y="49"/>
                  </a:lnTo>
                  <a:lnTo>
                    <a:pt x="440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0"/>
            <p:cNvSpPr/>
            <p:nvPr/>
          </p:nvSpPr>
          <p:spPr>
            <a:xfrm flipH="1">
              <a:off x="798120" y="5577480"/>
              <a:ext cx="133200" cy="26748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97" h="423">
                  <a:moveTo>
                    <a:pt x="103" y="211"/>
                  </a:moveTo>
                  <a:lnTo>
                    <a:pt x="91" y="238"/>
                  </a:lnTo>
                  <a:lnTo>
                    <a:pt x="78" y="266"/>
                  </a:lnTo>
                  <a:lnTo>
                    <a:pt x="64" y="292"/>
                  </a:lnTo>
                  <a:lnTo>
                    <a:pt x="51" y="319"/>
                  </a:lnTo>
                  <a:lnTo>
                    <a:pt x="37" y="346"/>
                  </a:lnTo>
                  <a:lnTo>
                    <a:pt x="24" y="372"/>
                  </a:lnTo>
                  <a:lnTo>
                    <a:pt x="12" y="397"/>
                  </a:lnTo>
                  <a:lnTo>
                    <a:pt x="0" y="423"/>
                  </a:lnTo>
                  <a:lnTo>
                    <a:pt x="8" y="395"/>
                  </a:lnTo>
                  <a:lnTo>
                    <a:pt x="18" y="368"/>
                  </a:lnTo>
                  <a:lnTo>
                    <a:pt x="29" y="340"/>
                  </a:lnTo>
                  <a:lnTo>
                    <a:pt x="41" y="313"/>
                  </a:lnTo>
                  <a:lnTo>
                    <a:pt x="53" y="285"/>
                  </a:lnTo>
                  <a:lnTo>
                    <a:pt x="65" y="258"/>
                  </a:lnTo>
                  <a:lnTo>
                    <a:pt x="79" y="232"/>
                  </a:lnTo>
                  <a:lnTo>
                    <a:pt x="92" y="204"/>
                  </a:lnTo>
                  <a:lnTo>
                    <a:pt x="106" y="178"/>
                  </a:lnTo>
                  <a:lnTo>
                    <a:pt x="119" y="151"/>
                  </a:lnTo>
                  <a:lnTo>
                    <a:pt x="132" y="125"/>
                  </a:lnTo>
                  <a:lnTo>
                    <a:pt x="147" y="99"/>
                  </a:lnTo>
                  <a:lnTo>
                    <a:pt x="160" y="74"/>
                  </a:lnTo>
                  <a:lnTo>
                    <a:pt x="173" y="48"/>
                  </a:lnTo>
                  <a:lnTo>
                    <a:pt x="185" y="24"/>
                  </a:lnTo>
                  <a:lnTo>
                    <a:pt x="197" y="0"/>
                  </a:lnTo>
                  <a:lnTo>
                    <a:pt x="187" y="29"/>
                  </a:lnTo>
                  <a:lnTo>
                    <a:pt x="174" y="61"/>
                  </a:lnTo>
                  <a:lnTo>
                    <a:pt x="159" y="97"/>
                  </a:lnTo>
                  <a:lnTo>
                    <a:pt x="142" y="131"/>
                  </a:lnTo>
                  <a:lnTo>
                    <a:pt x="127" y="162"/>
                  </a:lnTo>
                  <a:lnTo>
                    <a:pt x="115" y="188"/>
                  </a:lnTo>
                  <a:lnTo>
                    <a:pt x="106" y="204"/>
                  </a:lnTo>
                  <a:lnTo>
                    <a:pt x="103" y="2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1"/>
            <p:cNvSpPr/>
            <p:nvPr/>
          </p:nvSpPr>
          <p:spPr>
            <a:xfrm flipH="1">
              <a:off x="1757880" y="5610600"/>
              <a:ext cx="20520" cy="237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1" h="38">
                  <a:moveTo>
                    <a:pt x="0" y="38"/>
                  </a:moveTo>
                  <a:lnTo>
                    <a:pt x="31" y="0"/>
                  </a:lnTo>
                  <a:lnTo>
                    <a:pt x="17" y="2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2"/>
            <p:cNvSpPr/>
            <p:nvPr/>
          </p:nvSpPr>
          <p:spPr>
            <a:xfrm flipH="1">
              <a:off x="1068480" y="5851800"/>
              <a:ext cx="321480" cy="37440"/>
            </a:xfrm>
            <a:custGeom>
              <a:avLst/>
              <a:gdLst>
                <a:gd name="textAreaLeft" fmla="*/ -360 w 321480"/>
                <a:gd name="textAreaRight" fmla="*/ 321480 w 321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81" h="58">
                  <a:moveTo>
                    <a:pt x="481" y="48"/>
                  </a:moveTo>
                  <a:lnTo>
                    <a:pt x="469" y="57"/>
                  </a:lnTo>
                  <a:lnTo>
                    <a:pt x="438" y="58"/>
                  </a:lnTo>
                  <a:lnTo>
                    <a:pt x="408" y="57"/>
                  </a:lnTo>
                  <a:lnTo>
                    <a:pt x="379" y="54"/>
                  </a:lnTo>
                  <a:lnTo>
                    <a:pt x="349" y="50"/>
                  </a:lnTo>
                  <a:lnTo>
                    <a:pt x="319" y="45"/>
                  </a:lnTo>
                  <a:lnTo>
                    <a:pt x="290" y="39"/>
                  </a:lnTo>
                  <a:lnTo>
                    <a:pt x="260" y="33"/>
                  </a:lnTo>
                  <a:lnTo>
                    <a:pt x="231" y="27"/>
                  </a:lnTo>
                  <a:lnTo>
                    <a:pt x="202" y="22"/>
                  </a:lnTo>
                  <a:lnTo>
                    <a:pt x="173" y="17"/>
                  </a:lnTo>
                  <a:lnTo>
                    <a:pt x="145" y="14"/>
                  </a:lnTo>
                  <a:lnTo>
                    <a:pt x="115" y="13"/>
                  </a:lnTo>
                  <a:lnTo>
                    <a:pt x="87" y="15"/>
                  </a:lnTo>
                  <a:lnTo>
                    <a:pt x="58" y="18"/>
                  </a:lnTo>
                  <a:lnTo>
                    <a:pt x="28" y="25"/>
                  </a:lnTo>
                  <a:lnTo>
                    <a:pt x="0" y="36"/>
                  </a:lnTo>
                  <a:lnTo>
                    <a:pt x="26" y="22"/>
                  </a:lnTo>
                  <a:lnTo>
                    <a:pt x="54" y="11"/>
                  </a:lnTo>
                  <a:lnTo>
                    <a:pt x="80" y="4"/>
                  </a:lnTo>
                  <a:lnTo>
                    <a:pt x="109" y="1"/>
                  </a:lnTo>
                  <a:lnTo>
                    <a:pt x="136" y="0"/>
                  </a:lnTo>
                  <a:lnTo>
                    <a:pt x="163" y="1"/>
                  </a:lnTo>
                  <a:lnTo>
                    <a:pt x="192" y="4"/>
                  </a:lnTo>
                  <a:lnTo>
                    <a:pt x="221" y="8"/>
                  </a:lnTo>
                  <a:lnTo>
                    <a:pt x="249" y="14"/>
                  </a:lnTo>
                  <a:lnTo>
                    <a:pt x="278" y="20"/>
                  </a:lnTo>
                  <a:lnTo>
                    <a:pt x="306" y="26"/>
                  </a:lnTo>
                  <a:lnTo>
                    <a:pt x="335" y="33"/>
                  </a:lnTo>
                  <a:lnTo>
                    <a:pt x="363" y="38"/>
                  </a:lnTo>
                  <a:lnTo>
                    <a:pt x="392" y="41"/>
                  </a:lnTo>
                  <a:lnTo>
                    <a:pt x="420" y="45"/>
                  </a:lnTo>
                  <a:lnTo>
                    <a:pt x="449" y="45"/>
                  </a:lnTo>
                  <a:lnTo>
                    <a:pt x="481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3"/>
            <p:cNvSpPr/>
            <p:nvPr/>
          </p:nvSpPr>
          <p:spPr>
            <a:xfrm flipH="1">
              <a:off x="1179720" y="5894640"/>
              <a:ext cx="210600" cy="23400"/>
            </a:xfrm>
            <a:custGeom>
              <a:avLst/>
              <a:gdLst>
                <a:gd name="textAreaLeft" fmla="*/ -360 w 210600"/>
                <a:gd name="textAreaRight" fmla="*/ 210600 w 210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14" h="39">
                  <a:moveTo>
                    <a:pt x="314" y="39"/>
                  </a:moveTo>
                  <a:lnTo>
                    <a:pt x="295" y="39"/>
                  </a:lnTo>
                  <a:lnTo>
                    <a:pt x="275" y="37"/>
                  </a:lnTo>
                  <a:lnTo>
                    <a:pt x="257" y="34"/>
                  </a:lnTo>
                  <a:lnTo>
                    <a:pt x="237" y="32"/>
                  </a:lnTo>
                  <a:lnTo>
                    <a:pt x="217" y="29"/>
                  </a:lnTo>
                  <a:lnTo>
                    <a:pt x="197" y="26"/>
                  </a:lnTo>
                  <a:lnTo>
                    <a:pt x="178" y="22"/>
                  </a:lnTo>
                  <a:lnTo>
                    <a:pt x="158" y="19"/>
                  </a:lnTo>
                  <a:lnTo>
                    <a:pt x="138" y="17"/>
                  </a:lnTo>
                  <a:lnTo>
                    <a:pt x="118" y="16"/>
                  </a:lnTo>
                  <a:lnTo>
                    <a:pt x="99" y="15"/>
                  </a:lnTo>
                  <a:lnTo>
                    <a:pt x="79" y="15"/>
                  </a:lnTo>
                  <a:lnTo>
                    <a:pt x="59" y="17"/>
                  </a:lnTo>
                  <a:lnTo>
                    <a:pt x="39" y="20"/>
                  </a:lnTo>
                  <a:lnTo>
                    <a:pt x="20" y="26"/>
                  </a:lnTo>
                  <a:lnTo>
                    <a:pt x="0" y="32"/>
                  </a:lnTo>
                  <a:lnTo>
                    <a:pt x="18" y="22"/>
                  </a:lnTo>
                  <a:lnTo>
                    <a:pt x="36" y="14"/>
                  </a:lnTo>
                  <a:lnTo>
                    <a:pt x="55" y="8"/>
                  </a:lnTo>
                  <a:lnTo>
                    <a:pt x="75" y="4"/>
                  </a:lnTo>
                  <a:lnTo>
                    <a:pt x="95" y="1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7" y="1"/>
                  </a:lnTo>
                  <a:lnTo>
                    <a:pt x="178" y="5"/>
                  </a:lnTo>
                  <a:lnTo>
                    <a:pt x="199" y="8"/>
                  </a:lnTo>
                  <a:lnTo>
                    <a:pt x="219" y="12"/>
                  </a:lnTo>
                  <a:lnTo>
                    <a:pt x="239" y="17"/>
                  </a:lnTo>
                  <a:lnTo>
                    <a:pt x="259" y="22"/>
                  </a:lnTo>
                  <a:lnTo>
                    <a:pt x="278" y="28"/>
                  </a:lnTo>
                  <a:lnTo>
                    <a:pt x="296" y="33"/>
                  </a:lnTo>
                  <a:lnTo>
                    <a:pt x="314" y="3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4"/>
            <p:cNvSpPr/>
            <p:nvPr/>
          </p:nvSpPr>
          <p:spPr>
            <a:xfrm flipH="1">
              <a:off x="763920" y="5447520"/>
              <a:ext cx="1150920" cy="402480"/>
            </a:xfrm>
            <a:custGeom>
              <a:avLst/>
              <a:gdLst>
                <a:gd name="textAreaLeft" fmla="*/ -360 w 1150920"/>
                <a:gd name="textAreaRight" fmla="*/ 1150920 w 11509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712" h="634">
                  <a:moveTo>
                    <a:pt x="1712" y="0"/>
                  </a:moveTo>
                  <a:lnTo>
                    <a:pt x="1696" y="26"/>
                  </a:lnTo>
                  <a:lnTo>
                    <a:pt x="1681" y="51"/>
                  </a:lnTo>
                  <a:lnTo>
                    <a:pt x="1668" y="76"/>
                  </a:lnTo>
                  <a:lnTo>
                    <a:pt x="1655" y="100"/>
                  </a:lnTo>
                  <a:lnTo>
                    <a:pt x="1643" y="123"/>
                  </a:lnTo>
                  <a:lnTo>
                    <a:pt x="1632" y="145"/>
                  </a:lnTo>
                  <a:lnTo>
                    <a:pt x="1621" y="167"/>
                  </a:lnTo>
                  <a:lnTo>
                    <a:pt x="1611" y="188"/>
                  </a:lnTo>
                  <a:lnTo>
                    <a:pt x="1600" y="208"/>
                  </a:lnTo>
                  <a:lnTo>
                    <a:pt x="1590" y="230"/>
                  </a:lnTo>
                  <a:lnTo>
                    <a:pt x="1581" y="251"/>
                  </a:lnTo>
                  <a:lnTo>
                    <a:pt x="1571" y="273"/>
                  </a:lnTo>
                  <a:lnTo>
                    <a:pt x="1561" y="295"/>
                  </a:lnTo>
                  <a:lnTo>
                    <a:pt x="1550" y="318"/>
                  </a:lnTo>
                  <a:lnTo>
                    <a:pt x="1541" y="341"/>
                  </a:lnTo>
                  <a:lnTo>
                    <a:pt x="1530" y="365"/>
                  </a:lnTo>
                  <a:lnTo>
                    <a:pt x="1410" y="611"/>
                  </a:lnTo>
                  <a:lnTo>
                    <a:pt x="1364" y="625"/>
                  </a:lnTo>
                  <a:lnTo>
                    <a:pt x="1319" y="633"/>
                  </a:lnTo>
                  <a:lnTo>
                    <a:pt x="1275" y="634"/>
                  </a:lnTo>
                  <a:lnTo>
                    <a:pt x="1231" y="630"/>
                  </a:lnTo>
                  <a:lnTo>
                    <a:pt x="1188" y="622"/>
                  </a:lnTo>
                  <a:lnTo>
                    <a:pt x="1147" y="611"/>
                  </a:lnTo>
                  <a:lnTo>
                    <a:pt x="1105" y="599"/>
                  </a:lnTo>
                  <a:lnTo>
                    <a:pt x="1063" y="586"/>
                  </a:lnTo>
                  <a:lnTo>
                    <a:pt x="1023" y="575"/>
                  </a:lnTo>
                  <a:lnTo>
                    <a:pt x="982" y="565"/>
                  </a:lnTo>
                  <a:lnTo>
                    <a:pt x="941" y="558"/>
                  </a:lnTo>
                  <a:lnTo>
                    <a:pt x="901" y="556"/>
                  </a:lnTo>
                  <a:lnTo>
                    <a:pt x="860" y="560"/>
                  </a:lnTo>
                  <a:lnTo>
                    <a:pt x="821" y="569"/>
                  </a:lnTo>
                  <a:lnTo>
                    <a:pt x="780" y="588"/>
                  </a:lnTo>
                  <a:lnTo>
                    <a:pt x="739" y="616"/>
                  </a:lnTo>
                  <a:lnTo>
                    <a:pt x="748" y="585"/>
                  </a:lnTo>
                  <a:lnTo>
                    <a:pt x="759" y="554"/>
                  </a:lnTo>
                  <a:lnTo>
                    <a:pt x="775" y="524"/>
                  </a:lnTo>
                  <a:lnTo>
                    <a:pt x="791" y="496"/>
                  </a:lnTo>
                  <a:lnTo>
                    <a:pt x="807" y="467"/>
                  </a:lnTo>
                  <a:lnTo>
                    <a:pt x="824" y="439"/>
                  </a:lnTo>
                  <a:lnTo>
                    <a:pt x="838" y="411"/>
                  </a:lnTo>
                  <a:lnTo>
                    <a:pt x="851" y="383"/>
                  </a:lnTo>
                  <a:lnTo>
                    <a:pt x="848" y="381"/>
                  </a:lnTo>
                  <a:lnTo>
                    <a:pt x="828" y="407"/>
                  </a:lnTo>
                  <a:lnTo>
                    <a:pt x="809" y="437"/>
                  </a:lnTo>
                  <a:lnTo>
                    <a:pt x="790" y="467"/>
                  </a:lnTo>
                  <a:lnTo>
                    <a:pt x="772" y="498"/>
                  </a:lnTo>
                  <a:lnTo>
                    <a:pt x="755" y="531"/>
                  </a:lnTo>
                  <a:lnTo>
                    <a:pt x="737" y="563"/>
                  </a:lnTo>
                  <a:lnTo>
                    <a:pt x="721" y="594"/>
                  </a:lnTo>
                  <a:lnTo>
                    <a:pt x="704" y="623"/>
                  </a:lnTo>
                  <a:lnTo>
                    <a:pt x="693" y="621"/>
                  </a:lnTo>
                  <a:lnTo>
                    <a:pt x="682" y="617"/>
                  </a:lnTo>
                  <a:lnTo>
                    <a:pt x="670" y="611"/>
                  </a:lnTo>
                  <a:lnTo>
                    <a:pt x="659" y="605"/>
                  </a:lnTo>
                  <a:lnTo>
                    <a:pt x="647" y="599"/>
                  </a:lnTo>
                  <a:lnTo>
                    <a:pt x="635" y="594"/>
                  </a:lnTo>
                  <a:lnTo>
                    <a:pt x="624" y="589"/>
                  </a:lnTo>
                  <a:lnTo>
                    <a:pt x="613" y="587"/>
                  </a:lnTo>
                  <a:lnTo>
                    <a:pt x="577" y="575"/>
                  </a:lnTo>
                  <a:lnTo>
                    <a:pt x="541" y="567"/>
                  </a:lnTo>
                  <a:lnTo>
                    <a:pt x="505" y="562"/>
                  </a:lnTo>
                  <a:lnTo>
                    <a:pt x="468" y="558"/>
                  </a:lnTo>
                  <a:lnTo>
                    <a:pt x="432" y="557"/>
                  </a:lnTo>
                  <a:lnTo>
                    <a:pt x="396" y="558"/>
                  </a:lnTo>
                  <a:lnTo>
                    <a:pt x="360" y="560"/>
                  </a:lnTo>
                  <a:lnTo>
                    <a:pt x="324" y="562"/>
                  </a:lnTo>
                  <a:lnTo>
                    <a:pt x="287" y="565"/>
                  </a:lnTo>
                  <a:lnTo>
                    <a:pt x="250" y="568"/>
                  </a:lnTo>
                  <a:lnTo>
                    <a:pt x="213" y="571"/>
                  </a:lnTo>
                  <a:lnTo>
                    <a:pt x="174" y="572"/>
                  </a:lnTo>
                  <a:lnTo>
                    <a:pt x="136" y="571"/>
                  </a:lnTo>
                  <a:lnTo>
                    <a:pt x="97" y="569"/>
                  </a:lnTo>
                  <a:lnTo>
                    <a:pt x="58" y="564"/>
                  </a:lnTo>
                  <a:lnTo>
                    <a:pt x="17" y="557"/>
                  </a:lnTo>
                  <a:lnTo>
                    <a:pt x="0" y="546"/>
                  </a:lnTo>
                  <a:lnTo>
                    <a:pt x="17" y="530"/>
                  </a:lnTo>
                  <a:lnTo>
                    <a:pt x="34" y="515"/>
                  </a:lnTo>
                  <a:lnTo>
                    <a:pt x="50" y="498"/>
                  </a:lnTo>
                  <a:lnTo>
                    <a:pt x="67" y="482"/>
                  </a:lnTo>
                  <a:lnTo>
                    <a:pt x="83" y="465"/>
                  </a:lnTo>
                  <a:lnTo>
                    <a:pt x="99" y="448"/>
                  </a:lnTo>
                  <a:lnTo>
                    <a:pt x="115" y="431"/>
                  </a:lnTo>
                  <a:lnTo>
                    <a:pt x="130" y="414"/>
                  </a:lnTo>
                  <a:lnTo>
                    <a:pt x="146" y="396"/>
                  </a:lnTo>
                  <a:lnTo>
                    <a:pt x="161" y="378"/>
                  </a:lnTo>
                  <a:lnTo>
                    <a:pt x="176" y="360"/>
                  </a:lnTo>
                  <a:lnTo>
                    <a:pt x="192" y="342"/>
                  </a:lnTo>
                  <a:lnTo>
                    <a:pt x="207" y="323"/>
                  </a:lnTo>
                  <a:lnTo>
                    <a:pt x="223" y="304"/>
                  </a:lnTo>
                  <a:lnTo>
                    <a:pt x="237" y="284"/>
                  </a:lnTo>
                  <a:lnTo>
                    <a:pt x="252" y="264"/>
                  </a:lnTo>
                  <a:lnTo>
                    <a:pt x="260" y="259"/>
                  </a:lnTo>
                  <a:lnTo>
                    <a:pt x="269" y="257"/>
                  </a:lnTo>
                  <a:lnTo>
                    <a:pt x="277" y="259"/>
                  </a:lnTo>
                  <a:lnTo>
                    <a:pt x="287" y="263"/>
                  </a:lnTo>
                  <a:lnTo>
                    <a:pt x="297" y="269"/>
                  </a:lnTo>
                  <a:lnTo>
                    <a:pt x="308" y="274"/>
                  </a:lnTo>
                  <a:lnTo>
                    <a:pt x="319" y="279"/>
                  </a:lnTo>
                  <a:lnTo>
                    <a:pt x="330" y="280"/>
                  </a:lnTo>
                  <a:lnTo>
                    <a:pt x="343" y="279"/>
                  </a:lnTo>
                  <a:lnTo>
                    <a:pt x="356" y="278"/>
                  </a:lnTo>
                  <a:lnTo>
                    <a:pt x="370" y="274"/>
                  </a:lnTo>
                  <a:lnTo>
                    <a:pt x="383" y="269"/>
                  </a:lnTo>
                  <a:lnTo>
                    <a:pt x="394" y="262"/>
                  </a:lnTo>
                  <a:lnTo>
                    <a:pt x="405" y="254"/>
                  </a:lnTo>
                  <a:lnTo>
                    <a:pt x="412" y="245"/>
                  </a:lnTo>
                  <a:lnTo>
                    <a:pt x="418" y="233"/>
                  </a:lnTo>
                  <a:lnTo>
                    <a:pt x="416" y="215"/>
                  </a:lnTo>
                  <a:lnTo>
                    <a:pt x="408" y="203"/>
                  </a:lnTo>
                  <a:lnTo>
                    <a:pt x="397" y="196"/>
                  </a:lnTo>
                  <a:lnTo>
                    <a:pt x="383" y="193"/>
                  </a:lnTo>
                  <a:lnTo>
                    <a:pt x="369" y="192"/>
                  </a:lnTo>
                  <a:lnTo>
                    <a:pt x="353" y="192"/>
                  </a:lnTo>
                  <a:lnTo>
                    <a:pt x="339" y="190"/>
                  </a:lnTo>
                  <a:lnTo>
                    <a:pt x="327" y="186"/>
                  </a:lnTo>
                  <a:lnTo>
                    <a:pt x="317" y="179"/>
                  </a:lnTo>
                  <a:lnTo>
                    <a:pt x="311" y="172"/>
                  </a:lnTo>
                  <a:lnTo>
                    <a:pt x="310" y="168"/>
                  </a:lnTo>
                  <a:lnTo>
                    <a:pt x="311" y="163"/>
                  </a:lnTo>
                  <a:lnTo>
                    <a:pt x="315" y="158"/>
                  </a:lnTo>
                  <a:lnTo>
                    <a:pt x="317" y="151"/>
                  </a:lnTo>
                  <a:lnTo>
                    <a:pt x="319" y="143"/>
                  </a:lnTo>
                  <a:lnTo>
                    <a:pt x="318" y="129"/>
                  </a:lnTo>
                  <a:lnTo>
                    <a:pt x="319" y="125"/>
                  </a:lnTo>
                  <a:lnTo>
                    <a:pt x="324" y="114"/>
                  </a:lnTo>
                  <a:lnTo>
                    <a:pt x="332" y="101"/>
                  </a:lnTo>
                  <a:lnTo>
                    <a:pt x="347" y="89"/>
                  </a:lnTo>
                  <a:lnTo>
                    <a:pt x="359" y="88"/>
                  </a:lnTo>
                  <a:lnTo>
                    <a:pt x="370" y="88"/>
                  </a:lnTo>
                  <a:lnTo>
                    <a:pt x="381" y="88"/>
                  </a:lnTo>
                  <a:lnTo>
                    <a:pt x="390" y="89"/>
                  </a:lnTo>
                  <a:lnTo>
                    <a:pt x="400" y="91"/>
                  </a:lnTo>
                  <a:lnTo>
                    <a:pt x="410" y="93"/>
                  </a:lnTo>
                  <a:lnTo>
                    <a:pt x="419" y="98"/>
                  </a:lnTo>
                  <a:lnTo>
                    <a:pt x="427" y="102"/>
                  </a:lnTo>
                  <a:lnTo>
                    <a:pt x="437" y="110"/>
                  </a:lnTo>
                  <a:lnTo>
                    <a:pt x="446" y="117"/>
                  </a:lnTo>
                  <a:lnTo>
                    <a:pt x="456" y="125"/>
                  </a:lnTo>
                  <a:lnTo>
                    <a:pt x="466" y="133"/>
                  </a:lnTo>
                  <a:lnTo>
                    <a:pt x="476" y="141"/>
                  </a:lnTo>
                  <a:lnTo>
                    <a:pt x="486" y="149"/>
                  </a:lnTo>
                  <a:lnTo>
                    <a:pt x="496" y="157"/>
                  </a:lnTo>
                  <a:lnTo>
                    <a:pt x="506" y="164"/>
                  </a:lnTo>
                  <a:lnTo>
                    <a:pt x="517" y="172"/>
                  </a:lnTo>
                  <a:lnTo>
                    <a:pt x="527" y="179"/>
                  </a:lnTo>
                  <a:lnTo>
                    <a:pt x="539" y="185"/>
                  </a:lnTo>
                  <a:lnTo>
                    <a:pt x="551" y="192"/>
                  </a:lnTo>
                  <a:lnTo>
                    <a:pt x="563" y="199"/>
                  </a:lnTo>
                  <a:lnTo>
                    <a:pt x="576" y="204"/>
                  </a:lnTo>
                  <a:lnTo>
                    <a:pt x="590" y="208"/>
                  </a:lnTo>
                  <a:lnTo>
                    <a:pt x="604" y="213"/>
                  </a:lnTo>
                  <a:lnTo>
                    <a:pt x="617" y="216"/>
                  </a:lnTo>
                  <a:lnTo>
                    <a:pt x="630" y="218"/>
                  </a:lnTo>
                  <a:lnTo>
                    <a:pt x="642" y="220"/>
                  </a:lnTo>
                  <a:lnTo>
                    <a:pt x="654" y="223"/>
                  </a:lnTo>
                  <a:lnTo>
                    <a:pt x="665" y="225"/>
                  </a:lnTo>
                  <a:lnTo>
                    <a:pt x="677" y="226"/>
                  </a:lnTo>
                  <a:lnTo>
                    <a:pt x="688" y="227"/>
                  </a:lnTo>
                  <a:lnTo>
                    <a:pt x="700" y="227"/>
                  </a:lnTo>
                  <a:lnTo>
                    <a:pt x="711" y="226"/>
                  </a:lnTo>
                  <a:lnTo>
                    <a:pt x="723" y="226"/>
                  </a:lnTo>
                  <a:lnTo>
                    <a:pt x="734" y="224"/>
                  </a:lnTo>
                  <a:lnTo>
                    <a:pt x="746" y="222"/>
                  </a:lnTo>
                  <a:lnTo>
                    <a:pt x="757" y="219"/>
                  </a:lnTo>
                  <a:lnTo>
                    <a:pt x="769" y="216"/>
                  </a:lnTo>
                  <a:lnTo>
                    <a:pt x="781" y="212"/>
                  </a:lnTo>
                  <a:lnTo>
                    <a:pt x="793" y="206"/>
                  </a:lnTo>
                  <a:lnTo>
                    <a:pt x="810" y="194"/>
                  </a:lnTo>
                  <a:lnTo>
                    <a:pt x="826" y="181"/>
                  </a:lnTo>
                  <a:lnTo>
                    <a:pt x="841" y="167"/>
                  </a:lnTo>
                  <a:lnTo>
                    <a:pt x="856" y="150"/>
                  </a:lnTo>
                  <a:lnTo>
                    <a:pt x="869" y="133"/>
                  </a:lnTo>
                  <a:lnTo>
                    <a:pt x="880" y="114"/>
                  </a:lnTo>
                  <a:lnTo>
                    <a:pt x="889" y="94"/>
                  </a:lnTo>
                  <a:lnTo>
                    <a:pt x="896" y="74"/>
                  </a:lnTo>
                  <a:lnTo>
                    <a:pt x="906" y="68"/>
                  </a:lnTo>
                  <a:lnTo>
                    <a:pt x="917" y="65"/>
                  </a:lnTo>
                  <a:lnTo>
                    <a:pt x="928" y="65"/>
                  </a:lnTo>
                  <a:lnTo>
                    <a:pt x="939" y="67"/>
                  </a:lnTo>
                  <a:lnTo>
                    <a:pt x="951" y="70"/>
                  </a:lnTo>
                  <a:lnTo>
                    <a:pt x="962" y="74"/>
                  </a:lnTo>
                  <a:lnTo>
                    <a:pt x="973" y="79"/>
                  </a:lnTo>
                  <a:lnTo>
                    <a:pt x="984" y="83"/>
                  </a:lnTo>
                  <a:lnTo>
                    <a:pt x="986" y="95"/>
                  </a:lnTo>
                  <a:lnTo>
                    <a:pt x="984" y="107"/>
                  </a:lnTo>
                  <a:lnTo>
                    <a:pt x="980" y="119"/>
                  </a:lnTo>
                  <a:lnTo>
                    <a:pt x="972" y="130"/>
                  </a:lnTo>
                  <a:lnTo>
                    <a:pt x="963" y="141"/>
                  </a:lnTo>
                  <a:lnTo>
                    <a:pt x="955" y="154"/>
                  </a:lnTo>
                  <a:lnTo>
                    <a:pt x="947" y="166"/>
                  </a:lnTo>
                  <a:lnTo>
                    <a:pt x="939" y="178"/>
                  </a:lnTo>
                  <a:lnTo>
                    <a:pt x="918" y="186"/>
                  </a:lnTo>
                  <a:lnTo>
                    <a:pt x="897" y="197"/>
                  </a:lnTo>
                  <a:lnTo>
                    <a:pt x="876" y="209"/>
                  </a:lnTo>
                  <a:lnTo>
                    <a:pt x="854" y="222"/>
                  </a:lnTo>
                  <a:lnTo>
                    <a:pt x="832" y="235"/>
                  </a:lnTo>
                  <a:lnTo>
                    <a:pt x="811" y="250"/>
                  </a:lnTo>
                  <a:lnTo>
                    <a:pt x="790" y="264"/>
                  </a:lnTo>
                  <a:lnTo>
                    <a:pt x="771" y="281"/>
                  </a:lnTo>
                  <a:lnTo>
                    <a:pt x="753" y="297"/>
                  </a:lnTo>
                  <a:lnTo>
                    <a:pt x="736" y="314"/>
                  </a:lnTo>
                  <a:lnTo>
                    <a:pt x="721" y="330"/>
                  </a:lnTo>
                  <a:lnTo>
                    <a:pt x="708" y="348"/>
                  </a:lnTo>
                  <a:lnTo>
                    <a:pt x="697" y="365"/>
                  </a:lnTo>
                  <a:lnTo>
                    <a:pt x="688" y="383"/>
                  </a:lnTo>
                  <a:lnTo>
                    <a:pt x="682" y="400"/>
                  </a:lnTo>
                  <a:lnTo>
                    <a:pt x="679" y="418"/>
                  </a:lnTo>
                  <a:lnTo>
                    <a:pt x="687" y="429"/>
                  </a:lnTo>
                  <a:lnTo>
                    <a:pt x="697" y="433"/>
                  </a:lnTo>
                  <a:lnTo>
                    <a:pt x="707" y="434"/>
                  </a:lnTo>
                  <a:lnTo>
                    <a:pt x="717" y="431"/>
                  </a:lnTo>
                  <a:lnTo>
                    <a:pt x="728" y="427"/>
                  </a:lnTo>
                  <a:lnTo>
                    <a:pt x="738" y="421"/>
                  </a:lnTo>
                  <a:lnTo>
                    <a:pt x="748" y="416"/>
                  </a:lnTo>
                  <a:lnTo>
                    <a:pt x="756" y="411"/>
                  </a:lnTo>
                  <a:lnTo>
                    <a:pt x="769" y="404"/>
                  </a:lnTo>
                  <a:lnTo>
                    <a:pt x="780" y="394"/>
                  </a:lnTo>
                  <a:lnTo>
                    <a:pt x="792" y="382"/>
                  </a:lnTo>
                  <a:lnTo>
                    <a:pt x="803" y="369"/>
                  </a:lnTo>
                  <a:lnTo>
                    <a:pt x="814" y="358"/>
                  </a:lnTo>
                  <a:lnTo>
                    <a:pt x="826" y="349"/>
                  </a:lnTo>
                  <a:lnTo>
                    <a:pt x="839" y="344"/>
                  </a:lnTo>
                  <a:lnTo>
                    <a:pt x="854" y="346"/>
                  </a:lnTo>
                  <a:lnTo>
                    <a:pt x="857" y="364"/>
                  </a:lnTo>
                  <a:lnTo>
                    <a:pt x="865" y="375"/>
                  </a:lnTo>
                  <a:lnTo>
                    <a:pt x="877" y="383"/>
                  </a:lnTo>
                  <a:lnTo>
                    <a:pt x="892" y="386"/>
                  </a:lnTo>
                  <a:lnTo>
                    <a:pt x="908" y="388"/>
                  </a:lnTo>
                  <a:lnTo>
                    <a:pt x="925" y="391"/>
                  </a:lnTo>
                  <a:lnTo>
                    <a:pt x="940" y="394"/>
                  </a:lnTo>
                  <a:lnTo>
                    <a:pt x="953" y="400"/>
                  </a:lnTo>
                  <a:lnTo>
                    <a:pt x="965" y="399"/>
                  </a:lnTo>
                  <a:lnTo>
                    <a:pt x="979" y="402"/>
                  </a:lnTo>
                  <a:lnTo>
                    <a:pt x="992" y="404"/>
                  </a:lnTo>
                  <a:lnTo>
                    <a:pt x="1005" y="407"/>
                  </a:lnTo>
                  <a:lnTo>
                    <a:pt x="1018" y="408"/>
                  </a:lnTo>
                  <a:lnTo>
                    <a:pt x="1031" y="407"/>
                  </a:lnTo>
                  <a:lnTo>
                    <a:pt x="1042" y="402"/>
                  </a:lnTo>
                  <a:lnTo>
                    <a:pt x="1053" y="392"/>
                  </a:lnTo>
                  <a:lnTo>
                    <a:pt x="1064" y="376"/>
                  </a:lnTo>
                  <a:lnTo>
                    <a:pt x="1073" y="362"/>
                  </a:lnTo>
                  <a:lnTo>
                    <a:pt x="1079" y="346"/>
                  </a:lnTo>
                  <a:lnTo>
                    <a:pt x="1079" y="329"/>
                  </a:lnTo>
                  <a:lnTo>
                    <a:pt x="1094" y="323"/>
                  </a:lnTo>
                  <a:lnTo>
                    <a:pt x="1108" y="316"/>
                  </a:lnTo>
                  <a:lnTo>
                    <a:pt x="1119" y="307"/>
                  </a:lnTo>
                  <a:lnTo>
                    <a:pt x="1130" y="297"/>
                  </a:lnTo>
                  <a:lnTo>
                    <a:pt x="1139" y="286"/>
                  </a:lnTo>
                  <a:lnTo>
                    <a:pt x="1148" y="275"/>
                  </a:lnTo>
                  <a:lnTo>
                    <a:pt x="1155" y="263"/>
                  </a:lnTo>
                  <a:lnTo>
                    <a:pt x="1162" y="250"/>
                  </a:lnTo>
                  <a:lnTo>
                    <a:pt x="1162" y="220"/>
                  </a:lnTo>
                  <a:lnTo>
                    <a:pt x="1151" y="196"/>
                  </a:lnTo>
                  <a:lnTo>
                    <a:pt x="1132" y="175"/>
                  </a:lnTo>
                  <a:lnTo>
                    <a:pt x="1108" y="160"/>
                  </a:lnTo>
                  <a:lnTo>
                    <a:pt x="1084" y="149"/>
                  </a:lnTo>
                  <a:lnTo>
                    <a:pt x="1063" y="140"/>
                  </a:lnTo>
                  <a:lnTo>
                    <a:pt x="1047" y="136"/>
                  </a:lnTo>
                  <a:lnTo>
                    <a:pt x="1041" y="135"/>
                  </a:lnTo>
                  <a:lnTo>
                    <a:pt x="1060" y="128"/>
                  </a:lnTo>
                  <a:lnTo>
                    <a:pt x="1079" y="126"/>
                  </a:lnTo>
                  <a:lnTo>
                    <a:pt x="1097" y="128"/>
                  </a:lnTo>
                  <a:lnTo>
                    <a:pt x="1116" y="134"/>
                  </a:lnTo>
                  <a:lnTo>
                    <a:pt x="1133" y="141"/>
                  </a:lnTo>
                  <a:lnTo>
                    <a:pt x="1151" y="150"/>
                  </a:lnTo>
                  <a:lnTo>
                    <a:pt x="1167" y="161"/>
                  </a:lnTo>
                  <a:lnTo>
                    <a:pt x="1182" y="172"/>
                  </a:lnTo>
                  <a:lnTo>
                    <a:pt x="1194" y="192"/>
                  </a:lnTo>
                  <a:lnTo>
                    <a:pt x="1205" y="220"/>
                  </a:lnTo>
                  <a:lnTo>
                    <a:pt x="1211" y="247"/>
                  </a:lnTo>
                  <a:lnTo>
                    <a:pt x="1214" y="258"/>
                  </a:lnTo>
                  <a:lnTo>
                    <a:pt x="1221" y="256"/>
                  </a:lnTo>
                  <a:lnTo>
                    <a:pt x="1230" y="250"/>
                  </a:lnTo>
                  <a:lnTo>
                    <a:pt x="1242" y="240"/>
                  </a:lnTo>
                  <a:lnTo>
                    <a:pt x="1255" y="228"/>
                  </a:lnTo>
                  <a:lnTo>
                    <a:pt x="1269" y="213"/>
                  </a:lnTo>
                  <a:lnTo>
                    <a:pt x="1284" y="195"/>
                  </a:lnTo>
                  <a:lnTo>
                    <a:pt x="1300" y="177"/>
                  </a:lnTo>
                  <a:lnTo>
                    <a:pt x="1316" y="157"/>
                  </a:lnTo>
                  <a:lnTo>
                    <a:pt x="1331" y="137"/>
                  </a:lnTo>
                  <a:lnTo>
                    <a:pt x="1345" y="116"/>
                  </a:lnTo>
                  <a:lnTo>
                    <a:pt x="1359" y="98"/>
                  </a:lnTo>
                  <a:lnTo>
                    <a:pt x="1372" y="80"/>
                  </a:lnTo>
                  <a:lnTo>
                    <a:pt x="1382" y="64"/>
                  </a:lnTo>
                  <a:lnTo>
                    <a:pt x="1391" y="49"/>
                  </a:lnTo>
                  <a:lnTo>
                    <a:pt x="1397" y="39"/>
                  </a:lnTo>
                  <a:lnTo>
                    <a:pt x="1400" y="32"/>
                  </a:lnTo>
                  <a:lnTo>
                    <a:pt x="1419" y="25"/>
                  </a:lnTo>
                  <a:lnTo>
                    <a:pt x="1437" y="23"/>
                  </a:lnTo>
                  <a:lnTo>
                    <a:pt x="1458" y="24"/>
                  </a:lnTo>
                  <a:lnTo>
                    <a:pt x="1479" y="26"/>
                  </a:lnTo>
                  <a:lnTo>
                    <a:pt x="1501" y="29"/>
                  </a:lnTo>
                  <a:lnTo>
                    <a:pt x="1522" y="32"/>
                  </a:lnTo>
                  <a:lnTo>
                    <a:pt x="1542" y="33"/>
                  </a:lnTo>
                  <a:lnTo>
                    <a:pt x="1560" y="32"/>
                  </a:lnTo>
                  <a:lnTo>
                    <a:pt x="1580" y="28"/>
                  </a:lnTo>
                  <a:lnTo>
                    <a:pt x="1599" y="24"/>
                  </a:lnTo>
                  <a:lnTo>
                    <a:pt x="1617" y="22"/>
                  </a:lnTo>
                  <a:lnTo>
                    <a:pt x="1635" y="19"/>
                  </a:lnTo>
                  <a:lnTo>
                    <a:pt x="1654" y="15"/>
                  </a:lnTo>
                  <a:lnTo>
                    <a:pt x="1672" y="11"/>
                  </a:lnTo>
                  <a:lnTo>
                    <a:pt x="1691" y="5"/>
                  </a:lnTo>
                  <a:lnTo>
                    <a:pt x="171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14720" y="188640"/>
            <a:ext cx="675000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шаговые действия технологии деятельностного подход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8400" y="135684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Самоопределение к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оздаются условия для возникновения внутреннеё потребности включение в деятельность (хоч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выделяется содержательная область (мог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. Актуализация знаний и фикс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подготовку мышления детей к проектировоч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3.Постановка учеб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- этот этап связан с постановкой цели и формулировкой (или уточнением) темы у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4.Построение проекта выхода из затруднения детьми нового зн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предполагается выбор учащимися метода разрешения проблемной ситуации, и на основе выбранного метода выдвижение и проверка ими гипоте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999720"/>
            <a:ext cx="8435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Первичное закрепление во внешней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Учащиеся в форме коммуникативного взаимодействия решают типовые задания на новый способ действий с проговариванием установленного алгоритма во внешней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6.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Самостоятельная работа с самопроверкой по этало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используется индивидуальная форма рабо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уч-ся самостоятельно выполняют задания на применение нов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пособа действий, осуществляют их самопроверку, пошагово сравнив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 образцом, и сами оценивают её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7.Включение в систему знаний и повто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новое знание включается в систему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8.Рефлексия деятельности (итог урок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организуется самооценка учениками деятельности на уро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8:21:25Z</dcterms:created>
  <dc:creator>User</dc:creator>
  <dc:description/>
  <dc:language>en-US</dc:language>
  <cp:lastModifiedBy>Admin</cp:lastModifiedBy>
  <dcterms:modified xsi:type="dcterms:W3CDTF">2011-11-02T14:46:48Z</dcterms:modified>
  <cp:revision>20</cp:revision>
  <dc:subject/>
  <dc:title>Слайд 1</dc:title>
</cp:coreProperties>
</file>