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51A-7D22-48FD-B703-4610F32D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8E5-7738-4FDF-BF62-A7E3D1C7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46E-D5D3-4D32-AFBE-5A6C8854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88B-723D-45DC-8AEF-14EA1414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B14-DA8B-4E42-99FB-D8C9F7EB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C77-957B-4827-B7F8-A18EC27B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ACE-B3BA-48AB-B64A-1AA49846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E69-373B-4643-BB76-4A354EFA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9C4-1EE8-4225-9F38-D237E69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D82-33E8-461D-8578-CB9A04A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1A8-3923-49FD-BA48-9F73114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DD6-7C24-4C88-A6AE-9F6E856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4E7-F788-4EBC-98CB-C6B797862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НОКУЛЬТУРНЫЙ КОМПЛЕКС «АТАМАН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0016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Димка\Рабочий стол\ataman1.jpg"/>
          <p:cNvPicPr/>
          <p:nvPr/>
        </p:nvPicPr>
        <p:blipFill>
          <a:blip r:embed="rId1"/>
          <a:stretch/>
        </p:blipFill>
        <p:spPr>
          <a:xfrm>
            <a:off x="1428840" y="200016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Димка\Рабочий стол\ataman40.jpg"/>
          <p:cNvPicPr/>
          <p:nvPr/>
        </p:nvPicPr>
        <p:blipFill>
          <a:blip r:embed="rId1"/>
          <a:stretch/>
        </p:blipFill>
        <p:spPr>
          <a:xfrm>
            <a:off x="1357200" y="187200"/>
            <a:ext cx="607248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Димка\Рабочий стол\ataman30.jpg"/>
          <p:cNvPicPr/>
          <p:nvPr/>
        </p:nvPicPr>
        <p:blipFill>
          <a:blip r:embed="rId1"/>
          <a:stretch/>
        </p:blipFill>
        <p:spPr>
          <a:xfrm>
            <a:off x="357120" y="285840"/>
            <a:ext cx="8537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Димка\Рабочий стол\ataman41.jpg"/>
          <p:cNvPicPr/>
          <p:nvPr/>
        </p:nvPicPr>
        <p:blipFill>
          <a:blip r:embed="rId1"/>
          <a:stretch/>
        </p:blipFill>
        <p:spPr>
          <a:xfrm>
            <a:off x="500040" y="428760"/>
            <a:ext cx="82152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Димка\Рабочий стол\ataman26.jpg"/>
          <p:cNvPicPr/>
          <p:nvPr/>
        </p:nvPicPr>
        <p:blipFill>
          <a:blip r:embed="rId1"/>
          <a:stretch/>
        </p:blipFill>
        <p:spPr>
          <a:xfrm>
            <a:off x="428760" y="357120"/>
            <a:ext cx="8307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Димка\Рабочий стол\ataman24.jpg"/>
          <p:cNvPicPr/>
          <p:nvPr/>
        </p:nvPicPr>
        <p:blipFill>
          <a:blip r:embed="rId1"/>
          <a:stretch/>
        </p:blipFill>
        <p:spPr>
          <a:xfrm>
            <a:off x="500040" y="285840"/>
            <a:ext cx="8472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Димка\Рабочий стол\ataman7.jpg"/>
          <p:cNvPicPr/>
          <p:nvPr/>
        </p:nvPicPr>
        <p:blipFill>
          <a:blip r:embed="rId1"/>
          <a:stretch/>
        </p:blipFill>
        <p:spPr>
          <a:xfrm>
            <a:off x="428760" y="285840"/>
            <a:ext cx="8383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Димка\Рабочий стол\ataman4.jpg"/>
          <p:cNvPicPr/>
          <p:nvPr/>
        </p:nvPicPr>
        <p:blipFill>
          <a:blip r:embed="rId1"/>
          <a:stretch/>
        </p:blipFill>
        <p:spPr>
          <a:xfrm>
            <a:off x="214200" y="357120"/>
            <a:ext cx="87058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Димка\Рабочий стол\ataman13.jpg"/>
          <p:cNvPicPr/>
          <p:nvPr/>
        </p:nvPicPr>
        <p:blipFill>
          <a:blip r:embed="rId1"/>
          <a:stretch/>
        </p:blipFill>
        <p:spPr>
          <a:xfrm>
            <a:off x="428760" y="227160"/>
            <a:ext cx="835812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Димка\Рабочий стол\ataman3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имка\Рабочий стол\ataman22.jpg"/>
          <p:cNvPicPr/>
          <p:nvPr/>
        </p:nvPicPr>
        <p:blipFill>
          <a:blip r:embed="rId1"/>
          <a:stretch/>
        </p:blipFill>
        <p:spPr>
          <a:xfrm>
            <a:off x="1714680" y="130320"/>
            <a:ext cx="621504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Димка\Рабочий стол\ataman25.jpg"/>
          <p:cNvPicPr/>
          <p:nvPr/>
        </p:nvPicPr>
        <p:blipFill>
          <a:blip r:embed="rId1"/>
          <a:stretch/>
        </p:blipFill>
        <p:spPr>
          <a:xfrm>
            <a:off x="541440" y="285840"/>
            <a:ext cx="8173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Димка\Рабочий стол\ataman31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Димка\Рабочий стол\ataman46.jpg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Димка\Рабочий стол\ataman44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Димка\Рабочий стол\ataman45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15:35:40Z</dcterms:created>
  <dc:creator>Дима</dc:creator>
  <dc:description/>
  <dc:language>en-US</dc:language>
  <cp:lastModifiedBy>Дима</cp:lastModifiedBy>
  <dcterms:modified xsi:type="dcterms:W3CDTF">2011-08-14T16:28:35Z</dcterms:modified>
  <cp:revision>6</cp:revision>
  <dc:subject/>
  <dc:title>ЭТНОКУЛЬТУРНЫЙ КОМПЛЕКС «АТАМАНЬ»</dc:title>
</cp:coreProperties>
</file>