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DFD-95F8-4FAD-A472-DE7641B7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D6B-56A3-44F0-B183-33F76CD3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0E5-9C10-49AD-9044-1C87F003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081-DE07-41DE-BA8D-E6E1DCA9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C423-9BB0-4B7C-B3A0-9CAD8F41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CEBE-5B3C-4217-8460-DBBF6A08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283-6E2C-4D0C-B6FF-B8FE40B1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E36C-C2B1-4ECD-A48E-B846D7C6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9DFF-B1EA-4CD4-B5A7-3FB48D6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D7B9-7466-4F47-BDE7-A9A48BE3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45A7-1899-4301-93DD-7344775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DF3-CC9D-47D4-8E1D-47D177EA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0F7A-4FD3-4501-BCF6-57C35529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46BF-5964-4C3B-91E3-3B2BE84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E7F9-5ACB-4F35-85CF-628E82F2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4F1B-D3C6-4A31-BBBA-576FE773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486A-9BF7-4996-9220-1C777D54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876-D89B-4251-B195-0AE1D0A1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6A5-65F2-4384-AA13-FF623066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1AD-832A-4368-8EEC-B035B141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463-68A1-4E92-A48C-A1B0B5D4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57A-BF8D-4CFD-B61A-DE66AD0A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CDD-81DA-45D2-98E0-50BD62A7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9FE-6735-4F3E-BCD2-0AFD3244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27A1-03AC-4C12-9844-F4E7FAA77E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8739-A08D-4694-B626-173B4BC42D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2997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«Формирование познавательной самостоятельности через обучение младших школьников рациональным приёмам работы с информацией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имволы парных согласных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Рисунок 30" descr="парные согласные"/>
          <p:cNvPicPr/>
          <p:nvPr/>
        </p:nvPicPr>
        <p:blipFill>
          <a:blip r:embed="rId1"/>
          <a:stretch/>
        </p:blipFill>
        <p:spPr>
          <a:xfrm>
            <a:off x="826920" y="2276640"/>
            <a:ext cx="4264200" cy="2779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51640" y="2492280"/>
            <a:ext cx="433080" cy="2087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571920"/>
            <a:ext cx="1295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2492280"/>
            <a:ext cx="431640" cy="20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рфограммы в корне слов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92360" y="1989000"/>
          <a:ext cx="5616360" cy="42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89000"/>
                    <a:ext cx="5616360" cy="42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имволы орфограм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2600" y="2087640"/>
            <a:ext cx="7772400" cy="39751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2" descr="3424"/>
          <p:cNvPicPr/>
          <p:nvPr/>
        </p:nvPicPr>
        <p:blipFill>
          <a:blip r:embed="rId2"/>
          <a:stretch/>
        </p:blipFill>
        <p:spPr>
          <a:xfrm>
            <a:off x="3348000" y="3213000"/>
            <a:ext cx="757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онетический разбор в картинках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9180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63640" y="906480"/>
            <a:ext cx="65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ткуда слово выросло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Рисунок 40" descr="дерево"/>
          <p:cNvPicPr/>
          <p:nvPr/>
        </p:nvPicPr>
        <p:blipFill>
          <a:blip r:embed="rId1"/>
          <a:stretch/>
        </p:blipFill>
        <p:spPr>
          <a:xfrm>
            <a:off x="1042920" y="2205000"/>
            <a:ext cx="7520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Метапредметные результаты освоения основной образовательной программы начального обще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) Использование знаково-символических средств представления информации для создания моделей изучаемых объектов и процессов, схем решения учебных и практических задач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58920" y="2133720"/>
            <a:ext cx="7345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На этапе принятия учебной задач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– это умение осознать, вычленить, сформулировать информационный запрос, умение выбрать источник информации и оценить адекватность источника информации сформулированному запрос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На этапе поиска информаци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– умение эффективно работать с любыми доступными источниками: последовательно и правильно вести наблюдение, получать искомую информацию в познавательном общении со взрослыми и сверстниками, работать с текстовой информацией (в книге, компьютере), сужая при этом круг поиска рациональными приемами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На этапе обработки информаци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– умение отделять главное от второстепенного, структурировать и изменять объем информации в соответствии с учебной задачей (без изменения или с изменением системы кодирования последне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На этапе хранения информаци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– осознанное и эффективное использование учеником особенностей своей памяти при выборе способа кодирования информации, предназначенной для кратковременного или длительного хра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Технологическая цепочка обучения приёмам графического кодирова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Звенья технологической цеп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рамида пон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имволы орфограмм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поминание алгоритма учебного действ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глядные образы как средство кодирования информации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ирамида понят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Рисунок 1" descr="пирамида понятий"/>
          <p:cNvPicPr/>
          <p:nvPr/>
        </p:nvPicPr>
        <p:blipFill>
          <a:blip r:embed="rId1"/>
          <a:srcRect l="2167" t="0" r="0" b="0"/>
          <a:stretch/>
        </p:blipFill>
        <p:spPr>
          <a:xfrm>
            <a:off x="1403280" y="2359080"/>
            <a:ext cx="63374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одружки Фонетика и Орфограф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Рисунок 42" descr="IMG_0002"/>
          <p:cNvPicPr/>
          <p:nvPr/>
        </p:nvPicPr>
        <p:blipFill>
          <a:blip r:embed="rId1"/>
          <a:srcRect l="3698" t="0" r="23311" b="0"/>
          <a:stretch/>
        </p:blipFill>
        <p:spPr>
          <a:xfrm>
            <a:off x="611280" y="2133720"/>
            <a:ext cx="3587760" cy="3600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3" descr="IMG_0003"/>
          <p:cNvPicPr/>
          <p:nvPr/>
        </p:nvPicPr>
        <p:blipFill>
          <a:blip r:embed="rId2"/>
          <a:stretch/>
        </p:blipFill>
        <p:spPr>
          <a:xfrm>
            <a:off x="4716360" y="1989000"/>
            <a:ext cx="36925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Монетка с закодированным порядком фонетического разбор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959200" y="2976840"/>
            <a:ext cx="2647440" cy="23432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03640" y="3573360"/>
            <a:ext cx="790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95640" y="3284640"/>
            <a:ext cx="5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357336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 гостях у тётушки Морфологи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Рисунок 44" descr="IMG_0004"/>
          <p:cNvPicPr/>
          <p:nvPr/>
        </p:nvPicPr>
        <p:blipFill>
          <a:blip r:embed="rId1"/>
          <a:stretch/>
        </p:blipFill>
        <p:spPr>
          <a:xfrm>
            <a:off x="1403280" y="2060640"/>
            <a:ext cx="6120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имволы ударных и безударных гласных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294624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2" descr="3424"/>
          <p:cNvPicPr/>
          <p:nvPr/>
        </p:nvPicPr>
        <p:blipFill>
          <a:blip r:embed="rId2"/>
          <a:stretch/>
        </p:blipFill>
        <p:spPr>
          <a:xfrm>
            <a:off x="900000" y="2421000"/>
            <a:ext cx="3160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8:56:11Z</dcterms:created>
  <dc:creator>User</dc:creator>
  <dc:description/>
  <dc:language>en-US</dc:language>
  <cp:lastModifiedBy>User</cp:lastModifiedBy>
  <dcterms:modified xsi:type="dcterms:W3CDTF">2013-02-06T19:27:48Z</dcterms:modified>
  <cp:revision>2</cp:revision>
  <dc:subject/>
  <dc:title>«Формирование познавательной самостоятельности через обучение младших школьников рациональным приёмам работы с информацией» (Использование кодирования  на уроках русского языка как средство формирования    информационной компетентности младших школьников)</dc:title>
</cp:coreProperties>
</file>