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E51-8E13-4A85-9D68-04D233C9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9CF-A2E1-482D-88FB-9DDB00E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230-C8C9-47D1-A31F-DACB6C20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6BF-68D0-4035-B64B-BC1DB26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A09C-B9F6-4BE9-8806-3062DACD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9D9-5E65-43DB-90E7-C69FB125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7CA-4565-4DCA-A584-B99AA54E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7CD-1FF1-4AD9-8949-91BF45D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7310-7959-4213-9780-7241A52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1604-98F4-46D1-9293-C053D0D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4ED1-0888-4ADE-B9A3-9EBEDFA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14A-50A1-48EB-B94E-7E3D9F39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338-E0CC-4A40-BF5B-8791AB6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47C1-B99F-4A15-9C20-6F0937F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CE8-8422-4B8B-9664-BE1255F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3F3B-3435-4269-9AF4-688F9225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FA91-10B7-4B4F-A299-201EF6D0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85C-D967-443F-A207-8DA3AF9B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53C-D5F7-47CE-A261-6F0E1C85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831-6EDC-4BE3-B1F6-F855B2B8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CD2-CF80-4B31-8451-DF01587E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ACE-026A-427E-9392-234CA97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F6E-28B7-4031-BBF8-38BB033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838-7829-436C-B0F1-A8F66CF9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2196-E32B-4EF4-B7C0-0CF54111AA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3BF-FF60-4E7D-A111-8E9FF2291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997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«Формирование познавательной самостоятельности через обучение младших школьников рациональным приёмам работы с информацией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мволы парных согласны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Рисунок 30" descr="парные согласные"/>
          <p:cNvPicPr/>
          <p:nvPr/>
        </p:nvPicPr>
        <p:blipFill>
          <a:blip r:embed="rId1"/>
          <a:stretch/>
        </p:blipFill>
        <p:spPr>
          <a:xfrm>
            <a:off x="826920" y="2276640"/>
            <a:ext cx="4264200" cy="277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51640" y="2492280"/>
            <a:ext cx="433080" cy="2087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571920"/>
            <a:ext cx="12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2492280"/>
            <a:ext cx="431640" cy="20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рфограммы в корне слов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92360" y="1989000"/>
          <a:ext cx="5616360" cy="42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61636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имволы орфограм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2600" y="2087640"/>
            <a:ext cx="7772400" cy="3975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2" descr="3424"/>
          <p:cNvPicPr/>
          <p:nvPr/>
        </p:nvPicPr>
        <p:blipFill>
          <a:blip r:embed="rId2"/>
          <a:stretch/>
        </p:blipFill>
        <p:spPr>
          <a:xfrm>
            <a:off x="3348000" y="3213000"/>
            <a:ext cx="757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онетический разбор в картинка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180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906480"/>
            <a:ext cx="65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ткуда слово выросло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Рисунок 40" descr="дерево"/>
          <p:cNvPicPr/>
          <p:nvPr/>
        </p:nvPicPr>
        <p:blipFill>
          <a:blip r:embed="rId1"/>
          <a:stretch/>
        </p:blipFill>
        <p:spPr>
          <a:xfrm>
            <a:off x="1042920" y="2205000"/>
            <a:ext cx="752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Метапредметные результаты освоения основной образовательной программы начального обще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) Использование знаково-символических средств представления информации для создания моделей изучаемых объектов и процессов, схем решения учебных и практических задач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2133720"/>
            <a:ext cx="734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принятия учебной задач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это умение осознать, вычленить, сформулировать информационный запрос, умение выбрать источник информации и оценить адекватность источника информации сформулированному запрос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поиска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умение эффективно работать с любыми доступными источниками: последовательно и правильно вести наблюдение, получать искомую информацию в познавательном общении со взрослыми и сверстниками, работать с текстовой информацией (в книге, компьютере), сужая при этом круг поиска рациональными приемами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обработки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умение отделять главное от второстепенного, структурировать и изменять объем информации в соответствии с учебной задачей (без изменения или с изменением системы кодирования последн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хранения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осознанное и эффективное использование учеником особенностей своей памяти при выборе способа кодирования информации, предназначенной для кратковременного или длительного хра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ехнологическая цепочка обучения приёмам графического кодиров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венья технологической цеп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рамида пон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мволы орфограмм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оминание алгоритма учебного дейст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глядные образы как средство кодирования информации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ирамида понят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Рисунок 1" descr="пирамида понятий"/>
          <p:cNvPicPr/>
          <p:nvPr/>
        </p:nvPicPr>
        <p:blipFill>
          <a:blip r:embed="rId1"/>
          <a:srcRect l="2167" t="0" r="0" b="0"/>
          <a:stretch/>
        </p:blipFill>
        <p:spPr>
          <a:xfrm>
            <a:off x="1403280" y="2359080"/>
            <a:ext cx="63374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дружки Фонетика и Орфограф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42" descr="IMG_0002"/>
          <p:cNvPicPr/>
          <p:nvPr/>
        </p:nvPicPr>
        <p:blipFill>
          <a:blip r:embed="rId1"/>
          <a:srcRect l="3698" t="0" r="23311" b="0"/>
          <a:stretch/>
        </p:blipFill>
        <p:spPr>
          <a:xfrm>
            <a:off x="611280" y="2133720"/>
            <a:ext cx="3587760" cy="3600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3" descr="IMG_0003"/>
          <p:cNvPicPr/>
          <p:nvPr/>
        </p:nvPicPr>
        <p:blipFill>
          <a:blip r:embed="rId2"/>
          <a:stretch/>
        </p:blipFill>
        <p:spPr>
          <a:xfrm>
            <a:off x="4716360" y="1989000"/>
            <a:ext cx="36925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Монетка с закодированным порядком фонетического разбор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959200" y="2976840"/>
            <a:ext cx="2647440" cy="234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03640" y="3573360"/>
            <a:ext cx="79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95640" y="3284640"/>
            <a:ext cx="5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3573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 гостях у тётушки Морфологи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Рисунок 44" descr="IMG_0004"/>
          <p:cNvPicPr/>
          <p:nvPr/>
        </p:nvPicPr>
        <p:blipFill>
          <a:blip r:embed="rId1"/>
          <a:stretch/>
        </p:blipFill>
        <p:spPr>
          <a:xfrm>
            <a:off x="1403280" y="2060640"/>
            <a:ext cx="6120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мволы ударных и безударных гласны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294624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2" descr="3424"/>
          <p:cNvPicPr/>
          <p:nvPr/>
        </p:nvPicPr>
        <p:blipFill>
          <a:blip r:embed="rId2"/>
          <a:stretch/>
        </p:blipFill>
        <p:spPr>
          <a:xfrm>
            <a:off x="900000" y="2421000"/>
            <a:ext cx="3160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8:56:11Z</dcterms:created>
  <dc:creator>User</dc:creator>
  <dc:description/>
  <dc:language>en-US</dc:language>
  <cp:lastModifiedBy>User</cp:lastModifiedBy>
  <dcterms:modified xsi:type="dcterms:W3CDTF">2013-02-06T19:27:48Z</dcterms:modified>
  <cp:revision>2</cp:revision>
  <dc:subject/>
  <dc:title>«Формирование познавательной самостоятельности через обучение младших школьников рациональным приёмам работы с информацией» (Использование кодирования  на уроках русского языка как средство формирования    информационной компетентности младших школьников)</dc:title>
</cp:coreProperties>
</file>