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ACD-7BB5-4C2A-9C0C-D9842241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F94E-4874-4343-A694-9ED33161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86A-2314-4B17-BA72-F2C94D3E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BC2-920B-4602-A963-4711EFDC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8E32-CCF7-47BB-ACEB-BEDC9BBE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0142-5411-4A78-A9FA-A2F21E3E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DB43-42C2-494A-B3F5-A0858749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9A75-D460-4B85-AA13-5F0A359D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3A4E-E9DE-4792-97C1-1666320A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B5D2-434B-4593-B367-9824EC57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B685-0BE9-4E97-B97A-96D3651B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F877-6244-4928-887C-CCA644F7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8473-35E4-4EC6-92C1-2AAE91FE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FD09-D670-4A4C-AE71-9DEF8A86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4829-5D69-4ED2-8AA9-48DF0A6A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DFA3-45BD-499E-878E-3D11E45A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28B9-322F-4304-B38D-FCFA3317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87B27-1B47-4DC0-AE5F-A6951CF8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77247-8C78-4D49-8D19-37642D37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6AF0F-CFB7-4D41-9369-556491F2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57242-707F-46E4-A9B7-E43038B0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1F635-9088-4FD9-A4BE-0C67104A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DAB4-035B-49A8-BA91-FD4E67B3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0A361-61AC-4ECC-9DC8-3FB29E50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D29A5-6BE2-4CB4-94F3-ABDB59F9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C0B72-A300-4F52-9C23-85CA6A8B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61B94-2EC0-481F-9BE7-5F725B44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0DBF3-9E40-4BC6-B40C-DD176825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713E1-3A3E-4CCC-9228-B3E1460E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BDB47-48EE-435A-A97E-28DAAB40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4F3E99-34EC-4372-82BD-83A5C4FB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834663-D0A5-43A0-89F7-25393FF9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DF6117-FE43-4C50-969D-A01293A8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F24-ED6D-4C72-8A0B-73ADD684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5E4B5D-1526-4DBC-8031-DE41521B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A03EE-F583-44DB-AB97-48AF63B5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2D8197-AEF0-4B40-BEE2-16D59B4B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D9FE1E-222E-469D-830C-AEE98785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37AF79-A148-4E9D-8595-6B5F2D55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62B993-6268-4D59-B448-50678DE7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7466DC-E059-42C1-8CDB-5DFEE19B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A5BB9C-87AC-406F-BFD9-AD72DA71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64ABD2-2ED5-415B-9C81-8FCB9B92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06D-B2D0-4D2E-A562-2D5D2351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CA4-0F85-48E2-99FC-126BA4E6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979B-AD46-4124-8BA1-E17B5BEC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27F-E81A-4428-9FBD-A0DA62CC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3B2A-3E9A-485F-BF35-AC6BA1BA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38F9-F75A-4150-9667-70CB440DB2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8BC5-5878-4306-9CE3-4BD610D7DD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5E8C-69A0-43F6-BF9B-270BFA564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96F4-DCFB-4EF5-97AD-01D8D359B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Геометри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Объёмы многогранник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8101080" y="4292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ahoma"/>
              </a:rPr>
              <a:t>Задач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йдите объём пирамиды, имеющей основанием треугольник, два угла которого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  <a:ea typeface="Tahoma"/>
              </a:rPr>
              <a:t>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 и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, радиус описанного круг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. Боковые рёбра пирамиды наклонены к плоскости её основания под углом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  <a:ea typeface="Tahoma"/>
              </a:rPr>
              <a:t>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.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7093080" y="4508640"/>
            <a:ext cx="1728720" cy="16509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116000" y="2637000"/>
            <a:ext cx="5040360" cy="40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12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120"/>
                            </p:stCondLst>
                            <p:childTnLst>
                              <p:par>
                                <p:cTn id="2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амые известные пирамид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692360" y="1905120"/>
            <a:ext cx="575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3059280" y="1916280"/>
            <a:ext cx="3025440" cy="40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0"/>
                            </p:stCondLst>
                            <p:childTnLst>
                              <p:par>
                                <p:cTn id="3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ля вас творила Латыпова Я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5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5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нятие объё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Объё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это положительная величина, численное значение которой обладает следующими свойства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вные тела имеют равные объё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тело разбито на части, являющиеся простыми телами, то объём этого тела равен сумме объёмов его час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ъём куба, ребро которого равно единице длины, равен единиц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бъём </a:t>
            </a:r>
            <a:r>
              <a:rPr b="0" lang="en-US" sz="4000" spc="-1" strike="noStrike">
                <a:solidFill>
                  <a:srgbClr val="33cccc"/>
                </a:solidFill>
                <a:latin typeface="Tahoma"/>
              </a:rPr>
              <a:t>прямоугольного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параллелепипе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ём прямоугольного параллелепипеда с линейными размерам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, b, c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числяется по формуле </a:t>
            </a: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V=abc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объем, а букв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значают рёбра прямоугольного параллелепипе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5292720" y="4581360"/>
            <a:ext cx="2592360" cy="151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300720" y="609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812000" y="5805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32360" y="508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бъём</a:t>
            </a:r>
            <a:r>
              <a:rPr b="0" lang="en-US" sz="4000" spc="-1" strike="noStrike">
                <a:solidFill>
                  <a:srgbClr val="33cccc"/>
                </a:solidFill>
                <a:latin typeface="Tahoma"/>
              </a:rPr>
              <a:t> наклонного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параллелепипе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ём любого параллелепипеда равен произведению площади основания на высот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V = 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867280" y="3573360"/>
            <a:ext cx="1511280" cy="1376280"/>
            <a:chOff x="5867280" y="3573360"/>
            <a:chExt cx="1511280" cy="1376280"/>
          </a:xfrm>
        </p:grpSpPr>
        <p:grpSp>
          <p:nvGrpSpPr>
            <p:cNvPr id="308" name=""/>
            <p:cNvGrpSpPr/>
            <p:nvPr/>
          </p:nvGrpSpPr>
          <p:grpSpPr>
            <a:xfrm>
              <a:off x="5867280" y="3573360"/>
              <a:ext cx="1511280" cy="1368360"/>
              <a:chOff x="5867280" y="3573360"/>
              <a:chExt cx="1511280" cy="1368360"/>
            </a:xfrm>
          </p:grpSpPr>
          <p:sp>
            <p:nvSpPr>
              <p:cNvPr id="309" name=""/>
              <p:cNvSpPr/>
              <p:nvPr/>
            </p:nvSpPr>
            <p:spPr>
              <a:xfrm>
                <a:off x="5867280" y="3860640"/>
                <a:ext cx="1150920" cy="1081080"/>
              </a:xfrm>
              <a:prstGeom prst="parallelogram">
                <a:avLst>
                  <a:gd name="adj" fmla="val 26615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018200" y="3573360"/>
                <a:ext cx="360360" cy="28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7162560" y="3573360"/>
                <a:ext cx="216000" cy="100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6730920" y="4581000"/>
                <a:ext cx="431640" cy="36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86560" y="3573360"/>
                <a:ext cx="792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6154560" y="3573360"/>
                <a:ext cx="432000" cy="28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6156360" y="3860640"/>
              <a:ext cx="0" cy="1081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867280" y="4508280"/>
              <a:ext cx="505080" cy="43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6372000" y="3573360"/>
              <a:ext cx="215640" cy="93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72360" y="4508640"/>
              <a:ext cx="792000" cy="7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84720" y="458136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Объём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приз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7487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ём любой призмы равен произведению площади её основания на высоту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V = SH</a:t>
            </a: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3419640" y="3284640"/>
            <a:ext cx="258444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ывод формул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нная призма разбита на треугольные приз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ём её равен сумме объёмов её составляющ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ём треугольной призмы равен произведению площади основания на высоту. Значит объём исходной призмы раве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=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+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+…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=(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+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+…+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-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лощади треугольников,на кот. разбито основ-е призм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сота призмы. Сумма площадей треугольников равна площад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снования данной призмы . Поэтому </a:t>
            </a: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V = SH</a:t>
            </a: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авновеликие те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ва тела называются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равновеликим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 они имеют равные объё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ве треугольные пирамиды с равными площадями оснований и равными высотами равновел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8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8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8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Tahoma"/>
              </a:rPr>
              <a:t>Объём пирами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822960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м пирамиды равен одной третьей произведения площади основания пирамиды на длину ее высоты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V=1/3*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SABC-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треугольная пирами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2238480" cy="2421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702000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Объёмы подобных  те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ёмы двух подобных тел относятся как кубы соответствующих линейных разме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20773 0.02361 0.41569 0.08941 0.50474 C 0.15521 0.5938 0.34653 0.50683 0.39531 0.53458 C 0.4441 0.56234 0.47031 0.63544 0.38229 0.67083 C 0.29427 0.70623 -0.0092 0.77817 -0.13299 0.74763 C -0.25677 0.7171 -0.29774 0.57391 -0.36007 0.4874 C -0.4224 0.40088 -0.50625 0.31622 -0.50712 0.22878 C -0.50799 0.14134 -0.45035 0.00463 -0.36476 -0.0377 C -0.27917 -0.08003 -0.0691 -0.02822 0.00694 -0.02498 C 0.08299 -0.02174 0.0776 -0.01966 0.09167 -0.01873 E">
                                      <p:cBhvr>
                                        <p:cTn id="258" dur="5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1" dur="indefinite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2" dur="indefinite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7:08:48Z</dcterms:created>
  <dc:creator>Яна</dc:creator>
  <dc:description/>
  <dc:language>en-US</dc:language>
  <cp:lastModifiedBy>Яна</cp:lastModifiedBy>
  <dcterms:modified xsi:type="dcterms:W3CDTF">2008-03-11T21:21:42Z</dcterms:modified>
  <cp:revision>5</cp:revision>
  <dc:subject/>
  <dc:title>Геометрия</dc:title>
</cp:coreProperties>
</file>