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0575-6CD2-4B61-8CB3-B4D5981EE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0C84-53B5-4DE5-843F-00B985D9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F0F8-4B2E-4CE1-881E-E9187176F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F318-4D19-4A8F-BD0C-69E59FEB8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1357-98AC-4590-A3B6-D8D728598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336A-4F65-4179-B5DD-37E328AF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7AC0-CAEF-485D-B92F-00CC6DFD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3CB5-10B4-4333-9E2F-826DB701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E5E3-C7FA-4FDC-A071-5410BDD0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E44D-8E8D-43FA-A846-2BFF81B8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AB8B-BB2B-4CF8-94AD-2503B5CC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A3F4-8FDA-4BC5-AAAC-9AE9C236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9B5B-5337-403B-89B2-5D1D4BAB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B4D4-CCFB-4478-AE79-E618F5A1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CE65-C1E8-4A37-BB3F-ACE2249A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DFD4-F2EB-4500-9D53-AC402900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AA53-8CC8-4F4B-944A-AF7A18589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9CF22-A05D-4F07-8613-02AA73C6F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5E216-F4EA-42D6-9445-881C7D93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BA2A4-F1AC-486F-B406-7EA4346C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8BC51-F86C-4D8F-971B-68EDA6DE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C2CE8-C01B-43ED-989E-ECE42BFE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D430-DFE2-44F1-9DD2-121DF7D0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3A45B-87A6-45C0-B400-6432049C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62653-0D10-412C-9890-B66309CB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5A28B-AA81-426E-B218-DC0D8EEE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94ED2-F777-4178-9B48-4098E68D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D49B7-B264-4C25-B0C4-6B8ADD55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B4897-9007-4449-BCAE-7F7634B63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8D3D3-B023-47B5-B57D-AFA35423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E95033-C1C9-4798-969F-228202D3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FA51CC-75CD-41B7-8015-97DA9730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60D4ED-733A-44DB-B348-C5628E63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F68C-CCC7-4BF8-899A-B57BEEDB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EB051B-7F82-45EA-B282-E48FA312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9A6945-194A-4CA5-8B6B-D65E1009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45AD56-ECAA-459D-B982-9CD3E7C0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08C72B-2423-4FF7-B29C-C80FAC3F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A842F7-986E-43AF-ACF2-DA3AB8D5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E291B6-3900-4EF7-81BF-88BD367D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37AFB2-66A2-475A-AA1E-C9DD730B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151B6F-1CAE-434D-925F-35550B4A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F5FDC2-B342-4C50-AA75-975B7A95C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18F6-F484-424E-8074-0C401E4F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F5DE-4F36-4029-B762-317E0D24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F093-EB49-44D8-96C3-762F7AF8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1FD0-1A05-4A92-891E-AB77465E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9286-3433-4A91-AC30-FE507D05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2C1B-4855-490E-A2B4-8A4713AADE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824C-88F7-4D9F-ADE0-FB0F5AD5D6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8B59-8DFE-44CB-AEC4-E3B772F32E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EF6A-5B34-4693-9ECD-BA194B6D5C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Геометрия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Объёмы многогранников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8101080" y="4292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2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ahoma"/>
              </a:rPr>
              <a:t>Задач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йдите объём пирамиды, имеющей основанием треугольник, два угла которого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  <a:ea typeface="Tahoma"/>
              </a:rPr>
              <a:t>α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 и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  <a:ea typeface="Tahoma"/>
              </a:rPr>
              <a:t>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, радиус описанного круга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R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. Боковые рёбра пирамиды наклонены к плоскости её основания под углом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  <a:ea typeface="Tahoma"/>
              </a:rPr>
              <a:t>γ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.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7093080" y="4508640"/>
            <a:ext cx="1728720" cy="16509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1116000" y="2637000"/>
            <a:ext cx="5040360" cy="406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7120"/>
                            </p:stCondLst>
                            <p:childTnLst>
                              <p:par>
                                <p:cTn id="2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3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120"/>
                            </p:stCondLst>
                            <p:childTnLst>
                              <p:par>
                                <p:cTn id="2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амые известные пирамиды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692360" y="1905120"/>
            <a:ext cx="57592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3059280" y="1916280"/>
            <a:ext cx="3025440" cy="401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80"/>
                            </p:stCondLst>
                            <p:childTnLst>
                              <p:par>
                                <p:cTn id="3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ля вас творила Латыпова Я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5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5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5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5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онятие объё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Объём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это положительная величина, численное значение которой обладает следующими свойствам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вные тела имеют равные объё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сли тело разбито на части, являющиеся простыми телами, то объём этого тела равен сумме объёмов его част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ъём куба, ребро которого равно единице длины, равен единиц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бъём </a:t>
            </a:r>
            <a:r>
              <a:rPr b="0" lang="en-US" sz="4000" spc="-1" strike="noStrike">
                <a:solidFill>
                  <a:srgbClr val="33cccc"/>
                </a:solidFill>
                <a:latin typeface="Tahoma"/>
              </a:rPr>
              <a:t>прямоугольного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параллелепипе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ём прямоугольного параллелепипеда с линейными размерам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, b, c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числяется по формуле </a:t>
            </a: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V=abc,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объем, а буквы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означают рёбра прямоугольного параллелепипе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>
            <a:off x="5292720" y="4581360"/>
            <a:ext cx="2592360" cy="151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33cccc"/>
              </a:gs>
              <a:gs pos="100000">
                <a:srgbClr val="175e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300720" y="609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812000" y="5805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32360" y="5084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бъём</a:t>
            </a:r>
            <a:r>
              <a:rPr b="0" lang="en-US" sz="4000" spc="-1" strike="noStrike">
                <a:solidFill>
                  <a:srgbClr val="33cccc"/>
                </a:solidFill>
                <a:latin typeface="Tahoma"/>
              </a:rPr>
              <a:t> наклонного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параллелепипе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ём любого параллелепипеда равен произведению площади основания на высот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V = 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867280" y="3573360"/>
            <a:ext cx="1511280" cy="1376280"/>
            <a:chOff x="5867280" y="3573360"/>
            <a:chExt cx="1511280" cy="1376280"/>
          </a:xfrm>
        </p:grpSpPr>
        <p:grpSp>
          <p:nvGrpSpPr>
            <p:cNvPr id="308" name=""/>
            <p:cNvGrpSpPr/>
            <p:nvPr/>
          </p:nvGrpSpPr>
          <p:grpSpPr>
            <a:xfrm>
              <a:off x="5867280" y="3573360"/>
              <a:ext cx="1511280" cy="1368360"/>
              <a:chOff x="5867280" y="3573360"/>
              <a:chExt cx="1511280" cy="1368360"/>
            </a:xfrm>
          </p:grpSpPr>
          <p:sp>
            <p:nvSpPr>
              <p:cNvPr id="309" name=""/>
              <p:cNvSpPr/>
              <p:nvPr/>
            </p:nvSpPr>
            <p:spPr>
              <a:xfrm>
                <a:off x="5867280" y="3860640"/>
                <a:ext cx="1150920" cy="1081080"/>
              </a:xfrm>
              <a:prstGeom prst="parallelogram">
                <a:avLst>
                  <a:gd name="adj" fmla="val 26615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018200" y="3573360"/>
                <a:ext cx="360360" cy="28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7162560" y="3573360"/>
                <a:ext cx="216000" cy="1008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6730920" y="4581000"/>
                <a:ext cx="431640" cy="360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586560" y="3573360"/>
                <a:ext cx="792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6154560" y="3573360"/>
                <a:ext cx="432000" cy="28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6156360" y="3860640"/>
              <a:ext cx="0" cy="1081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5867280" y="4508280"/>
              <a:ext cx="505080" cy="433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6372000" y="3573360"/>
              <a:ext cx="215640" cy="93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372360" y="4508640"/>
              <a:ext cx="792000" cy="72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84720" y="4581360"/>
              <a:ext cx="3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ahoma"/>
              </a:rPr>
              <a:t>Объём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cccc"/>
                </a:solidFill>
                <a:latin typeface="Tahoma"/>
              </a:rPr>
              <a:t>призм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74872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ём любой призмы равен произведению площади её основания на высоту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V = SH</a:t>
            </a:r>
            <a:r>
              <a:rPr b="0" lang="ru-RU" sz="3200" spc="-1" strike="noStrike">
                <a:solidFill>
                  <a:srgbClr val="33cc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3419640" y="3284640"/>
            <a:ext cx="2584440" cy="26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7000"/>
                            </p:stCondLst>
                            <p:childTnLst>
                              <p:par>
                                <p:cTn id="1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ывод формул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нная призма разбита на треугольные приз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ъём её равен сумме объёмов её составляющи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ъём треугольной призмы равен произведению площади основания на высоту. Значит объём исходной призмы равен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=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+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+…S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=(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+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+…+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-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лощади треугольников,на кот. разбито основ-е призм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-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сота призмы. Сумма площадей треугольников равна площад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основания данной призмы . Поэтому </a:t>
            </a: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V = SH</a:t>
            </a:r>
            <a:r>
              <a:rPr b="0" lang="ru-RU" sz="3200" spc="-1" strike="noStrike">
                <a:solidFill>
                  <a:srgbClr val="33cccc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авновеликие тел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ва тела называются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равновеликим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сли они имеют равные объё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ве треугольные пирамиды с равными площадями оснований и равными высотами равновели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8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8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8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600"/>
                </a:solidFill>
                <a:latin typeface="Tahoma"/>
              </a:rPr>
              <a:t>Объём пирами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822960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ъем пирамиды равен одной третьей произведения площади основания пирамиды на длину ее высоты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V=1/3*S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SABC-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треугольная пирами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5292720" y="3789360"/>
            <a:ext cx="2238480" cy="24210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7020000" y="530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500"/>
                            </p:stCondLst>
                            <p:childTnLst>
                              <p:par>
                                <p:cTn id="2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ahoma"/>
              </a:rPr>
              <a:t>Объёмы подобных  те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ъёмы двух подобных тел относятся как кубы соответствующих линейных размер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8 0.20773 0.02361 0.41569 0.08941 0.50474 C 0.15521 0.5938 0.34653 0.50683 0.39531 0.53458 C 0.4441 0.56234 0.47031 0.63544 0.38229 0.67083 C 0.29427 0.70623 -0.0092 0.77817 -0.13299 0.74763 C -0.25677 0.7171 -0.29774 0.57391 -0.36007 0.4874 C -0.4224 0.40088 -0.50625 0.31622 -0.50712 0.22878 C -0.50799 0.14134 -0.45035 0.00463 -0.36476 -0.0377 C -0.27917 -0.08003 -0.0691 -0.02822 0.00694 -0.02498 C 0.08299 -0.02174 0.0776 -0.01966 0.09167 -0.01873 E">
                                      <p:cBhvr>
                                        <p:cTn id="258" dur="5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1" dur="indefinite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2" dur="indefinite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7:08:48Z</dcterms:created>
  <dc:creator>Яна</dc:creator>
  <dc:description/>
  <dc:language>en-US</dc:language>
  <cp:lastModifiedBy>Яна</cp:lastModifiedBy>
  <dcterms:modified xsi:type="dcterms:W3CDTF">2008-03-11T21:21:42Z</dcterms:modified>
  <cp:revision>5</cp:revision>
  <dc:subject/>
  <dc:title>Геометрия</dc:title>
</cp:coreProperties>
</file>