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gif" ContentType="image/gif"/>
  <Override PartName="/ppt/media/image10.jpeg" ContentType="image/jpeg"/>
  <Override PartName="/ppt/media/image9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1587-7238-4502-ACAC-62A958510F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86A7-B5D3-40F8-9B78-3127D321FD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655-FF86-4817-BBA1-FF33E2E41A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B2ED-C728-4D22-BF70-D4E602BEFA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4F0-0F44-4352-B63B-E1F93AA5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B30-D87A-40AB-8FBC-AB2C81F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777-4E06-4876-985F-3F92FD99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7AF-62C8-4588-B3E9-BB7CD04E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5838-EB4A-421A-9084-EDB13966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A89D-8FE5-4039-A1C1-6BCF4369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BB0C-7A16-426C-85FD-6C99BC6B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59C3-1F58-487C-AB1D-CB1AA3B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0B4B-7EEE-4D06-A7F1-F28A731F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B9D3-EBAE-46FE-813A-54895ECE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DC3D-11F2-413F-9796-E3E495D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E2F-0B09-4EC2-9B3A-6E5252D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E948-F699-4F92-A15D-329A0DBA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BC05-5BB0-4382-8C90-84C03E5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446A-F54D-464E-83C1-0D58593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12EB-361B-4F34-8F2F-0127C35B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ADD2-6D27-42AB-90BA-9FF30354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DCC-7CD3-4CF5-A4AA-588AFAB7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01F-F90C-42D3-9072-8F7527A7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B89-3CFF-467C-A5B7-D980E9ED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1A4-BF18-43A2-857E-E6320C79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6DE-2BA9-4755-98AF-3739B1E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FC8-CE21-48CB-A6BB-16B50466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A81-4759-4F67-8652-3C81DEF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3EBF-5AAD-4392-B77A-3497BBF141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3AC7-793E-46A2-9957-8CF0BD549F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lava-pushkino.ru/files/faz1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rum.md/Data/Forum/BBB10BFA-39A7-402E-B7C0-B8EF1902A271/c465ccbc-a7ee-4c8c-8c8e-6129679993f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rum.md/Data/Forum/BBB10BFA-39A7-402E-B7C0-B8EF1902A271/c465ccbc-a7ee-4c8c-8c8e-6129679993f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lava-pushkino.ru/files/faz1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omir.com/wp-content/uploads/2011/08/f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36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ahoma"/>
              </a:rPr>
              <a:t>«Дело или занятие,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ahoma"/>
              </a:rPr>
              <a:t>не содержащее трудностей, недостойно ума человека»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ahoma"/>
              </a:rPr>
              <a:t>                                 У. Ченнинг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Урок-исследовани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читель: Иванова О. 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867040" cy="2084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Monotype Corsiva"/>
              </a:rPr>
              <a:t>ТЕМА УРОКА: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350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0033"/>
                </a:solidFill>
                <a:latin typeface="comic"/>
              </a:rPr>
              <a:t>ГЛЮКОЗА     </a:t>
            </a:r>
            <a:r>
              <a:rPr b="1" i="1" lang="en-US" sz="4800" spc="-1" strike="noStrike">
                <a:solidFill>
                  <a:srgbClr val="990033"/>
                </a:solidFill>
                <a:latin typeface="comic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Дать классификацию углеводам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Выявить физические и химические свойства глюкозы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Изучить строение молекулы глюкозы и ее химические свойств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9145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Monotype Corsiva"/>
              </a:rPr>
              <a:t>ПРИРОДА ВЕЩЕСТВА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76720" y="1557360"/>
            <a:ext cx="237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43280" y="3284640"/>
            <a:ext cx="345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68360" y="5084640"/>
            <a:ext cx="44323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27813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581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Кислородсодержащие органические соединения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060640"/>
            <a:ext cx="1511280" cy="718920"/>
          </a:xfrm>
          <a:prstGeom prst="rect">
            <a:avLst/>
          </a:prstGeom>
          <a:blipFill rotWithShape="0">
            <a:blip r:embed="rId2">
              <a:alphaModFix amt="46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и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18920" y="4149360"/>
            <a:ext cx="2570040" cy="8809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рбоновые кисл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3068640"/>
            <a:ext cx="1944720" cy="71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e4a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ьдег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5516640"/>
            <a:ext cx="2303280" cy="718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195640" y="5589720"/>
            <a:ext cx="792000" cy="57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40060" t="36844" r="0" b="0"/>
          <a:stretch/>
        </p:blipFill>
        <p:spPr>
          <a:xfrm>
            <a:off x="4643280" y="1557360"/>
            <a:ext cx="2408400" cy="1306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rcRect l="35714" t="34883" r="0" b="0"/>
          <a:stretch/>
        </p:blipFill>
        <p:spPr>
          <a:xfrm>
            <a:off x="6551640" y="2637000"/>
            <a:ext cx="2592360" cy="1312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80360" y="177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d0a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dc2d0a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3064E-006 L -0.10226 0.16786 E">
                                      <p:cBhvr>
                                        <p:cTn id="8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5434E-006 L -0.21649 0.19908 E">
                                      <p:cBhvr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6.93642E-007 L -0.42118 0.05064 E">
                                      <p:cBhvr>
                                        <p:cTn id="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850920" y="2599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Calibri"/>
              </a:rPr>
              <a:t>« Ни одна наука не нуждается в эксперименте в такой степени как химия. Ее основные законы, теории и выводы опираются на факты. Поэтому постоянный контроль опытом необходим.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. М. Бутле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Рисунок 3" descr="DSC02933.JPG"/>
          <p:cNvPicPr/>
          <p:nvPr/>
        </p:nvPicPr>
        <p:blipFill>
          <a:blip r:embed="rId2"/>
          <a:stretch/>
        </p:blipFill>
        <p:spPr>
          <a:xfrm>
            <a:off x="-324000" y="-243000"/>
            <a:ext cx="4359600" cy="53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Этапы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бор фактов по данной тем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ыдвижение гипотез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дтверждение гипотезы эксперимент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Формулирование вывода по результатам исследов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23160" y="4637160"/>
            <a:ext cx="22208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f01"/>
                </a:solidFill>
                <a:latin typeface="Tahoma"/>
              </a:rPr>
              <a:t>        </a:t>
            </a:r>
            <a:r>
              <a:rPr b="1" i="1" lang="en-US" sz="4800" spc="-1" strike="noStrike" u="sng">
                <a:solidFill>
                  <a:srgbClr val="333399"/>
                </a:solidFill>
                <a:uFillTx/>
                <a:latin typeface="Tahoma"/>
              </a:rPr>
              <a:t>Цель исследования:</a:t>
            </a:r>
            <a:br>
              <a:rPr sz="4800"/>
            </a:br>
            <a:br>
              <a:rPr sz="4800"/>
            </a:b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Обнаружить наличие функциональных групп в глюкозе и доказать зависимость свойств веществ от их стро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5816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«Опыт никогда не ошибается» 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(Леонардо да Винчи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4360" y="2204640"/>
            <a:ext cx="446076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ьзуясь инструкцией, докажите наличие функциональных групп в молекуле глюкоз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2448000" cy="252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515960" y="2852640"/>
            <a:ext cx="2857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ИЗИЧЕСКИЕ</a:t>
            </a: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ГЛЮКОЗА 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сцветное кристаллическое вещество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орошо растворимо в вод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адкое на вку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пература плавления 14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96160" y="3068640"/>
            <a:ext cx="224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4384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троение молекулы глюкоз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дет реакция «серебряного зеркала» и реакция с гидроксидом меди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при нагрева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молекуле глюкозы есть альдегидная групп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дет качественная реакция на многоатомные спирты с гидроксидом           меди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молекуле глюкозы есть несколько гидроксильных груп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Задача.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щество имеет следующий качественный состав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(C) = 4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(H) = 6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(O) = 53,3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лярная масса неизвестного вещества равна 180 г/моль. Найти формулу неизвестного веще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4581360"/>
            <a:ext cx="48243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С</a:t>
            </a:r>
            <a:r>
              <a:rPr b="1" lang="en-US" sz="6600" spc="-1" strike="noStrike" baseline="-25000">
                <a:solidFill>
                  <a:srgbClr val="ff0066"/>
                </a:solidFill>
                <a:latin typeface="Tahoma"/>
              </a:rPr>
              <a:t>6</a:t>
            </a: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Н</a:t>
            </a:r>
            <a:r>
              <a:rPr b="1" lang="en-US" sz="6600" spc="-1" strike="noStrike" baseline="-25000">
                <a:solidFill>
                  <a:srgbClr val="ff0066"/>
                </a:solidFill>
                <a:latin typeface="Tahoma"/>
              </a:rPr>
              <a:t>12</a:t>
            </a: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О</a:t>
            </a:r>
            <a:r>
              <a:rPr b="1" lang="en-US" sz="6600" spc="-1" strike="noStrike" baseline="-25000">
                <a:solidFill>
                  <a:srgbClr val="ff0066"/>
                </a:solidFill>
                <a:latin typeface="Tahoma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ХИМИЧЕСКИЕ СВОЙСТВА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ГЛЮКОЗА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- АЛЬДЕГИДОСПИР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84360" y="1828800"/>
            <a:ext cx="3808440" cy="174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6507360" cy="199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023240" y="3284640"/>
            <a:ext cx="21207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18728" t="0" r="2732" b="7134"/>
          <a:stretch/>
        </p:blipFill>
        <p:spPr>
          <a:xfrm>
            <a:off x="3132000" y="2133720"/>
            <a:ext cx="1511280" cy="25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11640" y="3933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169920" cy="289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390920" y="3386160"/>
            <a:ext cx="362160" cy="8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390920" y="3386160"/>
            <a:ext cx="362160" cy="85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90920" y="3386160"/>
            <a:ext cx="362160" cy="85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>
            <a:lum bright="90000"/>
          </a:blip>
          <a:srcRect l="0" t="0" r="15572" b="0"/>
          <a:stretch/>
        </p:blipFill>
        <p:spPr>
          <a:xfrm rot="19182000">
            <a:off x="3855600" y="2649600"/>
            <a:ext cx="216000" cy="71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 rot="1200000">
            <a:off x="3850920" y="2781000"/>
            <a:ext cx="200160" cy="66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611280" y="2565360"/>
            <a:ext cx="1914480" cy="2592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>
            <a:off x="5580000" y="2349360"/>
            <a:ext cx="1990800" cy="251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2484360" y="4653000"/>
            <a:ext cx="3291120" cy="3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020000" y="4869000"/>
            <a:ext cx="43164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2700360" y="3357720"/>
            <a:ext cx="361800" cy="19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>
            <a:off x="4932360" y="3357720"/>
            <a:ext cx="361800" cy="190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908000" y="26028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Monotype Corsiva"/>
              </a:rPr>
              <a:t>ГЛЮКО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79 -1.85185E-006 C 0.01961 -0.00347 0.02378 -0.00671 0.025 -0.03541 C 0.02638 -0.06389 0.02777 -0.14143 0.02378 -0.17129 C 0.02013 -0.20139 0.00711 -0.20856 0.00399 -0.21528 E">
                                      <p:cBhvr>
                                        <p:cTn id="17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-3.7037E-007 C 0.02257 -0.00139 0.02986 -0.00255 0.03299 -0.02546 C 0.03594 -0.04792 0.03837 -0.11412 0.03368 -0.13727 C 0.02934 -0.16018 0.01076 -0.15903 0.0066 -0.16273 E">
                                      <p:cBhvr>
                                        <p:cTn id="17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3803760"/>
            <a:ext cx="4500720" cy="3054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тог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Удалось ли вам на уроке установить связь между свойствами и строением глюкозы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Сможете ли вы экспериментально определить функциональные группы в молекулах органических веществ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Что вы взяли для себя с данного урока?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60804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8814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2400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Глюкоза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– альдегидоспирт, точнее –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многоатомный альдегидоспир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Глюкоза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– один из важнейших углеводов, так как она является изомером большинства полисахарид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65720" y="3284640"/>
            <a:ext cx="2978280" cy="3573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5280" y="21337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уравнения хим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й сегодняшних экспери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одготовить сообщение о практическом значении глю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собом виде глюкоза содержится почти во всех органах зеленых растен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 ее много в                          виноградном соке,                                       поэтому глюкозу иногда                         называют виноградным                                 сахар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д в основном состоит                                        из смеси глюкозы с фруктоз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360" y="333360"/>
            <a:ext cx="77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хождение в приро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Картинка 350 из 444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016080"/>
            <a:ext cx="421164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Глюкоза –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ин из ключевых продуктов обмена веществ, обеспечивающих живые клетки энергией                    (в процессах дыхания, брожения, гликолиза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ит исходным продуктом биосинтеза многих вещест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человека и животных постоянный уровень глюкоза в крови поддерживается путем синтеза и распада гликоге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и в небольших количествах во всех клет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Картинка 13 из 447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0"/>
            <a:ext cx="3132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Глюкоза –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(0,1 – 0,12 %) и служит основным источником энергии для клеток и тканей организм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ение концентрации глюкозы в крови приводит к усилению выработки гормона поджелудочной железы — инсулина, уменьшающего содержание этого углевода в кров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Картинка 13 из 447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0"/>
            <a:ext cx="3132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Глюкоза –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имическая энергия питательных веществ, поступающих в организм, заключена в ковалентных связях между атома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люкозе количество потенциальной энергии составляет 2800 кДж на 1 моль (то есть на 180 грамм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Картинка 350 из 444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0"/>
            <a:ext cx="3780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Фотосинтез – процесс запасания солнечной энергии в химических связях углевод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7163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«Когда-то где-то на Землю упал луч Солнца… В той или иной форме он вошел в состав хлеба, который послужил нам пищей. Он преобразился в наши мускулы, в наши нервы… Он приводит нас в движение. Быть может в эту минуту он играет в нашем мозгу…» (Тимирязе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92280"/>
            <a:ext cx="47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24560" y="3789360"/>
            <a:ext cx="1819440" cy="306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en-US" sz="60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(Н</a:t>
            </a:r>
            <a:r>
              <a:rPr b="1" lang="ru-RU" sz="6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О)</a:t>
            </a:r>
            <a:r>
              <a:rPr b="1" lang="en-US" sz="60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глевод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органические соединения, состоящие из углерода, водорода и кислорода, причем водород и кислород входят  в соотношении (2:1) как в воде, отсюда и назв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-86040" y="3907080"/>
            <a:ext cx="86482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снове этой аналогии русский хим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. Шмидт в 1844 г. предложил термин угле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углерод и вода), а общая формула углев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6374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Классификация углевод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1868400"/>
            <a:ext cx="9072720" cy="4988880"/>
            <a:chOff x="0" y="1868400"/>
            <a:chExt cx="9072720" cy="4988880"/>
          </a:xfrm>
        </p:grpSpPr>
        <p:cxnSp>
          <p:nvCxnSpPr>
            <p:cNvPr id="134" name="_s29701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716436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9702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598824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9703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246060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29704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1284120" y="4709520"/>
              <a:ext cx="623520" cy="117684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29705"/>
            <p:cNvCxnSpPr>
              <a:stCxn id="136" idx="0"/>
              <a:endCxn id="145" idx="2"/>
            </p:cNvCxnSpPr>
            <p:nvPr/>
          </p:nvCxnSpPr>
          <p:spPr>
            <a:xfrm flipV="1" rot="16200000">
              <a:off x="5399640" y="2251080"/>
              <a:ext cx="624600" cy="23518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29706"/>
            <p:cNvCxnSpPr>
              <a:stCxn id="141" idx="0"/>
              <a:endCxn id="145" idx="2"/>
            </p:cNvCxnSpPr>
            <p:nvPr/>
          </p:nvCxnSpPr>
          <p:spPr>
            <a:xfrm flipH="1" flipV="1" rot="5400000">
              <a:off x="3048480" y="2250720"/>
              <a:ext cx="624600" cy="23529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29707"/>
            <p:cNvSpPr/>
            <p:nvPr/>
          </p:nvSpPr>
          <p:spPr>
            <a:xfrm>
              <a:off x="3527640" y="186840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00"/>
                  </a:solidFill>
                  <a:latin typeface="Times New Roman"/>
                </a:rPr>
                <a:t>Углевод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r>
                <a:rPr b="1" lang="en-US" sz="3000" spc="-1" strike="noStrike" baseline="-25000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lang="en-US" sz="3000" spc="-1" strike="noStrike">
                  <a:solidFill>
                    <a:srgbClr val="ffff00"/>
                  </a:solidFill>
                  <a:latin typeface="Times New Roman"/>
                </a:rPr>
                <a:t>(H</a:t>
              </a:r>
              <a:r>
                <a:rPr b="1" lang="en-US" sz="30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ffff00"/>
                  </a:solidFill>
                  <a:latin typeface="Times New Roman"/>
                </a:rPr>
                <a:t>O)</a:t>
              </a:r>
              <a:r>
                <a:rPr b="1" lang="en-US" sz="3000" spc="-1" strike="noStrike" baseline="-25000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9708"/>
            <p:cNvSpPr/>
            <p:nvPr/>
          </p:nvSpPr>
          <p:spPr>
            <a:xfrm>
              <a:off x="1176120" y="373968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остые углеводы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(не подвергаются гидролиз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9709"/>
            <p:cNvSpPr/>
            <p:nvPr/>
          </p:nvSpPr>
          <p:spPr>
            <a:xfrm>
              <a:off x="5880240" y="373968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ложные углев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одвергаются гидролизу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9710"/>
            <p:cNvSpPr/>
            <p:nvPr/>
          </p:nvSpPr>
          <p:spPr>
            <a:xfrm>
              <a:off x="0" y="561024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</a:rPr>
                <a:t>Пентозы </a:t>
              </a:r>
              <a:r>
                <a:rPr b="1" lang="ru-RU" sz="2100" spc="-1" strike="noStrike">
                  <a:solidFill>
                    <a:srgbClr val="000000"/>
                  </a:solidFill>
                  <a:latin typeface="Times New Roman"/>
                </a:rPr>
                <a:t>(рибоза, дезоксирибоза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9711"/>
            <p:cNvSpPr/>
            <p:nvPr/>
          </p:nvSpPr>
          <p:spPr>
            <a:xfrm>
              <a:off x="2352240" y="561024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Гексозы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(глюкоза, фруктоза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9712"/>
            <p:cNvSpPr/>
            <p:nvPr/>
          </p:nvSpPr>
          <p:spPr>
            <a:xfrm>
              <a:off x="4704840" y="5610240"/>
              <a:ext cx="2015280" cy="12470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Олиг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ахариды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(сахароза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9713"/>
            <p:cNvSpPr/>
            <p:nvPr/>
          </p:nvSpPr>
          <p:spPr>
            <a:xfrm>
              <a:off x="7056360" y="5610240"/>
              <a:ext cx="2016360" cy="12470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ол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ахариды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крахмал, целлюлоз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3:06:13Z</dcterms:created>
  <dc:creator>User</dc:creator>
  <dc:description/>
  <dc:language>en-US</dc:language>
  <cp:lastModifiedBy>User</cp:lastModifiedBy>
  <dcterms:modified xsi:type="dcterms:W3CDTF">2013-03-10T13:33:20Z</dcterms:modified>
  <cp:revision>6</cp:revision>
  <dc:subject/>
  <dc:title>ТЕМА УРОКА:</dc:title>
</cp:coreProperties>
</file>