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DCF-ED71-47A3-9745-DBCCA7C0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F604-F415-4E61-8E1F-F7CDD108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939-E1F1-4CF3-A5D2-1F101A49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25B2-8ABE-421A-A9B4-469D944A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211E-971D-44AE-8E28-7E5EFA3A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4CAB-3186-48BC-A364-0AC63763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E3D6-4DED-4757-8A6E-E090BB48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52AD-5E45-4EC6-9066-54B63F8B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BF20-DD6B-47F0-B60A-86BACF7F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AAE8-3283-4664-9040-8B4681BF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5D29-B9BE-4E2B-AFF4-83BD44DF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C7E-ABC6-4519-A513-4395B0AA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AF7B-23C1-44A2-A527-A5E7ABB1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6B9F-71E3-4DCB-85FA-B881F874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A509-F563-45FB-806D-4B42AAF4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0AF5-862E-4907-8548-EDC478CB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EAA5-6383-4928-A6B0-4DD66AD5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671-3AB1-4F60-86AD-37922DAF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7BD-E84B-4930-86D5-9A3CC58B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8BE-8A1E-4EF8-9BB3-60FB67F1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46FD-061A-4BD5-AADF-5913EE84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649-8CD0-4957-90DE-E20A19A0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54F8-7CF3-4BE7-A108-6423525B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B2E-C505-47D1-A03C-0D2D9C26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762C-E9D4-406D-9A27-9B7C067FC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084E-7E96-467B-9C16-C31D0F665A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Районная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конференция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«Земли моей лицо живое»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1904760"/>
            <a:ext cx="79250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ма: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«Свято-Троицкий храм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центр духовной культуры г.Байкальска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тор: Демёхина Анастас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ководитель: Л.Н.Слау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реждение МОУ «СОШ № 12» г.Байкальс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Традиционными стали конкурсы Рождественских рисунков и поделок, Пасхальный конкурс рисунков и оригинальное оформление пасхального яйца. Служители храма отметили, что с каждым годом число участников увеличивается, расширяется граница возрастных групп, глубже раскрываются библейские сюжеты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057680"/>
            <a:ext cx="3200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868680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Вывод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учив документы, предоставленные служителями храма, побеседовав с участниками строительства, опросив жителей и гостей города Байкальска, поставленную гипотезу считаем доказанн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территории города Байкальска официально зарегистрировано три веры: Православная, Баптисты, Свидетели Иеговы. Но преобладающей является Православн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сей день люди заинтересованы в развитии храма. Летом 2007 года благодаря пожертвованиям Г.Н.Бабученко заложен фундамент вспомогательного помещения, где будут расположены Воскресная школа и библиотека. В это же время расчищены и освещены места под часовни в поселках Утулик и Мурино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ристианская религия стала одной из основ современной духовной культуры байкальчан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Цель исследова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ценить влияние Свято-Троицкого храма на духовность байкальч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e5ffff"/>
                </a:solidFill>
                <a:uFillTx/>
                <a:latin typeface="Tahoma"/>
              </a:rPr>
              <a:t>Гипотеза исследова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ято-Троицкий храм является основным источником духовной культуры жителей гор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Методы исследова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учение документов и результатов деятель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блюдени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нкетирование, интервьюировани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тория Православного храма вписывается в летопись Байкальска как одна из немаловажных и интересных страниц. Храм, устремленный своим куполом  к небесам, пробуждающий звоном колоколов что-то сокровенное и доброе в душах, является достопримечательностью города.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828800" y="3048120"/>
            <a:ext cx="527040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Многие, наверное, помнят, как ходили женщины по предприятиям и квартирам и просили пожертвовать кто сколько может на строительство храма. Откликнулись на просьбы не только байкальчане, переводы приходили из Читы, Тулуна, Нижнеудинска, Улан-Удэ. В основном от Православных храмов, реже от частных лиц.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 сентябре 1990 года отец Василий Комаринский просит коллектив СМУ-10 залить фундамент храма и перечисляет 40 тысяч рублей, собранных всем миром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троительство «съело» все набранные суммы. По тем временам это были большие деньги. Видя затруднительное положение, Православные обратились к руководителю градообразующего предприятия во главе с директором В.Глазыриным. Руководством были выделены стройматериалы.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На просьбы настоятеля церкви откликнулся директор золотодобытчиков «Болей золото», отправив на строительство храма своих рабочих.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Активную помощь оказывал местный горсовет во главе с А.Н.Бабученко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Благодаря усилиям и настойчивости нынешнего настоятеля храма отца Владислава, при постоянной поддержке благотворителей, особенно БЦБК, началась роспись храм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05120" y="3048120"/>
            <a:ext cx="52369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12 июля 2006 года была отслужена первая литургия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057400" y="2438280"/>
            <a:ext cx="5562720" cy="38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Храм живет активной жизнью: работает библиотека, православная видеотека, проводятся конкурсы. Учащиеся воскресной школы выступают перед прихожанами с концертами. Оказывается посильная помощь странникам и остро нуждающимс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33720" y="3124080"/>
            <a:ext cx="493236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0-11T14:59:2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