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1D8-65B0-4015-8670-5D76F107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777-DADC-4D03-953F-FDDEBCA2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EB1-DE1A-4965-8C56-6790ECA0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E3F-D54A-4CC4-86CB-C57080B1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6C09-C6AE-4B40-8DBB-16AED31A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C7C8-FEFC-4E8C-ACD3-DBFC3EB1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B9EC-B5B4-4E2A-AA80-DB022FF0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AA5C-A419-4218-954B-E92140F3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B79E-A4D4-4EEE-84DB-52727633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D0FE-3F6D-4480-AD2E-609D8462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2C27-37D9-4DF2-80F0-7F6A5128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891-5C03-4BF6-AC0E-E62D2417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0A36-DC91-4108-8842-5038B2EB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9ED9-949C-4E5C-A837-8F5FBC8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6744-0217-409E-AC67-5941A353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BDB7-E930-48E5-A9BB-431E5A36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3A49-7DCB-4221-A032-51FCADF5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58E-EAF4-47AB-8502-AF9CC301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DFC-3CBA-4168-8F88-EECCC678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FB6-4BF6-4970-B6D9-2D7F31C6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5E9-A7C8-4FFF-8FC4-659ACE5C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5BE-82F6-47B8-AD63-4C25DB9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8F0-E252-4007-8776-7E567AE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442-48E0-41D6-A9A1-D1B620F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1020-8786-4679-952C-230449664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7C30-8F92-4BA9-A27E-73FF60707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Районная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конференция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«Земли моей лицо живое»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90476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: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«Свято-Троицкий хра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центр духовной культуры г.Байкальс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Демёхина Анастас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Л.Н.Сла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реждение МОУ «СОШ № 12» г.Байкаль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Традиционными стали конкурсы Рождественских рисунков и поделок, Пасхальный конкурс рисунков и оригинальное оформление пасхального яйца. Служители храма отметили, что с каждым годом число участников увеличивается, расширяется граница возрастных групп, глубже раскрываются библейские сюжеты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057680"/>
            <a:ext cx="3200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86868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учив документы, предоставленные служителями храма, побеседовав с участниками строительства, опросив жителей и гостей города Байкальска, поставленную гипотезу считаем доказанн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территории города Байкальска официально зарегистрировано три веры: Православная, Баптисты, Свидетели Иеговы. Но преобладающей является Православ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ей день люди заинтересованы в развитии храма. Летом 2007 года благодаря пожертвованиям Г.Н.Бабученко заложен фундамент вспомогательного помещения, где будут расположены Воскресная школа и библиотека. В это же время расчищены и освещены места под часовни в поселках Утулик и Мурин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ристианская религия стала одной из основ современной духовной культуры байкальчан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Цель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ценить влияние Свято-Троицкого храма на духовность байкальч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Гипотеза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то-Троицкий храм является основным источником духовной культуры жителей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Методы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документов и результатов деяте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люде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кетирование, интервьюирова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тория Православного храма вписывается в летопись Байкальска как одна из немаловажных и интересных страниц. Храм, устремленный своим куполом  к небесам, пробуждающий звоном колоколов что-то сокровенное и доброе в душах, является достопримечательностью города.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28800" y="3048120"/>
            <a:ext cx="52704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ногие, наверное, помнят, как ходили женщины по предприятиям и квартирам и просили пожертвовать кто сколько может на строительство храма. Откликнулись на просьбы не только байкальчане, переводы приходили из Читы, Тулуна, Нижнеудинска, Улан-Удэ. В основном от Православных храмов, реже от частных лиц.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сентябре 1990 года отец Василий Комаринский просит коллектив СМУ-10 залить фундамент храма и перечисляет 40 тысяч рублей, собранных всем миром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троительство «съело» все набранные суммы. По тем временам это были большие деньги. Видя затруднительное положение, Православные обратились к руководителю градообразующего предприятия во главе с директором В.Глазыриным. Руководством были выделены стройматериалы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просьбы настоятеля церкви откликнулся директор золотодобытчиков «Болей золото», отправив на строительство храма своих рабочих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ктивную помощь оказывал местный горсовет во главе с А.Н.Бабученко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Благодаря усилиям и настойчивости нынешнего настоятеля храма отца Владислава, при постоянной поддержке благотворителей, особенно БЦБК, началась роспись храм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5120" y="3048120"/>
            <a:ext cx="52369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2 июля 2006 года была отслужена первая литурги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556272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Храм живет активной жизнью: работает библиотека, православная видеотека, проводятся конкурсы. Учащиеся воскресной школы выступают перед прихожанами с концертами. Оказывается посильная помощь странникам и остро нуждающимс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3124080"/>
            <a:ext cx="49323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11T14:59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