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5DDF-D2DA-4674-AA5F-8C162A94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FEFD-F90A-4F1B-AF59-F2B319B4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906F-0275-4C81-B76C-4F9DF910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5262-62C3-4F7D-91AD-F676A50F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1B4-25B5-4A15-99A4-3F4E30F2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357F-7121-489D-BA97-AD9FB5C0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2358-9717-4B5F-AE4B-C67A741B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4EC0-D0B9-4BBD-99D3-ABE0D78A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4107-076B-430F-A09B-44A5136D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D6F0-6ED3-40C7-9E8C-33D5A8E1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844B-F6AA-4CF2-8EB6-CBEC31F5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1696-92AE-4AA5-A2AC-08F78560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07C4-C189-416C-9B9F-C46A1027AF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image" Target="../media/image14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рам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2309760" y="438120"/>
            <a:ext cx="3359160" cy="118908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1319400" y="1928880"/>
            <a:ext cx="7354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Определяю я предмет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Они со мной весьма приметн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Я украшаю вашу реч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Меня вам надо знать,  побереч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рямоугольник 5" descr=""/>
          <p:cNvPicPr/>
          <p:nvPr/>
        </p:nvPicPr>
        <p:blipFill>
          <a:blip r:embed="rId3"/>
          <a:stretch/>
        </p:blipFill>
        <p:spPr>
          <a:xfrm>
            <a:off x="901800" y="4370400"/>
            <a:ext cx="73213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2" descr="записка.jpg"/>
          <p:cNvPicPr/>
          <p:nvPr/>
        </p:nvPicPr>
        <p:blipFill>
          <a:blip r:embed="rId1"/>
          <a:stretch/>
        </p:blipFill>
        <p:spPr>
          <a:xfrm rot="16373400">
            <a:off x="2204640" y="0"/>
            <a:ext cx="4653000" cy="673884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2143080" y="2357280"/>
            <a:ext cx="5286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глашаем вас наш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удный остров посети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чудо наше посмотре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себя показ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блако 5"/>
          <p:cNvSpPr/>
          <p:nvPr/>
        </p:nvSpPr>
        <p:spPr>
          <a:xfrm>
            <a:off x="6929280" y="642960"/>
            <a:ext cx="2214720" cy="1285920"/>
          </a:xfrm>
          <a:custGeom>
            <a:avLst/>
            <a:gdLst>
              <a:gd name="textAreaLeft" fmla="*/ 305280 w 2214720"/>
              <a:gd name="textAreaRight" fmla="*/ 1752120 w 2214720"/>
              <a:gd name="textAreaTop" fmla="*/ 194040 h 1285920"/>
              <a:gd name="textAreaBottom" fmla="*/ 1032120 h 12859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остров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2" descr="рам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" descr="кораблик.jpg"/>
          <p:cNvPicPr/>
          <p:nvPr/>
        </p:nvPicPr>
        <p:blipFill>
          <a:blip r:embed="rId2"/>
          <a:stretch/>
        </p:blipFill>
        <p:spPr>
          <a:xfrm>
            <a:off x="1785960" y="341280"/>
            <a:ext cx="6215040" cy="62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рам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2" descr=""/>
          <p:cNvPicPr/>
          <p:nvPr/>
        </p:nvPicPr>
        <p:blipFill>
          <a:blip r:embed="rId2"/>
          <a:stretch/>
        </p:blipFill>
        <p:spPr>
          <a:xfrm>
            <a:off x="743040" y="725400"/>
            <a:ext cx="2128680" cy="118908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3" descr=""/>
          <p:cNvPicPr/>
          <p:nvPr/>
        </p:nvPicPr>
        <p:blipFill>
          <a:blip r:embed="rId3"/>
          <a:stretch/>
        </p:blipFill>
        <p:spPr>
          <a:xfrm>
            <a:off x="2316240" y="2438280"/>
            <a:ext cx="2749320" cy="118908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4" descr=""/>
          <p:cNvPicPr/>
          <p:nvPr/>
        </p:nvPicPr>
        <p:blipFill>
          <a:blip r:embed="rId4"/>
          <a:stretch/>
        </p:blipFill>
        <p:spPr>
          <a:xfrm>
            <a:off x="603360" y="3584520"/>
            <a:ext cx="2957400" cy="1189080"/>
          </a:xfrm>
          <a:prstGeom prst="rect">
            <a:avLst/>
          </a:prstGeom>
          <a:ln w="0">
            <a:noFill/>
          </a:ln>
        </p:spPr>
      </p:pic>
      <p:cxnSp>
        <p:nvCxnSpPr>
          <p:cNvPr id="99" name="Прямая со стрелкой 6"/>
          <p:cNvCxnSpPr/>
          <p:nvPr/>
        </p:nvCxnSpPr>
        <p:spPr>
          <a:xfrm flipV="1">
            <a:off x="2643120" y="928440"/>
            <a:ext cx="128664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Прямая со стрелкой 8"/>
          <p:cNvCxnSpPr/>
          <p:nvPr/>
        </p:nvCxnSpPr>
        <p:spPr>
          <a:xfrm flipV="1">
            <a:off x="2928600" y="1428480"/>
            <a:ext cx="1276560" cy="81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Прямая со стрелкой 9"/>
          <p:cNvCxnSpPr/>
          <p:nvPr/>
        </p:nvCxnSpPr>
        <p:spPr>
          <a:xfrm>
            <a:off x="2714760" y="1714320"/>
            <a:ext cx="1124640" cy="624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Прямая со стрелкой 10"/>
          <p:cNvCxnSpPr/>
          <p:nvPr/>
        </p:nvCxnSpPr>
        <p:spPr>
          <a:xfrm>
            <a:off x="2713680" y="4785840"/>
            <a:ext cx="14364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3" name="Прямая со стрелкой 11"/>
          <p:cNvCxnSpPr/>
          <p:nvPr/>
        </p:nvCxnSpPr>
        <p:spPr>
          <a:xfrm>
            <a:off x="2927880" y="4714920"/>
            <a:ext cx="85788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4" name="Прямая со стрелкой 12"/>
          <p:cNvCxnSpPr/>
          <p:nvPr/>
        </p:nvCxnSpPr>
        <p:spPr>
          <a:xfrm>
            <a:off x="3142800" y="4714920"/>
            <a:ext cx="107244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Прямая со стрелкой 13"/>
          <p:cNvCxnSpPr/>
          <p:nvPr/>
        </p:nvCxnSpPr>
        <p:spPr>
          <a:xfrm>
            <a:off x="3142800" y="4571640"/>
            <a:ext cx="13582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Прямая со стрелкой 14"/>
          <p:cNvCxnSpPr/>
          <p:nvPr/>
        </p:nvCxnSpPr>
        <p:spPr>
          <a:xfrm flipV="1">
            <a:off x="3142800" y="4357440"/>
            <a:ext cx="135828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Прямая со стрелкой 15"/>
          <p:cNvCxnSpPr/>
          <p:nvPr/>
        </p:nvCxnSpPr>
        <p:spPr>
          <a:xfrm flipV="1">
            <a:off x="3071880" y="3857400"/>
            <a:ext cx="128664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Прямая со стрелкой 28"/>
          <p:cNvCxnSpPr/>
          <p:nvPr/>
        </p:nvCxnSpPr>
        <p:spPr>
          <a:xfrm flipV="1">
            <a:off x="5000760" y="2857320"/>
            <a:ext cx="1286640" cy="143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Прямая со стрелкой 29"/>
          <p:cNvCxnSpPr/>
          <p:nvPr/>
        </p:nvCxnSpPr>
        <p:spPr>
          <a:xfrm>
            <a:off x="5000760" y="3357720"/>
            <a:ext cx="142920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TextBox 32"/>
          <p:cNvSpPr/>
          <p:nvPr/>
        </p:nvSpPr>
        <p:spPr>
          <a:xfrm>
            <a:off x="4075560" y="6429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.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3"/>
          <p:cNvSpPr/>
          <p:nvPr/>
        </p:nvSpPr>
        <p:spPr>
          <a:xfrm>
            <a:off x="4277520" y="128592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.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4"/>
          <p:cNvSpPr/>
          <p:nvPr/>
        </p:nvSpPr>
        <p:spPr>
          <a:xfrm>
            <a:off x="4064040" y="214308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.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5"/>
          <p:cNvSpPr/>
          <p:nvPr/>
        </p:nvSpPr>
        <p:spPr>
          <a:xfrm>
            <a:off x="6432480" y="264312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Д.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6"/>
          <p:cNvSpPr/>
          <p:nvPr/>
        </p:nvSpPr>
        <p:spPr>
          <a:xfrm>
            <a:off x="6577200" y="32860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.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7"/>
          <p:cNvSpPr/>
          <p:nvPr/>
        </p:nvSpPr>
        <p:spPr>
          <a:xfrm>
            <a:off x="4361040" y="36432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8"/>
          <p:cNvSpPr/>
          <p:nvPr/>
        </p:nvSpPr>
        <p:spPr>
          <a:xfrm>
            <a:off x="4563720" y="4143240"/>
            <a:ext cx="53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9"/>
          <p:cNvSpPr/>
          <p:nvPr/>
        </p:nvSpPr>
        <p:spPr>
          <a:xfrm>
            <a:off x="4646520" y="464328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0"/>
          <p:cNvSpPr/>
          <p:nvPr/>
        </p:nvSpPr>
        <p:spPr>
          <a:xfrm>
            <a:off x="4431600" y="514368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1"/>
          <p:cNvSpPr/>
          <p:nvPr/>
        </p:nvSpPr>
        <p:spPr>
          <a:xfrm>
            <a:off x="3924720" y="564372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2"/>
          <p:cNvSpPr/>
          <p:nvPr/>
        </p:nvSpPr>
        <p:spPr>
          <a:xfrm>
            <a:off x="2718000" y="592920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.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2" descr="рам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"/>
          <p:cNvSpPr/>
          <p:nvPr/>
        </p:nvSpPr>
        <p:spPr>
          <a:xfrm>
            <a:off x="357120" y="473760"/>
            <a:ext cx="922356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Ласковые</a:t>
            </a: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лучи солны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ылают на землю тепло. Тают снега. По канавам бегу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звонкие</a:t>
            </a: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чейк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стучала за окошко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весела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апе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реках и озерах треснул ле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 деревья надену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новый, зеленый</a:t>
            </a: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я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                 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500040" y="571680"/>
            <a:ext cx="23576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571680" y="2643120"/>
            <a:ext cx="192852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428760" y="4071960"/>
            <a:ext cx="18572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6"/>
          <p:cNvSpPr/>
          <p:nvPr/>
        </p:nvSpPr>
        <p:spPr>
          <a:xfrm>
            <a:off x="428760" y="6000840"/>
            <a:ext cx="378612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2" descr="рам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3" descr=""/>
          <p:cNvPicPr/>
          <p:nvPr/>
        </p:nvPicPr>
        <p:blipFill>
          <a:blip r:embed="rId2"/>
          <a:stretch/>
        </p:blipFill>
        <p:spPr>
          <a:xfrm>
            <a:off x="1122480" y="512640"/>
            <a:ext cx="7235640" cy="11876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4" descr="корабль.jpg"/>
          <p:cNvPicPr/>
          <p:nvPr/>
        </p:nvPicPr>
        <p:blipFill>
          <a:blip r:embed="rId3"/>
          <a:stretch/>
        </p:blipFill>
        <p:spPr>
          <a:xfrm>
            <a:off x="2357280" y="1571760"/>
            <a:ext cx="47149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357120" y="57168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50021"/>
                </a:solidFill>
                <a:latin typeface="Arial"/>
              </a:rPr>
              <a:t>Цели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1357200" y="2071800"/>
            <a:ext cx="7429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Узнать, как изменяется имя прилагательно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Узнать, какую роль играет в реч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Учиться правильно употреблять в речи имя прилагательно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Учиться работать в групп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рам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4" descr=""/>
          <p:cNvPicPr/>
          <p:nvPr/>
        </p:nvPicPr>
        <p:blipFill>
          <a:blip r:embed="rId2"/>
          <a:stretch/>
        </p:blipFill>
        <p:spPr>
          <a:xfrm>
            <a:off x="493560" y="798480"/>
            <a:ext cx="7650360" cy="118908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5" descr=""/>
          <p:cNvPicPr/>
          <p:nvPr/>
        </p:nvPicPr>
        <p:blipFill>
          <a:blip r:embed="rId3"/>
          <a:stretch/>
        </p:blipFill>
        <p:spPr>
          <a:xfrm>
            <a:off x="152280" y="2328840"/>
            <a:ext cx="882036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44" descr="рам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2" descr=""/>
          <p:cNvPicPr/>
          <p:nvPr/>
        </p:nvPicPr>
        <p:blipFill>
          <a:blip r:embed="rId2"/>
          <a:stretch/>
        </p:blipFill>
        <p:spPr>
          <a:xfrm>
            <a:off x="378000" y="-12600"/>
            <a:ext cx="8327880" cy="8539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" descr="7795a513a9ea[1].jpg"/>
          <p:cNvPicPr/>
          <p:nvPr/>
        </p:nvPicPr>
        <p:blipFill>
          <a:blip r:embed="rId3"/>
          <a:stretch/>
        </p:blipFill>
        <p:spPr>
          <a:xfrm>
            <a:off x="571680" y="2143080"/>
            <a:ext cx="2000160" cy="13636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1571760" y="500076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азм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285840" y="15717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ассказ о корабл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4143240" y="642960"/>
            <a:ext cx="23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каз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с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1" descr="O9AW2CAO22GWDCAIY8E6UCAJJ7PGGCAA11GU0CA611980CABT20U1CAFBHD84CABD4WLWCA7JJ66CCA196IDMCAX20R5RCAECOB65CA233MKRCA56NLA9CAWIQ47YCAAJ79BFCAF03ZC7CACVSI4WCA2BL9E3.jpg"/>
          <p:cNvPicPr/>
          <p:nvPr/>
        </p:nvPicPr>
        <p:blipFill>
          <a:blip r:embed="rId4"/>
          <a:stretch/>
        </p:blipFill>
        <p:spPr>
          <a:xfrm>
            <a:off x="7215120" y="1285920"/>
            <a:ext cx="1554120" cy="15001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2"/>
          <p:cNvSpPr/>
          <p:nvPr/>
        </p:nvSpPr>
        <p:spPr>
          <a:xfrm>
            <a:off x="7500960" y="85716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Физмину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Прямая со стрелкой 18"/>
          <p:cNvCxnSpPr/>
          <p:nvPr/>
        </p:nvCxnSpPr>
        <p:spPr>
          <a:xfrm flipH="1">
            <a:off x="6071760" y="3071880"/>
            <a:ext cx="57240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20"/>
          <p:cNvCxnSpPr/>
          <p:nvPr/>
        </p:nvCxnSpPr>
        <p:spPr>
          <a:xfrm flipH="1" flipV="1">
            <a:off x="1713960" y="3642840"/>
            <a:ext cx="857880" cy="1286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24"/>
          <p:cNvCxnSpPr/>
          <p:nvPr/>
        </p:nvCxnSpPr>
        <p:spPr>
          <a:xfrm flipV="1">
            <a:off x="2428560" y="1571400"/>
            <a:ext cx="20725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26"/>
          <p:cNvCxnSpPr/>
          <p:nvPr/>
        </p:nvCxnSpPr>
        <p:spPr>
          <a:xfrm>
            <a:off x="6286320" y="1142640"/>
            <a:ext cx="121500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28"/>
          <p:cNvCxnSpPr/>
          <p:nvPr/>
        </p:nvCxnSpPr>
        <p:spPr>
          <a:xfrm flipH="1">
            <a:off x="6285960" y="2356200"/>
            <a:ext cx="9291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30"/>
          <p:cNvCxnSpPr/>
          <p:nvPr/>
        </p:nvCxnSpPr>
        <p:spPr>
          <a:xfrm flipH="1">
            <a:off x="5428800" y="3927960"/>
            <a:ext cx="57240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xtBox 29"/>
          <p:cNvSpPr/>
          <p:nvPr/>
        </p:nvSpPr>
        <p:spPr>
          <a:xfrm>
            <a:off x="5224680" y="2928960"/>
            <a:ext cx="33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Самостоятель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4"/>
          <p:cNvSpPr/>
          <p:nvPr/>
        </p:nvSpPr>
        <p:spPr>
          <a:xfrm>
            <a:off x="4301280" y="3429000"/>
            <a:ext cx="33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8"/>
          <p:cNvSpPr/>
          <p:nvPr/>
        </p:nvSpPr>
        <p:spPr>
          <a:xfrm>
            <a:off x="3212640" y="4286160"/>
            <a:ext cx="342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Творче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9" descr="энергия сила.jpg"/>
          <p:cNvPicPr/>
          <p:nvPr/>
        </p:nvPicPr>
        <p:blipFill>
          <a:blip r:embed="rId5"/>
          <a:stretch/>
        </p:blipFill>
        <p:spPr>
          <a:xfrm>
            <a:off x="4429080" y="4876920"/>
            <a:ext cx="2009880" cy="19810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9" descr="море.jpg"/>
          <p:cNvPicPr/>
          <p:nvPr/>
        </p:nvPicPr>
        <p:blipFill>
          <a:blip r:embed="rId6"/>
          <a:stretch/>
        </p:blipFill>
        <p:spPr>
          <a:xfrm>
            <a:off x="1643040" y="5429160"/>
            <a:ext cx="1325520" cy="9939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1" descr="белка.jpg"/>
          <p:cNvPicPr/>
          <p:nvPr/>
        </p:nvPicPr>
        <p:blipFill>
          <a:blip r:embed="rId7"/>
          <a:stretch/>
        </p:blipFill>
        <p:spPr>
          <a:xfrm>
            <a:off x="6786720" y="392904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2" descr="пушки.jpg"/>
          <p:cNvPicPr/>
          <p:nvPr/>
        </p:nvPicPr>
        <p:blipFill>
          <a:blip r:embed="rId8"/>
          <a:stretch/>
        </p:blipFill>
        <p:spPr>
          <a:xfrm>
            <a:off x="4000680" y="1714680"/>
            <a:ext cx="1185840" cy="1571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парус"/>
          <p:cNvPicPr/>
          <p:nvPr/>
        </p:nvPicPr>
        <p:blipFill>
          <a:blip r:embed="rId1"/>
          <a:srcRect l="0" t="0" r="0" b="7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рам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1895400" y="1397160"/>
          <a:ext cx="5353200" cy="4149720"/>
        </p:xfrm>
        <a:graphic>
          <a:graphicData uri="http://schemas.openxmlformats.org/drawingml/2006/table">
            <a:tbl>
              <a:tblPr/>
              <a:tblGrid>
                <a:gridCol w="314280"/>
                <a:gridCol w="4221360"/>
                <a:gridCol w="817560"/>
              </a:tblGrid>
              <a:tr h="8125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алл – за правильный отве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прилагательное –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часть реч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прилагательное обозначает –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признак предме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прилагательное отвечает на вопросы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Какой?  Какая? Какие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акой частью речи связано имя прилагательное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имя существительно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 gridSpan="2"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баллов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Box 5"/>
          <p:cNvSpPr/>
          <p:nvPr/>
        </p:nvSpPr>
        <p:spPr>
          <a:xfrm>
            <a:off x="2224080" y="785880"/>
            <a:ext cx="45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Тест «Имя прилагательн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6792120" y="85716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9" descr="рам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600206-Tropical-Fish-String-Lights"/>
          <p:cNvPicPr/>
          <p:nvPr/>
        </p:nvPicPr>
        <p:blipFill>
          <a:blip r:embed="rId2"/>
          <a:srcRect l="50013" t="3993" r="4661" b="67674"/>
          <a:stretch/>
        </p:blipFill>
        <p:spPr>
          <a:xfrm>
            <a:off x="-2341440" y="836640"/>
            <a:ext cx="2592360" cy="1633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600206-Tropical-Fish-String-Lights"/>
          <p:cNvPicPr/>
          <p:nvPr/>
        </p:nvPicPr>
        <p:blipFill>
          <a:blip r:embed="rId3"/>
          <a:srcRect l="4661" t="62560" r="55064" b="4674"/>
          <a:stretch/>
        </p:blipFill>
        <p:spPr>
          <a:xfrm>
            <a:off x="3995640" y="4724280"/>
            <a:ext cx="2590920" cy="1909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600206-Tropical-Fish-String-Lights"/>
          <p:cNvPicPr/>
          <p:nvPr/>
        </p:nvPicPr>
        <p:blipFill>
          <a:blip r:embed="rId4"/>
          <a:srcRect l="4661" t="65117" r="49950" b="4674"/>
          <a:stretch/>
        </p:blipFill>
        <p:spPr>
          <a:xfrm>
            <a:off x="5867280" y="620640"/>
            <a:ext cx="2664000" cy="1773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600206-Tropical-Fish-String-Lights"/>
          <p:cNvPicPr/>
          <p:nvPr/>
        </p:nvPicPr>
        <p:blipFill>
          <a:blip r:embed="rId5"/>
          <a:srcRect l="29831" t="34895" r="29844" b="37276"/>
          <a:stretch/>
        </p:blipFill>
        <p:spPr>
          <a:xfrm>
            <a:off x="9325080" y="3933720"/>
            <a:ext cx="2519280" cy="1739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600206-Tropical-Fish-String-Lights"/>
          <p:cNvPicPr/>
          <p:nvPr/>
        </p:nvPicPr>
        <p:blipFill>
          <a:blip r:embed="rId6"/>
          <a:srcRect l="51587" t="4611" r="4661" b="65697"/>
          <a:stretch/>
        </p:blipFill>
        <p:spPr>
          <a:xfrm>
            <a:off x="3276720" y="2276640"/>
            <a:ext cx="2592360" cy="1709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600206-Tropical-Fish-String-Lights"/>
          <p:cNvPicPr/>
          <p:nvPr/>
        </p:nvPicPr>
        <p:blipFill>
          <a:blip r:embed="rId7"/>
          <a:srcRect l="50013" t="3993" r="4661" b="67674"/>
          <a:stretch/>
        </p:blipFill>
        <p:spPr>
          <a:xfrm>
            <a:off x="-2592360" y="907920"/>
            <a:ext cx="2592360" cy="1778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600206-Tropical-Fish-String-Lights"/>
          <p:cNvPicPr/>
          <p:nvPr/>
        </p:nvPicPr>
        <p:blipFill>
          <a:blip r:embed="rId8"/>
          <a:srcRect l="29831" t="34895" r="29844" b="37276"/>
          <a:stretch/>
        </p:blipFill>
        <p:spPr>
          <a:xfrm>
            <a:off x="9540720" y="4149720"/>
            <a:ext cx="2519640" cy="173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"/>
          <p:cNvPicPr/>
          <p:nvPr/>
        </p:nvPicPr>
        <p:blipFill>
          <a:blip r:embed="rId9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44444E-006 C 0.01007 0.0706 0.03664 0.16944 0.13177 0.16805 C 0.26841 0.16805 0.27952 -0.16274 0.44358 -0.16389 C 0.59132 -0.16389 0.51233 0.12523 0.65452 0.12407 C 0.80209 0.12407 0.72309 -0.08542 0.88195 -0.08542 C 1.02414 -0.08542 0.94514 0.05601 1.07188 0.05601 C 1.19358 0.05601 1.13039 -0.05209 1.24132 -0.05209 C 1.30452 -0.05209 1.30921 -0.02269 1.31511 4.44444E-006 E">
                                      <p:cBhvr>
                                        <p:cTn id="71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3 -2.96296E-006 C 0.21893 0.0706 0.18872 0.16945 0.07622 0.16806 C -0.08593 0.16806 -0.09809 -0.16273 -0.29166 -0.16389 C -0.46562 -0.16389 -0.37274 0.12523 -0.54027 0.12408 C -0.71562 0.12408 -0.6217 -0.08541 -0.80868 -0.08541 C -0.97639 -0.08541 -0.8835 0.05602 -1.03229 0.05602 C -1.17569 0.05602 -1.10139 -0.05208 -1.23211 -0.05208 C -1.30659 -0.05208 -1.31198 -0.02268 -1.31892 -2.96296E-006 E">
                                      <p:cBhvr>
                                        <p:cTn id="74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ntr" presetID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0"/>
                            </p:stCondLst>
                            <p:childTnLst>
                              <p:par>
                                <p:cTn id="80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493 0.13935 C -0.30521 0.20995 -0.27968 0.30879 -0.18819 0.3074 C -0.05694 0.3074 -0.04618 -0.02338 0.11146 -0.02454 C 0.2533 -0.02454 0.17743 0.26458 0.31389 0.26342 C 0.45591 0.26342 0.37986 0.05393 0.53264 0.05393 C 0.66927 0.05393 0.59323 0.19537 0.71511 0.19537 C 0.83212 0.19537 0.77118 0.08727 0.87795 0.08727 C 0.93872 0.08727 0.94323 0.11666 0.94879 0.13935 E">
                                      <p:cBhvr>
                                        <p:cTn id="81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3000"/>
                            </p:stCondLst>
                            <p:childTnLst>
                              <p:par>
                                <p:cTn id="88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7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66 -0.13843 C 0.07274 -0.07732 0.10555 0.01412 0.05607 0.06504 C -0.01545 0.14074 -0.17483 -0.11227 -0.2599 -0.02408 C -0.33577 0.05717 -0.16059 0.24027 -0.23438 0.31666 C -0.31129 0.39838 -0.36771 0.19074 -0.44896 0.27731 C -0.52223 0.35532 -0.41598 0.42222 -0.48143 0.49166 C -0.54375 0.55879 -0.56198 0.43888 -0.6191 0.5 C -0.65174 0.53449 -0.63993 0.56018 -0.6323 0.58078 E">
                                      <p:cBhvr>
                                        <p:cTn id="96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0"/>
                            </p:stCondLst>
                            <p:childTnLst>
                              <p:par>
                                <p:cTn id="98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517 0.29723 C 0.19878 0.20487 0.22326 0.07014 0.13819 0.01181 C 0.01649 -0.07407 -0.15087 0.3176 -0.29688 0.21621 C -0.42743 0.12431 -0.21927 -0.17453 -0.34566 -0.26226 C -0.47726 -0.35532 -0.50695 -0.05324 -0.64705 -0.15231 C -0.77309 -0.24143 -0.63577 -0.36226 -0.7474 -0.44166 C -0.85486 -0.51759 -0.8507 -0.34791 -0.94896 -0.41759 C -1.00486 -0.45694 -0.9948 -0.49513 -0.98941 -0.52615 E">
                                      <p:cBhvr>
                                        <p:cTn id="99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1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7726 -0.58796 C -0.60868 -0.5993 -0.46667 -0.50532 -0.46181 -0.37638 C -0.45608 -0.24699 -0.58959 -0.13194 -0.75816 -0.11944 C -0.92743 -0.10694 -1.0691 -0.20277 -1.07431 -0.33194 C -1.07969 -0.46134 -0.9467 -0.57615 -0.77726 -0.58796 Z">
                                      <p:cBhvr>
                                        <p:cTn id="102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2" descr="рам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2" descr="бутылка в воде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9" descr="рам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" descr="бутылка на песке.jpg"/>
          <p:cNvPicPr/>
          <p:nvPr/>
        </p:nvPicPr>
        <p:blipFill>
          <a:blip r:embed="rId2"/>
          <a:stretch/>
        </p:blipFill>
        <p:spPr>
          <a:xfrm>
            <a:off x="357120" y="1785960"/>
            <a:ext cx="842976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3:05:32Z</dcterms:created>
  <dc:creator>User</dc:creator>
  <dc:description/>
  <dc:language>en-US</dc:language>
  <cp:lastModifiedBy>User</cp:lastModifiedBy>
  <dcterms:modified xsi:type="dcterms:W3CDTF">2013-03-10T13:49:43Z</dcterms:modified>
  <cp:revision>18</cp:revision>
  <dc:subject/>
  <dc:title>Слайд 1</dc:title>
</cp:coreProperties>
</file>