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B3A9-E83E-40C9-BFDC-7EB3F8F32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0FB9-07F0-4F90-8B70-07039B9AB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353D-4C86-4530-A77A-D47E51E83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8396-6A30-47B0-868A-9ACBE378F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89965-021A-4369-B241-D7CF2882F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1B41D-BA52-4E26-998A-89B0AA227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A0ED9-2A43-4410-910A-69C63A123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5D299-F656-46A0-BA70-8E62F8DAF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6075C-B09E-4CEB-9D09-5774516E3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6D584-A3E8-4BD6-9D13-B189E0A3E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A9988-445E-43F9-AFC7-530F4C798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AC86-A01F-457C-95C4-B6F1BC594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E2453-7D64-4430-A0E4-D05C60C3F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51852-F77F-45F2-961B-E3D8461B7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50A9B-1038-45D6-8BCC-AB2B91DA5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78335-2900-4990-A8BA-827D6FCC4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4B831-EFDD-4392-A5F1-7875517D0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9AA2-0C2F-408E-853B-4457EA932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29DA-E1BD-4BAA-9B3F-A0B505CC1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3D35-3510-45B0-9FF8-FDD3A1158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5892-07D6-4015-9D69-CACECA469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4A4C-CCE5-4CD7-BE9E-EE649C149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6AAB-1690-4E2F-96F7-2ECEFBDF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77A0-592B-4F0F-A0F8-0E9C8DDBE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CC917-9010-4913-A032-AE6AADEF73C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9D3D6-6657-4A33-A839-0CAB9286C92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990360"/>
            <a:ext cx="8686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История создания романа «Война и мир».</a:t>
            </a:r>
            <a:br>
              <a:rPr sz="4800"/>
            </a:b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 Особенности жанра. </a:t>
            </a:r>
            <a:br>
              <a:rPr sz="4800"/>
            </a:b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-257400" y="6536880"/>
            <a:ext cx="949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втор презентации – Малолеева Т.А., учитель литературы МБОУ Дивеевской СО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343400" y="0"/>
            <a:ext cx="4800600" cy="36036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603600" cy="38862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4267080" y="3774960"/>
            <a:ext cx="4876920" cy="30830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0" y="4084560"/>
            <a:ext cx="3962520" cy="27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Эпоха в роман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 том - события 1805 г.(война Россия в союзе с Австрией с Францией, Аустерлицкое и  Шенграбенское сражения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 том - 1806-1807 г.г. (война в союзе с Пруссией 1806 г.; Тильзитский мир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 и 4 тома - Отечественная война 1812 г.(переход французской армии через Неман, отступление русских, сдача Смоленска, Бородинское сражение, совет в Филях, оставление Москвы, партизанское движение, фланговый марш Кутузова, Тарутинское сражение, распад армии захватчиков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пилог - 1820 г. (тайные дворянские общества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Источники произведен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емейные пред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евастопольский опы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сторические докумен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астные пись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оспоминания участников событ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ездка на Бородинское пол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Проблематика произведен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оль личности и народа в истор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мысл человеческой жизн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овершенствование общества и челове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оль дворянства в истории государ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стинные и ложные цен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е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Жизнь и смер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стоки войны и её последств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Эпизод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«Салон Анны Павловны Шерер»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914400" y="1258920"/>
            <a:ext cx="7458120" cy="55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467480" cy="52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26300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807732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Домашняя работ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.204-208 учебника, запис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ит. 1 том, 1 часть, гл. 1-6 (основные герои, их характеры, приёмы изображения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047760" y="380880"/>
            <a:ext cx="60958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се страсти, все моменты человеческой жизни, от крика новорождённого до последней вспышки чувства умирающего старика, все горести и радости, доступные человеку, -всё есть в этой картине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.Страх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28600" y="2438280"/>
            <a:ext cx="310212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Путь к роману «Война и мир»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сихологизм повест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Детство»(1852 г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авдоискательство 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еромантизация войны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Севастопольских рассказов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1855 г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родность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вести «Казаки»(1862 г.)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4495680" y="1219320"/>
            <a:ext cx="533520" cy="5486400"/>
          </a:xfrm>
          <a:custGeom>
            <a:avLst/>
            <a:gdLst>
              <a:gd name="textAreaLeft" fmla="*/ 0 w 533520"/>
              <a:gd name="textAreaRight" fmla="*/ 192600 w 533520"/>
              <a:gd name="textAreaTop" fmla="*/ 142920 h 5486400"/>
              <a:gd name="textAreaBottom" fmla="*/ 5343480 h 5486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3352680"/>
            <a:ext cx="358128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«Война и мир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(1863 -1869 г.г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57146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1863-1869 г.г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7760" y="151920"/>
            <a:ext cx="609588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каждый день труда оставляешь в чернильнице кусочек себ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Л.Толст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3578400" cy="48006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724280" y="297180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cc"/>
                </a:solidFill>
                <a:uFillTx/>
                <a:latin typeface="Tahoma"/>
              </a:rPr>
              <a:t>Развитие замысла     «Я старался писать историю народа»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1856 г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стреча с Пущиным 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лконским         роман «Декабристы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герои – Пётр и Наталья Лобазовы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1825 г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сстание н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енатской площад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1812 г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течественна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й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1805 г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йна с Наполеоном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союзе с Австри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1905120"/>
            <a:ext cx="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335268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472428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52480" y="14479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47920" y="3352680"/>
            <a:ext cx="761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47920" y="4800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7920" y="61722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181480" y="4572000"/>
            <a:ext cx="2819520" cy="21146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248520" y="2514600"/>
            <a:ext cx="2895480" cy="19717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276720" y="19051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Поиски заглав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«Три поры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«1805 год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«Всё хорошо, что хорошо кончается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«Война и мир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4191120" y="2133720"/>
            <a:ext cx="53316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191120" y="3352680"/>
            <a:ext cx="533160" cy="533520"/>
          </a:xfrm>
          <a:prstGeom prst="downArrow">
            <a:avLst>
              <a:gd name="adj1" fmla="val 50000"/>
              <a:gd name="adj2" fmla="val 2501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4495680"/>
            <a:ext cx="60948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91440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Смысл заглав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437920" y="761760"/>
            <a:ext cx="4343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«Война и мир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4419720" y="2057400"/>
            <a:ext cx="4724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стояние общества, противоположное войне; отсутствие войны, раздоров и вражды между людьм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покойствие, тиши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еловеческое общество, община (м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ъ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селен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1905120"/>
            <a:ext cx="396252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оружённая борьба между государствами или народам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орьба, враждебные отношения с кем-чем-нибуд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2133720" y="1523880"/>
            <a:ext cx="175248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029200" y="1523880"/>
            <a:ext cx="175248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4591080"/>
            <a:ext cx="3352680" cy="22669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562720" y="5153040"/>
            <a:ext cx="358128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52480" y="-457560"/>
            <a:ext cx="73915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Правда заключается в братстве людей, люди не должны бороться друг с другом. И все действующие лица показывают, как человек подходит или отходит от этой правды.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                                             А.В.Луначарский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742840" y="2286000"/>
            <a:ext cx="56386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ойна и ми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5410080" y="3581280"/>
            <a:ext cx="39625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утуз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олконск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.Безух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остов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3505320"/>
            <a:ext cx="29718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полео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лександр Перв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ураги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1599840" y="2819520"/>
            <a:ext cx="198108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800600" y="2819520"/>
            <a:ext cx="152388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914400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Жанр произведения - </a:t>
            </a:r>
            <a:r>
              <a:rPr b="1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роман-эпопея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ЭПОПЕЯ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-  самая крупная жанровая форма эпоса , произведение , изображающее большой период исторического времени или значительное, судьбоносное событие в жизни нации (война, революция и т. д.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Для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Э.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 характерны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широкий географический охват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отражение жизни и быта всех слоев общества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народность содержания (слияние авторского и народного сознания, выражение народных идеалов, оценка событий в свете народных представлений и ценностей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Org</cp:lastModifiedBy>
  <dcterms:modified xsi:type="dcterms:W3CDTF">2013-03-10T11:48:4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