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9F8-B95E-499C-A5AD-A972CE70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BD6-1DE7-47C2-B9FE-E753C8C1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133-AF7B-4C11-B436-45E5C08B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8CE-F827-46BB-9A75-58D78620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879A-8D4C-4277-BC15-2CB42C83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BD1A-70AE-45AD-81C9-25D1D5FB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26CD-AE90-4338-8074-F7D01E41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276D-AC06-4882-A501-47C06CF1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151B-5152-4A52-9E99-E99654F8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FC28-D7CC-4611-B09A-4530BBF3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9C5D-D82C-45E5-9E82-CDB4FB62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423-5FC5-453B-BBE2-BC7666E8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BBB9-0D59-4859-821C-0CFA2A7A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B752-65BD-4B76-8761-CA73E7B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DC8B-E393-4B81-B941-2BBDD04D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36AD-63A0-4D67-836F-83D05F0E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DA8D-9232-4CD4-B535-22474536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170-9648-4029-84ED-D65C340D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03D-8078-4636-B427-D70724D4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3BF-2AE0-4DA1-BA3A-86D80D64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281-DCC4-403E-A403-57103A88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C91-4F30-4D77-94B5-BD8A78EA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A97-D463-4116-975F-58A36984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32F-6AD2-40BB-AF5A-6DE8FC03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4D22-5C1C-4661-A6E7-D6187A99DF3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7D14-7769-45CB-9B54-C388FABDCC0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История создания романа «Война и мир».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Особенности жанра. 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-257400" y="6536880"/>
            <a:ext cx="94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презентации – Малолеева Т.А., учитель литературы МБОУ Дивеевской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60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03600" cy="3886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267080" y="3774960"/>
            <a:ext cx="4876920" cy="308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4084560"/>
            <a:ext cx="39625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Эпоха в рома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том - события 1805 г.(война Россия в союзе с Австрией с Францией, Аустерлицкое и  Шенграбенское сраже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том - 1806-1807 г.г. (война в союзе с Пруссией 1806 г.; Тильзитский ми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и 4 тома - Отечественная война 1812 г.(переход французской армии через Неман, отступление русских, сдача Смоленска, Бородинское сражение, совет в Филях, оставление Москвы, партизанское движение, фланговый марш Кутузова, Тарутинское сражение, распад армии захватчик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пилог - 1820 г. (тайные дворянские общ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точники произвед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мейные пре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вастопольский опы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рические докум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ные пись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оминания участников собы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ездка на Бородинское по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Проблематика произвед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ль личности и народа в исто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мысл человеческой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ершенствование общества и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ль дворянства в истории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инные и ложные ц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знь и смер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ки войны и её послед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пизод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«Салон Анны Павловны Шерер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1258920"/>
            <a:ext cx="74581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6300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.204-208 учебника, запи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т. 1 том, 1 часть, гл. 1-6 (основные герои, их характеры, приёмы изображ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7760" y="380880"/>
            <a:ext cx="6095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страсти, все моменты человеческой жизни, от крика новорождённого до последней вспышки чувства умирающего старика, все горести и радости, доступные человеку, -всё есть в этой картин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.Страх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3102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Путь к роману «Война и мир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сихологизм пове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Детство»(1852 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доискательство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романтизация вой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евастопольских рассказов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1855 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ести «Казаки»(1862 г.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1219320"/>
            <a:ext cx="533520" cy="5486400"/>
          </a:xfrm>
          <a:custGeom>
            <a:avLst/>
            <a:gdLst>
              <a:gd name="textAreaLeft" fmla="*/ 0 w 533520"/>
              <a:gd name="textAreaRight" fmla="*/ 192600 w 53352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3352680"/>
            <a:ext cx="3581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Война и ми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1863 -1869 г.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5714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863-1869 г.г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7760" y="151920"/>
            <a:ext cx="6095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ждый день труда оставляешь в чернильнице кусочек себ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.Толс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578400" cy="480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Развитие замысла     «Я старался писать историю народа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56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реча с Пущиным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конским         роман «Декабрист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герои – Пётр и Наталья Лобазов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25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стание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натской площа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12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ечествен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й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05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йна с Наполеон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юзе с Австри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7242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1447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33526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6172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2895480" cy="197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76720" y="1905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Поиски заглав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Три пор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1805 год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Всё хорошо, что хорошо кончаетс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Война и мир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2133720"/>
            <a:ext cx="53316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3352680"/>
            <a:ext cx="533160" cy="533520"/>
          </a:xfrm>
          <a:prstGeom prst="downArrow">
            <a:avLst>
              <a:gd name="adj1" fmla="val 50000"/>
              <a:gd name="adj2" fmla="val 2501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9568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Смысл заглав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7920" y="76176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Война и мир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2057400"/>
            <a:ext cx="4724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яние общества, противоположное войне; отсутствие войны, раздоров и вражды между людь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койствие, тиш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ловеческое общество, община (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ъ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л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905120"/>
            <a:ext cx="3962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оружённая борьба между государствами или народ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ьба, враждебные отношения с кем-чем-нибу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33720" y="1523880"/>
            <a:ext cx="1752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523880"/>
            <a:ext cx="17524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4591080"/>
            <a:ext cx="3352680" cy="2266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62720" y="5153040"/>
            <a:ext cx="3581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-45756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равда заключается в братстве людей, люди не должны бороться друг с другом. И все действующие лица показывают, как человек подходит или отходит от этой правды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                              А.В.Луначарски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742840" y="2286000"/>
            <a:ext cx="563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йна и ми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3581280"/>
            <a:ext cx="3962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кон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.Безу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о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505320"/>
            <a:ext cx="2971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лександр Пер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раг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99840" y="2819520"/>
            <a:ext cx="1981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819520"/>
            <a:ext cx="15238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Жанр произведения -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роман-эпопе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ЭПОПЕ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 самая крупная жанровая форма эпоса , произведение , изображающее большой период исторического времени или значительное, судьбоносное событие в жизни нации (война, революция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Для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Э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характер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широкий географический охва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отражение жизни и быта всех слоев общест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народность содержания (слияние авторского и народного сознания, выражение народных идеалов, оценка событий в свете народных представлений и ценност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rg</cp:lastModifiedBy>
  <dcterms:modified xsi:type="dcterms:W3CDTF">2013-03-10T11:48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