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E4C-0527-4993-A4C8-F93A7B71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904-371E-4FD1-8E87-9D065AF5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072-641B-46BC-B6EE-9705C26D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80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34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80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34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B36-346A-4DFB-868A-86A8790A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38D1-D78B-4C44-9830-EAD7D26B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C978-2C47-438F-B4C7-8B7345F3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75A7-2690-4B13-BCCF-81AD7CAC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1BBB-C0D5-4558-A1D1-007EBCEB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D2E0-349F-44EF-87A6-0A6CD1FD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12A5-8F4A-418F-80CB-4AECF55F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04E8-5C80-4E38-89A8-6879A936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83C-CCD8-4C81-ACF2-BF8B5BB4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918A-91BA-408D-AC44-44A163BE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C991-3C73-47D8-AA9E-D5B0E85B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1820-25FF-4BA6-8AFA-4E82C1D7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13DD-3848-49EC-BFC2-CF74BFBB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480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34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26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480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534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3EF7-E128-4791-8D0A-42867F86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97B4-B096-449A-9C38-A871CFCA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CF260-2836-4194-AD1E-8F5D6D93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71F0A-0135-4518-A454-7A74020E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16B7-8908-45DF-BCD7-B7FD3C10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2C7A1-44AB-4BC7-8D5B-4D7F27E0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BCB-3B73-4869-9560-98260C06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1599C-22DC-4C37-81D4-E8A2C530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20E80-A737-45DC-B4A7-696851F2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38BB-99F8-4098-98FF-95D2FBF7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33BCE-152C-45A3-BF3B-22CA33AA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085B-A684-42BF-81D5-F0023AA9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9F01-4676-40B6-B683-B7ACEF25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480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534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426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8480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534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8430F-1590-4F17-8546-9CD1615D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62A-B22C-4EAE-B527-2A9450D1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474-AB98-4D55-9A66-E6BDCA6C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4A5-F890-4F4A-AB06-8AF57501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680-7BCE-499E-B386-3B3909EB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955-8A0C-4B48-BA93-7EF01F78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BD7-9353-4D93-8DB0-961B7AEA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5D7E-48A2-4CFD-8207-3131A4260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86DE-EBED-4E34-8F4C-EA835AA2A26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spinning_globe"/>
          <p:cNvPicPr/>
          <p:nvPr/>
        </p:nvPicPr>
        <p:blipFill>
          <a:blip r:embed="rId3"/>
          <a:stretch/>
        </p:blipFill>
        <p:spPr>
          <a:xfrm>
            <a:off x="7238880" y="48006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AE83-A84F-4F1A-BFCC-E595CB166AB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Historico-cultural Heritage of Britain.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500" spc="-1" strike="noStrike" u="sng">
                <a:solidFill>
                  <a:srgbClr val="000000"/>
                </a:solidFill>
                <a:uFillTx/>
                <a:latin typeface="Arial"/>
              </a:rPr>
              <a:t>The Celts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stonehenge_800x600"/>
          <p:cNvPicPr/>
          <p:nvPr/>
        </p:nvPicPr>
        <p:blipFill>
          <a:blip r:embed="rId1">
            <a:lum bright="6000"/>
          </a:blip>
          <a:srcRect l="0" t="58150" r="610" b="4029"/>
          <a:stretch/>
        </p:blipFill>
        <p:spPr>
          <a:xfrm>
            <a:off x="0" y="1557360"/>
            <a:ext cx="9144000" cy="5257800"/>
          </a:xfrm>
          <a:prstGeom prst="rect">
            <a:avLst/>
          </a:prstGeom>
          <a:ln w="9360">
            <a:solidFill>
              <a:srgbClr val="98944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Кельтские заимствования</a:t>
            </a:r>
            <a:br>
              <a:rPr sz="3200"/>
            </a:b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не более 80 сл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136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itary words -  javelin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тик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broch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ая песн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s of the animals - hog (pig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Names of the places -  Chester  Lancas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Lincoln Port – Smou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Names of the clothes – pall(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щ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words as  butter, cheese,  pear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ша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кельтские слова употребляются не только англичанами, но и во всем мире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y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 консервативной партии, а по-ирландски  - разбойник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id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д;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n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мя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sky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ка).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Impact"/>
              </a:rPr>
              <a:t>Search work:  Celtic names in modern world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258920" y="112536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“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Avon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” means “a riv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“</a:t>
            </a:r>
            <a:r>
              <a:rPr b="0" lang="en-US" sz="2400" spc="-1" strike="noStrike">
                <a:solidFill>
                  <a:srgbClr val="693080"/>
                </a:solidFill>
                <a:latin typeface="Franklin Gothic Demi"/>
              </a:rPr>
              <a:t>London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originates from “Llyn+dun”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 which means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"fortress on the hill over the river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“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Belgium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” is named after the Celtic tribe of the Bel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“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Belfast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” means in Celtic “a ford” – “</a:t>
            </a: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брод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“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Britain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” comes from the name “the Britton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“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Dublin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” denotes “a black lak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 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The Cambrian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 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Car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 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 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 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Poi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 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the Se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 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T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 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Tro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42560" y="1197000"/>
            <a:ext cx="60865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133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Demi"/>
              </a:rPr>
              <a:t>What do these women have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Demi"/>
              </a:rPr>
              <a:t>in common?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Demi"/>
              </a:rPr>
              <a:t>   </a:t>
            </a: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Demi"/>
              </a:rPr>
              <a:t>   </a:t>
            </a: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31" name="Picture 3" descr="boadicea5"/>
          <p:cNvPicPr/>
          <p:nvPr/>
        </p:nvPicPr>
        <p:blipFill>
          <a:blip r:embed="rId1"/>
          <a:srcRect l="6185" t="0" r="4477" b="18102"/>
          <a:stretch/>
        </p:blipFill>
        <p:spPr>
          <a:xfrm>
            <a:off x="6877080" y="476280"/>
            <a:ext cx="208908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4" descr="scathach"/>
          <p:cNvPicPr/>
          <p:nvPr/>
        </p:nvPicPr>
        <p:blipFill>
          <a:blip r:embed="rId2"/>
          <a:srcRect l="6358" t="0" r="0" b="0"/>
          <a:stretch/>
        </p:blipFill>
        <p:spPr>
          <a:xfrm>
            <a:off x="6877080" y="3645000"/>
            <a:ext cx="2055960" cy="28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cture 5" descr="Queen Victoria"/>
          <p:cNvPicPr/>
          <p:nvPr/>
        </p:nvPicPr>
        <p:blipFill>
          <a:blip r:embed="rId3"/>
          <a:stretch/>
        </p:blipFill>
        <p:spPr>
          <a:xfrm>
            <a:off x="250920" y="1700280"/>
            <a:ext cx="2124000" cy="286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Queen_Elizabeth_I"/>
          <p:cNvPicPr/>
          <p:nvPr/>
        </p:nvPicPr>
        <p:blipFill>
          <a:blip r:embed="rId4"/>
          <a:stretch/>
        </p:blipFill>
        <p:spPr>
          <a:xfrm>
            <a:off x="4716360" y="2205000"/>
            <a:ext cx="2033640" cy="292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Queen Elizabeth II"/>
          <p:cNvPicPr/>
          <p:nvPr/>
        </p:nvPicPr>
        <p:blipFill>
          <a:blip r:embed="rId5"/>
          <a:stretch/>
        </p:blipFill>
        <p:spPr>
          <a:xfrm>
            <a:off x="2484360" y="2997360"/>
            <a:ext cx="2071800" cy="2879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250920" y="4437000"/>
            <a:ext cx="2089080" cy="360360"/>
          </a:xfrm>
          <a:prstGeom prst="rect">
            <a:avLst/>
          </a:prstGeom>
          <a:solidFill>
            <a:srgbClr val="989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Demi"/>
              </a:rPr>
              <a:t>Queen Victo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2484360" y="5516640"/>
            <a:ext cx="2087640" cy="431640"/>
          </a:xfrm>
          <a:prstGeom prst="rect">
            <a:avLst/>
          </a:prstGeom>
          <a:solidFill>
            <a:srgbClr val="989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Demi"/>
              </a:rPr>
              <a:t>Queen Elizabeth 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877080" y="6021360"/>
            <a:ext cx="2087640" cy="432000"/>
          </a:xfrm>
          <a:prstGeom prst="rect">
            <a:avLst/>
          </a:prstGeom>
          <a:solidFill>
            <a:srgbClr val="989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Queen Scath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6877080" y="2924280"/>
            <a:ext cx="2089080" cy="431640"/>
          </a:xfrm>
          <a:prstGeom prst="rect">
            <a:avLst/>
          </a:prstGeom>
          <a:solidFill>
            <a:srgbClr val="989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Queen Boadic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716360" y="4724280"/>
            <a:ext cx="2016360" cy="432000"/>
          </a:xfrm>
          <a:prstGeom prst="rect">
            <a:avLst/>
          </a:prstGeom>
          <a:solidFill>
            <a:srgbClr val="989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Demi"/>
              </a:rPr>
              <a:t>Queen Elizabeth 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-198000" y="6105600"/>
            <a:ext cx="7320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Demi"/>
              </a:rPr>
              <a:t>State the role of women in the Celtic societ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040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Problem Solving: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43" name="Picture 15" descr="spinning_globe"/>
          <p:cNvPicPr/>
          <p:nvPr/>
        </p:nvPicPr>
        <p:blipFill>
          <a:blip r:embed="rId6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6335640" y="3933720"/>
            <a:ext cx="2808360" cy="2781360"/>
          </a:xfrm>
          <a:prstGeom prst="wedgeEllipseCallout">
            <a:avLst>
              <a:gd name="adj1" fmla="val -176398"/>
              <a:gd name="adj2" fmla="val -157703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cc66"/>
                </a:solidFill>
                <a:uFillTx/>
                <a:latin typeface="Franklin Gothic Demi"/>
              </a:rPr>
              <a:t>British Character,</a:t>
            </a:r>
            <a:r>
              <a:rPr b="0" lang="en-US" sz="2200" spc="-1" strike="noStrike">
                <a:solidFill>
                  <a:srgbClr val="ffcc66"/>
                </a:solidFill>
                <a:latin typeface="Franklin Gothic Demi"/>
              </a:rPr>
              <a:t> </a:t>
            </a:r>
            <a:r>
              <a:rPr b="0" lang="en-US" sz="2200" spc="-1" strike="noStrike" u="sng">
                <a:solidFill>
                  <a:srgbClr val="ffcc66"/>
                </a:solidFill>
                <a:uFillTx/>
                <a:latin typeface="Franklin Gothic Demi"/>
              </a:rPr>
              <a:t>Way of Thinking Attitude to N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0" y="4292640"/>
            <a:ext cx="2857680" cy="2565360"/>
          </a:xfrm>
          <a:prstGeom prst="wedgeEllipseCallout">
            <a:avLst>
              <a:gd name="adj1" fmla="val 47777"/>
              <a:gd name="adj2" fmla="val -183476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Franklin Gothic Demi"/>
              </a:rPr>
              <a:t>Historic Landmarks</a:t>
            </a:r>
            <a:r>
              <a:rPr b="0" lang="en-US" sz="2400" spc="-1" strike="noStrike">
                <a:solidFill>
                  <a:srgbClr val="ffcc00"/>
                </a:solidFill>
                <a:latin typeface="Franklin Gothic Dem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tonehenge and the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6012000" y="1268280"/>
            <a:ext cx="2857320" cy="2637000"/>
          </a:xfrm>
          <a:prstGeom prst="wedgeEllipseCallout">
            <a:avLst>
              <a:gd name="adj1" fmla="val -160833"/>
              <a:gd name="adj2" fmla="val -63425"/>
            </a:avLst>
          </a:prstGeom>
          <a:solidFill>
            <a:srgbClr val="aa97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Demi"/>
              </a:rPr>
              <a:t>Holidays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May D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Halloween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All Saints’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3851280" y="4292640"/>
            <a:ext cx="2808360" cy="2565360"/>
          </a:xfrm>
          <a:prstGeom prst="wedgeEllipseCallout">
            <a:avLst>
              <a:gd name="adj1" fmla="val -85162"/>
              <a:gd name="adj2" fmla="val -180199"/>
            </a:avLst>
          </a:prstGeom>
          <a:solidFill>
            <a:srgbClr val="dfb5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Franklin Gothic Demi"/>
              </a:rPr>
              <a:t>Artistic Heritag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Demi"/>
              </a:rPr>
              <a:t>Handicrafts, Blacksmiths’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Demi"/>
              </a:rPr>
              <a:t>Artic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908000" y="3068640"/>
            <a:ext cx="2808360" cy="2305080"/>
          </a:xfrm>
          <a:prstGeom prst="wedgeEllipseCallout">
            <a:avLst>
              <a:gd name="adj1" fmla="val -18740"/>
              <a:gd name="adj2" fmla="val -142148"/>
            </a:avLst>
          </a:prstGeom>
          <a:solidFill>
            <a:srgbClr val="aa97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Demi"/>
              </a:rPr>
              <a:t>Druids’ Tree Alpha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3419640" y="1197000"/>
            <a:ext cx="2736720" cy="2448000"/>
          </a:xfrm>
          <a:prstGeom prst="wedgeEllipseCallout">
            <a:avLst>
              <a:gd name="adj1" fmla="val -72504"/>
              <a:gd name="adj2" fmla="val -618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cc00"/>
                </a:solidFill>
                <a:uFillTx/>
                <a:latin typeface="Franklin Gothic Demi"/>
              </a:rPr>
              <a:t>Languages</a:t>
            </a:r>
            <a:r>
              <a:rPr b="0" lang="en-US" sz="2300" spc="-1" strike="noStrike">
                <a:solidFill>
                  <a:srgbClr val="ffcc00"/>
                </a:solidFill>
                <a:latin typeface="Franklin Gothic Demi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Breton</a:t>
            </a:r>
            <a:r>
              <a:rPr b="0" lang="en-US" sz="1500" spc="-1" strike="noStrike">
                <a:solidFill>
                  <a:srgbClr val="000000"/>
                </a:solidFill>
                <a:latin typeface="Franklin Gothic Dem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Cornish</a:t>
            </a:r>
            <a:r>
              <a:rPr b="0" lang="en-US" sz="1500" spc="-1" strike="noStrike">
                <a:solidFill>
                  <a:srgbClr val="000000"/>
                </a:solidFill>
                <a:latin typeface="Franklin Gothic Demi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Irish, Man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Scottish Gaeli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Wel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0" y="1197000"/>
            <a:ext cx="2857680" cy="2565360"/>
          </a:xfrm>
          <a:prstGeom prst="wedgeEllipseCallout">
            <a:avLst>
              <a:gd name="adj1" fmla="val 48333"/>
              <a:gd name="adj2" fmla="val -61199"/>
            </a:avLst>
          </a:prstGeom>
          <a:solidFill>
            <a:srgbClr val="dfb5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Franklin Gothic Demi"/>
              </a:rPr>
              <a:t>Women’s Status and Role in 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Franklin Gothic Demi"/>
              </a:rPr>
              <a:t>Socie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spinning_globe"/>
          <p:cNvPicPr/>
          <p:nvPr/>
        </p:nvPicPr>
        <p:blipFill>
          <a:blip r:embed="rId1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1"/>
          <p:cNvSpPr/>
          <p:nvPr/>
        </p:nvSpPr>
        <p:spPr>
          <a:xfrm>
            <a:off x="1042920" y="260280"/>
            <a:ext cx="8101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Impact"/>
              </a:rPr>
              <a:t>Celtic Contribution</a:t>
            </a:r>
            <a:r>
              <a:rPr b="0" lang="en-US" sz="4200" spc="-1" strike="noStrike">
                <a:solidFill>
                  <a:srgbClr val="000000"/>
                </a:solidFill>
                <a:latin typeface="Impact"/>
              </a:rPr>
              <a:t> to World Cultu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31640" y="1628640"/>
            <a:ext cx="7993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“  </a:t>
            </a: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Without the Celts</a:t>
            </a:r>
            <a:endParaRPr b="1" lang="en-US" sz="5400" spc="-1" strike="noStrike">
              <a:solidFill>
                <a:srgbClr val="000000"/>
              </a:solidFill>
              <a:latin typeface="Franklin Gothic Demi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our world and culture</a:t>
            </a:r>
            <a:endParaRPr b="1" lang="en-US" sz="5400" spc="-1" strike="noStrike">
              <a:solidFill>
                <a:srgbClr val="000000"/>
              </a:solidFill>
              <a:latin typeface="Franklin Gothic Demi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would have been </a:t>
            </a:r>
            <a:endParaRPr b="1" lang="en-US" sz="5400" spc="-1" strike="noStrike">
              <a:solidFill>
                <a:srgbClr val="000000"/>
              </a:solidFill>
              <a:latin typeface="Franklin Gothic Demi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grey and dull . . .”</a:t>
            </a:r>
            <a:endParaRPr b="1" lang="en-US" sz="5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203640" y="-360"/>
            <a:ext cx="374472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Impact"/>
              </a:rPr>
              <a:t>Sizing up</a:t>
            </a:r>
            <a:endParaRPr b="0" lang="en-US" sz="6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9:45:25Z</dcterms:created>
  <dc:creator>Admin</dc:creator>
  <dc:description/>
  <dc:language>en-US</dc:language>
  <cp:lastModifiedBy>Ольга</cp:lastModifiedBy>
  <dcterms:modified xsi:type="dcterms:W3CDTF">2013-03-10T16:10:11Z</dcterms:modified>
  <cp:revision>6</cp:revision>
  <dc:subject/>
  <dc:title>Слайд 1</dc:title>
</cp:coreProperties>
</file>