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39C-694F-4C74-BE5C-FEEB9479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CD5-8E6E-4B01-9ED4-56C9F69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3CA-0C0E-42E7-8F09-4E70360E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A2F-239C-4EAA-B9A1-DDB360BA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BEC7-5DA6-4224-AE17-84660147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7F6B-6DCB-4676-85E8-3BFD3737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3D0D-5981-48C2-982C-C1D17A94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45EF-ED20-4303-8058-ABEA02EB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64E3-6584-4485-912E-4F2B71D2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ECAD-E59E-4B3C-8CBB-BA100048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06E1-25DC-4BCA-8E66-05F6C99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01A-CF87-4685-8986-740C72F0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3615-ED56-412B-A721-A9EE479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D45D-3924-407F-8A32-451655A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ABDC-2BDA-4A88-A0B4-9AFD0EC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4615-F3B1-4CB6-89CE-10831436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005-74F7-4563-842B-00DA0C76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8600-E008-49AC-8F68-B760CDCC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E74F-57F2-42B1-8EE4-C2FD830F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5317-1FEF-4786-A996-AE9BB8F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3B4F-7552-4755-803F-30FF45B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E20D-DD75-4EB8-814C-E61E9CD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3F6-A2E9-44DE-8B3C-F6CF9E2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0843-6FA1-416B-9E10-31A25D7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B9AF-6FDD-409C-95D0-12CC585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6CC3-846E-425E-955D-FF82A36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C16C-67F6-4AF0-B05F-CDB7B0D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20DB-89BB-4A2C-9EF5-BFBC798F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A519-ADCE-4E0E-A90B-CC5AF9A9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664F-11E9-48CC-A6FF-3AE9450D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9BE-9C80-4D23-ABC8-2E3909F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EF1-24A5-412F-A5C6-D8F204B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1DA-D1B7-498E-AB76-71CC89B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FB7-E96E-47CB-AE4D-EE1DC6A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081-056B-4D85-802D-EE04588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050-2D5B-4847-A55F-65AF0F42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2100-EA5B-4619-8549-13F79F6BD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29E-3530-4129-B8E5-413A8A16FCB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spinning_globe"/>
          <p:cNvPicPr/>
          <p:nvPr/>
        </p:nvPicPr>
        <p:blipFill>
          <a:blip r:embed="rId3"/>
          <a:stretch/>
        </p:blipFill>
        <p:spPr>
          <a:xfrm>
            <a:off x="723888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E949-063E-43B7-A075-D8360E8D12C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Historico-cultural Heritage of Britain.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500" spc="-1" strike="noStrike" u="sng">
                <a:solidFill>
                  <a:srgbClr val="000000"/>
                </a:solidFill>
                <a:uFillTx/>
                <a:latin typeface="Arial"/>
              </a:rPr>
              <a:t>The Celts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tonehenge_800x600"/>
          <p:cNvPicPr/>
          <p:nvPr/>
        </p:nvPicPr>
        <p:blipFill>
          <a:blip r:embed="rId1">
            <a:lum bright="6000"/>
          </a:blip>
          <a:srcRect l="0" t="58150" r="610" b="4029"/>
          <a:stretch/>
        </p:blipFill>
        <p:spPr>
          <a:xfrm>
            <a:off x="0" y="1557360"/>
            <a:ext cx="9144000" cy="5257800"/>
          </a:xfrm>
          <a:prstGeom prst="rect">
            <a:avLst/>
          </a:prstGeom>
          <a:ln w="9360">
            <a:solidFill>
              <a:srgbClr val="9894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Кельтские заимствования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е более 80 сл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itary words -  javeli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ти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broch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ая пес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 of the animals - hog (pig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Names of the places -  Chester  Lancas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Lincoln Port – Smou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Names of the clothes – pall(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ords as  butter, cheese,  pear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а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кельтские слова употребляются не только англичанами, но и во всем мир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y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консервативной партии, а по-ирландски  - разбойник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d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д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я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sky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ка).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Search work:  Celtic names in modern world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258920" y="112536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Avo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means “a riv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93080"/>
                </a:solidFill>
                <a:latin typeface="Franklin Gothic Demi"/>
              </a:rPr>
              <a:t>Londo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originates from “Llyn+dun”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 which means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"fortress on the hill over the river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Belgium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is named after the Celtic tribe of the Bel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Belfast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means in Celtic “a ford” – “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брод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Britai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comes from the name “the Britton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“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Dublin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” denotes “a black lak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he Cambria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Poi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he S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 </a:t>
            </a:r>
            <a:r>
              <a:rPr b="0" lang="en-US" sz="2400" spc="-1" strike="noStrike">
                <a:solidFill>
                  <a:srgbClr val="6e038f"/>
                </a:solidFill>
                <a:latin typeface="Franklin Gothic Demi"/>
              </a:rPr>
              <a:t>Tro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60865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What do these women have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in common?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Demi"/>
              </a:rPr>
              <a:t>   </a:t>
            </a: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Demi"/>
              </a:rPr>
              <a:t>   </a:t>
            </a: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  <a:p>
            <a:pPr marL="133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31" name="Picture 3" descr="boadicea5"/>
          <p:cNvPicPr/>
          <p:nvPr/>
        </p:nvPicPr>
        <p:blipFill>
          <a:blip r:embed="rId1"/>
          <a:srcRect l="6185" t="0" r="4477" b="18102"/>
          <a:stretch/>
        </p:blipFill>
        <p:spPr>
          <a:xfrm>
            <a:off x="6877080" y="476280"/>
            <a:ext cx="20890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4" descr="scathach"/>
          <p:cNvPicPr/>
          <p:nvPr/>
        </p:nvPicPr>
        <p:blipFill>
          <a:blip r:embed="rId2"/>
          <a:srcRect l="6358" t="0" r="0" b="0"/>
          <a:stretch/>
        </p:blipFill>
        <p:spPr>
          <a:xfrm>
            <a:off x="6877080" y="3645000"/>
            <a:ext cx="2055960" cy="28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5" descr="Queen Victoria"/>
          <p:cNvPicPr/>
          <p:nvPr/>
        </p:nvPicPr>
        <p:blipFill>
          <a:blip r:embed="rId3"/>
          <a:stretch/>
        </p:blipFill>
        <p:spPr>
          <a:xfrm>
            <a:off x="250920" y="1700280"/>
            <a:ext cx="2124000" cy="286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Queen_Elizabeth_I"/>
          <p:cNvPicPr/>
          <p:nvPr/>
        </p:nvPicPr>
        <p:blipFill>
          <a:blip r:embed="rId4"/>
          <a:stretch/>
        </p:blipFill>
        <p:spPr>
          <a:xfrm>
            <a:off x="4716360" y="2205000"/>
            <a:ext cx="2033640" cy="292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Queen Elizabeth II"/>
          <p:cNvPicPr/>
          <p:nvPr/>
        </p:nvPicPr>
        <p:blipFill>
          <a:blip r:embed="rId5"/>
          <a:stretch/>
        </p:blipFill>
        <p:spPr>
          <a:xfrm>
            <a:off x="2484360" y="2997360"/>
            <a:ext cx="2071800" cy="2879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250920" y="4437000"/>
            <a:ext cx="2089080" cy="36036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Demi"/>
              </a:rPr>
              <a:t>Queen Vic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484360" y="5516640"/>
            <a:ext cx="2087640" cy="43164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Demi"/>
              </a:rPr>
              <a:t>Queen Elizabeth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77080" y="6021360"/>
            <a:ext cx="2087640" cy="43200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Queen Scath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877080" y="2924280"/>
            <a:ext cx="2089080" cy="43164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Queen Boadi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716360" y="4724280"/>
            <a:ext cx="2016360" cy="432000"/>
          </a:xfrm>
          <a:prstGeom prst="rect">
            <a:avLst/>
          </a:prstGeom>
          <a:solidFill>
            <a:srgbClr val="989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Demi"/>
              </a:rPr>
              <a:t>Queen Elizabeth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-198000" y="6105600"/>
            <a:ext cx="732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Demi"/>
              </a:rPr>
              <a:t>State the role of women in the Celtic socie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040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roblem Solving: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3" name="Picture 15" descr="spinning_globe"/>
          <p:cNvPicPr/>
          <p:nvPr/>
        </p:nvPicPr>
        <p:blipFill>
          <a:blip r:embed="rId6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335640" y="3933720"/>
            <a:ext cx="2808360" cy="2781360"/>
          </a:xfrm>
          <a:prstGeom prst="wedgeEllipseCallout">
            <a:avLst>
              <a:gd name="adj1" fmla="val -176398"/>
              <a:gd name="adj2" fmla="val -157703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c66"/>
                </a:solidFill>
                <a:uFillTx/>
                <a:latin typeface="Franklin Gothic Demi"/>
              </a:rPr>
              <a:t>British Character,</a:t>
            </a:r>
            <a:r>
              <a:rPr b="0" lang="en-US" sz="2200" spc="-1" strike="noStrike">
                <a:solidFill>
                  <a:srgbClr val="ffcc66"/>
                </a:solidFill>
                <a:latin typeface="Franklin Gothic Demi"/>
              </a:rPr>
              <a:t> </a:t>
            </a:r>
            <a:r>
              <a:rPr b="0" lang="en-US" sz="2200" spc="-1" strike="noStrike" u="sng">
                <a:solidFill>
                  <a:srgbClr val="ffcc66"/>
                </a:solidFill>
                <a:uFillTx/>
                <a:latin typeface="Franklin Gothic Demi"/>
              </a:rPr>
              <a:t>Way of Thinking Attitude to N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0" y="4292640"/>
            <a:ext cx="2857680" cy="2565360"/>
          </a:xfrm>
          <a:prstGeom prst="wedgeEllipseCallout">
            <a:avLst>
              <a:gd name="adj1" fmla="val 47777"/>
              <a:gd name="adj2" fmla="val -183476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Franklin Gothic Demi"/>
              </a:rPr>
              <a:t>Historic Landmarks</a:t>
            </a:r>
            <a:r>
              <a:rPr b="0" lang="en-US" sz="2400" spc="-1" strike="noStrike">
                <a:solidFill>
                  <a:srgbClr val="ffcc00"/>
                </a:solidFill>
                <a:latin typeface="Franklin Gothic Dem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tonehenge and the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6012000" y="1268280"/>
            <a:ext cx="2857320" cy="2637000"/>
          </a:xfrm>
          <a:prstGeom prst="wedgeEllipseCallout">
            <a:avLst>
              <a:gd name="adj1" fmla="val -160833"/>
              <a:gd name="adj2" fmla="val -63425"/>
            </a:avLst>
          </a:prstGeom>
          <a:solidFill>
            <a:srgbClr val="aa97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Holidays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May 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Hallowee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All Saints’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851280" y="4292640"/>
            <a:ext cx="2808360" cy="2565360"/>
          </a:xfrm>
          <a:prstGeom prst="wedgeEllipseCallout">
            <a:avLst>
              <a:gd name="adj1" fmla="val -85162"/>
              <a:gd name="adj2" fmla="val -180199"/>
            </a:avLst>
          </a:prstGeom>
          <a:solidFill>
            <a:srgbClr val="dfb5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Franklin Gothic Demi"/>
              </a:rPr>
              <a:t>Artistic Heritag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Demi"/>
              </a:rPr>
              <a:t>Handicrafts, Blacksmiths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Demi"/>
              </a:rPr>
              <a:t>Arti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08000" y="3068640"/>
            <a:ext cx="2808360" cy="2305080"/>
          </a:xfrm>
          <a:prstGeom prst="wedgeEllipseCallout">
            <a:avLst>
              <a:gd name="adj1" fmla="val -18740"/>
              <a:gd name="adj2" fmla="val -142148"/>
            </a:avLst>
          </a:prstGeom>
          <a:solidFill>
            <a:srgbClr val="aa97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ranklin Gothic Demi"/>
              </a:rPr>
              <a:t>Druids’ Tree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419640" y="1197000"/>
            <a:ext cx="2736720" cy="2448000"/>
          </a:xfrm>
          <a:prstGeom prst="wedgeEllipseCallout">
            <a:avLst>
              <a:gd name="adj1" fmla="val -72504"/>
              <a:gd name="adj2" fmla="val -618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cc00"/>
                </a:solidFill>
                <a:uFillTx/>
                <a:latin typeface="Franklin Gothic Demi"/>
              </a:rPr>
              <a:t>Languages</a:t>
            </a:r>
            <a:r>
              <a:rPr b="0" lang="en-US" sz="2300" spc="-1" strike="noStrike">
                <a:solidFill>
                  <a:srgbClr val="ffcc00"/>
                </a:solidFill>
                <a:latin typeface="Franklin Gothic Dem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Breton</a:t>
            </a:r>
            <a:r>
              <a:rPr b="0" lang="en-US" sz="1500" spc="-1" strike="noStrike">
                <a:solidFill>
                  <a:srgbClr val="000000"/>
                </a:solidFill>
                <a:latin typeface="Franklin Gothic Dem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Cornish</a:t>
            </a:r>
            <a:r>
              <a:rPr b="0" lang="en-US" sz="1500" spc="-1" strike="noStrike">
                <a:solidFill>
                  <a:srgbClr val="000000"/>
                </a:solidFill>
                <a:latin typeface="Franklin Gothic Demi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Irish, Man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Scottish Gael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"/>
              </a:rPr>
              <a:t>Wel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0" y="1197000"/>
            <a:ext cx="2857680" cy="2565360"/>
          </a:xfrm>
          <a:prstGeom prst="wedgeEllipseCallout">
            <a:avLst>
              <a:gd name="adj1" fmla="val 48333"/>
              <a:gd name="adj2" fmla="val -61199"/>
            </a:avLst>
          </a:prstGeom>
          <a:solidFill>
            <a:srgbClr val="dfb5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Franklin Gothic Demi"/>
              </a:rPr>
              <a:t>Women’s Status and Role in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Franklin Gothic Demi"/>
              </a:rPr>
              <a:t>Soci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spinning_globe"/>
          <p:cNvPicPr/>
          <p:nvPr/>
        </p:nvPicPr>
        <p:blipFill>
          <a:blip r:embed="rId1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1042920" y="260280"/>
            <a:ext cx="810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Impact"/>
              </a:rPr>
              <a:t>Celtic Contribution</a:t>
            </a:r>
            <a:r>
              <a:rPr b="0" lang="en-US" sz="4200" spc="-1" strike="noStrike">
                <a:solidFill>
                  <a:srgbClr val="000000"/>
                </a:solidFill>
                <a:latin typeface="Impact"/>
              </a:rPr>
              <a:t> to World Cultu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799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“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Without the Celts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our world and culture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would have been 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grey and dull . . .”</a:t>
            </a:r>
            <a:endParaRPr b="1" lang="en-US" sz="5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203640" y="-360"/>
            <a:ext cx="3744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Sizing up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9:45:25Z</dcterms:created>
  <dc:creator>Admin</dc:creator>
  <dc:description/>
  <dc:language>en-US</dc:language>
  <cp:lastModifiedBy>Ольга</cp:lastModifiedBy>
  <dcterms:modified xsi:type="dcterms:W3CDTF">2013-03-10T16:10:11Z</dcterms:modified>
  <cp:revision>6</cp:revision>
  <dc:subject/>
  <dc:title>Слайд 1</dc:title>
</cp:coreProperties>
</file>