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BAA1-C006-4A5E-A672-9ABF8367D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сегда знают о достижениях своего ребё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и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1F6-59FA-4678-A60F-CA08DEAF3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11E-857E-432C-85E5-A2FD2AB6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194-C50E-4A52-94D1-AB59623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B16-4A2C-4EBA-9D4C-FB428A4C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4E6-4075-46EF-BC98-555D6480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87F-708A-4AB0-801F-0B786B7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61D0-CA6B-4EA0-AEE9-1DA6D09D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5C73-A7AA-48E1-B493-63EC82D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3C9-B805-4E44-86D1-7BE8B26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7ACB-A589-4958-ABA4-559D7648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500-4B89-42A5-9A6F-C2BD3143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C95-24A6-4C20-AC8D-DF0D466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D49-E5F8-4965-BBE3-A8CB54A5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136A-95F9-4BDD-8296-DD05E36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336-6A2A-4249-8FF8-542B489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F8BE-B6F8-4BEB-BD1E-A7B755C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18D-03FE-4FBC-B608-D5060C57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AB5-74CC-4931-8465-CB214B6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56E-FE5D-4CFB-946C-EC730E6F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590-251C-4619-9DC6-E4415FD9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70C-8A84-457C-8F94-095C80CC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341-5ABB-46BB-9071-D96959F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7A2-ABDD-478A-8D78-E48F8A0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0C7-8CFC-4788-931D-EE1E83A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AB6-1B37-4B59-8D61-1CB2CEC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02FD-6567-4594-8068-83CBB682E1F6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9A6E-B750-450B-A857-00F8FF71F16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8F6-46C5-4BA2-A54F-ADFCFE08F6DB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2DC-CE47-4BB1-9495-76DCE7547C4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витие интеллектуальных задач методом проблемных ситу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итание эмпатии средствами изобразительного искусства, музыки, литературы. Тренинги на развитие эмоциона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ые иг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7238880" y="563868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A7D-35FC-4262-8A47-ADDCC6427F9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Documents and Settings\Admin\Рабочий стол\Новая папка воспитатели(4)\Елена Николаевна\группа Новая папка (3)\DSC01659.jpg"/>
          <p:cNvPicPr/>
          <p:nvPr/>
        </p:nvPicPr>
        <p:blipFill>
          <a:blip r:embed="rId3"/>
          <a:stretch/>
        </p:blipFill>
        <p:spPr>
          <a:xfrm>
            <a:off x="6172200" y="41911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6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0BB8-3226-4A92-8DB2-343F745628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C:\Documents and Settings\Admin\Рабочий стол\Новая папка воспитатели(4)\Елена Николаевна\группа Новая папка (3)\DSC01653.jpg"/>
          <p:cNvPicPr/>
          <p:nvPr/>
        </p:nvPicPr>
        <p:blipFill>
          <a:blip r:embed="rId3"/>
          <a:stretch/>
        </p:blipFill>
        <p:spPr>
          <a:xfrm>
            <a:off x="5334120" y="1676520"/>
            <a:ext cx="30448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143000" y="16192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219320" y="41911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2"/>
          <a:stretch/>
        </p:blipFill>
        <p:spPr>
          <a:xfrm>
            <a:off x="328680" y="36360"/>
            <a:ext cx="8736120" cy="156060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05A-1989-40BF-A83F-7A98D281506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J:\итог вариант\предметно-развивающая среда группа\SDC13056.JPG"/>
          <p:cNvPicPr/>
          <p:nvPr/>
        </p:nvPicPr>
        <p:blipFill>
          <a:blip r:embed="rId3"/>
          <a:stretch/>
        </p:blipFill>
        <p:spPr>
          <a:xfrm>
            <a:off x="609480" y="167652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J:\итог вариант\предметно-развивающая среда группа\SDC13039.JPG"/>
          <p:cNvPicPr/>
          <p:nvPr/>
        </p:nvPicPr>
        <p:blipFill>
          <a:blip r:embed="rId4"/>
          <a:stretch/>
        </p:blipFill>
        <p:spPr>
          <a:xfrm>
            <a:off x="3200400" y="4191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Лера-использует умения на практике.jpg"/>
          <p:cNvPicPr/>
          <p:nvPr/>
        </p:nvPicPr>
        <p:blipFill>
          <a:blip r:embed="rId5"/>
          <a:stretch/>
        </p:blipFill>
        <p:spPr>
          <a:xfrm>
            <a:off x="5105520" y="1752480"/>
            <a:ext cx="29718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0E0-03BF-4D59-844B-12BC985DD85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328680" y="36360"/>
            <a:ext cx="8736120" cy="156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J:\итог вариант\предметно-развивающая среда группа\SDC13042.JPG"/>
          <p:cNvPicPr/>
          <p:nvPr/>
        </p:nvPicPr>
        <p:blipFill>
          <a:blip r:embed="rId3"/>
          <a:stretch/>
        </p:blipFill>
        <p:spPr>
          <a:xfrm>
            <a:off x="3200400" y="4267080"/>
            <a:ext cx="2946240" cy="221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J:\итог вариант\предметно-развивающая среда группа\SDC13028.JPG"/>
          <p:cNvPicPr/>
          <p:nvPr/>
        </p:nvPicPr>
        <p:blipFill>
          <a:blip r:embed="rId4"/>
          <a:stretch/>
        </p:blipFill>
        <p:spPr>
          <a:xfrm>
            <a:off x="990720" y="1752480"/>
            <a:ext cx="2819160" cy="2259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28954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71B-E71F-46FC-A86A-C3963D67327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3"/>
          <a:stretch/>
        </p:blipFill>
        <p:spPr>
          <a:xfrm>
            <a:off x="4343400" y="34480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10800000">
            <a:off x="4648320" y="6125400"/>
            <a:ext cx="403848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I:\DCIM\100SSCAM\SDC13250.JPG"/>
          <p:cNvPicPr/>
          <p:nvPr/>
        </p:nvPicPr>
        <p:blipFill>
          <a:blip r:embed="rId4"/>
          <a:stretch/>
        </p:blipFill>
        <p:spPr>
          <a:xfrm>
            <a:off x="380880" y="1371600"/>
            <a:ext cx="2686320" cy="3581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2"/>
          <p:cNvSpPr/>
          <p:nvPr/>
        </p:nvSpPr>
        <p:spPr>
          <a:xfrm>
            <a:off x="34290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и знают как живет ребёнок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15280" cy="15606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0F47-ACC0-48E8-B5E1-B791D348513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3" descr="SDC13173.JPG"/>
          <p:cNvPicPr/>
          <p:nvPr/>
        </p:nvPicPr>
        <p:blipFill>
          <a:blip r:embed="rId3"/>
          <a:stretch/>
        </p:blipFill>
        <p:spPr>
          <a:xfrm>
            <a:off x="6172200" y="40384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SDC13217.JPG"/>
          <p:cNvPicPr/>
          <p:nvPr/>
        </p:nvPicPr>
        <p:blipFill>
          <a:blip r:embed="rId4"/>
          <a:stretch/>
        </p:blipFill>
        <p:spPr>
          <a:xfrm>
            <a:off x="6095880" y="1523880"/>
            <a:ext cx="177192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SDC13137.JPG"/>
          <p:cNvPicPr/>
          <p:nvPr/>
        </p:nvPicPr>
        <p:blipFill>
          <a:blip r:embed="rId5"/>
          <a:stretch/>
        </p:blipFill>
        <p:spPr>
          <a:xfrm>
            <a:off x="762120" y="44956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SDC13080.JPG"/>
          <p:cNvPicPr/>
          <p:nvPr/>
        </p:nvPicPr>
        <p:blipFill>
          <a:blip r:embed="rId6"/>
          <a:stretch/>
        </p:blipFill>
        <p:spPr>
          <a:xfrm>
            <a:off x="990720" y="160020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33EC-5A7C-4D3E-8563-745539AF543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ирование интегративных качеств младшая груп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ирование интегративных качеств средняя груп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450720" y="225360"/>
            <a:ext cx="1182960" cy="1238400"/>
          </a:xfrm>
          <a:prstGeom prst="rect">
            <a:avLst/>
          </a:prstGeom>
          <a:ln w="0">
            <a:noFill/>
          </a:ln>
        </p:spPr>
      </p:pic>
      <p:pic>
        <p:nvPicPr>
          <p:cNvPr id="127" name="Диаграмма 9" descr=""/>
          <p:cNvPicPr/>
          <p:nvPr/>
        </p:nvPicPr>
        <p:blipFill>
          <a:blip r:embed="rId4"/>
          <a:stretch/>
        </p:blipFill>
        <p:spPr>
          <a:xfrm>
            <a:off x="304920" y="2819520"/>
            <a:ext cx="3962160" cy="3733560"/>
          </a:xfrm>
          <a:prstGeom prst="rect">
            <a:avLst/>
          </a:prstGeom>
          <a:ln w="0">
            <a:noFill/>
          </a:ln>
        </p:spPr>
      </p:pic>
      <p:pic>
        <p:nvPicPr>
          <p:cNvPr id="128" name="Диаграмма 10" descr=""/>
          <p:cNvPicPr/>
          <p:nvPr/>
        </p:nvPicPr>
        <p:blipFill>
          <a:blip r:embed="rId5"/>
          <a:stretch/>
        </p:blipFill>
        <p:spPr>
          <a:xfrm>
            <a:off x="4876920" y="24382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1142-9EC4-43A9-BE40-16A943A0A9C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14360" y="225360"/>
            <a:ext cx="8242200" cy="1341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а оказывает очень большое, а может и самое важное влияние на личностное развитие ребёнка, формирование интегративных качест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1212840" y="298440"/>
            <a:ext cx="1182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24DE-256C-46F2-8065-0099729B655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603360" y="603360"/>
            <a:ext cx="80899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3-10T04:44:57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