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357-5E60-490D-B277-BF96818DE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сегда знают о достижениях своего ребё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и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7496-81F8-4378-AF1C-A799D75573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A33-79FE-40D3-B15D-4EC3D8F9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D78-333C-496B-835B-624BF242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5F3-8402-4AAE-8F9A-4EA7CE0B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62F-568A-49DE-B151-7B9B184C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4792-21FC-4DB2-8BBE-96B972BF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4B8D-8999-489E-A28F-DC9C8131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C83-DF01-4E16-900C-AA882DE0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2358-A522-4DCA-8B28-B06BC668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6554-4855-4453-B12F-4EF046A9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10B-A4DD-45FD-BF03-D4C6D113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6F19-773C-46CB-B40F-5C3E10D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3B4-9C6D-4C37-84F7-2870194D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9189-FF1A-4B9D-BC6F-00AD18EF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2B70-EE49-4FBA-920F-AC3D50F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B00C-F229-49E3-975E-BE83532A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AFD-5C91-4804-8F40-94A1DECF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E6D1-0460-49F5-8FD0-F162B086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254-59C1-418B-9F21-84AFE4D3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58A-265C-4826-BD8A-8A7DCDF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5F3-1497-46BA-9156-1A044782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A0F-78DC-4195-95A8-0B98AB92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15E-7957-4B0B-B626-F8E0B51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026-7CE0-49E3-A516-E0780EE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0F1-0279-46D1-8539-13BA297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8844-8BCD-4C43-BD4C-EB3E969AA5DF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EAD-36A3-4B3F-9B60-ADB098028A1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454-8D22-4B2A-A3D4-55946136E783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52B-5DB8-414A-B44C-60E42B2915B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витие интеллектуальных задач методом проблемных ситу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питание эмпатии средствами изобразительного искусства, музыки, литературы. Тренинги на развитие эмоциона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ые иг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7238880" y="563868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EDA-0E60-4772-A0C9-03324C75559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C:\Documents and Settings\Admin\Рабочий стол\Новая папка воспитатели(4)\Елена Николаевна\группа Новая папка (3)\DSC01659.jpg"/>
          <p:cNvPicPr/>
          <p:nvPr/>
        </p:nvPicPr>
        <p:blipFill>
          <a:blip r:embed="rId3"/>
          <a:stretch/>
        </p:blipFill>
        <p:spPr>
          <a:xfrm>
            <a:off x="6172200" y="41911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6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9DC-2A7A-45AF-BF17-1E5F55236E9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C:\Documents and Settings\Admin\Рабочий стол\Новая папка воспитатели(4)\Елена Николаевна\группа Новая папка (3)\DSC01653.jpg"/>
          <p:cNvPicPr/>
          <p:nvPr/>
        </p:nvPicPr>
        <p:blipFill>
          <a:blip r:embed="rId3"/>
          <a:stretch/>
        </p:blipFill>
        <p:spPr>
          <a:xfrm>
            <a:off x="5334120" y="1676520"/>
            <a:ext cx="30448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2590560" cy="239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143000" y="16192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219320" y="4191120"/>
            <a:ext cx="2819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2"/>
          <a:stretch/>
        </p:blipFill>
        <p:spPr>
          <a:xfrm>
            <a:off x="328680" y="36360"/>
            <a:ext cx="8736120" cy="156060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50CF-CECB-4327-8115-0ACC48107C1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J:\итог вариант\предметно-развивающая среда группа\SDC13056.JPG"/>
          <p:cNvPicPr/>
          <p:nvPr/>
        </p:nvPicPr>
        <p:blipFill>
          <a:blip r:embed="rId3"/>
          <a:stretch/>
        </p:blipFill>
        <p:spPr>
          <a:xfrm>
            <a:off x="609480" y="1676520"/>
            <a:ext cx="3048120" cy="22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J:\итог вариант\предметно-развивающая среда группа\SDC13039.JPG"/>
          <p:cNvPicPr/>
          <p:nvPr/>
        </p:nvPicPr>
        <p:blipFill>
          <a:blip r:embed="rId4"/>
          <a:stretch/>
        </p:blipFill>
        <p:spPr>
          <a:xfrm>
            <a:off x="3200400" y="41911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Лера-использует умения на практике.jpg"/>
          <p:cNvPicPr/>
          <p:nvPr/>
        </p:nvPicPr>
        <p:blipFill>
          <a:blip r:embed="rId5"/>
          <a:stretch/>
        </p:blipFill>
        <p:spPr>
          <a:xfrm>
            <a:off x="5105520" y="1752480"/>
            <a:ext cx="29718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CFCF-9F29-4B0C-AAE0-7FC418FC0C4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328680" y="36360"/>
            <a:ext cx="8736120" cy="156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J:\итог вариант\предметно-развивающая среда группа\SDC13042.JPG"/>
          <p:cNvPicPr/>
          <p:nvPr/>
        </p:nvPicPr>
        <p:blipFill>
          <a:blip r:embed="rId3"/>
          <a:stretch/>
        </p:blipFill>
        <p:spPr>
          <a:xfrm>
            <a:off x="3200400" y="4267080"/>
            <a:ext cx="2946240" cy="221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J:\итог вариант\предметно-развивающая среда группа\SDC13028.JPG"/>
          <p:cNvPicPr/>
          <p:nvPr/>
        </p:nvPicPr>
        <p:blipFill>
          <a:blip r:embed="rId4"/>
          <a:stretch/>
        </p:blipFill>
        <p:spPr>
          <a:xfrm>
            <a:off x="990720" y="1752480"/>
            <a:ext cx="2819160" cy="2259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334120" y="1828800"/>
            <a:ext cx="28954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F7A-8F12-4100-9C88-93D2F376F13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3"/>
          <a:stretch/>
        </p:blipFill>
        <p:spPr>
          <a:xfrm>
            <a:off x="4343400" y="34480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10800000">
            <a:off x="4648320" y="6125400"/>
            <a:ext cx="4038480" cy="1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I:\DCIM\100SSCAM\SDC13250.JPG"/>
          <p:cNvPicPr/>
          <p:nvPr/>
        </p:nvPicPr>
        <p:blipFill>
          <a:blip r:embed="rId4"/>
          <a:stretch/>
        </p:blipFill>
        <p:spPr>
          <a:xfrm>
            <a:off x="380880" y="1371600"/>
            <a:ext cx="2686320" cy="3581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2"/>
          <p:cNvSpPr/>
          <p:nvPr/>
        </p:nvSpPr>
        <p:spPr>
          <a:xfrm>
            <a:off x="34290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и знают как живет ребёнок в детском с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315280" cy="15606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B3B7-D159-466E-AEC3-DD6D80C46A5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3" descr="SDC13173.JPG"/>
          <p:cNvPicPr/>
          <p:nvPr/>
        </p:nvPicPr>
        <p:blipFill>
          <a:blip r:embed="rId3"/>
          <a:stretch/>
        </p:blipFill>
        <p:spPr>
          <a:xfrm>
            <a:off x="6172200" y="403848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SDC13217.JPG"/>
          <p:cNvPicPr/>
          <p:nvPr/>
        </p:nvPicPr>
        <p:blipFill>
          <a:blip r:embed="rId4"/>
          <a:stretch/>
        </p:blipFill>
        <p:spPr>
          <a:xfrm>
            <a:off x="6095880" y="1523880"/>
            <a:ext cx="1771920" cy="2362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SDC13137.JPG"/>
          <p:cNvPicPr/>
          <p:nvPr/>
        </p:nvPicPr>
        <p:blipFill>
          <a:blip r:embed="rId5"/>
          <a:stretch/>
        </p:blipFill>
        <p:spPr>
          <a:xfrm>
            <a:off x="762120" y="44956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SDC13080.JPG"/>
          <p:cNvPicPr/>
          <p:nvPr/>
        </p:nvPicPr>
        <p:blipFill>
          <a:blip r:embed="rId6"/>
          <a:stretch/>
        </p:blipFill>
        <p:spPr>
          <a:xfrm>
            <a:off x="990720" y="160020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015F-7630-4CD3-BA28-06929A46347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ирование интегративных качеств младшая груп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ирование интегративных качеств средняя груп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450720" y="225360"/>
            <a:ext cx="1182960" cy="1238400"/>
          </a:xfrm>
          <a:prstGeom prst="rect">
            <a:avLst/>
          </a:prstGeom>
          <a:ln w="0">
            <a:noFill/>
          </a:ln>
        </p:spPr>
      </p:pic>
      <p:pic>
        <p:nvPicPr>
          <p:cNvPr id="127" name="Диаграмма 9" descr=""/>
          <p:cNvPicPr/>
          <p:nvPr/>
        </p:nvPicPr>
        <p:blipFill>
          <a:blip r:embed="rId4"/>
          <a:stretch/>
        </p:blipFill>
        <p:spPr>
          <a:xfrm>
            <a:off x="304920" y="2819520"/>
            <a:ext cx="3962160" cy="3733560"/>
          </a:xfrm>
          <a:prstGeom prst="rect">
            <a:avLst/>
          </a:prstGeom>
          <a:ln w="0">
            <a:noFill/>
          </a:ln>
        </p:spPr>
      </p:pic>
      <p:pic>
        <p:nvPicPr>
          <p:cNvPr id="128" name="Диаграмма 10" descr=""/>
          <p:cNvPicPr/>
          <p:nvPr/>
        </p:nvPicPr>
        <p:blipFill>
          <a:blip r:embed="rId5"/>
          <a:stretch/>
        </p:blipFill>
        <p:spPr>
          <a:xfrm>
            <a:off x="4876920" y="24382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E612-5C78-4225-83EB-99788CE2364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14360" y="225360"/>
            <a:ext cx="8242200" cy="1341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а оказывает очень большое, а может и самое важное влияние на личностное развитие ребёнка, формирование интегративных качест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1212840" y="298440"/>
            <a:ext cx="11826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5CBD-0387-4DE7-86C8-BA9F2DAED4F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603360" y="603360"/>
            <a:ext cx="80899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3-10T04:44:57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