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27.jpeg" ContentType="image/jpeg"/>
  <Override PartName="/ppt/media/image50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38.jpeg" ContentType="image/jpeg"/>
  <Override PartName="/ppt/media/image44.jpeg" ContentType="image/jpeg"/>
  <Override PartName="/ppt/media/image33.jpeg" ContentType="image/jpeg"/>
  <Override PartName="/ppt/media/image32.jpeg" ContentType="image/jpeg"/>
  <Override PartName="/ppt/media/image40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.jpeg" ContentType="image/jpeg"/>
  <Override PartName="/ppt/media/image37.jpeg" ContentType="image/jpe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2.png" ContentType="image/png"/>
  <Override PartName="/ppt/media/image25.png" ContentType="image/png"/>
  <Override PartName="/ppt/media/image42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4253-DA69-4D75-9E13-02D93E02E7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дряшова Ольг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E60C-0C3D-47F1-A34B-866276B665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возможность использования различными способами одних  и тех же предм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E549-F073-4E7F-B062-531875E481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тивное изменение в сре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образие тематики  материалов и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индивидуальную комфортность и эмоциональное благополуч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к для мальчиков и дев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е народные традиции и современная символик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CD2-76C8-46B1-8B68-7AD316D9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B3F-92AE-4FA8-A9DD-C619C43F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49B-9413-4F3B-829C-30E67960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807-CDD2-4901-A22B-DE2F4E6D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4C3-4004-45C2-B774-1478D0BC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4B3-ECA5-4A64-A435-BA4F4D43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CE4-28F1-47AF-A46C-297E9311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CDA-6A60-4CE1-9451-C2731363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43B-6DC1-424E-B842-CE7E1CA0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618-F8CC-4B79-A14B-AD2CF671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667-5609-4768-AA55-263DA818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26A-D68A-4C63-8249-C6546EEA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A044-ACD9-46D8-A4D5-8D09995AEB0D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B03C-CF00-4EBE-B5D0-B0345749F364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4AC8-DB0D-464E-BE58-F1A75B48CA8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585720" y="225360"/>
            <a:ext cx="8386920" cy="804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2819520" y="5562720"/>
            <a:ext cx="464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стаж педагогической работы </a:t>
            </a:r>
            <a:br>
              <a:rPr sz="1200"/>
            </a:b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в должности  воспитателя 7 лет</a:t>
            </a:r>
            <a:br>
              <a:rPr sz="1200"/>
            </a:b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Иркутский государственный педагогический университет, 2007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3"/>
          <a:stretch/>
        </p:blipFill>
        <p:spPr>
          <a:xfrm>
            <a:off x="2666880" y="2133720"/>
            <a:ext cx="4267440" cy="3270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4"/>
          <p:cNvSpPr/>
          <p:nvPr/>
        </p:nvSpPr>
        <p:spPr>
          <a:xfrm>
            <a:off x="2209680" y="1066680"/>
            <a:ext cx="460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удряшо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льга Владими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E445-51CB-41B6-B197-1C2C57862FF4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Заголовок 2" descr=""/>
          <p:cNvPicPr/>
          <p:nvPr/>
        </p:nvPicPr>
        <p:blipFill>
          <a:blip r:embed="rId2"/>
          <a:stretch/>
        </p:blipFill>
        <p:spPr>
          <a:xfrm>
            <a:off x="225360" y="-103320"/>
            <a:ext cx="8467920" cy="1560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Admin\Рабочий стол\Новая папка воспитатели(4)\группа\SDC13077.JPG"/>
          <p:cNvPicPr/>
          <p:nvPr/>
        </p:nvPicPr>
        <p:blipFill>
          <a:blip r:embed="rId3"/>
          <a:stretch/>
        </p:blipFill>
        <p:spPr>
          <a:xfrm>
            <a:off x="762120" y="16002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28600" y="4343400"/>
            <a:ext cx="396252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еспечивает возмож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спользования различ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особами  одних  и тех ж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м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86400" y="2209680"/>
            <a:ext cx="262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2098-C436-47A6-937F-CFF07D77064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603360" y="103320"/>
            <a:ext cx="7864200" cy="156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Содержимое 2"/>
          <p:cNvGraphicFramePr/>
          <p:nvPr/>
        </p:nvGraphicFramePr>
        <p:xfrm>
          <a:off x="0" y="1295280"/>
          <a:ext cx="4064040" cy="229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Содержимое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95280"/>
                    <a:ext cx="4064040" cy="22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4" descr=""/>
          <p:cNvPicPr/>
          <p:nvPr/>
        </p:nvPicPr>
        <p:blipFill>
          <a:blip r:embed="rId5"/>
          <a:stretch/>
        </p:blipFill>
        <p:spPr>
          <a:xfrm>
            <a:off x="6858000" y="1600200"/>
            <a:ext cx="1886040" cy="2514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9"/>
          <p:cNvSpPr/>
          <p:nvPr/>
        </p:nvSpPr>
        <p:spPr>
          <a:xfrm>
            <a:off x="3581280" y="3581280"/>
            <a:ext cx="3027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туатив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менение в сре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I:\DCIM\100SSCAM\SDC13271.JPG"/>
          <p:cNvPicPr/>
          <p:nvPr/>
        </p:nvPicPr>
        <p:blipFill>
          <a:blip r:embed="rId6"/>
          <a:stretch/>
        </p:blipFill>
        <p:spPr>
          <a:xfrm>
            <a:off x="304920" y="17524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10" descr="m_c5afd12f.jpg"/>
          <p:cNvPicPr/>
          <p:nvPr/>
        </p:nvPicPr>
        <p:blipFill>
          <a:blip r:embed="rId7"/>
          <a:stretch/>
        </p:blipFill>
        <p:spPr>
          <a:xfrm>
            <a:off x="380880" y="4495680"/>
            <a:ext cx="2895840" cy="2183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Admin\Рабочий стол\Новая папка воспитатели(4)\Елена Николаевна\детский сад\m_0caa7294.jpg"/>
          <p:cNvPicPr/>
          <p:nvPr/>
        </p:nvPicPr>
        <p:blipFill>
          <a:blip r:embed="rId8"/>
          <a:stretch/>
        </p:blipFill>
        <p:spPr>
          <a:xfrm>
            <a:off x="5410080" y="4495680"/>
            <a:ext cx="281952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DF31-5CD0-4A56-8F46-61593B51DB90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450720" y="55440"/>
            <a:ext cx="824256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609480" y="1143000"/>
            <a:ext cx="200052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Admin\Рабочий стол\Новая папка воспитатели(4)\группа\SDC13055.JPG"/>
          <p:cNvPicPr/>
          <p:nvPr/>
        </p:nvPicPr>
        <p:blipFill>
          <a:blip r:embed="rId4"/>
          <a:stretch/>
        </p:blipFill>
        <p:spPr>
          <a:xfrm>
            <a:off x="5334120" y="4305240"/>
            <a:ext cx="2971800" cy="223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Admin\Рабочий стол\Новая папка воспитатели(4)\группа\SDC13031.JPG"/>
          <p:cNvPicPr/>
          <p:nvPr/>
        </p:nvPicPr>
        <p:blipFill>
          <a:blip r:embed="rId5"/>
          <a:stretch/>
        </p:blipFill>
        <p:spPr>
          <a:xfrm>
            <a:off x="609480" y="4381560"/>
            <a:ext cx="2895840" cy="21715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2517840" y="3429000"/>
            <a:ext cx="35319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нообразие 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териалов и оборуд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I:\DCIM\100SSCAM\SDC13239.JPG"/>
          <p:cNvPicPr/>
          <p:nvPr/>
        </p:nvPicPr>
        <p:blipFill>
          <a:blip r:embed="rId6"/>
          <a:stretch/>
        </p:blipFill>
        <p:spPr>
          <a:xfrm>
            <a:off x="5410080" y="12952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1D2C-8A5C-4E96-B1D1-C439E4229099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3" descr="SDC13077.JPG"/>
          <p:cNvPicPr/>
          <p:nvPr/>
        </p:nvPicPr>
        <p:blipFill>
          <a:blip r:embed="rId3"/>
          <a:stretch/>
        </p:blipFill>
        <p:spPr>
          <a:xfrm>
            <a:off x="304920" y="352440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9"/>
          <p:cNvSpPr/>
          <p:nvPr/>
        </p:nvSpPr>
        <p:spPr>
          <a:xfrm>
            <a:off x="83808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 Музей народного 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248520" y="5105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Музей       «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усског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быт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I:\DCIM\100SSCAM\SDC13245.JPG"/>
          <p:cNvPicPr/>
          <p:nvPr/>
        </p:nvPicPr>
        <p:blipFill>
          <a:blip r:embed="rId4"/>
          <a:stretch/>
        </p:blipFill>
        <p:spPr>
          <a:xfrm>
            <a:off x="4648320" y="15238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BD99-BC23-45B1-B40F-997BC78371E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C:\Documents and Settings\Admin\Рабочий стол\Новая папка воспитатели(4)\группа\SDC13156.JPG"/>
          <p:cNvPicPr/>
          <p:nvPr/>
        </p:nvPicPr>
        <p:blipFill>
          <a:blip r:embed="rId2"/>
          <a:stretch/>
        </p:blipFill>
        <p:spPr>
          <a:xfrm>
            <a:off x="5181480" y="41911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30" name="Заголовок 1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8242200" cy="1330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4577400" y="2514600"/>
            <a:ext cx="38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хнические средства 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4"/>
          <a:stretch/>
        </p:blipFill>
        <p:spPr>
          <a:xfrm>
            <a:off x="609480" y="4114800"/>
            <a:ext cx="3314880" cy="2486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685800" y="1333440"/>
            <a:ext cx="32004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8A8F-FBA6-4BDE-A9DF-673FA453BD7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Заголовок 1" descr=""/>
          <p:cNvPicPr/>
          <p:nvPr/>
        </p:nvPicPr>
        <p:blipFill>
          <a:blip r:embed="rId2"/>
          <a:stretch/>
        </p:blipFill>
        <p:spPr>
          <a:xfrm>
            <a:off x="-6480" y="268200"/>
            <a:ext cx="9004320" cy="1798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457200" y="3657600"/>
            <a:ext cx="81532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еспечивает индивидуальную комфортность и эмоцион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агополуч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9" descr="SDC13222"/>
          <p:cNvPicPr/>
          <p:nvPr/>
        </p:nvPicPr>
        <p:blipFill>
          <a:blip r:embed="rId3"/>
          <a:stretch/>
        </p:blipFill>
        <p:spPr>
          <a:xfrm>
            <a:off x="5638680" y="1523880"/>
            <a:ext cx="2286000" cy="1776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SDC13227"/>
          <p:cNvPicPr/>
          <p:nvPr/>
        </p:nvPicPr>
        <p:blipFill>
          <a:blip r:embed="rId4"/>
          <a:stretch/>
        </p:blipFill>
        <p:spPr>
          <a:xfrm>
            <a:off x="685800" y="4495680"/>
            <a:ext cx="274320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I:\DCIM\100SSCAM\SDC13269.JPG"/>
          <p:cNvPicPr/>
          <p:nvPr/>
        </p:nvPicPr>
        <p:blipFill>
          <a:blip r:embed="rId5"/>
          <a:stretch/>
        </p:blipFill>
        <p:spPr>
          <a:xfrm>
            <a:off x="838080" y="1600200"/>
            <a:ext cx="243864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I:\DCIM\100SSCAM\SDC13281.JPG"/>
          <p:cNvPicPr/>
          <p:nvPr/>
        </p:nvPicPr>
        <p:blipFill>
          <a:blip r:embed="rId6"/>
          <a:stretch/>
        </p:blipFill>
        <p:spPr>
          <a:xfrm>
            <a:off x="5486400" y="4495680"/>
            <a:ext cx="2666880" cy="1998720"/>
          </a:xfrm>
          <a:prstGeom prst="rect">
            <a:avLst/>
          </a:prstGeom>
          <a:ln w="0">
            <a:noFill/>
          </a:ln>
        </p:spPr>
      </p:pic>
      <p:pic>
        <p:nvPicPr>
          <p:cNvPr id="141" name="Заголовок 1" descr=""/>
          <p:cNvPicPr/>
          <p:nvPr/>
        </p:nvPicPr>
        <p:blipFill>
          <a:blip r:embed="rId7"/>
          <a:stretch/>
        </p:blipFill>
        <p:spPr>
          <a:xfrm>
            <a:off x="139680" y="0"/>
            <a:ext cx="900432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FA9E-28E5-48D4-9F82-87772D466B2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6" descr="SDC13081.JPG"/>
          <p:cNvPicPr/>
          <p:nvPr/>
        </p:nvPicPr>
        <p:blipFill>
          <a:blip r:embed="rId2"/>
          <a:stretch/>
        </p:blipFill>
        <p:spPr>
          <a:xfrm>
            <a:off x="289548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SDC13060.JPG"/>
          <p:cNvPicPr/>
          <p:nvPr/>
        </p:nvPicPr>
        <p:blipFill>
          <a:blip r:embed="rId3"/>
          <a:stretch/>
        </p:blipFill>
        <p:spPr>
          <a:xfrm>
            <a:off x="304920" y="2819520"/>
            <a:ext cx="2152440" cy="28699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SDC13072.JPG"/>
          <p:cNvPicPr/>
          <p:nvPr/>
        </p:nvPicPr>
        <p:blipFill>
          <a:blip r:embed="rId4"/>
          <a:stretch/>
        </p:blipFill>
        <p:spPr>
          <a:xfrm>
            <a:off x="2895480" y="43434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SDC13154.JPG"/>
          <p:cNvPicPr/>
          <p:nvPr/>
        </p:nvPicPr>
        <p:blipFill>
          <a:blip r:embed="rId5"/>
          <a:stretch/>
        </p:blipFill>
        <p:spPr>
          <a:xfrm>
            <a:off x="6477120" y="289548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Заголовок 1" descr=""/>
          <p:cNvPicPr/>
          <p:nvPr/>
        </p:nvPicPr>
        <p:blipFill>
          <a:blip r:embed="rId6"/>
          <a:stretch/>
        </p:blipFill>
        <p:spPr>
          <a:xfrm>
            <a:off x="139680" y="0"/>
            <a:ext cx="900432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80C3-DAC2-4991-A76D-6CAB900D0A8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Rectangle 2" descr=""/>
          <p:cNvPicPr/>
          <p:nvPr/>
        </p:nvPicPr>
        <p:blipFill>
          <a:blip r:embed="rId2"/>
          <a:stretch/>
        </p:blipFill>
        <p:spPr>
          <a:xfrm>
            <a:off x="146160" y="268200"/>
            <a:ext cx="824220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522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«Каждый ребен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ля меня – лучик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а я постараюс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быть для нег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ярким солнышком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(О.В. Кудряшов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C:\Documents and Settings\user\Мои документы\Мои рисунки\картинки дети\sun.gif"/>
          <p:cNvPicPr/>
          <p:nvPr/>
        </p:nvPicPr>
        <p:blipFill>
          <a:blip r:embed="rId3"/>
          <a:stretch/>
        </p:blipFill>
        <p:spPr>
          <a:xfrm>
            <a:off x="-762120" y="914400"/>
            <a:ext cx="6172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1208-D72E-4DEA-BA5D-63CFC473B1A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Rectangle 2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242200" cy="95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оздать на территории группы «Улыбка» для детей безопасное пространство счастливого детства,  творчества и фантазии, удивительных открытий и достижений, увлекательных путешествий и интересного общ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4" descr="C:\Documents and Settings\user\Мои документы\ЛОГОТИПЫ\SavaZag.gif"/>
          <p:cNvPicPr/>
          <p:nvPr/>
        </p:nvPicPr>
        <p:blipFill>
          <a:blip r:embed="rId3"/>
          <a:stretch/>
        </p:blipFill>
        <p:spPr>
          <a:xfrm>
            <a:off x="1060560" y="298440"/>
            <a:ext cx="11826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00A0-5D92-4372-8E31-7AF67213D4A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о пространство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заимодействия ее субъектов по созданию ценностных, базовых, функциональных, предметно-практических условий, обеспечивающих процесс развития  и саморазвития базовой культуры дошкольника, педагогической культуры педагогов и родителей воспитанник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ванов И.Т.,  Рубцов А.Д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МГУ-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066680" y="380880"/>
            <a:ext cx="6934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Arial"/>
              </a:rPr>
              <a:t>ОБРАЗОВАТЕЛЬНАЯ СРЕ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Arial"/>
              </a:rPr>
              <a:t>ДЕТСКОГО С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09A2-E651-4997-9FEF-F1A90CC2125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Rectangle 2" descr=""/>
          <p:cNvPicPr/>
          <p:nvPr/>
        </p:nvPicPr>
        <p:blipFill>
          <a:blip r:embed="rId2"/>
          <a:stretch/>
        </p:blipFill>
        <p:spPr>
          <a:xfrm>
            <a:off x="317520" y="26820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БАЗОВЫЕ КОМПОНЕНТ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905120" y="323784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ФУНКЦИОНАЛЬНЫЕ КОМПОН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684440" y="4586400"/>
            <a:ext cx="55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РЕДМЕТНО-ПРАКТИЧЕСКИЕ КОМПОН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519640" y="259092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сих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 flipV="1" rot="10735800">
            <a:off x="228600" y="2285280"/>
            <a:ext cx="24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800600" y="228600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нде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6324480" y="2590920"/>
            <a:ext cx="22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окульту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917280" y="373392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формацион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3352680" y="388620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ммуникатив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5867280" y="373392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1146600" y="541008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мет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358128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стетич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6024960" y="53341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риатив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споль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DC0E-6302-4321-BEE4-07F84B5D556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Rectangle 2" descr=""/>
          <p:cNvPicPr/>
          <p:nvPr/>
        </p:nvPicPr>
        <p:blipFill>
          <a:blip r:embed="rId2"/>
          <a:stretch/>
        </p:blipFill>
        <p:spPr>
          <a:xfrm>
            <a:off x="609480" y="3841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1.  Способствовать через организацию предметно-развивающей среды  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развитию у детей интегративных качеств личности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-  способность решать интеллектуальные и личностные задачи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-  эмоциональность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-  общительность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ru-RU" sz="1500" spc="-1" strike="noStrike">
                <a:solidFill>
                  <a:srgbClr val="ffffff"/>
                </a:solidFill>
                <a:latin typeface="Times New Roman"/>
              </a:rPr>
              <a:t>-  любознательность и др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2. Развивать  индивидуальные способности детей в разных видах детской деятельности, организуя условия в соответствии с Федеральными государственными требованиями (специфика ДОУ, национально-культурные традиции, полоролевая специфика, принципы построения предметно-развивающей среды и пр.)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3. Поддерживать интерес детей к изобразительной деятельности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через приобщение к элементарным знаниям в области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7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зобразительного искусства (творчество художников, народных умельцев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детский дизайн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4. Укреплять интерес  родителей к жизни и деятельности детей в детском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аду, привлекать к сотрудничеству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4" descr="C:\Documents and Settings\user\Мои документы\ЛОГОТИПЫ\SavaZag.gif"/>
          <p:cNvPicPr/>
          <p:nvPr/>
        </p:nvPicPr>
        <p:blipFill>
          <a:blip r:embed="rId3"/>
          <a:stretch/>
        </p:blipFill>
        <p:spPr>
          <a:xfrm>
            <a:off x="835200" y="225360"/>
            <a:ext cx="11826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47FF-1A5F-4FF8-AC4B-1EC07B74DE0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Заголовок 2" descr=""/>
          <p:cNvPicPr/>
          <p:nvPr/>
        </p:nvPicPr>
        <p:blipFill>
          <a:blip r:embed="rId2"/>
          <a:stretch/>
        </p:blipFill>
        <p:spPr>
          <a:xfrm>
            <a:off x="841320" y="0"/>
            <a:ext cx="7400880" cy="933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517680" y="1200240"/>
            <a:ext cx="3292200" cy="2390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Рабочий стол\Новая папка воспитатели(4)\Елена Николаевна\группа Новая папка (3)\DSC01640.jpg"/>
          <p:cNvPicPr/>
          <p:nvPr/>
        </p:nvPicPr>
        <p:blipFill>
          <a:blip r:embed="rId4"/>
          <a:stretch/>
        </p:blipFill>
        <p:spPr>
          <a:xfrm>
            <a:off x="5181480" y="12193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Рабочий стол\Новая папка воспитатели(4)\Елена Николаевна\группа Новая папка (3)\DSC01622.jpg"/>
          <p:cNvPicPr/>
          <p:nvPr/>
        </p:nvPicPr>
        <p:blipFill>
          <a:blip r:embed="rId5"/>
          <a:stretch/>
        </p:blipFill>
        <p:spPr>
          <a:xfrm>
            <a:off x="622440" y="3998880"/>
            <a:ext cx="3578040" cy="2773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I:\DCIM\100SSCAM\SDC13279.JPG"/>
          <p:cNvPicPr/>
          <p:nvPr/>
        </p:nvPicPr>
        <p:blipFill>
          <a:blip r:embed="rId6"/>
          <a:stretch/>
        </p:blipFill>
        <p:spPr>
          <a:xfrm>
            <a:off x="5257800" y="403848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906C-EBC8-494C-94DA-279CE7048AF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4724280" y="350532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384840" y="5257800"/>
            <a:ext cx="39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голок для мальчиков и дево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2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4503-8EAE-4715-9BBA-549F5FEC4C5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Заголовок 2" descr=""/>
          <p:cNvPicPr/>
          <p:nvPr/>
        </p:nvPicPr>
        <p:blipFill>
          <a:blip r:embed="rId2"/>
          <a:stretch/>
        </p:blipFill>
        <p:spPr>
          <a:xfrm>
            <a:off x="450720" y="36360"/>
            <a:ext cx="8242560" cy="156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Admin\Рабочий стол\Новая папка воспитатели(4)\группа\SDC13054.JPG"/>
          <p:cNvPicPr/>
          <p:nvPr/>
        </p:nvPicPr>
        <p:blipFill>
          <a:blip r:embed="rId3"/>
          <a:stretch/>
        </p:blipFill>
        <p:spPr>
          <a:xfrm>
            <a:off x="5791320" y="1828800"/>
            <a:ext cx="3028680" cy="4038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770040" y="6019920"/>
            <a:ext cx="74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усские народные традиции и современная символик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304920" y="190512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03-10T04:55:35Z</dcterms:modified>
  <cp:revision>2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