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27.jpeg" ContentType="image/jpeg"/>
  <Override PartName="/ppt/media/image50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38.jpeg" ContentType="image/jpeg"/>
  <Override PartName="/ppt/media/image44.jpeg" ContentType="image/jpeg"/>
  <Override PartName="/ppt/media/image33.jpeg" ContentType="image/jpeg"/>
  <Override PartName="/ppt/media/image32.jpeg" ContentType="image/jpeg"/>
  <Override PartName="/ppt/media/image40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.jpeg" ContentType="image/jpeg"/>
  <Override PartName="/ppt/media/image37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4D3C-EC50-49C7-96BE-5ED68BA3F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дряшова Ольг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B12F-9A7A-479A-B73F-5282F5EFF7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возможность использования различными способами одних  и тех же предм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0641-BEB7-4A8C-A3FC-36D958A24F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тивное изменение в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тематики  материалов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индивидуальную комфортность и эмоциональное благополуч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к для мальчиков и дев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народные традиции и современная символик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956-A3C0-4DF9-86A9-0949468B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E37-6340-412F-AB03-317F8F68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578-A025-456B-B211-6BE5BA0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442-F466-419C-BDE2-021500F4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BAA-694C-46A3-AE7E-3C6F49CD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4B5-9119-49AC-B367-13E408A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217-DDC1-4BCD-98D7-15DA9AFE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B87-8E34-43C7-84D4-717CD8EC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65B-E25A-467B-8CEA-D424E2E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8F2-D21B-43C7-9C71-6E3EF30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BE7-933B-4977-9F6C-D951F94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E7E-9398-4084-86F5-5C118A3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D6B6-DB0A-4E51-92D9-ED8D4AA8DCFE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131-6AB2-4375-8BDE-3099ADF536C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55F2-D4FA-4442-B052-054CC1932C5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585720" y="225360"/>
            <a:ext cx="8386920" cy="804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2819520" y="556272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стаж педагогической работы 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в должности  воспитателя 7 лет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Иркутский государственный педагогический университет, 2007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2666880" y="2133720"/>
            <a:ext cx="4267440" cy="3270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4"/>
          <p:cNvSpPr/>
          <p:nvPr/>
        </p:nvSpPr>
        <p:spPr>
          <a:xfrm>
            <a:off x="2209680" y="1066680"/>
            <a:ext cx="46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удряш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льга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E00-F86D-4581-88BD-A2BF736ECDC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Заголовок 2" descr=""/>
          <p:cNvPicPr/>
          <p:nvPr/>
        </p:nvPicPr>
        <p:blipFill>
          <a:blip r:embed="rId2"/>
          <a:stretch/>
        </p:blipFill>
        <p:spPr>
          <a:xfrm>
            <a:off x="225360" y="-103320"/>
            <a:ext cx="8467920" cy="156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Admin\Рабочий стол\Новая папка воспитатели(4)\группа\SDC13077.JPG"/>
          <p:cNvPicPr/>
          <p:nvPr/>
        </p:nvPicPr>
        <p:blipFill>
          <a:blip r:embed="rId3"/>
          <a:stretch/>
        </p:blipFill>
        <p:spPr>
          <a:xfrm>
            <a:off x="762120" y="16002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28600" y="4343400"/>
            <a:ext cx="396252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ивает возмож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ользования различ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особами  одних  и тех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86400" y="220968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BF7-6195-4E53-8D87-576219BAD9E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603360" y="103320"/>
            <a:ext cx="7864200" cy="156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Содержимое 2"/>
          <p:cNvGraphicFramePr/>
          <p:nvPr/>
        </p:nvGraphicFramePr>
        <p:xfrm>
          <a:off x="0" y="1295280"/>
          <a:ext cx="4064040" cy="229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Содержимое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95280"/>
                    <a:ext cx="406404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4" descr=""/>
          <p:cNvPicPr/>
          <p:nvPr/>
        </p:nvPicPr>
        <p:blipFill>
          <a:blip r:embed="rId5"/>
          <a:stretch/>
        </p:blipFill>
        <p:spPr>
          <a:xfrm>
            <a:off x="6858000" y="160020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3581280" y="3581280"/>
            <a:ext cx="3027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ту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менение в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I:\DCIM\100SSCAM\SDC13271.JPG"/>
          <p:cNvPicPr/>
          <p:nvPr/>
        </p:nvPicPr>
        <p:blipFill>
          <a:blip r:embed="rId6"/>
          <a:stretch/>
        </p:blipFill>
        <p:spPr>
          <a:xfrm>
            <a:off x="304920" y="1752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10" descr="m_c5afd12f.jpg"/>
          <p:cNvPicPr/>
          <p:nvPr/>
        </p:nvPicPr>
        <p:blipFill>
          <a:blip r:embed="rId7"/>
          <a:stretch/>
        </p:blipFill>
        <p:spPr>
          <a:xfrm>
            <a:off x="380880" y="4495680"/>
            <a:ext cx="2895840" cy="218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Admin\Рабочий стол\Новая папка воспитатели(4)\Елена Николаевна\детский сад\m_0caa7294.jpg"/>
          <p:cNvPicPr/>
          <p:nvPr/>
        </p:nvPicPr>
        <p:blipFill>
          <a:blip r:embed="rId8"/>
          <a:stretch/>
        </p:blipFill>
        <p:spPr>
          <a:xfrm>
            <a:off x="5410080" y="4495680"/>
            <a:ext cx="281952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2DE9-2029-4E3A-9518-011127C857E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609480" y="114300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Admin\Рабочий стол\Новая папка воспитатели(4)\группа\SDC13055.JPG"/>
          <p:cNvPicPr/>
          <p:nvPr/>
        </p:nvPicPr>
        <p:blipFill>
          <a:blip r:embed="rId4"/>
          <a:stretch/>
        </p:blipFill>
        <p:spPr>
          <a:xfrm>
            <a:off x="5334120" y="430524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Admin\Рабочий стол\Новая папка воспитатели(4)\группа\SDC13031.JPG"/>
          <p:cNvPicPr/>
          <p:nvPr/>
        </p:nvPicPr>
        <p:blipFill>
          <a:blip r:embed="rId5"/>
          <a:stretch/>
        </p:blipFill>
        <p:spPr>
          <a:xfrm>
            <a:off x="609480" y="438156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2517840" y="3429000"/>
            <a:ext cx="3531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нообразие 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териалов и обору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I:\DCIM\100SSCAM\SDC13239.JPG"/>
          <p:cNvPicPr/>
          <p:nvPr/>
        </p:nvPicPr>
        <p:blipFill>
          <a:blip r:embed="rId6"/>
          <a:stretch/>
        </p:blipFill>
        <p:spPr>
          <a:xfrm>
            <a:off x="5410080" y="1295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7D54-6A41-445D-BE9C-0F5380D1DCC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3" descr="SDC13077.JPG"/>
          <p:cNvPicPr/>
          <p:nvPr/>
        </p:nvPicPr>
        <p:blipFill>
          <a:blip r:embed="rId3"/>
          <a:stretch/>
        </p:blipFill>
        <p:spPr>
          <a:xfrm>
            <a:off x="304920" y="352440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9"/>
          <p:cNvSpPr/>
          <p:nvPr/>
        </p:nvSpPr>
        <p:spPr>
          <a:xfrm>
            <a:off x="83808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Музей народного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24852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Музей       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сск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бы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I:\DCIM\100SSCAM\SDC13245.JPG"/>
          <p:cNvPicPr/>
          <p:nvPr/>
        </p:nvPicPr>
        <p:blipFill>
          <a:blip r:embed="rId4"/>
          <a:stretch/>
        </p:blipFill>
        <p:spPr>
          <a:xfrm>
            <a:off x="4648320" y="1523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BC6-CF0E-427D-883E-B7180ED8E95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C:\Documents and Settings\Admin\Рабочий стол\Новая папка воспитатели(4)\группа\SDC13156.JPG"/>
          <p:cNvPicPr/>
          <p:nvPr/>
        </p:nvPicPr>
        <p:blipFill>
          <a:blip r:embed="rId2"/>
          <a:stretch/>
        </p:blipFill>
        <p:spPr>
          <a:xfrm>
            <a:off x="5181480" y="4191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30" name="Заголовок 1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242200" cy="1330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577400" y="251460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хнические средства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3314880" cy="248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85800" y="1333440"/>
            <a:ext cx="32004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892C-9F15-4F08-8460-BBDF6F94857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-6480" y="268200"/>
            <a:ext cx="9004320" cy="1798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457200" y="3657600"/>
            <a:ext cx="81532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ивает индивидуальную комфортность и эмоцион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агополуч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9" descr="SDC13222"/>
          <p:cNvPicPr/>
          <p:nvPr/>
        </p:nvPicPr>
        <p:blipFill>
          <a:blip r:embed="rId3"/>
          <a:stretch/>
        </p:blipFill>
        <p:spPr>
          <a:xfrm>
            <a:off x="5638680" y="1523880"/>
            <a:ext cx="2286000" cy="177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SDC13227"/>
          <p:cNvPicPr/>
          <p:nvPr/>
        </p:nvPicPr>
        <p:blipFill>
          <a:blip r:embed="rId4"/>
          <a:stretch/>
        </p:blipFill>
        <p:spPr>
          <a:xfrm>
            <a:off x="685800" y="4495680"/>
            <a:ext cx="274320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I:\DCIM\100SSCAM\SDC13269.JPG"/>
          <p:cNvPicPr/>
          <p:nvPr/>
        </p:nvPicPr>
        <p:blipFill>
          <a:blip r:embed="rId5"/>
          <a:stretch/>
        </p:blipFill>
        <p:spPr>
          <a:xfrm>
            <a:off x="838080" y="1600200"/>
            <a:ext cx="243864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I:\DCIM\100SSCAM\SDC13281.JPG"/>
          <p:cNvPicPr/>
          <p:nvPr/>
        </p:nvPicPr>
        <p:blipFill>
          <a:blip r:embed="rId6"/>
          <a:stretch/>
        </p:blipFill>
        <p:spPr>
          <a:xfrm>
            <a:off x="5486400" y="449568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141" name="Заголовок 1" descr=""/>
          <p:cNvPicPr/>
          <p:nvPr/>
        </p:nvPicPr>
        <p:blipFill>
          <a:blip r:embed="rId7"/>
          <a:stretch/>
        </p:blipFill>
        <p:spPr>
          <a:xfrm>
            <a:off x="139680" y="0"/>
            <a:ext cx="90043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BC8C-84B7-44E3-8F3E-FB77F0EB07C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6" descr="SDC13081.JPG"/>
          <p:cNvPicPr/>
          <p:nvPr/>
        </p:nvPicPr>
        <p:blipFill>
          <a:blip r:embed="rId2"/>
          <a:stretch/>
        </p:blipFill>
        <p:spPr>
          <a:xfrm>
            <a:off x="28954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SDC13060.JPG"/>
          <p:cNvPicPr/>
          <p:nvPr/>
        </p:nvPicPr>
        <p:blipFill>
          <a:blip r:embed="rId3"/>
          <a:stretch/>
        </p:blipFill>
        <p:spPr>
          <a:xfrm>
            <a:off x="304920" y="2819520"/>
            <a:ext cx="2152440" cy="28699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SDC13072.JPG"/>
          <p:cNvPicPr/>
          <p:nvPr/>
        </p:nvPicPr>
        <p:blipFill>
          <a:blip r:embed="rId4"/>
          <a:stretch/>
        </p:blipFill>
        <p:spPr>
          <a:xfrm>
            <a:off x="2895480" y="4343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SDC13154.JPG"/>
          <p:cNvPicPr/>
          <p:nvPr/>
        </p:nvPicPr>
        <p:blipFill>
          <a:blip r:embed="rId5"/>
          <a:stretch/>
        </p:blipFill>
        <p:spPr>
          <a:xfrm>
            <a:off x="6477120" y="289548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Заголовок 1" descr=""/>
          <p:cNvPicPr/>
          <p:nvPr/>
        </p:nvPicPr>
        <p:blipFill>
          <a:blip r:embed="rId6"/>
          <a:stretch/>
        </p:blipFill>
        <p:spPr>
          <a:xfrm>
            <a:off x="139680" y="0"/>
            <a:ext cx="90043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1E6-24E9-407D-9B64-C9799005315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2" descr=""/>
          <p:cNvPicPr/>
          <p:nvPr/>
        </p:nvPicPr>
        <p:blipFill>
          <a:blip r:embed="rId2"/>
          <a:stretch/>
        </p:blipFill>
        <p:spPr>
          <a:xfrm>
            <a:off x="146160" y="268200"/>
            <a:ext cx="824220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Каждый ребен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ля меня – лучик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 я постараю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ыть для не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ярким солнышком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О.В. Кудряшов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C:\Documents and Settings\user\Мои документы\Мои рисунки\картинки дети\sun.gif"/>
          <p:cNvPicPr/>
          <p:nvPr/>
        </p:nvPicPr>
        <p:blipFill>
          <a:blip r:embed="rId3"/>
          <a:stretch/>
        </p:blipFill>
        <p:spPr>
          <a:xfrm>
            <a:off x="-762120" y="914400"/>
            <a:ext cx="6172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1751-67F5-4FB5-9E7E-5D0461F19B7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42200" cy="95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здать на территории группы «Улыбка» для детей безопасное пространство счастливого детства,  творчества и фантазии, удивительных открытий и достижений, увлекательных путешествий и интересного общ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1060560" y="298440"/>
            <a:ext cx="11826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7A4-9918-43B5-BBF5-B20B6C3D6F5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пространство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заимодействия ее субъектов по созданию ценностных, базовых, функциональных, предметно-практических условий, обеспечивающих процесс развития  и саморазвития базовой культуры дошкольника, педагогической культуры педагогов и родителей воспитанник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ванов И.Т.,  Рубцов А.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МГУ-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66680" y="38088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Arial"/>
              </a:rPr>
              <a:t>ОБРАЗОВАТЕЛЬНАЯ СРЕ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Arial"/>
              </a:rPr>
              <a:t>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88A-9DF4-4CC4-96D5-0587D688FD7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2" descr=""/>
          <p:cNvPicPr/>
          <p:nvPr/>
        </p:nvPicPr>
        <p:blipFill>
          <a:blip r:embed="rId2"/>
          <a:stretch/>
        </p:blipFill>
        <p:spPr>
          <a:xfrm>
            <a:off x="317520" y="26820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БАЗОВЫЕ КОМПОНЕНТ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905120" y="323784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ФУНКЦИОНАЛЬНЫЕ КОМПОН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684440" y="458640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РЕДМЕТНО-ПРАКТИЧЕСКИЕ КОМПОН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519640" y="25909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сих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 flipV="1" rot="10735800">
            <a:off x="228600" y="2285280"/>
            <a:ext cx="24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800600" y="228600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де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6324480" y="259092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окульту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917280" y="373392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формацио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352680" y="38862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муника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867280" y="373392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146600" y="54100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ме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35812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стети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6024960" y="53341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риатив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B8FF-E954-4454-B377-EA835F579D6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Rectangle 2" descr=""/>
          <p:cNvPicPr/>
          <p:nvPr/>
        </p:nvPicPr>
        <p:blipFill>
          <a:blip r:embed="rId2"/>
          <a:stretch/>
        </p:blipFill>
        <p:spPr>
          <a:xfrm>
            <a:off x="609480" y="384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  Способствовать через организацию предметно-развивающей среды  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развитию у детей интегративных качеств личности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способность решать интеллектуальные и личностные задачи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эмоциональность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общительность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любознательность и др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2. Развивать  индивидуальные способности детей в разных видах детской деятельности, организуя условия в соответствии с Федеральными государственными требованиями (специфика ДОУ, национально-культурные традиции, полоролевая специфика, принципы построения предметно-развивающей среды и пр.)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3. Поддерживать интерес детей к изобразительной деятельност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через приобщение к элементарным знаниям в област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зобразительного искусства (творчество художников, народных умельцев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детский дизайн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4. Укреплять интерес  родителей к жизни и деятельности детей в детском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аду, привлекать к сотрудничеству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835200" y="225360"/>
            <a:ext cx="1182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27A-4517-418C-A254-1607D358FA1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Заголовок 2" descr=""/>
          <p:cNvPicPr/>
          <p:nvPr/>
        </p:nvPicPr>
        <p:blipFill>
          <a:blip r:embed="rId2"/>
          <a:stretch/>
        </p:blipFill>
        <p:spPr>
          <a:xfrm>
            <a:off x="841320" y="0"/>
            <a:ext cx="7400880" cy="933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517680" y="1200240"/>
            <a:ext cx="3292200" cy="23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Новая папка воспитатели(4)\Елена Николаевна\группа Новая папка (3)\DSC01640.jpg"/>
          <p:cNvPicPr/>
          <p:nvPr/>
        </p:nvPicPr>
        <p:blipFill>
          <a:blip r:embed="rId4"/>
          <a:stretch/>
        </p:blipFill>
        <p:spPr>
          <a:xfrm>
            <a:off x="5181480" y="1219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Новая папка воспитатели(4)\Елена Николаевна\группа Новая папка (3)\DSC01622.jpg"/>
          <p:cNvPicPr/>
          <p:nvPr/>
        </p:nvPicPr>
        <p:blipFill>
          <a:blip r:embed="rId5"/>
          <a:stretch/>
        </p:blipFill>
        <p:spPr>
          <a:xfrm>
            <a:off x="622440" y="3998880"/>
            <a:ext cx="3578040" cy="277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I:\DCIM\100SSCAM\SDC13279.JPG"/>
          <p:cNvPicPr/>
          <p:nvPr/>
        </p:nvPicPr>
        <p:blipFill>
          <a:blip r:embed="rId6"/>
          <a:stretch/>
        </p:blipFill>
        <p:spPr>
          <a:xfrm>
            <a:off x="5257800" y="40384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4550-A6F1-45EC-89C1-52453307DEB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384840" y="5257800"/>
            <a:ext cx="39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голок для мальчиков и дев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E4F1-C236-438B-AE91-C0A7056AABB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Заголовок 2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Рабочий стол\Новая папка воспитатели(4)\группа\SDC13054.JPG"/>
          <p:cNvPicPr/>
          <p:nvPr/>
        </p:nvPicPr>
        <p:blipFill>
          <a:blip r:embed="rId3"/>
          <a:stretch/>
        </p:blipFill>
        <p:spPr>
          <a:xfrm>
            <a:off x="5791320" y="182880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770040" y="601992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сские народные традиции и современная символик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3-10T04:55:35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