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DB7-67D2-4A8B-803F-2A8E007C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5A3-0C53-46BB-9795-ACD4DB5D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571-C435-44D2-98D5-A3D94B15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7B5-C5F5-4CAC-B181-34B219C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FA7-510A-4EE6-BE7E-05FE0BB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3BD-26CF-4433-A0E4-715AD9C7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52F-0898-4F04-A2EB-7EC612D4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69F-A766-4417-BEEA-A313322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68A-E721-4474-A23F-B90D991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300-8A49-4BA0-A07A-9D8D6F8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8EF-67BB-4068-9923-F191110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F85-313B-4B61-AD1E-18169B4C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712-4085-495D-A745-18DB941E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319200">
            <a:off x="1295280" y="4723920"/>
            <a:ext cx="5867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ороль и Ш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685800"/>
            <a:ext cx="568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ультовая панк-рок групп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2320" y="1219320"/>
            <a:ext cx="4190760" cy="914400"/>
          </a:xfrm>
          <a:custGeom>
            <a:avLst/>
            <a:gdLst>
              <a:gd name="textAreaLeft" fmla="*/ 59040 w 4190760"/>
              <a:gd name="textAreaRight" fmla="*/ 4131720 w 4190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64" h="21600">
                <a:moveTo>
                  <a:pt x="0" y="0"/>
                </a:moveTo>
                <a:lnTo>
                  <a:pt x="98964" y="0"/>
                </a:lnTo>
                <a:lnTo>
                  <a:pt x="98964" y="21600"/>
                </a:lnTo>
                <a:lnTo>
                  <a:pt x="0" y="21600"/>
                </a:lnTo>
                <a:close/>
              </a:path>
              <a:path fill="lightenLess" w="98964" h="21600">
                <a:moveTo>
                  <a:pt x="0" y="0"/>
                </a:moveTo>
                <a:lnTo>
                  <a:pt x="98964" y="0"/>
                </a:lnTo>
                <a:lnTo>
                  <a:pt x="97564" y="1400"/>
                </a:lnTo>
                <a:lnTo>
                  <a:pt x="1400" y="1400"/>
                </a:lnTo>
                <a:close/>
              </a:path>
              <a:path fill="darken" w="98964" h="21600">
                <a:moveTo>
                  <a:pt x="98964" y="0"/>
                </a:moveTo>
                <a:lnTo>
                  <a:pt x="98964" y="21600"/>
                </a:lnTo>
                <a:lnTo>
                  <a:pt x="97564" y="20200"/>
                </a:lnTo>
                <a:lnTo>
                  <a:pt x="97564" y="1400"/>
                </a:lnTo>
                <a:close/>
              </a:path>
              <a:path fill="darkenLess" w="98964" h="21600">
                <a:moveTo>
                  <a:pt x="98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64" y="20200"/>
                </a:lnTo>
                <a:close/>
              </a:path>
              <a:path fill="lighten" w="98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286000" y="4343400"/>
            <a:ext cx="4191120" cy="914400"/>
          </a:xfrm>
          <a:custGeom>
            <a:avLst/>
            <a:gdLst>
              <a:gd name="textAreaLeft" fmla="*/ 59040 w 4191120"/>
              <a:gd name="textAreaRight" fmla="*/ 4132080 w 4191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72" h="21600">
                <a:moveTo>
                  <a:pt x="0" y="0"/>
                </a:moveTo>
                <a:lnTo>
                  <a:pt x="98972" y="0"/>
                </a:lnTo>
                <a:lnTo>
                  <a:pt x="98972" y="21600"/>
                </a:lnTo>
                <a:lnTo>
                  <a:pt x="0" y="21600"/>
                </a:lnTo>
                <a:close/>
              </a:path>
              <a:path fill="lightenLess" w="98972" h="21600">
                <a:moveTo>
                  <a:pt x="0" y="0"/>
                </a:moveTo>
                <a:lnTo>
                  <a:pt x="98972" y="0"/>
                </a:lnTo>
                <a:lnTo>
                  <a:pt x="97572" y="1400"/>
                </a:lnTo>
                <a:lnTo>
                  <a:pt x="1400" y="1400"/>
                </a:lnTo>
                <a:close/>
              </a:path>
              <a:path fill="darken" w="98972" h="21600">
                <a:moveTo>
                  <a:pt x="98972" y="0"/>
                </a:moveTo>
                <a:lnTo>
                  <a:pt x="98972" y="21600"/>
                </a:lnTo>
                <a:lnTo>
                  <a:pt x="97572" y="20200"/>
                </a:lnTo>
                <a:lnTo>
                  <a:pt x="97572" y="1400"/>
                </a:lnTo>
                <a:close/>
              </a:path>
              <a:path fill="darkenLess" w="98972" h="21600">
                <a:moveTo>
                  <a:pt x="98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72" y="20200"/>
                </a:lnTo>
                <a:close/>
              </a:path>
              <a:path fill="lighten" w="98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895480"/>
            <a:ext cx="4191120" cy="914400"/>
          </a:xfrm>
          <a:custGeom>
            <a:avLst/>
            <a:gdLst>
              <a:gd name="textAreaLeft" fmla="*/ 59040 w 4191120"/>
              <a:gd name="textAreaRight" fmla="*/ 4132080 w 4191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8972" h="21600">
                <a:moveTo>
                  <a:pt x="0" y="0"/>
                </a:moveTo>
                <a:lnTo>
                  <a:pt x="98972" y="0"/>
                </a:lnTo>
                <a:lnTo>
                  <a:pt x="98972" y="21600"/>
                </a:lnTo>
                <a:lnTo>
                  <a:pt x="0" y="21600"/>
                </a:lnTo>
                <a:close/>
              </a:path>
              <a:path fill="lightenLess" w="98972" h="21600">
                <a:moveTo>
                  <a:pt x="0" y="0"/>
                </a:moveTo>
                <a:lnTo>
                  <a:pt x="98972" y="0"/>
                </a:lnTo>
                <a:lnTo>
                  <a:pt x="97572" y="1400"/>
                </a:lnTo>
                <a:lnTo>
                  <a:pt x="1400" y="1400"/>
                </a:lnTo>
                <a:close/>
              </a:path>
              <a:path fill="darken" w="98972" h="21600">
                <a:moveTo>
                  <a:pt x="98972" y="0"/>
                </a:moveTo>
                <a:lnTo>
                  <a:pt x="98972" y="21600"/>
                </a:lnTo>
                <a:lnTo>
                  <a:pt x="97572" y="20200"/>
                </a:lnTo>
                <a:lnTo>
                  <a:pt x="97572" y="1400"/>
                </a:lnTo>
                <a:close/>
              </a:path>
              <a:path fill="darkenLess" w="98972" h="21600">
                <a:moveTo>
                  <a:pt x="98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572" y="20200"/>
                </a:lnTo>
                <a:close/>
              </a:path>
              <a:path fill="lighten" w="98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049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43200" y="1371600"/>
            <a:ext cx="31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ск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53000" y="3166920"/>
            <a:ext cx="163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4572000"/>
            <a:ext cx="157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Аф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«Горшок» Горшенев – во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й «Князь» Князев – бэк во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«Порутчик» Щеголев – бараб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 Циркуновской - ги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0384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образовалась в 1991 году. Сейчас активно гастролир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45820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иск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96 – Камнем по гол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99 – Акустический 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002 – Ели мясо муж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012 – Праздник крови (Акт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2670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VE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выступления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(D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9528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004 – Мертвый анархист ( СК Юбилей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АФИ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9 Октября – СПБ ( Ледовый дворец, фестиваль «Цой жи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 Ноября – Донец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6 Декабря – Тв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хаил Горшен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8815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91120" y="1905120"/>
            <a:ext cx="44956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Юрьевич Горшенёв. Родился 7 августа 1973 года в г. Бокситогорске Ленинградской области. После школы поступил в Реставрационный лицей, где проучился три года и был отчислен за то, что занимался не учебой, а музыкой. Уже во время учебы создал группу, впоследствии названную «Король и Шут». Женат во второй ра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дрей «Князь» Княз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819520" y="-838080"/>
            <a:ext cx="14630400" cy="9753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105520" y="-523800"/>
            <a:ext cx="5562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ндрей "Князь" Княз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609480"/>
            <a:ext cx="320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Князев Андрей Сергеевич. Родился 6 февраля 1973 года в Ленинграде. После школы поступил в Реставрационное Училище, где и познакомился с Горшком. Музыка настолько увлекла Андрея, что он даже не может вспомнить, закончил он училище или нет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Официально вышел из состава группы 16 декабря 2011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43434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7301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  <a:path fill="darken" w="21600" h="28789">
                <a:moveTo>
                  <a:pt x="3794" y="7388"/>
                </a:moveTo>
                <a:lnTo>
                  <a:pt x="5456" y="7388"/>
                </a:lnTo>
                <a:lnTo>
                  <a:pt x="5456" y="21401"/>
                </a:lnTo>
                <a:lnTo>
                  <a:pt x="3794" y="214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33-9</cp:lastModifiedBy>
  <dcterms:modified xsi:type="dcterms:W3CDTF">2012-11-22T11:09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