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48DC5-8F1A-4DD9-9B40-A9F67645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A7F4D-025C-4508-98DF-8607F1AB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B1C32-0A78-4951-A246-BA050811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644D6-AF71-431E-B74A-7C97DD57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11CE-A95C-4A6F-BE89-B15D9145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E5DD-0FB5-4360-8840-DE2B0A41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CDC7-CC90-414A-B3CB-BE78062C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A326-3694-40A7-8285-020D1D80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11CF-F5C6-4039-A074-1D29AAF8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3B7A-8C06-48DA-9BA5-7BC5B53B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11CB-D1EF-4870-AA56-2B181CDB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ACBF0-67FF-49B7-8351-CC47867A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1126-0B09-417D-A551-037622C4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FC3E-8560-4AF0-B4CE-F45D8F63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F0A3-305A-4AAD-893F-E1732F7E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EE76-CE23-4FC8-89F3-8A4A551B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90BA-044D-4F3F-9FC6-93FD7590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B2EAD-DF00-4D85-A53E-1D3F3CE4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BAEB1-385B-46A9-A683-ECC6397B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82A99-36BF-4CDE-A1DC-88060D31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FEA1A-912D-417B-B59A-6948C592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4F736-AE4A-4D95-A424-2C67BB75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5B1D3-B0F3-406B-B434-6BD8007B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FBD13-589F-43FA-A31A-5AC04B38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BC20-6FA0-4650-9A70-EB3AB398C2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062C-EFE1-439D-ACB3-6C6994B692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87280" y="692280"/>
            <a:ext cx="4464360" cy="1657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Garamond"/>
              </a:rPr>
              <a:t>М.В.Ломонос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4437000"/>
            <a:ext cx="7201080" cy="18511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Я знак бессмертия себе воздвигнул…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Ломоносов - поэ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1739 году Ломоносов пишет оду «На взятие Хотина» и отправляет её в Петербург  в Российское собрание при Академии наук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о было как гром среди ясного  неба! Впоследствии Белинский сказал:»Новая русская литература началась с оды Ломоносова. С Ломоносова началась наша литература: он был её отцом и пестуном, он был её Петром Великим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898800" cy="3600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716360" y="5589720"/>
            <a:ext cx="4175280" cy="934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Garamond"/>
              </a:rPr>
              <a:t>Ломоносов. Полтавская баталия. Моза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Garamond"/>
              </a:rPr>
              <a:t>Фрагме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4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ногое сделал Ломоносов для русской науки. И прежде всего он добился того, чтобы обучение в Академии велось на русском языке, а не на латыни, как было прежд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н ввел множество научных терминов. Вот слова, которые впервые употребил Ломоносов: квадрат, синус, диаметр, горизонтальный, кислота, предложный падеж, градусник и т.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Ломоносов и русский язы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Ломоносов заложил основы современного русского разговорного языка. Два его сочинения имели большое значение для развития русского языка. Это «Российская грамматика» и «Краткое руководство к риторике». Много поколений русских людей учились по этим учебника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ушкин сказал о Ломо­носове: «Ломоносов был великий чело­век... Он создал первый университет. Он, лучше сказать, сам был первым нашим университетом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1341360"/>
            <a:ext cx="4392360" cy="525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Трудно назвать какую-либо отрасл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из существовавших в </a:t>
            </a:r>
            <a:r>
              <a:rPr b="0" lang="en-US" sz="2000" spc="-1" strike="noStrike">
                <a:solidFill>
                  <a:srgbClr val="ff3300"/>
                </a:solidFill>
                <a:latin typeface="Garamond"/>
              </a:rPr>
              <a:t>XVIII </a:t>
            </a: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век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в которую бы Ломоносов не вне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крупного творческого вклад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В физике, метеорологии, хими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геологии, горном деле, металлурги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географии, истории, теории словесност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и литературе он либо создал капиталь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труды, совершил выдающиеся открыти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либо выдвинул новые идеи, вы­сказа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гениальные прогноз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Многие идеи Ломоносова на десят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лет и столетия опередили свое время»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— </a:t>
            </a: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сказал академик Келдыш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опросы знатока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07552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aramond"/>
              </a:rPr>
              <a:t>Перечислить все заслуги Ломоносова невозможно. Не случайно на западе долгое время считали, что у нас два Ломоносова в России: один – химик, другой – поэт и историк. Архангельский помор вошел в историю как один из самых выдающихся людей Росс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268280"/>
            <a:ext cx="5329080" cy="1008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Каковы заслуги Ломоносова в астрономи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открыл существование на Венере атмосферы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2492280"/>
            <a:ext cx="6121440" cy="936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Какое древнерусское искусство возродил Ломоносов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(Мозаику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Автор презентации: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орох Надежда Геннадьевна, учитель русского языка и литературы МОУ СОШ села Ключи Лысогорского района Саратовской обла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лово о Ломоносов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юбой век, любая эпоха нашей народной жизни всегда приукрашена чьей-либо яркой жизнью, деяниями особо славными. Многие звезды украшали русское небо 18-го столетия. Звездою первой величины явилась слава Михаила Ломоносова»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(Борис Шергин. «Изящные мастера»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519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Крестьянский сын Михайло Ломонос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хайло Ломоносов  родился в селе Ломоносово Холмогорского района Архангельской области. Это современное название. Во времена Ломоносова оно звучало так — Архангельская губерния, Куростровская волость Двинского уезда, деревня Мишанинска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шанинская располагалась на острове на реке Северная Двина. Крестьяне жили там не особенно бедно. Они обрабатывали землю, добывали рыбу и морских зверей (тюленей и  моржей) в Белом море. «Нас река да море кормит», — говорили он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04000" y="1197000"/>
            <a:ext cx="1943280" cy="1238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940360" y="3716280"/>
            <a:ext cx="2995560" cy="2016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732720" y="2708280"/>
            <a:ext cx="20872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дная деревн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омоносо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5805360"/>
            <a:ext cx="2232000" cy="648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елое мор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Отец Ломоносо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хайло был единственным сыном зажиточного крестьянина-помора Василия Дорофеевича Ломоносо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силий Дорофеевич был известен всей округе, человек состоятельный, он одним из первых на Севере приобрел морское судно с двумя мачтами — гукор. Он оснастил судно так, как это делали голландские моряк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095640" cy="1603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580000" y="4292640"/>
            <a:ext cx="2737080" cy="1454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292720" y="3573360"/>
            <a:ext cx="324000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.Глазунов. Русский Север. 196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5950080"/>
            <a:ext cx="1943280" cy="358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езная к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хайло рос здоровым и сильным мальчиком, сообразительным и любознательным. С 10 лет он, как все поморские мальчики, уходил на промысел в мор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читься грамоте он начал поздно, лет в двенадцать. К тому времени он уже освоил рыбный промысел. Но «дивное устройство окружающей природы» волновало его, хотелось учить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омоносову шел 19-й год, когда он понял, что если он действительно хочет учиться дальше, то надо уходить из отчего дом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3184560" y="5621400"/>
            <a:ext cx="52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4076640"/>
            <a:ext cx="7848720" cy="216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aramond"/>
              </a:rPr>
              <a:t>Задание знатока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Назовите первые книги, по которым учился Ломонос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Он выучил их наизусть и назвал «вратами учености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{«Арифметика» Магниц­кого, «Грамматика» Смотрицкого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«Псал­тырь» Симеона Полоцкого.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16720" y="1989000"/>
            <a:ext cx="2114640" cy="2901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4360" y="404640"/>
            <a:ext cx="73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имой 1730 года Михайло Ломоносов ушел с рыбным обозом в Москву. Без денег отправляться нельзя, и он обратился за помощью к соседу: занял у него тулуп и денег.   (Вопрос 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боз с мороженой рыбой шел из Холмогор в Москву около трех недель. В конце декабря подошли к Москве. Здесь Ломоносов поступил учиться в лучшее по тем временам учебное заведение.  (Вопрос 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421000"/>
            <a:ext cx="5616360" cy="1728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aramond"/>
              </a:rPr>
              <a:t>Вопрос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Сколько денег одолжил Ломоносов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его сосед Фома Шубный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3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рубля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479736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43480" y="482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4724280"/>
            <a:ext cx="5473800" cy="165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aramond"/>
              </a:rPr>
              <a:t>Вопрос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Как называлось это учебное заведение?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(Московская Славяно-греко-латинская академ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3203640" cy="4176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71640" y="620640"/>
            <a:ext cx="588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333360"/>
            <a:ext cx="5113080" cy="403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тобы поступить туда, Ломоносов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шлось пойти на обман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крыть свое крестьянское происхож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ачислили его в первый класс, так как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менно там начинал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зучать латинский язык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оторый был нужен для дальнейшей учеб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есь курс академии, рассчитанны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 12 лет, Ломоносов закончил за 5 лет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 в каких условиях приходилось учиться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омоносову, как и другим ученикам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значалось жалован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724280"/>
            <a:ext cx="5256360" cy="180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aramond"/>
              </a:rPr>
              <a:t>Вопрос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Каким было «жалованье» уче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Славяно-греко-латинской 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академи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в месяц, в год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90 копеек в месяц, 10 рублей в год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952720" cy="3959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404640"/>
            <a:ext cx="5327640" cy="6120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Это было тяжелое время для Ломоносов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последствии он вспоминал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«...Несказанная бедность: имел оди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алтын в день жалованья, нельзя был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меть на пропитание в день больш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ак на денежку хлеба и на денежку квасу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ротчее на бумагу, на обувь и друг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ужды. Таким образом жил я пять лет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 наук не оставил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Из письма Ломоносова Шувалов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 1753 году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Другим ученикам помога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одители, а сбежавшему из дома Михайл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ыло стыдно обращаться к отц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Так он и жил на 3 копейки в де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487600" cy="4108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132000" y="549360"/>
            <a:ext cx="5832720" cy="4751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конце 1735 года в Московскую Академию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шел приказ — отправить 20 наиболе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пособных к наукам учени­ков в Петербур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ля обучения при Академии наук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реди них был и 24-летний Михайло Ломонос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сентябре 1738 года Ломоносов для продолже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чебы был послан за границ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ноябре 1736 года Ломоносова зачислил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Марбургский университет, где он прослушал курс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 физике, математике, химии и  философ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1739 году он был отправлен в Саксонию, где учил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орному дел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общей сложности за рубежом Ломоносов прослуша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урсы по 16 научным дисциплина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4653000"/>
            <a:ext cx="2448000" cy="64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Garamond"/>
              </a:rPr>
              <a:t>Студент немецк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Garamond"/>
              </a:rPr>
              <a:t>университе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5516640"/>
            <a:ext cx="5832360" cy="1008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aramond"/>
              </a:rPr>
              <a:t>Вопрос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Сколько учеников было отправлено тогда за границу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(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1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3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7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4-05T17:49:20Z</dcterms:modified>
  <cp:revision>8</cp:revision>
  <dc:subject/>
  <dc:title>PowerPoint Presentation</dc:title>
</cp:coreProperties>
</file>