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87FF-0221-4752-A21E-55086DC0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57C9-5F61-40D8-A0EC-058EDCC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D30A-D800-4352-91DB-AD18FEF0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81AF-90BB-41BB-9336-B9EEC669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F7E0-DEFC-43DF-8016-73E58211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77A1-D8C5-4FA2-8F9E-9F027C4C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0ED6-1C7E-4BD3-9A92-AFD599B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2941-7B77-4CF7-A777-A59B7A5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6181-A742-4501-8CF6-54E8AB3A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64D3-50B9-40BC-851B-7DB9590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E268-0903-452D-A585-728FE51A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CDDA-4713-4EFE-8131-48DC0E2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C2A-84F4-40CD-BF03-D4F0AF1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95CD-3EB3-4629-B405-A9BE6ED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E2E9-814F-43DC-8A23-7D9270F2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8227-CF3D-443F-B1C6-CA085050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EE2B-AFC1-49CA-BE74-75B3F4A6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9DA3-036C-4631-B67E-E8DA846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A252-3B3B-416B-A89C-BBC25F1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6E46-5BAB-4EDE-B1BE-D046C557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5B8A-A037-4AF7-A9B1-B5DBEE35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3EF6-35DF-46D4-AEB9-A7B190B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D543-BA17-4DE8-A034-C03A7B3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F553-7A98-4BA4-8F59-C839658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C25-A1F5-487A-9908-30056680C4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840-7C41-49A1-AA85-D5B1A800EE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692280"/>
            <a:ext cx="4464360" cy="165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Garamond"/>
              </a:rPr>
              <a:t>М.В.Ломонос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437000"/>
            <a:ext cx="7201080" cy="18511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Я знак бессмертия себе воздвигнул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Ломоносов - поэ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1739 году Ломоносов пишет оду «На взятие Хотина» и отправляет её в Петербург  в Российское собрание при Академии нау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было как гром среди ясного  неба! Впоследствии Белинский сказал:»Новая русская литература началась с оды Ломоносова. С Ломоносова началась наша литература: он был её отцом и пестуном, он был её Петром Великим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98800" cy="3600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716360" y="5589720"/>
            <a:ext cx="4175280" cy="93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Ломоносов. Полтавская баталия. Моза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Фраг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огое сделал Ломоносов для русской науки. И прежде всего он добился того, чтобы обучение в Академии велось на русском языке, а не на латыни, как было преж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 ввел множество научных терминов. Вот слова, которые впервые употребил Ломоносов: квадрат, синус, диаметр, горизонтальный, кислота, предложный падеж, градусник и т.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Ломоносов и русский язы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омоносов заложил основы современного русского разговорного языка. Два его сочинения имели большое значение для развития русского языка. Это «Российская грамматика» и «Краткое руководство к риторике». Много поколений русских людей учились по этим учебника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ушкин сказал о Ломо­носове: «Ломоносов был великий чело­век... Он создал первый университет. Он, лучше сказать, сам был первым нашим университетом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1341360"/>
            <a:ext cx="4392360" cy="525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Трудно назвать какую-либо отрас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из существовавших в </a:t>
            </a: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XVIII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век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в которую бы Ломоносов не вне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крупного творческого вкла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В физике, метеорологии, хими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геологии, горном деле, металлурги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географии, истории, теории слове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и литературе он либо создал капиталь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труды, совершил выдающиеся открыт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либо выдвинул новые идеи, вы­сказа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гениальные прогноз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Многие идеи Ломоносова на десят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лет и столетия опередили свое время»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— </a:t>
            </a:r>
            <a:r>
              <a:rPr b="0" lang="ru-RU" sz="2000" spc="-1" strike="noStrike">
                <a:solidFill>
                  <a:srgbClr val="ff3300"/>
                </a:solidFill>
                <a:latin typeface="Garamond"/>
              </a:rPr>
              <a:t>сказал академик Келдыш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знатока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0755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aramond"/>
              </a:rPr>
              <a:t>Перечислить все заслуги Ломоносова невозможно. Не случайно на западе долгое время считали, что у нас два Ломоносова в России: один – химик, другой – поэт и историк. Архангельский помор вошел в историю как один из самых выдающихся людей Ро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5329080" cy="100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Каковы заслуги Ломоносова в астрономи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открыл существование на Венере атмосферы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2492280"/>
            <a:ext cx="6121440" cy="9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Какое древнерусское искусство возродил Ломоносов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(Мозаику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втор презентации: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рох Надежда Геннадьевна, учитель русского языка и литературы МОУ СОШ села Ключи Лысогорского района Саратовской обла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лово о Ломоносов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ой век, любая эпоха нашей народной жизни всегда приукрашена чьей-либо яркой жизнью, деяниями особо славными. Многие звезды украшали русское небо 18-го столетия. Звездою первой величины явилась слава Михаила Ломоносова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Борис Шергин. «Изящные мастера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1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Крестьянский сын Михайло Ломонос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Ломоносов  родился в селе Ломоносово Холмогорского района Архангельской области. Это современное название. Во времена Ломоносова оно звучало так — Архангельская губерния, Куростровская волость Двинского уезда, деревня Мишанинска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шанинская располагалась на острове на реке Северная Двина. Крестьяне жили там не особенно бедно. Они обрабатывали землю, добывали рыбу и морских зверей (тюленей и  моржей) в Белом море. «Нас река да море кормит», — говорили о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04000" y="1197000"/>
            <a:ext cx="1943280" cy="1238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995560" cy="20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2720" y="2708280"/>
            <a:ext cx="20872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дная дерев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омонос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5805360"/>
            <a:ext cx="223200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лое м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Отец Ломоносо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был единственным сыном зажиточного крестьянина-помора Василия Дорофеевича Ломонос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силий Дорофеевич был известен всей округе, человек состоятельный, он одним из первых на Севере приобрел морское судно с двумя мачтами — гукор. Он оснастил судно так, как это делали голландские моря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095640" cy="160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2737080" cy="1454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92720" y="3573360"/>
            <a:ext cx="3240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.Глазунов. Русский Север. 19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5950080"/>
            <a:ext cx="1943280" cy="358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зная к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хайло рос здоровым и сильным мальчиком, сообразительным и любознательным. С 10 лет он, как все поморские мальчики, уходил на промысел в мо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ься грамоте он начал поздно, лет в двенадцать. К тому времени он уже освоил рыбный промысел. Но «дивное устройство окружающей природы» волновало его, хотелось учить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омоносову шел 19-й год, когда он понял, что если он действительно хочет учиться дальше, то надо уходить из отчего дом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3184560" y="5621400"/>
            <a:ext cx="520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076640"/>
            <a:ext cx="7848720" cy="216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Задание знато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Назовите первые книги, по которым учился Ломонос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Он выучил их наизусть и назвал «вратами ученост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{«Арифметика» Магниц­кого, «Грамматика» Смотрицког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«Псал­тырь» Симеона Полоцкого.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114640" cy="2901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404640"/>
            <a:ext cx="73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имой 1730 года Михайло Ломоносов ушел с рыбным обозом в Москву. Без денег отправляться нельзя, и он обратился за помощью к соседу: занял у него тулуп и денег.   (Вопрос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оз с мороженой рыбой шел из Холмогор в Москву около трех недель. В конце декабря подошли к Москве. Здесь Ломоносов поступил учиться в лучшее по тем временам учебное заведение.  (Вопрос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421000"/>
            <a:ext cx="5616360" cy="172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Вопрос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колько денег одолжил Ломоносов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его сосед Фома Шубны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3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убля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79736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348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724280"/>
            <a:ext cx="5473800" cy="165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Вопрос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Как называлось это учебное заведение?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Московская Славяно-греко-латинская академ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320364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71640" y="620640"/>
            <a:ext cx="588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333360"/>
            <a:ext cx="511308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обы поступить туда, Ломоносов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шлось пойти на обман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крыть свое крестьянское происх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числили его в первый класс, так ка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менно там начина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учать латинский язык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торый был нужен для дальнейшей учеб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сь курс академии, рассчитан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12 лет, Ломоносов закончил за 5 ле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 в каких условиях приходилось учить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омоносову, как и другим ученикам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значалось жалова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724280"/>
            <a:ext cx="5256360" cy="180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Каким было «жалованье» уче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Славяно-греко-латинской 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академ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в месяц, в год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90 копеек в месяц, 10 рублей в го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952720" cy="3959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327640" cy="612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было тяжелое время для Ломоносов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последствии он вспоминал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«...Несказанная бедность: имел оди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лтын в день жалованья, нельзя был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меть на пропитание в день больш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 на денежку хлеба и на денежку квасу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тчее на бумагу, на обувь и друг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ужды. Таким образом жил я пять лет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 наук не оставил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Из письма Ломоносова Шувало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1753 году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ругим ученикам помог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дители, а сбежавшему из дома Михайл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ыло стыдно обращаться к от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ак он и жил на 3 копейки в д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87600" cy="4108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549360"/>
            <a:ext cx="5832720" cy="4751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конце 1735 года в Московскую Академи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шел приказ — отправить 20 наиболе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особных к наукам учени­ков в Петербур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обучения при Академии наук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и них был и 24-летний Михайло Ломоно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сентябре 1738 года Ломоносов для продолж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ебы был послан за границ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ноябре 1736 года Ломоносова зачисл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Марбургский университет, где он прослушал курс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физике, математике, химии и  философ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1739 году он был отправлен в Саксонию, где учи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орному дел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общей сложности за рубежом Ломоносов прослуша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рсы по 16 научным дисципли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653000"/>
            <a:ext cx="244800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Студент немецк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Garamond"/>
              </a:rPr>
              <a:t>университ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516640"/>
            <a:ext cx="5832360" cy="10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Вопро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Сколько учеников было отправлено тогда за гран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05T17:49:20Z</dcterms:modified>
  <cp:revision>8</cp:revision>
  <dc:subject/>
  <dc:title>PowerPoint Presentation</dc:title>
</cp:coreProperties>
</file>