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A205-DB62-43EC-AAA1-D50D228A1D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EDF9B-7AF8-405F-B597-4993A26A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764E-3840-43F0-B3DE-8574C8BC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40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48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756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D0C2-B79F-4E85-86A0-A41CFEAA71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6F0A1-9CBA-4413-9371-D2E30907F0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A5150-3FDC-403F-9494-9E9DA0DE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6FDF8-2ECB-4DF1-8D96-BBC0B45D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9A310-0090-41CC-A7C1-A514312F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A2CCB-F838-42A8-A7C3-5A5561A3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2CA4A-B48E-4C9A-8537-B25C7128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51B5F-F83E-41D1-B450-22681594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F918-4FC4-468A-ABDA-D00ADB7D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F2838-35A5-4E63-BF58-BD304EEF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29DC4-42EE-4F62-A33D-46EDF84E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81C4A-0D1D-4391-8DD2-11A5D0AD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1CCAC-BD3A-4662-973E-18059F1D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948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756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BDDDF-D73D-40A7-A635-A3A225B00C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0EA2-C11F-4EF8-9BC9-C1A8CA08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140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0948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7560" y="4160520"/>
            <a:ext cx="251208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D89A7-35B7-4761-A69A-042CA11A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4033-0C46-4A67-B48C-1A41F99F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2FCD-9ACF-4CEB-85D9-49BE93A1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73BE-BEF7-4653-BA82-17362CD5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416052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83CD-E5AF-4DF1-A926-6E7F406B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400" y="4160520"/>
            <a:ext cx="78026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F9BA-76ED-492A-9312-25FA01B6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61684-632F-487B-9EBE-9F4ABA88CAB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7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0.3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7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056E3F-CB35-4B36-85FF-173B02188B28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26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000" y="360360"/>
            <a:ext cx="871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абораторная работа  №2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Измерение размеров малых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л»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67280" y="3887640"/>
            <a:ext cx="41767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онов Алек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к 7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КОУ Таяндиин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зуева Н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6360" y="2060640"/>
            <a:ext cx="424800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400" y="483840"/>
            <a:ext cx="780912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Чем длиннее ряд,тем точнее измерения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9640" y="1951200"/>
            <a:ext cx="7056360" cy="47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0360" y="131400"/>
            <a:ext cx="780876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Можно измерить толщину листа бумаги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47640" y="1649520"/>
            <a:ext cx="813600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И даже толщину волоса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63640" y="1871640"/>
            <a:ext cx="741528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110880"/>
            <a:ext cx="7809120" cy="1585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Знание метода рядов часто помогало мне при решении олимпиадных задач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2360" y="2016000"/>
            <a:ext cx="65516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4360" y="4896000"/>
            <a:ext cx="8064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на, выложенных в ряд горошин, равна 70мм, количество – 10шт. Чему равен диаметр одной гороши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56360" y="6119640"/>
            <a:ext cx="34560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7м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3640" y="503280"/>
            <a:ext cx="7704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креп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36720" y="1368360"/>
            <a:ext cx="7488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44680" y="85680"/>
            <a:ext cx="6254640" cy="4691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4824360"/>
            <a:ext cx="845964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на, выложенного в ряд пшена, равна 70мм, количество пшена 36шт. Чему равен диаметр пш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11640" y="6191280"/>
            <a:ext cx="3959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1.94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400" y="2880"/>
            <a:ext cx="7809120" cy="17622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Цель работы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учиться выполнять измерения способом рядов.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60000" y="5470200"/>
            <a:ext cx="80406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риборы и материал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  линейка, горох, пшено, игол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55640" y="1817640"/>
            <a:ext cx="604836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енировочные задания и вопросы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1640" y="1584360"/>
            <a:ext cx="8039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09760" indent="-50976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жно ли с помощью линейки точно измерить диаметр проволоки, нити, волоса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1640" y="2492280"/>
            <a:ext cx="80647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09760" indent="-50976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 всех яблок равна 1кг. Количество яблок 10шт. Можем ли мы определить массу одного яблока? Чему она рав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100000"/>
              </a:lnSpc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0440" y="3846600"/>
            <a:ext cx="80359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09760" indent="-50976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ли яблоки равны по массе друг друг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100000"/>
              </a:lnSpc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0440" y="4530600"/>
            <a:ext cx="8064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09760" indent="-50976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гда какое значение массы одного яблока вы назв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100000"/>
              </a:lnSpc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260280"/>
            <a:ext cx="82296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09760" indent="-50976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тобы измерить диаметр проволоки, намотали вплотную на карандаш 100 витков из нее. Определите диаметр провол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5472000"/>
            <a:ext cx="813564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 длина намотки 60 м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аметр проволоки 60/100=0.6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88960" y="2349360"/>
            <a:ext cx="5992920" cy="25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60280"/>
            <a:ext cx="82296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09760" indent="-50976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топка из десяти монет имеет высоту 22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3080" y="5746680"/>
            <a:ext cx="46436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щина монеты равн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75280" y="5759280"/>
            <a:ext cx="18003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2 м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84360" y="1295280"/>
            <a:ext cx="6575400" cy="430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079640"/>
            <a:ext cx="8686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пределение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пособ, которым мы определили диаметр проволоки и толщину монеты, назыв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способом ря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м способом мы и будем определять диаметры малых 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032360" y="2963880"/>
            <a:ext cx="460836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4000" y="26028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Оформление лабораторной работы учащим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Сделать таблицу и самостоятельно заполнить 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788000"/>
            <a:ext cx="84247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е диаметр молекулы если на фотографии (увеличение в 70000раз) 10молекул занимают 2.8 сантимет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: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7840" y="1473120"/>
            <a:ext cx="8775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19640" y="71280"/>
            <a:ext cx="4708440" cy="3327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0080" y="3527280"/>
            <a:ext cx="4146480" cy="3257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403880" y="3465360"/>
            <a:ext cx="4597200" cy="3311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360" y="144360"/>
            <a:ext cx="3988080" cy="32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400" y="483840"/>
            <a:ext cx="780912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Этим способом можно измерить диаметр бисера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24000" y="1860480"/>
            <a:ext cx="7128000" cy="483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