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084D-DF53-4C48-96C1-825FD3DFA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3E8F-37B6-428C-84A9-E868EAD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D192-5273-447B-B51D-F2ABC19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5FF6-DF15-4502-ACE1-2A4B7F8756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F7B05-F6E9-4224-8A22-05651E2EC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B278D-C9D2-4044-9EB7-ECA740B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95D5F-4940-49CE-BD6A-FE3D6B8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AA82-7FE8-4E2D-92B8-C3D6D71D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AB622-9087-45FB-8984-7E1C42DF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57082-1F55-4D90-BC66-14AAC3D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81D06-EF3A-427B-9320-4F4B092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24AE-FCBF-4366-973E-4638DC14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1DAF8-BD5A-4B8E-A7B8-CFE19951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641F-7043-4C8A-A348-1E2E864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1A453-2EFD-41B5-BF9F-DF60082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4F09-540D-4C4A-8C6E-A0E1294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88EE-2E32-461C-BE45-918F48F3B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CEBB-0789-4956-B3D5-6B2360A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9AF2-2C86-4849-8CB5-FD9B9ACE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E157-8B0E-49D0-802D-58B571DC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A7C1-7405-4331-AE19-97812A98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91BF-6199-49F4-BFAC-E9DC1A2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F2C5-FF73-4A24-A0BB-53C73B4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86EB-1B1E-414D-9735-FBB6116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489AA-2F48-4C88-AF42-5A1A323779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0.3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7A6EF6-1562-480E-B806-93E1978747F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" y="360360"/>
            <a:ext cx="871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ная работа  №2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Измерение размеров малы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л»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67280" y="3887640"/>
            <a:ext cx="41767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онов Алек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7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КОУ Таяндиин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зуе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060640"/>
            <a:ext cx="42480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483840"/>
            <a:ext cx="78091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Чем длиннее ряд,тем точнее измерения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9640" y="1951200"/>
            <a:ext cx="7056360" cy="47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360" y="131400"/>
            <a:ext cx="780876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Можно измерить толщину листа бумаги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7640" y="1649520"/>
            <a:ext cx="813600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 даже толщину волос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63640" y="1871640"/>
            <a:ext cx="74152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110880"/>
            <a:ext cx="7809120" cy="1585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Знание метода рядов часто помогало мне при решении олимпиадных задач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2360" y="2016000"/>
            <a:ext cx="655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4896000"/>
            <a:ext cx="8064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а, выложенных в ряд горошин, равна 70мм, количество – 10шт. Чему равен диаметр одной горош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6360" y="6119640"/>
            <a:ext cx="3456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7м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3640" y="503280"/>
            <a:ext cx="770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36720" y="1368360"/>
            <a:ext cx="7488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4680" y="85680"/>
            <a:ext cx="6254640" cy="469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4824360"/>
            <a:ext cx="84596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а, выложенного в ряд пшена, равна 70мм, количество пшена 36шт. Чему равен диаметр пш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1640" y="6191280"/>
            <a:ext cx="3959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1.94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2880"/>
            <a:ext cx="7809120" cy="17622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 работ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ться выполнять измерения способом рядов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60000" y="5470200"/>
            <a:ext cx="80406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боры и материал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 линейка, горох, пшено, игол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55640" y="1817640"/>
            <a:ext cx="604836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енировочные задания и вопросы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1640" y="1584360"/>
            <a:ext cx="8039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жно ли с помощью линейки точно измерить диаметр проволоки, нити, волоса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1640" y="2492280"/>
            <a:ext cx="8064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 всех яблок равна 1кг. Количество яблок 10шт. Можем ли мы определить массу одного яблока? Чему она рав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440" y="3846600"/>
            <a:ext cx="80359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ли яблоки равны по массе друг дру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440" y="4530600"/>
            <a:ext cx="8064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какое значение массы одного яблока вы наз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26028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ы измерить диаметр проволоки, намотали вплотную на карандаш 100 витков из нее. Определите диаметр провол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472000"/>
            <a:ext cx="81356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длина намотки 60 м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метр проволоки 60/100=0.6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88960" y="2349360"/>
            <a:ext cx="599292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60280"/>
            <a:ext cx="8229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опка из десяти монет имеет высоту 22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3080" y="5746680"/>
            <a:ext cx="46436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щина монеты рав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75280" y="5759280"/>
            <a:ext cx="18003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2 м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84360" y="1295280"/>
            <a:ext cx="6575400" cy="43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079640"/>
            <a:ext cx="8686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пределение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особ, которым мы определили диаметр проволоки и толщину монеты, назыв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способом ря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м способом мы и будем определять диаметры малых 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32360" y="2963880"/>
            <a:ext cx="460836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26028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Оформление лабораторной работы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Сделать таблицу и самостоятельно заполнить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788000"/>
            <a:ext cx="8424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е диаметр молекулы если на фотографии (увеличение в 70000раз) 10молекул занимают 2.8 сантиме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775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19640" y="71280"/>
            <a:ext cx="4708440" cy="3327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080" y="3527280"/>
            <a:ext cx="4146480" cy="325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03880" y="3465360"/>
            <a:ext cx="4597200" cy="331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360" y="144360"/>
            <a:ext cx="398808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483840"/>
            <a:ext cx="78091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Этим способом можно измерить диаметр бисер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24000" y="1860480"/>
            <a:ext cx="71280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