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jpeg" ContentType="image/jpeg"/>
  <Override PartName="/ppt/media/image29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3.jpeg" ContentType="image/jpeg"/>
  <Override PartName="/ppt/media/image12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1.gif" ContentType="image/gif"/>
  <Override PartName="/ppt/media/image4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B84-5A7C-495C-8CD0-583DD8AB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AE6-F631-40D7-86E6-6E8ED796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99D-5504-4EDA-9553-3F11956C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4FF-99F9-4CC8-A71B-57AFA714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FFAD-934F-4D56-9A27-ABB3F7A0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5B55-236B-4851-BF33-16253750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9E0C-7CA7-44D8-B561-C12F1C1C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ABBF-7764-488A-9D46-B75F0B83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E31C-A612-4435-B908-C6A97151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8206-694F-4C63-B34F-8D071EA5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D468-D735-44CD-8A70-D4462317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942-2FA1-40B5-BBCB-76D96977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0BB7-7CDD-4C23-8ABD-43D47342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7AF4-F5A9-4FB1-9353-AC0AC1DC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E9B0-E2D8-47B5-B51C-92BF5358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B5CB-CA3B-4DDA-A903-C5886C8C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8258-4666-4370-B261-4A106D9E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3C1-FECF-4392-BF0E-1D30966A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2AC-9CC9-4671-B2FF-B3A50983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002-58CD-4CB9-A99F-783E7E3D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E2C-E60D-4917-AC71-2F27B10B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9D6-F8EB-4201-9FE9-8AFE99C8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8AA-991B-433B-BD9D-F5375DF6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BF6-0AD3-4656-9E97-046E72CC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5D1B-62EE-4777-AA76-D1CE80A8B17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A04B-2023-42F2-99E5-3BA47B33A6E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30.jpeg"/><Relationship Id="rId6" Type="http://schemas.openxmlformats.org/officeDocument/2006/relationships/image" Target="../media/image31.gi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0" y="457200"/>
            <a:ext cx="7620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узыкаль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омук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5334120"/>
            <a:ext cx="46483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Работу выполня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Ученицы 9 «А» класса школы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Левчук Александра и Ли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Руководитель: Проводило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294920" y="2209680"/>
            <a:ext cx="6705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ждународная летняя музыкальная академия впервые была организована в рамках Международного фестиваля камерной искусства в городе Костомукш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ние МЛМА способствует реализации приоритетных целей федеральной и региональной целевых программ по развитию культуры: созданию благоприятных условий для творчества и самореализации специалистов в сфере культуры, сохранению и развитию системы художественного образования, поддержки молодых даро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еподавания в МЛМА приглашаются ведущие               преподаватели музыкальных учебных заведений Москвы,                                    Санкт - Петербурга, Петрозаводска, других городов РФ и зарубежных стран по специальностям  “фортепиано”, “скрипка”, “виолончель”, “композиция, история и теория музыки”, “инструменты народного оркестра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6000" y="838080"/>
            <a:ext cx="47815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ждународная Летняя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узыкальная Академия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480" y="2819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 Костомукша известен не только в Карелии                        и России, но и зарубежом. Известен благодаря своим многочисленным фестивалям. Это и международный Камерный фестиваль, фестиваль авторской песни имени Сергея Ожегова, рок-фестиваль «Nord-Session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торы зимнего рок-фестиваля «Nord-Session»            решили дать стартовую сцену молодым группам, а не как принято на фестивалях, приглашать группы,                           уже уверенно стоящие на но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962520" cy="2154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604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438280" y="380880"/>
            <a:ext cx="4275360" cy="185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узыкальные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везды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стомукши: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2666880"/>
            <a:ext cx="708660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9966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Monotype Corsiva"/>
                <a:hlinkClick r:id="rId1" action="ppaction://hlinksldjump"/>
              </a:rPr>
              <a:t>Серко Анатолий Геннадьевич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66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Monotype Corsiva"/>
                <a:hlinkClick r:id="rId2" action="ppaction://hlinksldjump"/>
              </a:rPr>
              <a:t>Иванов Анатолий Анто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66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Monotype Corsiva"/>
                <a:hlinkClick r:id="rId3" action="ppaction://hlinksldjump"/>
              </a:rPr>
              <a:t>Лучинский Владимир Нико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Monotype Corsiva"/>
              </a:rPr>
              <a:t>Левчук Дарья Андр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Monotype Corsiva"/>
              </a:rPr>
              <a:t>Фольклорный коллектив «Хет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Monotype Corsiva"/>
              </a:rPr>
              <a:t>Фольклорный коллектив «Карельская горни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286000" y="533520"/>
            <a:ext cx="49528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рко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натолий Генадьевич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4427640" y="1916280"/>
            <a:ext cx="4330440" cy="3782880"/>
          </a:xfrm>
          <a:prstGeom prst="rect">
            <a:avLst/>
          </a:prstGeom>
          <a:ln w="38160">
            <a:solidFill>
              <a:srgbClr val="3b812f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57200" y="1752480"/>
            <a:ext cx="3305160" cy="4267440"/>
          </a:xfrm>
          <a:prstGeom prst="rect">
            <a:avLst/>
          </a:prstGeom>
          <a:ln w="38160">
            <a:solidFill>
              <a:srgbClr val="3b812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3095640" cy="24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2617920" cy="2664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267080" y="762120"/>
            <a:ext cx="4496040" cy="62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В 2006 году как композитор и руководитель эстрадно-вокальной студии, стал лауреатом Международного фестиваля детского творчества "Сияние звёзд"(Санкт-Петербург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Два специальных диплома и два приза оргкомитета в номинации "Эстрадный джазовый исполнитель" на I Международном конкурсе-фестивале"Современное искусство и образование" (апрель, 2006-й, Москва);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В 2008 году удостоился звания лауреата           I степени с вручение диплома как композитор в номинации "Авторская песня" на II Всероссийском молодежном открытом конкурсе "У песни женское лицо"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На этом же конкурсе  воспитанница Настя Перцева заняла 2 место в вокальном конкурсе и получила приглашение на II Международный молодёжный фестиваль-конкурс "В стиле ретро"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8991720" y="6629400"/>
            <a:ext cx="152280" cy="22860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14600" y="609480"/>
            <a:ext cx="41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ванов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натолий Антонович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5435640" y="1676520"/>
            <a:ext cx="2917800" cy="4489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46483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Автор сборников стихов                        "Возвратите подснежники"                                   (Архангельск, С-ЗКИ, 1983 г.),                                          "Ностальгия" (Петрозаводск,                       "Периодика", 1996 г.),                                                               «Возраст любви» (Петрозаводск, 2002г.),                                              «Интимная лирика»                             (Петрозаводск, изд-во «Скандинавия»).                                                            Член Союза писателей России с 2006 г            . Член Союза журналистов России с 1992 г.              С  1987 года занимается  песенным творчеством. Совместно с молодыми костомукшскими композиторами Анатолием Серко, Владимиром Лучинским, Виктором Воликом, Дмитрием Усовым и смоленскими композиторами Александром Нечунеевым и Валерием Михеенковым им написано более 200 песен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7696080" y="5791320"/>
            <a:ext cx="118116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0920" y="685800"/>
            <a:ext cx="508320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Творческая деятельность  Анатолия Иванова была оценена Почетной грамотой администрации г. Костомукши и Почетной грамотой Министерства культуры Республики Карелия.                                                            В декабре 2000 года Анатолию Иванову было присвоено почетное звание «Человек года города Костомукши».                                             В октябре 2001 года присвоено почетное звание «Заслуженный работник культуры Республики Карелия.                                                          В сентябре 2002 года вместе с композитором Анатолием Серко он стал лауреатом Всероссийского конкурса «Педагогические инновации» и награжден медалью «Вдохновение» за создание цикла песен «Любовь моя, Карелия!»                              и «Цветной мир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580000" y="692280"/>
            <a:ext cx="3264120" cy="489564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2438280" y="609480"/>
            <a:ext cx="4429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учинский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ладимир Николаевич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533520" y="1676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5920" y="5714280"/>
            <a:ext cx="83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984 началась творческая деятельность музыканта в городе Костомук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Лауреат зонального всесоюзного конкурса «Товарищ песня», г. Архангельс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Дипломант Всесоюзного конкурса  «Товарищ песня», г. Москв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85 – 1988 г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Лауреат городских песенных конкурсов «Костомукшская весна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89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Лауреат третьей степени первого республиканского телеконкурса «Алло, Юрмала», г.Петрозаводс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91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Лауреат первой степени зонального Республиканского телевизионного конкурса патриотической песни, г. Суоярв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93 год Начало композиторской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4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ыпуск сольного альбома «Следы на песке», г. Санкт - Петербург, в  который вошли песни о Костомукше, Карелии, а также лучшие  лирические песн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5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Участие в Республиканском конкурсе композиторов «Гимн Петрозаводска». Награждён Почётным дипломом жюри конкурса и мэрии г.Петрозаводс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Дипломант Международного конкурса «Искусство и образование» имени Карамазова, г. Москв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657600" y="68580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слуги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">
            <a:hlinkClick r:id="rId3" action="ppaction://hlinksldjump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2119320"/>
            <a:ext cx="3635280" cy="27576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419360" y="1371240"/>
            <a:ext cx="419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«Даря радость другим, становимся богаче» - под таким девизом живёт и трудится коллектив «Карельская горница» под руковод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Валентины Ивановны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Кархун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В репертуар ансамбля входят песни, танцы и игры народов Карелии, их обыча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В коллективе народ простой, но очень общительный, коммуникабельный и в тоже время корректный и деликат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За эти 25 лет коллектив много гастролировал не только по Карелии, России, но также побывал заграницей: в Венгрии, Эстонии, Финляндии, Швеции, Поль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14400" y="533520"/>
            <a:ext cx="651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ллектив «Карельская горница»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46479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Город Костомукша известен не только в Карелии и России, но и за рубежом. Известен благодаря своим многочисленным фестивалям. Это и международный Камерный фестиваль, фестиваль авторской песни имени Сергея Ожигова, рок-фестиваль «Nord-Session». Известен благодаря талантливым людям, которые прославляют наш город на конкурсах и фестивалях в различных уголках России и зарубежь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1542960" cy="205740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2286000" cy="171432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379520" cy="188424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162920" y="2209680"/>
            <a:ext cx="1699920" cy="226548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657600" y="2590920"/>
            <a:ext cx="2514600" cy="190332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172200" y="228600"/>
            <a:ext cx="2743200" cy="168768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3657600" y="380880"/>
            <a:ext cx="2286000" cy="208620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419360" cy="3276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952880" y="1447920"/>
            <a:ext cx="375768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Коллектив «Хете» - «Родник» на сцене более 20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Коллектив растёт творчески, много гастролирует по городам Карелии и Финлянд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О чем была их первая пес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«Много красивых берез, но самые красивые растут на берегу озера Куйто. Много хороших парней, но мой парень самый лучший...»                С этой музыкальной композицией началась творческая биография артистов жителей Карельского района                        и города Карел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720" y="533520"/>
            <a:ext cx="6429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ольклорный ансамбль «Хете»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62120" y="609480"/>
            <a:ext cx="3962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вчук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арья Андреевн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9144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ауреат - степени Международного Рождественского фестиваля-конкурса                                                    «Сиянье звезд» Санкт - Петербург 2006 г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налист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ероссийского фестиваля-круиза «Адрес детства-Россия» г. Москва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ауреат - степени Республиканского конкурса  «Россия – это мы» 2005 г.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ауреат 1 степени город.  конкурса «Народный артист Костомукши»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плом участника Республиканского заочного конкурса патриотической песни  «Я люблю тебя, Россия» 200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ауреат 2 степени Международного конкурса «Музыкальная радуга»                             г. Волгоград 200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астник торжеств, посвященных 300-летию г. Петрозаводска.</a:t>
            </a:r>
            <a:r>
              <a:rPr b="0" i="1" lang="ru-RU" sz="1800" spc="-1" strike="noStrike">
                <a:solidFill>
                  <a:srgbClr val="9966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5029200" y="1371600"/>
            <a:ext cx="3684600" cy="453060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Любимый город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333760" cy="4364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657600" cy="3921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1714680" y="533520"/>
            <a:ext cx="5715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1447920" y="2362320"/>
            <a:ext cx="2743200" cy="3657600"/>
          </a:xfrm>
          <a:prstGeom prst="rect">
            <a:avLst/>
          </a:prstGeom>
          <a:ln w="38160">
            <a:solidFill>
              <a:srgbClr val="006633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4876920" y="2362320"/>
            <a:ext cx="2743200" cy="3657600"/>
          </a:xfrm>
          <a:prstGeom prst="rect">
            <a:avLst/>
          </a:prstGeom>
          <a:ln w="38160">
            <a:solidFill>
              <a:srgbClr val="00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4952880" cy="11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Музыкальная пирамида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 фестивалей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4240" y="1403280"/>
            <a:ext cx="1369080" cy="4413600"/>
            <a:chOff x="1524240" y="1403280"/>
            <a:chExt cx="1369080" cy="4413600"/>
          </a:xfrm>
        </p:grpSpPr>
        <p:sp>
          <p:nvSpPr>
            <p:cNvPr id="100" name="_s43016"/>
            <p:cNvSpPr/>
            <p:nvPr/>
          </p:nvSpPr>
          <p:spPr>
            <a:xfrm flipV="1">
              <a:off x="1524240" y="4723920"/>
              <a:ext cx="1369080" cy="1092600"/>
            </a:xfrm>
            <a:custGeom>
              <a:avLst/>
              <a:gdLst>
                <a:gd name="textAreaLeft" fmla="*/ 205920 w 1369080"/>
                <a:gd name="textAreaRight" fmla="*/ 1163160 w 1369080"/>
                <a:gd name="textAreaTop" fmla="*/ 164160 h 1092600"/>
                <a:gd name="textAreaBottom" fmla="*/ 928440 h 10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cc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Georgia"/>
                </a:rPr>
                <a:t>Городск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43015"/>
            <p:cNvSpPr/>
            <p:nvPr/>
          </p:nvSpPr>
          <p:spPr>
            <a:xfrm flipV="1">
              <a:off x="1694520" y="3618720"/>
              <a:ext cx="1029240" cy="1104840"/>
            </a:xfrm>
            <a:custGeom>
              <a:avLst/>
              <a:gdLst>
                <a:gd name="textAreaLeft" fmla="*/ 178560 w 1029240"/>
                <a:gd name="textAreaRight" fmla="*/ 850680 w 1029240"/>
                <a:gd name="textAreaTop" fmla="*/ 191520 h 1104840"/>
                <a:gd name="textAreaBottom" fmla="*/ 91332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Georgia"/>
                </a:rPr>
                <a:t>Региона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43014"/>
            <p:cNvSpPr/>
            <p:nvPr/>
          </p:nvSpPr>
          <p:spPr>
            <a:xfrm flipV="1">
              <a:off x="1865160" y="2511360"/>
              <a:ext cx="688320" cy="1108080"/>
            </a:xfrm>
            <a:custGeom>
              <a:avLst/>
              <a:gdLst>
                <a:gd name="textAreaLeft" fmla="*/ 151200 w 688320"/>
                <a:gd name="textAreaRight" fmla="*/ 537120 w 688320"/>
                <a:gd name="textAreaTop" fmla="*/ 243720 h 1108080"/>
                <a:gd name="textAreaBottom" fmla="*/ 86436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Georgia"/>
                </a:rPr>
                <a:t>Российск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43013"/>
            <p:cNvSpPr/>
            <p:nvPr/>
          </p:nvSpPr>
          <p:spPr>
            <a:xfrm flipV="1">
              <a:off x="2038680" y="1403280"/>
              <a:ext cx="340560" cy="1108080"/>
            </a:xfrm>
            <a:custGeom>
              <a:avLst/>
              <a:gdLst>
                <a:gd name="textAreaLeft" fmla="*/ 122040 w 340560"/>
                <a:gd name="textAreaRight" fmla="*/ 218520 w 340560"/>
                <a:gd name="textAreaTop" fmla="*/ 397440 h 1108080"/>
                <a:gd name="textAreaBottom" fmla="*/ 7106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100" spc="-1" strike="noStrike">
                  <a:solidFill>
                    <a:srgbClr val="ff0000"/>
                  </a:solidFill>
                  <a:latin typeface="Georgia"/>
                </a:rPr>
                <a:t>   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Georgia"/>
                </a:rPr>
                <a:t>Международ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86200" y="4572000"/>
            <a:ext cx="1371600" cy="1123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883908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86200" y="3429000"/>
            <a:ext cx="1371600" cy="11224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886200" y="5735520"/>
            <a:ext cx="1371600" cy="1122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886200" y="2286000"/>
            <a:ext cx="1371600" cy="1122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8077320" y="380880"/>
            <a:ext cx="761760" cy="76212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28600"/>
            <a:ext cx="27432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Музыка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Звёз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Костомук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1371600"/>
            <a:ext cx="1143000" cy="114300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Ив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1981080"/>
            <a:ext cx="1066680" cy="114300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1295280"/>
            <a:ext cx="1143000" cy="114300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2209680"/>
            <a:ext cx="1067040" cy="121932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2743200"/>
            <a:ext cx="1066680" cy="99072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2590920"/>
            <a:ext cx="962280" cy="91440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3886200"/>
            <a:ext cx="961920" cy="91440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3886200"/>
            <a:ext cx="1114560" cy="114300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3733920"/>
            <a:ext cx="1066680" cy="106668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4876920"/>
            <a:ext cx="1266840" cy="114300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5029200"/>
            <a:ext cx="1066680" cy="1219320"/>
          </a:xfrm>
          <a:prstGeom prst="star5">
            <a:avLst/>
          </a:prstGeom>
          <a:solidFill>
            <a:srgbClr val="cccc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1676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Сер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Луч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2971800"/>
            <a:ext cx="32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Армаге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2743200"/>
            <a:ext cx="304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Карель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гор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77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Х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2063880" cy="2819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629400" y="3429000"/>
            <a:ext cx="1928880" cy="2570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352680" y="2819520"/>
            <a:ext cx="2230560" cy="297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457200"/>
            <a:ext cx="6477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родный артист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791320"/>
            <a:ext cx="2895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Левчук Дарья 2006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главный пр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5791320"/>
            <a:ext cx="3353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Герасимова Юлия 2006г. дипломант 2 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6031080"/>
            <a:ext cx="320040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Мотина Любовь 2007г.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 дипломант 2 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2590920"/>
            <a:ext cx="33526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Лебедева Тать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2006г. дипломант 2 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219320"/>
            <a:ext cx="6400800" cy="204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99"/>
                </a:solidFill>
                <a:latin typeface="Arial"/>
              </a:rPr>
              <a:t>«Народный артист» стал любим и популярен в городе.     Проводится с 2005 года в 2 тура. Открыл новые имена.            Стал стартовой площадкой для многих начинающих певцов. Созданы 3 возрастные номинации.                                                     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3399"/>
                </a:solidFill>
                <a:latin typeface="Arial"/>
              </a:rPr>
              <a:t>В номинациях по 2 пес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99"/>
                </a:solidFill>
                <a:latin typeface="Arial"/>
              </a:rPr>
              <a:t>50-60 г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99"/>
                </a:solidFill>
                <a:latin typeface="Arial"/>
              </a:rPr>
              <a:t>Современны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Untitled-Scanned-01.jpg"/>
          <p:cNvPicPr/>
          <p:nvPr/>
        </p:nvPicPr>
        <p:blipFill>
          <a:blip r:embed="rId4"/>
          <a:stretch/>
        </p:blipFill>
        <p:spPr>
          <a:xfrm>
            <a:off x="7086600" y="228600"/>
            <a:ext cx="1614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«Кантелетар» - фестиваль  карельской  культуры в  Костомукше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2437920"/>
            <a:ext cx="510552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 февраля – всемирный день Калевалы. Именно в этот день был издан эпос «Калевалы» под редакцией Элиаса Ленротта – собирателя рун и песен,            как в Карелии , так и в Финляндии.       Этот праздник проходит ежегодно.            В 2000 г. Государственный комитет по делам национальной политики предложили провести день «Калевалы», посвящённый Вейко Фёдоровичу Пялли-нену, который жил в посёлке Калевала.        В. Пяллиненом написано много музыки для хора, солистов - кантелистов.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81480" y="2819520"/>
            <a:ext cx="3543480" cy="2681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48120" y="1143000"/>
            <a:ext cx="5562360" cy="152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«Кантелетар, или  Старинные  песни и               баллады  финского  народа» -                             это  свод лирических  песен  и  балл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48320" y="91440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33"/>
                </a:solidFill>
                <a:latin typeface="Garamond"/>
              </a:rPr>
              <a:t>MPuzzle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7760" y="2438280"/>
            <a:ext cx="6095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В Костомукше</a:t>
            </a:r>
            <a:r>
              <a:rPr b="0" lang="en-US" sz="16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стартовал новый фестиваль –Республиканский фестиваль живой музыки на открытом воздухе «МР</a:t>
            </a:r>
            <a:r>
              <a:rPr b="0" lang="en-US" sz="1600" spc="-1" strike="noStrike">
                <a:solidFill>
                  <a:srgbClr val="3b812f"/>
                </a:solidFill>
                <a:latin typeface="Arial"/>
              </a:rPr>
              <a:t>uzzle</a:t>
            </a: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», имеющий  целью поддержать творчество музыкантов, в первую очередь, из Карелии.  На фестиваль приезжают  рок - группы из городов и районов  Карелии: Петрозаводска, Кондопоги, Олонца, Муезерского района и  Кеми. География фестиваля охватила  Мурманск, Нижний Тагил, Челябинск, Санкт-Петербург, Вологду, Кириши и </a:t>
            </a:r>
            <a:r>
              <a:rPr b="0" lang="ru-RU" sz="1700" spc="-1" strike="noStrike">
                <a:solidFill>
                  <a:srgbClr val="3b812f"/>
                </a:solidFill>
                <a:latin typeface="Arial"/>
              </a:rPr>
              <a:t>другие города России. Приняли участие и костомукшские группы. Местом проведения музыкального фестиваля «МР</a:t>
            </a:r>
            <a:r>
              <a:rPr b="0" lang="en-US" sz="1700" spc="-1" strike="noStrike">
                <a:solidFill>
                  <a:srgbClr val="3b812f"/>
                </a:solidFill>
                <a:latin typeface="Arial"/>
              </a:rPr>
              <a:t>uzzle</a:t>
            </a:r>
            <a:r>
              <a:rPr b="0" lang="ru-RU" sz="1700" spc="-1" strike="noStrike">
                <a:solidFill>
                  <a:srgbClr val="3b812f"/>
                </a:solidFill>
                <a:latin typeface="Arial"/>
              </a:rPr>
              <a:t>» была выбрана зона отдыха «Гипроруда» - живописная зеленая территория на берегу озера Контокки</a:t>
            </a:r>
            <a:r>
              <a:rPr b="0" lang="ru-RU" sz="17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18148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Не случайно фестиваль получил название «МР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uzzle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» и собрал не только любителей живой музыки, но и веселого настроения, доброй компании, активного отдыха, спорта и даже экстрима. Музыкальный пазл - основа фестиваля, а общую мозаику дополнили «Фото-кросс», «Вело-пазл», «Кросс-пазл», «Арт-пазл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049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447920" y="609480"/>
            <a:ext cx="60195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ждународные фестивал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стомукше!!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752480" y="39621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стиваль Ожиго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стиваль Камерной музы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Фестиваль </a:t>
            </a: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9" action="ppaction://hlinksldjump"/>
              </a:rPr>
              <a:t>NORD Ses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35809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едверием фестиваля становится рождение новой песни или стиха. Стартом можно считать и первые оргкомитеты. В них есть свое творчество и в общем и в целом получается тоже эмоционально и нескучно. А когда все это сливается воедино - радостные гости, хлопотливые "комитетчики" и песни на концертах - вот тогда наступает...апогей. Сюда приезжают люди из разных городов и даже стран, чтобы показать свое творчество, обменяться мнениями, словом "слиться" в жанре, что как правило, имеет свою полезность. Песни и исполнения настолько разнообразные, яркие, выступления запоминающиеся, то и дело вызывающие крики "браво", техника игры на гитаре - высокой, словом, говоря закулисным языком, барды - гости просто "порвали" за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Фестиваль растет и это чувствуется - говорят участни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Фестиваль Сергея Ожигова уже давно вышел за рамки Республиканског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828800" y="457200"/>
            <a:ext cx="5715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естиваль Сергея Ожигова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914400" y="1371600"/>
            <a:ext cx="1798560" cy="1468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429000" y="1600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943600" y="1447920"/>
            <a:ext cx="2540160" cy="142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3124080"/>
            <a:ext cx="9144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вого августа 1989 года был открыт первый фестиваль Камерной музыки в Костомукш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полным основанием можно утверждать, что в молодой город горняков переместился в эти дни центр культурной жизни республики. Впрочем у Фестиваля камерной музыки широкое всесоюзное и международное звучание. В нем участвуют композиторы и исполнители, хорошо известные во всем ми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естиваль камерной музыки в Костомукше стал тем чудом, которого нам не так хватает в обыденной жизни. "Эта музыка объединяет" - говорят участники фестива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ждый фестиваль камерной музыки, проходивший в нашем городе открывает для любителей музыки новые коллективы и артистические име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обще фестивали — вещь замечательная. Потому что любой фестиваль — это, в первую очередь, праздник. И хотя праздников в нашей жизни немало, все равно хочется новых, тем более что старые рано или поздно надоедают. Особенно приятно, если праздник посвящен тому, что в обычной жизни встречается не так част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81080" y="1447920"/>
            <a:ext cx="497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естиваль Камерной музыки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1 августа 1989год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52280" y="457200"/>
            <a:ext cx="1428840" cy="2305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7543800" y="533520"/>
            <a:ext cx="1428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рганизатор</cp:lastModifiedBy>
  <dcterms:modified xsi:type="dcterms:W3CDTF">2009-01-19T07:18:06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