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72AC-82D6-4BFB-B949-9C72A236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E6D-800C-4150-8748-C173116A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296-391B-44D0-955E-1DF46E8B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23A6-CA03-45F5-891C-3FAE57A6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6558-F35E-4B67-9D42-5E589B88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DB0-A242-45C3-8883-8B270476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C58-5CB3-425B-BEC5-28C8D46E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4FC-E4D5-4C60-AF7C-B885484C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F40A-C0CF-4996-B8D5-B9789BEB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47A-33A1-4537-80C5-BB54AA4B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5E4-ECAB-46FF-AB57-39C26E6A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F734-607C-4F2A-9124-B3C8C82F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81EE-C056-49A6-84F8-96BF5913A3BF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f39b"/>
            </a:gs>
            <a:gs pos="100000">
              <a:srgbClr val="72066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Unicode MS"/>
              </a:rPr>
              <a:t>Начало царствования Александра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I.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14800" y="274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«Дней Александровых прекрасное начало…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А.С. Пушкин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Первые мероприятия Александра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манифест с заявлением, что Александр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будет «управлять по законам и по сердцу в Бозе почивающей августейшей бабки нашей Государыни Императрицы Екатерины Великой»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восстановление в полном объеме Жалованной грамоты дворянству и городам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1801 г. – право покупки земли получают купцы, мещане, государственные и удельные крестьяне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1803 г. – указ о вольных хлебопашцах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запрещение публиковать объявления о продаже дворовых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59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914400"/>
            <a:ext cx="7696080" cy="327672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</a:rPr>
              <a:t>«Продается свора собак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</a:rPr>
              <a:t>и при ней доезжачий»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</a:rPr>
              <a:t>«Продаются кровные жеребцы,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</a:rPr>
              <a:t>при них кучер и конюх»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Работа с документом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44956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1. Как объявления  характеризуют отношения дворян к крепостным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2. Дайте оценку решению царя о запрете печатать подобные объявления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Сперанский М.М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33920" y="1219320"/>
            <a:ext cx="4952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Михаил Михайлович Сперанский родился в семье сельского священника в селе Черкутине Владимирской губернии. В 1797 году Сперанский поступил секретарем в канцелярию генерального прокурора Сената и, благодаря выдающимся способностям, быстро выдвинул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В 1803-1807 годах Сперанский был директором департамента Министерства внутренних дел и участвовал в редактировании всех важных законов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С 1808 года он стал ближайшим советником Александра I по всем вопросам внутренней политики. По поручению царя в 1809 году он составил "План государственного преобразования" ("Введение к Уложению государственных законов 1809 года"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346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9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Реформа высших органов власти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1752480"/>
            <a:ext cx="381024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Император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2971800"/>
            <a:ext cx="2664000" cy="12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Синод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высшее духовное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учреждение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4343400"/>
            <a:ext cx="2663640" cy="12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Сенат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высшее судебное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учреждение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4343400"/>
            <a:ext cx="2664000" cy="12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Государственный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Совет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законосовещательный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орган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2971800"/>
            <a:ext cx="2664000" cy="12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Министерства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(органы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исполнительной власти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514240" y="2362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23623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429000" y="2362320"/>
            <a:ext cx="83808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362320"/>
            <a:ext cx="9907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Сравните структуру власти в России до и после реформ Александра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. Назовите ликвидированные и новые учреждения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Чем министерства отличались от коллегий?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Какие положения из проекта Сперанского были притворены в жизнь Александром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, а какие нет?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Внешняя политика Александра в 1801 -1812 гг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666880"/>
            <a:ext cx="434340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Ближневосточное направление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-обеспечить выгодный режим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через пролив Босфор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и Дарданеллы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помощь народам Балканского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полуострова (братья-славяне)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2666880"/>
            <a:ext cx="4343400" cy="3200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Европейское направление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3-я и 4-я антифранцузские коалиции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война со Швецией (исходя из условий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Тильзитского мирного договора)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76720" y="152388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1447920"/>
            <a:ext cx="3812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Борьба России Против наполеоновской Франции, 1805-1807 гг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1828800"/>
            <a:ext cx="5638680" cy="1219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1803 г. – учреждение 3-й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антинаполеоновской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оалиции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3429000"/>
            <a:ext cx="5486400" cy="1295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Коалиция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– объединение, союз (государств,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партий) для достижения общей цели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657600"/>
            <a:ext cx="655308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Цель антинаполеоновской коалиции: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установление в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Европе такого порядка, который бы не позволил Франции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производить дальнейшие захваты и угрожать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независимости соседних государств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2 (14) декабря 1805 г. – сражение под Аустерлицем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1868400" cy="2438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2009880" cy="2514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600200" y="2743200"/>
            <a:ext cx="2895480" cy="1676520"/>
          </a:xfrm>
          <a:prstGeom prst="rightArrowCallout">
            <a:avLst>
              <a:gd name="adj1" fmla="val 21400"/>
              <a:gd name="adj2" fmla="val 25000"/>
              <a:gd name="adj3" fmla="val 23291"/>
              <a:gd name="adj4" fmla="val 77194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5 тыс. русских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5 тыс. австрийцев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4495680" y="2742480"/>
            <a:ext cx="2819520" cy="1676520"/>
          </a:xfrm>
          <a:prstGeom prst="rightArrowCallout">
            <a:avLst>
              <a:gd name="adj1" fmla="val 21215"/>
              <a:gd name="adj2" fmla="val 25856"/>
              <a:gd name="adj3" fmla="val 22937"/>
              <a:gd name="adj4" fmla="val 806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0 тыс. французов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057400"/>
            <a:ext cx="3809880" cy="4191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тери союзников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тыс. убитыми и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 тыс. пленными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пушек и 40 знамен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2057400"/>
            <a:ext cx="4038480" cy="4191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тери французов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нее 9 тыс. убитыми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ранеными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26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2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50289E-006 L -0.51666 1.50289E-006 E">
                                      <p:cBhvr>
                                        <p:cTn id="53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50867E-006 L -0.37708 -4.50867E-006 E">
                                      <p:cBhvr>
                                        <p:cTn id="53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934320" y="990720"/>
            <a:ext cx="1868400" cy="2438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009520" cy="25146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</a:rPr>
              <a:t>Тильзитский мирный договор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Unicode MS"/>
              </a:rPr>
              <a:t>(июль 1807 г.)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280" y="52574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Россия признала все завоевания Франции и императорский титул за Наполеоном Бонапартом. Отдельным актом был оформлен наступательный и оборонительный русско-французский союз. Кроме того, Россия вынуждена была согласиться на создание герцогства Варшавского и присоединиться к континентальной блокаде Англии, что наносило значительный ущерб российской экономике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905120" y="1447920"/>
            <a:ext cx="52578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Война со Швецией 1808-1809 гг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Повод к войне: шведский король Густав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Адольф отказался разорвать отношения с Англией и присоединиться к континентальной блокаде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Август 1809 г. –Фридрихсгамский мирный договор. Финляндия, включая Аландские острова, отходила к России. В составе России было создано Великое княжество Финляндское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</a:rPr>
              <a:t>Восточная политика Александра </a:t>
            </a: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676520"/>
            <a:ext cx="403884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Русско-турецкая война (1806 –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1812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Май 1812 г. – Бухарестский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мирный договор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Бессарабия, часть Черноморского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побережья Кавказа, с городом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Сухум перешли к России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1676520"/>
            <a:ext cx="403884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Война с Ираном (1804-1813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24 октября 1813 г. – Гюлистанский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мирный договор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Иранский шах признал за Россией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территории современной Грузии,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Дагестана и ряд иных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России было предоставлено право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свободного плавания в Каспии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Закрепление материала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Назовите территориальные приобретения России в период 1801-1812 гг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3124080"/>
            <a:ext cx="3352680" cy="23623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нляндия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3124080"/>
            <a:ext cx="3353040" cy="23623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ссарабия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9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Перечислите успехи и неудачи Российского правительства во внешней политике 1801-1812 гг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752480"/>
            <a:ext cx="403848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Неудачи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1752480"/>
            <a:ext cx="40384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Успехи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286000"/>
            <a:ext cx="403848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поражение под Аустерлицем,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Фридландом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429000"/>
            <a:ext cx="403848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Тильзитский мирный договор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с Францией нанес большой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ущерб российской экономике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286000"/>
            <a:ext cx="4038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победа в войне со Швецией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038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присоединение Финляндии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572000"/>
            <a:ext cx="4038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присоединение Бессарабии в войне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с Османской империей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5715000"/>
            <a:ext cx="4038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Тильзитский мир несколько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отсрочил войну с Францией, таким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образом Россия избежала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войны на два фронта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Зыр.,</a:t>
            </a:r>
            <a:r>
              <a:rPr b="0" lang="en-US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§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1 и вопросы 3,4 на с.24</a:t>
            </a:r>
            <a:endParaRPr b="0" lang="en-US" sz="4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ДК </a:t>
            </a:r>
            <a:r>
              <a:rPr b="0" lang="en-US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§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 1-2 и вопросы 3-5 на с. 32</a:t>
            </a:r>
            <a:endParaRPr b="0" lang="en-US" sz="4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Вспомним понятия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371600"/>
            <a:ext cx="2514600" cy="9907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Самодержавная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монархия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438280"/>
            <a:ext cx="2514600" cy="9907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Отходники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505320"/>
            <a:ext cx="2514600" cy="99036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Сословие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572000"/>
            <a:ext cx="2514600" cy="9907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Многоконфессиональное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государство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5638680"/>
            <a:ext cx="2514600" cy="9907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Капиталистые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крестьяне 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371600"/>
            <a:ext cx="5867280" cy="990720"/>
          </a:xfrm>
          <a:prstGeom prst="leftArrowCallout">
            <a:avLst>
              <a:gd name="adj1" fmla="val 3204"/>
              <a:gd name="adj2" fmla="val 23398"/>
              <a:gd name="adj3" fmla="val 34217"/>
              <a:gd name="adj4" fmla="val 9423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государство, в котором правителю (монарху)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принадлежит неограниченная верховная власть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законодательная, исполнительная, судебная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2438280"/>
            <a:ext cx="5867280" cy="990720"/>
          </a:xfrm>
          <a:prstGeom prst="leftArrowCallout">
            <a:avLst>
              <a:gd name="adj1" fmla="val 3204"/>
              <a:gd name="adj2" fmla="val 23398"/>
              <a:gd name="adj3" fmla="val 34217"/>
              <a:gd name="adj4" fmla="val 9423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крестьяне, временно ушедшие на заработки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в города или на сельскохозяйственные работы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в другие местности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505320"/>
            <a:ext cx="5867280" cy="990360"/>
          </a:xfrm>
          <a:prstGeom prst="leftArrowCallout">
            <a:avLst>
              <a:gd name="adj1" fmla="val 3204"/>
              <a:gd name="adj2" fmla="val 23398"/>
              <a:gd name="adj3" fmla="val 34230"/>
              <a:gd name="adj4" fmla="val 9423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группа людей одинаковыми правами и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обязанностями, закрепленными обычаями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или законами и передающимися по наследству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572000"/>
            <a:ext cx="5867280" cy="990720"/>
          </a:xfrm>
          <a:prstGeom prst="leftArrowCallout">
            <a:avLst>
              <a:gd name="adj1" fmla="val 3204"/>
              <a:gd name="adj2" fmla="val 23398"/>
              <a:gd name="adj3" fmla="val 34217"/>
              <a:gd name="adj4" fmla="val 9423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государство, население которого исповедует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различные религиозные учения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638680"/>
            <a:ext cx="5867280" cy="990720"/>
          </a:xfrm>
          <a:prstGeom prst="leftArrowCallout">
            <a:avLst>
              <a:gd name="adj1" fmla="val 3204"/>
              <a:gd name="adj2" fmla="val 23398"/>
              <a:gd name="adj3" fmla="val 34217"/>
              <a:gd name="adj4" fmla="val 9423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крестьяне, имевшие капитал и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занимавшиеся предпринимательством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Приведите не менее трех фактов, доказывающих, что Россия в начале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века была преимущественно аграрной  (сельскохозяйственной) страной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90% населения Российской империи – это крестьяне, главным занятием которых было земледелие и животноводство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слабое развитие промышленности в следствии существования крепостного права. крепостные находились в собственности помещика, поэтому количество наемных рабочих было невелико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в составе экспортируемых из России товаров преобладали хлеб, лен, сало, пенька, лес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Начертите схему государственного управления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1752480"/>
            <a:ext cx="3810240" cy="10670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Император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носитель верховной власти,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исполнительной, законодательной,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судебной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657600"/>
            <a:ext cx="2590560" cy="121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Коллегии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исполнительные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учреждения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3657600"/>
            <a:ext cx="2590560" cy="121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Святейший Синод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высшее духовное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учреждение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657600"/>
            <a:ext cx="2590920" cy="121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Правительствующий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Сенат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высший судебный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орган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599840" y="2819520"/>
            <a:ext cx="2895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819520"/>
            <a:ext cx="3124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Unicode MS"/>
              </a:rPr>
              <a:t>Император Павел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Павел Петрович, сын императора Петра III и императрицы Екатерины II, вступил на престол 6 ноября 1796 год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Став императором, Павел короновал останки Петра III императорской короной и похоронил Петра III и Екатерину II в один день и с одинаковыми почестями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Напуганный Великой французской революцией, Павел проводил крайне реакционную внутреннюю политику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Постоянная недоверчивость и подозрительность Павла I достигли к 1801 году крайней степени, распространившись даже на членов его семьи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316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Unicode MS"/>
              </a:rPr>
              <a:t>Александр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Александр I – старший сын императора Павла I и его второй жены императрицы Марии Федоровны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Воспитанием Александра занималась его бабка, Екатерина II. Она подобрала для него воспитателей и написала специальное наставление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617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«Негласный комитет»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066680" y="1219320"/>
            <a:ext cx="1618200" cy="2504880"/>
            <a:chOff x="1066680" y="1219320"/>
            <a:chExt cx="1618200" cy="250488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1066680" y="1219320"/>
              <a:ext cx="152424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114200" y="3355920"/>
              <a:ext cx="157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В.П.Кочубей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095880" y="1219320"/>
            <a:ext cx="1854720" cy="2313000"/>
            <a:chOff x="6095880" y="1219320"/>
            <a:chExt cx="1854720" cy="231300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6095880" y="1219320"/>
              <a:ext cx="177192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158880" y="3164040"/>
              <a:ext cx="179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П.А.Строганов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865080" y="4114800"/>
            <a:ext cx="2148120" cy="2313000"/>
            <a:chOff x="865080" y="4114800"/>
            <a:chExt cx="2148120" cy="2313000"/>
          </a:xfrm>
        </p:grpSpPr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1047600" y="4114800"/>
              <a:ext cx="177192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865080" y="6059520"/>
              <a:ext cx="21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Н.Н.Новосильцев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955480" y="4048200"/>
            <a:ext cx="2109960" cy="2357280"/>
            <a:chOff x="5955480" y="4048200"/>
            <a:chExt cx="2109960" cy="2357280"/>
          </a:xfrm>
        </p:grpSpPr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6095880" y="4048200"/>
              <a:ext cx="177192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955480" y="6037200"/>
              <a:ext cx="210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А. Чарторыйский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505320" y="2514600"/>
            <a:ext cx="1751040" cy="2617920"/>
            <a:chOff x="3505320" y="2514600"/>
            <a:chExt cx="1751040" cy="2617920"/>
          </a:xfrm>
        </p:grpSpPr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3505320" y="2514600"/>
              <a:ext cx="175104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548880" y="4764240"/>
              <a:ext cx="150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Unicode MS"/>
                </a:rPr>
                <a:t>Александр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Дворцовый переворот 11 марта 1801 года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540160" y="1523880"/>
            <a:ext cx="1955520" cy="2059200"/>
            <a:chOff x="2540160" y="1523880"/>
            <a:chExt cx="1955520" cy="205920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584440" y="1523880"/>
              <a:ext cx="145404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540160" y="3214800"/>
              <a:ext cx="19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Unicode MS"/>
                </a:rPr>
                <a:t>Беннигсен Л.Л.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661840" y="3787920"/>
            <a:ext cx="1427400" cy="2236680"/>
            <a:chOff x="2661840" y="3787920"/>
            <a:chExt cx="1427400" cy="223668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2666880" y="3787920"/>
              <a:ext cx="142236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661840" y="5656320"/>
              <a:ext cx="133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Зубов П.А.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085120" y="6022800"/>
            <a:ext cx="25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Пален Петр-Людвиг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Петр Алексеевич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257800" y="1371600"/>
            <a:ext cx="3100320" cy="4714920"/>
            <a:chOff x="5257800" y="1371600"/>
            <a:chExt cx="3100320" cy="471492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5257800" y="1371600"/>
              <a:ext cx="310032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735520" y="571824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Unicode MS"/>
                </a:rPr>
                <a:t>Император Павел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80880" y="2362320"/>
            <a:ext cx="1716120" cy="2821680"/>
            <a:chOff x="380880" y="2362320"/>
            <a:chExt cx="1716120" cy="2821680"/>
          </a:xfrm>
        </p:grpSpPr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57200" y="2362320"/>
              <a:ext cx="145908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80880" y="4267080"/>
              <a:ext cx="1716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Великий князь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Александр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438280" y="1600200"/>
            <a:ext cx="3885480" cy="4518360"/>
            <a:chOff x="2438280" y="1600200"/>
            <a:chExt cx="3885480" cy="4518360"/>
          </a:xfrm>
        </p:grpSpPr>
        <p:pic>
          <p:nvPicPr>
            <p:cNvPr id="102" name="" descr=""/>
            <p:cNvPicPr/>
            <p:nvPr/>
          </p:nvPicPr>
          <p:blipFill>
            <a:blip r:embed="rId5"/>
            <a:stretch/>
          </p:blipFill>
          <p:spPr>
            <a:xfrm>
              <a:off x="2611080" y="1600200"/>
              <a:ext cx="3303720" cy="38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438280" y="5475960"/>
              <a:ext cx="388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Unicode MS"/>
                </a:rPr>
                <a:t>Император 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Unicode MS"/>
                </a:rPr>
                <a:t>Александр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4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7-12-12T17:22:3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