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1B1-357A-4697-BF1E-24BEE6E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3DF-E535-4DD2-8597-A322FD4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2A1-C2BC-499E-9806-3CF74EC2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861-4673-4365-B1C2-9C3C5EB7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0C5-CCA0-4A74-B6BC-71DB0EA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C23-E518-4A99-B17B-1FC7272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A3C-FC8E-405D-9FED-8BC47F3E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CE1-CAC8-4557-9C3F-E96FA7A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7DC-BDE3-4E92-9BE5-7D17CB42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E6B-1B5F-42AE-9B08-6BE7BE6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CDE-6947-4208-89F7-F1EACA8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D9D-7911-4E92-888E-20E80BB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A98-F94B-4687-9072-10955FBE505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39b"/>
            </a:gs>
            <a:gs pos="100000">
              <a:srgbClr val="7206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Начало царствования Александра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«Дней Александровых прекрасное начало…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ервые мероприятия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нифест с заявлением, что Александр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будет «управлять по законам и по сердцу в Бозе почивающей августейшей бабки нашей Государыни Императрицы Екатерины Великой»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сстановление в полном объеме Жалованной грамоты дворянству и городам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1 г. – право покупки земли получают купцы, мещане, государственные и удельные крестьяне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3 г. – указ о вольных хлебопашцах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запрещение публиковать объявления о продаже дворовых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5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914400"/>
            <a:ext cx="7696080" cy="32767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«Продается свора собак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и при ней доезжачий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«Продаются кровные жеребцы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при них кучер и конюх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Работа с документом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495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. Как объявления  характеризуют отношения дворян к крепостным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. Дайте оценку решению царя о запрете печатать подобные объявления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Сперанский М.М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1219320"/>
            <a:ext cx="4952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хаил Михайлович Сперанский родился в семье сельского священника в селе Черкутине Владимирской губернии. В 1797 году Сперанский поступил секретарем в канцелярию генерального прокурора Сената и, благодаря выдающимся способностям, быстро выдвину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 1803-1807 годах Сперанский был директором департамента Министерства внутренних дел и участвовал в редактировании всех важных законов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 1808 года он стал ближайшим советником Александра I по всем вопросам внутренней политики. По поручению царя в 1809 году он составил "План государственного преобразования" ("Введение к Уложению государственных законов 1809 года"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346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Реформа высших органов власти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752480"/>
            <a:ext cx="38102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Император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9718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инод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высшее духовно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343400"/>
            <a:ext cx="266364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высшее судебно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3434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законосовещательны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рган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9718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Министерств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(органы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14240" y="2362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23623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9000" y="2362320"/>
            <a:ext cx="8380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362320"/>
            <a:ext cx="9907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равните структуру власти в России до и после реформ Александр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Назовите ликвидированные и новые учреждения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Чем министерства отличались от коллегий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акие положения из проекта Сперанского были притворены в жизнь Александром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а какие нет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Внешняя политика Александра в 1801 -1812 гг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666880"/>
            <a:ext cx="43434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Ближневосточное направление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-обеспечить выгодный режим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через пролив Босфор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 Дарданеллы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мощь народам Балканског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луострова (братья-славяне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666880"/>
            <a:ext cx="43434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вропейское направление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3-я и 4-я антифранцузские коалиции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а со Швецией (исходя из услов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ого мирного договора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15238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1447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Борьба России Против наполеоновской Франции, 1805-1807 гг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828800"/>
            <a:ext cx="563868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3 г. – учреждение 3-й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тинаполеоновской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алиции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54864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Коали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– объединение, союз (государств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артий) для достижения общей цел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657600"/>
            <a:ext cx="655308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Цель антинаполеоновской коалиции: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установление в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вропе такого порядка, который бы не позволил Франци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роизводить дальнейшие захваты и угрожать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независимости соседних государств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2 (14) декабря 1805 г. – сражение под Аустерлицем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200988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00200" y="2743200"/>
            <a:ext cx="2895480" cy="1676520"/>
          </a:xfrm>
          <a:prstGeom prst="rightArrowCallout">
            <a:avLst>
              <a:gd name="adj1" fmla="val 21400"/>
              <a:gd name="adj2" fmla="val 25000"/>
              <a:gd name="adj3" fmla="val 23291"/>
              <a:gd name="adj4" fmla="val 7719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5 тыс. русских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5 тыс. австрийцев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4495680" y="2742480"/>
            <a:ext cx="2819520" cy="1676520"/>
          </a:xfrm>
          <a:prstGeom prst="rightArrowCallout">
            <a:avLst>
              <a:gd name="adj1" fmla="val 21215"/>
              <a:gd name="adj2" fmla="val 25856"/>
              <a:gd name="adj3" fmla="val 22937"/>
              <a:gd name="adj4" fmla="val 80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0 тыс. французов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057400"/>
            <a:ext cx="3809880" cy="4191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и союзников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тыс. убитыми и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тыс. пленны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пушек и 40 знамен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057400"/>
            <a:ext cx="4038480" cy="4191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и французов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нее 9 тыс. убиты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ранеными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0289E-006 L -0.51666 1.50289E-006 E">
                                      <p:cBhvr>
                                        <p:cTn id="52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0867E-006 L -0.37708 -4.50867E-006 E">
                                      <p:cBhvr>
                                        <p:cTn id="53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00952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Тильзитский мирный догов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(июль 1807 г.)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52574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Россия признала все завоевания Франции и императорский титул за Наполеоном Бонапартом. Отдельным актом был оформлен наступательный и оборонительный русско-французский союз. Кроме того, Россия вынуждена была согласиться на создание герцогства Варшавского и присоединиться к континентальной блокаде Англии, что наносило значительный ущерб российской экономике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905120" y="1447920"/>
            <a:ext cx="5257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Война со Швецией 1808-1809 гг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вод к войне: шведский король Густав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Адольф отказался разорвать отношения с Англией и присоединиться к континентальной блокад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вгуст 1809 г. –Фридрихсгамский мирный договор. Финляндия, включая Аландские острова, отходила к России. В составе России было создано Великое княжество Финляндско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Восточная политика Александра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76520"/>
            <a:ext cx="403884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усско-турецкая война (1806 –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181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ай 1812 г. – Бухарестск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рный договор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Бессарабия, часть Черноморског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бережья Кавказа, с город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ухум перешли к Росс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676520"/>
            <a:ext cx="403884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а с Ираном (1804-1813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24 октября 1813 г. – Гюлистанск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рный договор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Иранский шах признал за Росс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ерритории современной Грузии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Дагестана и ряд иных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оссии было предоставлено прав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вободного плавания в Каспии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Закрепление материал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Назовите территориальные приобретения России в период 1801-1812 гг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124080"/>
            <a:ext cx="3352680" cy="2362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нляндия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2362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ссараб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еречислите успехи и неудачи Российского правительства во внешней политике 1801-1812 гг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4038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еудач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752480"/>
            <a:ext cx="40384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спех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286000"/>
            <a:ext cx="4038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ражение под Аустерлицем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Фридланд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429000"/>
            <a:ext cx="4038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ий мирный договор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 Францией нанес большо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щерб российской экономик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286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беда в войне со Швец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соединение Финлянд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572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соединение Бессарабии в войн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 Османской импер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15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ий мир нескольк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тсрочил войну с Францией, таким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бразом Россия избежал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ы на два фронт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Зыр.,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1 и вопросы 3,4 на с.24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ДК 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 1-2 и вопросы 3-5 на с. 32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Вспомним поняти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амодержавная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монарх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43828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тходник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2514600" cy="9903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ослови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5720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Многоконфессиональное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государство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63868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апиталисты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37160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осударство, в котором правителю (монарху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надлежит неограниченная верховная власть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законодательная, исполнительная, судебная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43828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, временно ушедшие на заработк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 города или на сельскохозяйственные работы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 другие местност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5867280" cy="990360"/>
          </a:xfrm>
          <a:prstGeom prst="leftArrowCallout">
            <a:avLst>
              <a:gd name="adj1" fmla="val 3204"/>
              <a:gd name="adj2" fmla="val 23398"/>
              <a:gd name="adj3" fmla="val 34230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руппа людей одинаковыми правами 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бязанностями, закрепленными обычаям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ли законами и передающимися по наследству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7200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осударство, население которого исповедуе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различные религиозные учен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63868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, имевшие капитал 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занимавшиеся предпринимательств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иведите не менее трех фактов, доказывающих, что Росси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века была преимущественно аграрной  (сельскохозяйственной) страной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90% населения Российской империи – это крестьяне, главным занятием которых было земледелие и животноводство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слабое развитие промышленности в следствии существования крепостного права. крепостные находились в собственности помещика, поэтому количество наемных рабочих было невелико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в составе экспортируемых из России товаров преобладали хлеб, лен, сало, пенька, лес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Начертите схему государственного управления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3810240" cy="1067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Император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оситель верховной власти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ой, законодательной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удебной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657600"/>
            <a:ext cx="259056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Коллег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ы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я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657600"/>
            <a:ext cx="259056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вятейший Синод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ысшее духовно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657600"/>
            <a:ext cx="259092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равительствующи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ысший судебны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99840" y="28195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8195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Император Павел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авел Петрович, сын императора Петра III и императрицы Екатерины II, вступил на престол 6 ноября 1796 год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тав императором, Павел короновал останки Петра III императорской короной и похоронил Петра III и Екатерину II в один день и с одинаковыми почестям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апуганный Великой французской революцией, Павел проводил крайне реакционную внутреннюю политику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стоянная недоверчивость и подозрительность Павла I достигли к 1801 году крайней степени, распространившись даже на членов его семь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31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лександр I – старший сын императора Павла I и его второй жены императрицы Марии Федоровны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спитанием Александра занималась его бабка, Екатерина II. Она подобрала для него воспитателей и написала специальное наставление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617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«Негласный комитет»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680" y="1219320"/>
            <a:ext cx="1618200" cy="2504880"/>
            <a:chOff x="1066680" y="1219320"/>
            <a:chExt cx="1618200" cy="25048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5242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114200" y="335592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В.П.Кочубей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5880" y="1219320"/>
            <a:ext cx="1854720" cy="2313000"/>
            <a:chOff x="6095880" y="1219320"/>
            <a:chExt cx="1854720" cy="23130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6095880" y="121932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58880" y="316404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П.А.Строганов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65080" y="4114800"/>
            <a:ext cx="2148120" cy="2313000"/>
            <a:chOff x="865080" y="4114800"/>
            <a:chExt cx="2148120" cy="231300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1047600" y="411480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65080" y="605952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Н.Н.Новосильцев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955480" y="4048200"/>
            <a:ext cx="2109960" cy="2357280"/>
            <a:chOff x="5955480" y="4048200"/>
            <a:chExt cx="2109960" cy="235728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6095880" y="404820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955480" y="6037200"/>
              <a:ext cx="21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А. Чарторыйский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05320" y="2514600"/>
            <a:ext cx="1751040" cy="2617920"/>
            <a:chOff x="3505320" y="2514600"/>
            <a:chExt cx="1751040" cy="26179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505320" y="2514600"/>
              <a:ext cx="17510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548880" y="476424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Александр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Дворцовый переворот 11 марта 1801 год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40160" y="1523880"/>
            <a:ext cx="1955520" cy="2059200"/>
            <a:chOff x="2540160" y="1523880"/>
            <a:chExt cx="1955520" cy="20592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584440" y="1523880"/>
              <a:ext cx="145404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540160" y="3214800"/>
              <a:ext cx="19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Беннигсен Л.Л.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661840" y="3787920"/>
            <a:ext cx="1427400" cy="2236680"/>
            <a:chOff x="2661840" y="3787920"/>
            <a:chExt cx="1427400" cy="22366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3787920"/>
              <a:ext cx="14223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61840" y="56563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Зубов П.А.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085120" y="602280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ален Петр-Людвиг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Петр Алексеевич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7800" y="1371600"/>
            <a:ext cx="3100320" cy="4714920"/>
            <a:chOff x="5257800" y="1371600"/>
            <a:chExt cx="3100320" cy="4714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735520" y="571824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Император Павел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80880" y="2362320"/>
            <a:ext cx="1716120" cy="2821680"/>
            <a:chOff x="380880" y="2362320"/>
            <a:chExt cx="1716120" cy="282168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57200" y="2362320"/>
              <a:ext cx="1459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0880" y="4267080"/>
              <a:ext cx="171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Великий князь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Александр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38280" y="1600200"/>
            <a:ext cx="3885480" cy="4518360"/>
            <a:chOff x="2438280" y="1600200"/>
            <a:chExt cx="3885480" cy="451836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2611080" y="1600200"/>
              <a:ext cx="3303720" cy="38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38280" y="5475960"/>
              <a:ext cx="388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Император 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Александр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2-12T17:22:3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