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F14F-6E28-47DC-99E9-F7FF706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A0C1-0801-4B0D-8466-D8F4A36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2808-A923-47D4-84D4-D20EBB8A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07B7-845B-48CE-BCCE-10F2F9FC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1922-5047-4F49-AE20-D76AE1B2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6E3-2E1A-46B6-9E3F-0A901759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7012-BCBD-4323-8CB0-E1005F0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EC1B-089F-4C41-AE74-64249D8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D150-B72B-44D6-9A7D-08C9912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8C5E-46FB-4593-BA92-DBCF255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576-D770-4DB9-89B1-21CE83F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5E6E-550C-4C62-8249-FDFC5E63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DE8D-F844-4ADF-A2D1-CF9DE49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D2F3-4D5F-4057-A7A9-738ED22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0F5-DBFD-42C6-ABED-4D41948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B24-B2E6-49A1-8D86-462F83D6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2FD0-B268-40BF-AA3D-65915918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05B1-ED75-4E33-846B-AA2CEA5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D32C-359A-48A8-A2D9-43076E1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B937-E8CC-433A-96E8-448B144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0D78-C400-40DD-9AD1-AE06970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1F85-5531-4FAF-AD78-EBED935B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F8C3-FF11-4B57-9E9B-4ADA9F4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768B-F90C-42B7-A430-9D25C75B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5A2-E367-4195-A825-F7AC09BAE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EE38-6AD1-4100-A42E-0B4643712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Внутренняя политика</a:t>
            </a:r>
            <a:br>
              <a:rPr sz="6000"/>
            </a:b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Николая </a:t>
            </a:r>
            <a:r>
              <a:rPr b="1" lang="en-US" sz="6000" spc="-1" strike="noStrike">
                <a:solidFill>
                  <a:srgbClr val="fbfb93"/>
                </a:solidFill>
                <a:latin typeface="Garamond"/>
              </a:rPr>
              <a:t>I</a:t>
            </a:r>
            <a:r>
              <a:rPr b="1" lang="ru-RU" sz="6000" spc="-1" strike="noStrike">
                <a:solidFill>
                  <a:srgbClr val="fbfb93"/>
                </a:solidFill>
                <a:latin typeface="Garamond"/>
              </a:rPr>
              <a:t> (1825-1855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Garamond"/>
              </a:rPr>
              <a:t>ЦЕЛИ:</a:t>
            </a: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1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крепление</a:t>
            </a:r>
            <a:r>
              <a:rPr b="1" lang="ru-RU" sz="32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ожения дворян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                   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2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орьба против революционной угро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МБОУ Краснозерская СОШ №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Шанина Светлана Андре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                </a:t>
            </a: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Николай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I</a:t>
            </a:r>
            <a:br>
              <a:rPr sz="5400"/>
            </a:b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                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(1796-1855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доровый и крепк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нет близких отнош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 братья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военная подготовка с детства, милитарис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едпочтение к точным и естественным наука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неприхотлив в быт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суровость к окружающим, жёсткос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2432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.Х.Бенкендор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(1826г)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 начальник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II-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го Отделения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обственной его императорского величества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канцелярии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 (орган полит. сыска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шеф корпуса жандарм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личный друг императора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участник Отечественной войн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87488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С.С.Уваров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министр народного просвещения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введение цензурного уста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(«чугунный»)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bfb93"/>
                </a:solidFill>
                <a:latin typeface="Garamond"/>
              </a:rPr>
              <a:t>              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запрет на приём крепостных 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средние и высшие учебн. зав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- провозглашение «теории оф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                                    </a:t>
            </a:r>
            <a:r>
              <a:rPr b="0" lang="ru-RU" sz="2800" spc="-1" strike="noStrike">
                <a:solidFill>
                  <a:srgbClr val="fbfb93"/>
                </a:solidFill>
                <a:latin typeface="Garamond"/>
              </a:rPr>
              <a:t>циальной народности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самодержа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правосла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990000"/>
                </a:solidFill>
                <a:latin typeface="Garamond"/>
              </a:rPr>
              <a:t>народ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47644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fb93"/>
                </a:solidFill>
                <a:latin typeface="Garamond"/>
              </a:rPr>
              <a:t>Составление Свода законов</a:t>
            </a:r>
            <a:br>
              <a:rPr sz="4000"/>
            </a:br>
            <a:r>
              <a:rPr b="1" lang="en-US" sz="4000" spc="-1" strike="noStrike">
                <a:solidFill>
                  <a:srgbClr val="fbfb93"/>
                </a:solidFill>
                <a:latin typeface="Garamond"/>
              </a:rPr>
              <a:t>     Российской импер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М.М.Сперан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расположение  по хронолог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сех законов, принятых после 1649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кодификация законов по област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полнения на основе норм зарубеж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го пра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1853г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– одобрение Госуд. Советом (45 томов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награждён орденом Андрея Первозван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37200" y="549360"/>
            <a:ext cx="2206800" cy="250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11336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пытки решения крестьянского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вопроса   (1837-184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ru-RU" sz="2400" spc="-1" strike="noStrike" u="sng">
                <a:solidFill>
                  <a:srgbClr val="fbfb93"/>
                </a:solidFill>
                <a:uFillTx/>
                <a:latin typeface="Garamond"/>
              </a:rPr>
              <a:t>П.Д. Киселёв</a:t>
            </a:r>
            <a:r>
              <a:rPr b="1" lang="ru-RU" sz="2400" spc="-1" strike="noStrike">
                <a:solidFill>
                  <a:srgbClr val="fbfb93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(членГоссовета, министр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государственных имущест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fb93"/>
                </a:solidFill>
                <a:latin typeface="Garamond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1. Введение крест-го самоуправления.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2. Улучшение социального полож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3. Переселение крестьян на свободные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4. Поднятие агротехнического уровня земледелия (картофель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Результат: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недовольство помещиков, «картоф. бунты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bfb93"/>
                </a:solidFill>
                <a:uFillTx/>
                <a:latin typeface="Garamond"/>
              </a:rPr>
              <a:t>Николай </a:t>
            </a:r>
            <a:r>
              <a:rPr b="1" lang="en-US" sz="2000" spc="-1" strike="noStrike" u="sng">
                <a:solidFill>
                  <a:srgbClr val="fbfb93"/>
                </a:solidFill>
                <a:uFillTx/>
                <a:latin typeface="Garamond"/>
              </a:rPr>
              <a:t>II</a:t>
            </a:r>
            <a:r>
              <a:rPr b="1" lang="ru-RU" sz="2000" spc="-1" strike="noStrike">
                <a:solidFill>
                  <a:srgbClr val="fbfb93"/>
                </a:solidFill>
                <a:latin typeface="Garamond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…прикасаться к крепостному праву теперь было бы делом ещё более губительны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51928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Укрепление дворянского сослов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 Запрет на деление земли между наследни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Привилегии детям при поступлении в средние и высшие учебные заве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Повышение имущ-го ценза для участников выборов в органы самоуправ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ост бюрократического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ппара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1801г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 – 15 тысяч чинов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1855г </a:t>
            </a: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– 90 тысяч чиновнико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-----------------------------------------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«Россией правят столоначаль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ки» 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</a:rPr>
              <a:t>     Николай </a:t>
            </a:r>
            <a:r>
              <a:rPr b="1" i="1" lang="en-US" sz="4000" spc="-1" strike="noStrike">
                <a:solidFill>
                  <a:srgbClr val="cc3300"/>
                </a:solidFill>
                <a:latin typeface="Garamond"/>
              </a:rPr>
              <a:t>I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0:18:57Z</dcterms:created>
  <dc:creator>Пользователь</dc:creator>
  <dc:description/>
  <dc:language>en-US</dc:language>
  <cp:lastModifiedBy>Пользователь</cp:lastModifiedBy>
  <dcterms:modified xsi:type="dcterms:W3CDTF">2013-03-09T10:22:15Z</dcterms:modified>
  <cp:revision>10</cp:revision>
  <dc:subject/>
  <dc:title>Внутренняя политика Николая I</dc:title>
</cp:coreProperties>
</file>