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FCD23-DA0E-4F86-BB94-536626CC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852F2-3141-4D49-A79B-1062D8FA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49634-3AC3-4E89-B582-E846061F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B8D9F-D339-40E5-9801-181C210D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E2F2-CD7B-49F9-B333-9DF81556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E3CA-96C6-45F7-93B4-716B13B3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C907-79FF-482C-9B6A-8FDDE1D0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7EE8-B89A-42D1-BEEE-0E58A528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F32B-E9C4-404A-A325-E6FC0847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894C-2CEA-47B2-A3DF-DB07C164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649E-9D4B-4046-BDFB-A20ED7F7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7BE27-AC79-4188-A5F0-0C0E32DA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7326-EF79-4511-A953-A6A01AF5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C32C-AAF1-4C7A-8E0C-5B2EA181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833B-4519-4889-A58A-A942F3DD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62EC-2ACB-4F41-8DCA-0CED00C0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2E35-3E19-426E-9ED8-5D31A7CE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42FB4-39F5-4062-8999-32B8785C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520C4-35AC-4F56-90ED-E15259CC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6682-E7D5-463D-A88F-94CDD494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EB3FC-4028-4D1D-A4EB-EE192C39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4292-D05B-4C6F-A924-64C8D1A9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DC4DB-BF21-4EC4-8493-A49F47FC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EB9D4-1E40-43E7-8E16-20A13AE5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D5C0-B745-4C47-B465-7C15EE5E0E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500E-16C0-41CF-B1F7-F958269BE5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bfb93"/>
                </a:solidFill>
                <a:latin typeface="Garamond"/>
              </a:rPr>
              <a:t>Внутренняя политика</a:t>
            </a:r>
            <a:br>
              <a:rPr sz="6000"/>
            </a:br>
            <a:r>
              <a:rPr b="1" lang="ru-RU" sz="6000" spc="-1" strike="noStrike">
                <a:solidFill>
                  <a:srgbClr val="fbfb93"/>
                </a:solidFill>
                <a:latin typeface="Garamond"/>
              </a:rPr>
              <a:t>Николая </a:t>
            </a:r>
            <a:r>
              <a:rPr b="1" lang="en-US" sz="6000" spc="-1" strike="noStrike">
                <a:solidFill>
                  <a:srgbClr val="fbfb93"/>
                </a:solidFill>
                <a:latin typeface="Garamond"/>
              </a:rPr>
              <a:t>I</a:t>
            </a:r>
            <a:r>
              <a:rPr b="1" lang="ru-RU" sz="6000" spc="-1" strike="noStrike">
                <a:solidFill>
                  <a:srgbClr val="fbfb93"/>
                </a:solidFill>
                <a:latin typeface="Garamond"/>
              </a:rPr>
              <a:t> (1825-1855)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Garamond"/>
              </a:rPr>
              <a:t>ЦЕЛИ:</a:t>
            </a:r>
            <a:r>
              <a:rPr b="1" lang="ru-RU" sz="20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Garamond"/>
              </a:rPr>
              <a:t>1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крепление</a:t>
            </a:r>
            <a:r>
              <a:rPr b="1" lang="ru-RU" sz="3200" spc="-1" strike="noStrike">
                <a:solidFill>
                  <a:srgbClr val="0099cc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ложения дворянст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Garamond"/>
              </a:rPr>
              <a:t>                                      </a:t>
            </a:r>
            <a:r>
              <a:rPr b="1" lang="ru-RU" sz="3200" spc="-1" strike="noStrike">
                <a:solidFill>
                  <a:srgbClr val="cc3300"/>
                </a:solidFill>
                <a:latin typeface="Garamond"/>
              </a:rPr>
              <a:t>2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Борьба против революционной угроз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Garamond"/>
              </a:rPr>
              <a:t>МБОУ Краснозерская СОШ №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Garamond"/>
              </a:rPr>
              <a:t>Шанина Светлана Андреев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                 </a:t>
            </a:r>
            <a:r>
              <a:rPr b="1" lang="ru-RU" sz="5400" spc="-1" strike="noStrike">
                <a:solidFill>
                  <a:srgbClr val="ffcc00"/>
                </a:solidFill>
                <a:latin typeface="Garamond"/>
              </a:rPr>
              <a:t>Николай</a:t>
            </a: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I</a:t>
            </a:r>
            <a:br>
              <a:rPr sz="5400"/>
            </a:br>
            <a:r>
              <a:rPr b="1" lang="ru-RU" sz="5400" spc="-1" strike="noStrike">
                <a:solidFill>
                  <a:srgbClr val="ffcc00"/>
                </a:solidFill>
                <a:latin typeface="Garamond"/>
              </a:rPr>
              <a:t>                 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(1796-1855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здоровый и крепки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нет близких отношен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 братьям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военная подготовка с детства, милитарист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предпочтение к точным и естественным наукам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неприхотлив в быт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суровость к окружающим, жёсткос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243240" cy="28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А.Х.Бенкендорф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(1826г)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- начальник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II-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го Отделения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обственной его императорского величества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канцелярии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 (орган полит. сыска)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- шеф корпуса жандармов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- личный друг императора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- участник Отечественной войн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1874880" cy="214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Garamond"/>
              </a:rPr>
              <a:t>С.С.Уваров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министр народного просвещения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</a:t>
            </a:r>
            <a:r>
              <a:rPr b="0" lang="ru-RU" sz="2800" spc="-1" strike="noStrike">
                <a:solidFill>
                  <a:srgbClr val="fbfb93"/>
                </a:solidFill>
                <a:latin typeface="Garamond"/>
              </a:rPr>
              <a:t>- введение цензурного уста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93"/>
                </a:solidFill>
                <a:latin typeface="Garamond"/>
              </a:rPr>
              <a:t>                                   </a:t>
            </a:r>
            <a:r>
              <a:rPr b="0" lang="ru-RU" sz="2800" spc="-1" strike="noStrike">
                <a:solidFill>
                  <a:srgbClr val="990000"/>
                </a:solidFill>
                <a:latin typeface="Garamond"/>
              </a:rPr>
              <a:t>(«чугунный»)</a:t>
            </a:r>
            <a:r>
              <a:rPr b="0" lang="ru-RU" sz="2800" spc="-1" strike="noStrike">
                <a:solidFill>
                  <a:srgbClr val="fbfb93"/>
                </a:solidFill>
                <a:latin typeface="Garamond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bfb93"/>
                </a:solidFill>
                <a:latin typeface="Garamond"/>
              </a:rPr>
              <a:t>                                                                  </a:t>
            </a:r>
            <a:r>
              <a:rPr b="0" lang="ru-RU" sz="2800" spc="-1" strike="noStrike">
                <a:solidFill>
                  <a:srgbClr val="fbfb93"/>
                </a:solidFill>
                <a:latin typeface="Garamond"/>
              </a:rPr>
              <a:t>- запрет на приём крепостных 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93"/>
                </a:solidFill>
                <a:latin typeface="Garamond"/>
              </a:rPr>
              <a:t>                                   </a:t>
            </a:r>
            <a:r>
              <a:rPr b="0" lang="ru-RU" sz="2800" spc="-1" strike="noStrike">
                <a:solidFill>
                  <a:srgbClr val="fbfb93"/>
                </a:solidFill>
                <a:latin typeface="Garamond"/>
              </a:rPr>
              <a:t>средние и высшие учебн. заве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fb93"/>
                </a:solidFill>
                <a:latin typeface="Garamond"/>
              </a:rPr>
              <a:t>                                                    </a:t>
            </a:r>
            <a:r>
              <a:rPr b="0" lang="ru-RU" sz="2800" spc="-1" strike="noStrike">
                <a:solidFill>
                  <a:srgbClr val="fbfb93"/>
                </a:solidFill>
                <a:latin typeface="Garamond"/>
              </a:rPr>
              <a:t>- провозглашение «теории оф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93"/>
                </a:solidFill>
                <a:latin typeface="Garamond"/>
              </a:rPr>
              <a:t>                                    </a:t>
            </a:r>
            <a:r>
              <a:rPr b="0" lang="ru-RU" sz="2800" spc="-1" strike="noStrike">
                <a:solidFill>
                  <a:srgbClr val="fbfb93"/>
                </a:solidFill>
                <a:latin typeface="Garamond"/>
              </a:rPr>
              <a:t>циальной народности»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</a:t>
            </a:r>
            <a:r>
              <a:rPr b="0" lang="ru-RU" sz="2800" spc="-1" strike="noStrike">
                <a:solidFill>
                  <a:srgbClr val="990000"/>
                </a:solidFill>
                <a:latin typeface="Garamond"/>
              </a:rPr>
              <a:t>самодержав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Garamond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990000"/>
                </a:solidFill>
                <a:latin typeface="Garamond"/>
              </a:rPr>
              <a:t>православ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Garamond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990000"/>
                </a:solidFill>
                <a:latin typeface="Garamond"/>
              </a:rPr>
              <a:t>народ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47644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bfb93"/>
                </a:solidFill>
                <a:latin typeface="Garamond"/>
              </a:rPr>
              <a:t>Составление Свода законов</a:t>
            </a:r>
            <a:br>
              <a:rPr sz="4000"/>
            </a:br>
            <a:r>
              <a:rPr b="1" lang="en-US" sz="4000" spc="-1" strike="noStrike">
                <a:solidFill>
                  <a:srgbClr val="fbfb93"/>
                </a:solidFill>
                <a:latin typeface="Garamond"/>
              </a:rPr>
              <a:t>     Российской импер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М.М.Сперанск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- расположение  по хронолог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сех законов, принятых после 1649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- кодификация законов по областя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ополнения на основе норм зарубеж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ого пра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----------------------------------------------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Garamond"/>
              </a:rPr>
              <a:t>1853г.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– одобрение Госуд. Советом (45 томов)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Garamond"/>
              </a:rPr>
              <a:t>награждён орденом Андрея Первозванног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937200" y="549360"/>
            <a:ext cx="2206800" cy="2506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451640" y="3284640"/>
            <a:ext cx="113364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опытки решения крестьянского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                      вопроса   (1837-1841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1" lang="ru-RU" sz="2400" spc="-1" strike="noStrike" u="sng">
                <a:solidFill>
                  <a:srgbClr val="fbfb93"/>
                </a:solidFill>
                <a:uFillTx/>
                <a:latin typeface="Garamond"/>
              </a:rPr>
              <a:t>П.Д. Киселёв</a:t>
            </a:r>
            <a:r>
              <a:rPr b="1" lang="ru-RU" sz="2400" spc="-1" strike="noStrike">
                <a:solidFill>
                  <a:srgbClr val="fbfb93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bfb93"/>
                </a:solidFill>
                <a:latin typeface="Garamond"/>
              </a:rPr>
              <a:t>(членГоссовета, министр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bfb93"/>
                </a:solidFill>
                <a:latin typeface="Garamond"/>
              </a:rPr>
              <a:t>                                                     </a:t>
            </a:r>
            <a:r>
              <a:rPr b="1" lang="ru-RU" sz="1800" spc="-1" strike="noStrike">
                <a:solidFill>
                  <a:srgbClr val="fbfb93"/>
                </a:solidFill>
                <a:latin typeface="Garamond"/>
              </a:rPr>
              <a:t>государственных имуществ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bfb93"/>
                </a:solidFill>
                <a:latin typeface="Garamond"/>
              </a:rPr>
              <a:t>                                                    </a:t>
            </a:r>
            <a:r>
              <a:rPr b="1" lang="ru-RU" sz="2000" spc="-1" strike="noStrike">
                <a:solidFill>
                  <a:srgbClr val="fbfb93"/>
                </a:solidFill>
                <a:latin typeface="Garamond"/>
              </a:rPr>
              <a:t>1. Введение крест-го самоуправления.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bfb93"/>
                </a:solidFill>
                <a:latin typeface="Garamond"/>
              </a:rPr>
              <a:t>2. Улучшение социального положе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bfb93"/>
                </a:solidFill>
                <a:latin typeface="Garamond"/>
              </a:rPr>
              <a:t>3. Переселение крестьян на свободные земл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bfb93"/>
                </a:solidFill>
                <a:latin typeface="Garamond"/>
              </a:rPr>
              <a:t>4. Поднятие агротехнического уровня земледелия (картофель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bfb93"/>
                </a:solidFill>
                <a:latin typeface="Garamond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Garamond"/>
              </a:rPr>
              <a:t>Результат: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недовольство помещиков, «картоф. бунты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bfb93"/>
                </a:solidFill>
                <a:uFillTx/>
                <a:latin typeface="Garamond"/>
              </a:rPr>
              <a:t>Николай </a:t>
            </a:r>
            <a:r>
              <a:rPr b="1" lang="en-US" sz="2000" spc="-1" strike="noStrike" u="sng">
                <a:solidFill>
                  <a:srgbClr val="fbfb93"/>
                </a:solidFill>
                <a:uFillTx/>
                <a:latin typeface="Garamond"/>
              </a:rPr>
              <a:t>II</a:t>
            </a:r>
            <a:r>
              <a:rPr b="1" lang="ru-RU" sz="2000" spc="-1" strike="noStrike">
                <a:solidFill>
                  <a:srgbClr val="fbfb93"/>
                </a:solidFill>
                <a:latin typeface="Garamond"/>
              </a:rPr>
              <a:t>: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«…прикасаться к крепостному праву теперь было бы делом ещё более губительным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519280" cy="18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Garamond"/>
              </a:rPr>
              <a:t>Укрепление дворянского сослов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. Запрет на деление земли между наследника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2. Привилегии детям при поступлении в средние и высшие учебные завед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3. Повышение имущ-го ценза для участников выборов в органы самоуправл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ост бюрократического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аппарат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</a:rPr>
              <a:t>1801г</a:t>
            </a: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 – 15 тысяч чиновников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</a:rPr>
              <a:t>1855г </a:t>
            </a: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– 90 тысяч чиновников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-----------------------------------------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«Россией правят столоначальн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ки» </a:t>
            </a:r>
            <a:r>
              <a:rPr b="1" i="1" lang="ru-RU" sz="4000" spc="-1" strike="noStrike">
                <a:solidFill>
                  <a:srgbClr val="cc3300"/>
                </a:solidFill>
                <a:latin typeface="Garamond"/>
              </a:rPr>
              <a:t>     Николай </a:t>
            </a:r>
            <a:r>
              <a:rPr b="1" i="1" lang="en-US" sz="4000" spc="-1" strike="noStrike">
                <a:solidFill>
                  <a:srgbClr val="cc3300"/>
                </a:solidFill>
                <a:latin typeface="Garamond"/>
              </a:rPr>
              <a:t>II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0:18:57Z</dcterms:created>
  <dc:creator>Пользователь</dc:creator>
  <dc:description/>
  <dc:language>en-US</dc:language>
  <cp:lastModifiedBy>Пользователь</cp:lastModifiedBy>
  <dcterms:modified xsi:type="dcterms:W3CDTF">2013-03-09T10:22:15Z</dcterms:modified>
  <cp:revision>10</cp:revision>
  <dc:subject/>
  <dc:title>Внутренняя политика Николая I</dc:title>
</cp:coreProperties>
</file>