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A27-8B02-4EC8-BF9E-0EA937FE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99D-7029-4117-A1A9-CE732CE2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9CA-8099-45FC-A465-E2005D9A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4AA-72A8-4DE0-8395-F5AFE6DD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24C-6409-45F2-BB81-BC2F703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44A-B061-4152-9B51-F6590648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A31-7E04-4BA4-A2D6-D7B92612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618-4584-43DE-8143-C6E97E7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98D-E46F-4339-A81A-8084FDAF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724-B0A9-4400-AC41-E2285AF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619-36CB-4EB6-8C64-B40CD6F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E7B-8166-4B12-928A-3F8DAB6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2E8-8CD4-4C80-918B-723C38A9D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а: Общественное движение в годы правления Никола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получить представление о развитии общественно-политической мысли и движения в России в перв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 Особенности общественного движения 30 – 50-х г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 Консерватив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Либераль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 Революционное дви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5. П.Я. Чаад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/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ибералы. Западники. Взгл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оссия должна развиваться по пути Западной Европы: отменить крепостное право, ввести парламент и конститу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оложительно оценивали реформы Петра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 реформы «сверх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Либеральное движение. Славяноф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С. Аксаков  ,  К.С. Аксаков,    братья И.В. И П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Хомя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.Ф. Самари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ц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згля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оссия должна развиваться самостоятельно: отменить крепостное право, восстановить созыв Земских соборов. Идея самобытности русского народа. Отрицательная оценка реформ Петра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I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.               За реформы «сверх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Рисунок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28600" y="1828800"/>
            <a:ext cx="2301840" cy="27255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83" name="Picture 5" descr="Рисунок5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2819520" y="1828800"/>
            <a:ext cx="2273040" cy="2743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. 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) Кружки 20-30-х г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27г. – Братья Крит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1 г. – Н.П. Сунгу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3 г. – Н.В. Станк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834 г. – А.И. Герцен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.П. Ога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гляды.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волюционно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еустройств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Кирилло-Мефодиевское общ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сто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.И. Костомаров, поэт Т.Г. Шевченко – за отмену крепостного права и сословных привилегий. За создание федерации славянских республ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Рисунок7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5800" y="1143000"/>
            <a:ext cx="2065320" cy="28954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87" name="Line 5"/>
          <p:cNvSpPr/>
          <p:nvPr/>
        </p:nvSpPr>
        <p:spPr>
          <a:xfrm flipH="1">
            <a:off x="2895480" y="1905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волюционное движение. В)Утопический соц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.И. Герцен, Н.П. Ога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общи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изма. Гла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чейка социализ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стьянская община.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бождение кресть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иквидацию самодержа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9"/>
          <p:cNvPicPr/>
          <p:nvPr/>
        </p:nvPicPr>
        <p:blipFill>
          <a:blip r:embed="rId1"/>
          <a:stretch/>
        </p:blipFill>
        <p:spPr>
          <a:xfrm>
            <a:off x="228600" y="685800"/>
            <a:ext cx="2035080" cy="25034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91" name="Picture 5" descr="Рисунок10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14600" y="685800"/>
            <a:ext cx="2044800" cy="25146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92" name="Picture 6" descr=""/>
          <p:cNvPicPr/>
          <p:nvPr/>
        </p:nvPicPr>
        <p:blipFill>
          <a:blip r:embed="rId3"/>
          <a:srcRect l="3998" t="0" r="0" b="0"/>
          <a:stretch/>
        </p:blipFill>
        <p:spPr>
          <a:xfrm>
            <a:off x="4952880" y="457200"/>
            <a:ext cx="4191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) В.Г. Белинский (1811-18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ужок «Литературн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1-го нумера» «Письмо к Гогол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итика самодержав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епостн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да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овремен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 Белинс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314784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50292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ион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) Кружок Петрашев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.В. Буташевич – Петраше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.Е. Салтыков, Ф. М. Достоев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писатели), А.Н. Плеще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.Н. Майков (поэ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уждали крепостное прав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державную вла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 подготовке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49 г. кружок разгромлен, 39 петрашевцев арестовано, 21 приговорён к смертной казни, заменённой каторгой и ссыл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8"/>
          <p:cNvPicPr/>
          <p:nvPr/>
        </p:nvPicPr>
        <p:blipFill>
          <a:blip r:embed="rId1"/>
          <a:stretch/>
        </p:blipFill>
        <p:spPr>
          <a:xfrm>
            <a:off x="6324480" y="762120"/>
            <a:ext cx="2567160" cy="33591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 П.Я. Чаадаев (1794 -18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Философические пись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е место в обществе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и занимал П.Я.Чаад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утверждал, что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нимает особое мест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ировой истории, говор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 «духовном застое»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сии, о «национа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довольстве»,что препятствует ее развит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вои идеи он был объявлен сумасшедшим, а его журнал  «Телескоп» был за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11"/>
          <p:cNvPicPr/>
          <p:nvPr/>
        </p:nvPicPr>
        <p:blipFill>
          <a:blip r:embed="rId1"/>
          <a:stretch/>
        </p:blipFill>
        <p:spPr>
          <a:xfrm>
            <a:off x="5867280" y="838080"/>
            <a:ext cx="2849760" cy="36036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принцип образования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братья Аксаковы, Киреевские, Ю.Ф. Самар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Хомя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равославие, самодержавие, наро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Философические письма» напис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.И. Герценом          Б) П.Я. Чаадае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.Г. Белин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орию общинного социализма разработ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.И. Герценом          Б) П.Я. Чаадае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.Г. Белин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) Русско-турецкая война состоялась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1812 – 1814 гг. Б)1826 – 1829 гг.   В)1828 – 182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) Адрианопольский мирный договор был заключё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 1828 г. с Ираном               Б) в 1829 г. с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в 1831 г. с 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) Туркманчайский мирный договор был заключё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 1828 г. с Ираном             Б) в 1829 г. с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в 1831 г. с 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) Причина обострения русско-английских отношений в 3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Недовольство Англии установлением союзнических отношений между Россией и Тур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Недовольство Англии континентальной блока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Недовольство Англии подавлением польского восстания русскими вой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ом   идёт реч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1780 г. в сем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го посланника в Лиссабоне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 гимназическое образование, служил адъютантом  Пав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Отечественной войны 1812г. выполня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е поручения в армии, принял участи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аничном походе и в работе Венского конгр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2 г. был назначен министром иностранных д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845 г. достиг высшего чина – государ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цлера Российской империи. Один из винов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язывания Крымской войны 1853-1856 гг.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олен в отставку императором Александ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общественного движения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0 – 50-х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исторический поворот переживала Россия в 30-50-е гг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опрос стал главным в общественной жизни стр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собенности имело общественное движение в 30-50-е гг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152280"/>
            <a:ext cx="8839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30-е гг. – начало промышленного пере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: переход от аграрного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индустриа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ы о путях развит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52280" y="335268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28600" y="4800600"/>
            <a:ext cx="3352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ерва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819520" y="5867280"/>
            <a:ext cx="3352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волюцио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486400" y="4800600"/>
            <a:ext cx="3352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бер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464832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1905120" y="4343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419720" y="4343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716292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щественное движение в 30 – 50-е гг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685800"/>
          <a:ext cx="8915400" cy="5695920"/>
        </p:xfrm>
        <a:graphic>
          <a:graphicData uri="http://schemas.openxmlformats.org/drawingml/2006/table">
            <a:tbl>
              <a:tblPr/>
              <a:tblGrid>
                <a:gridCol w="533520"/>
                <a:gridCol w="2971800"/>
                <a:gridCol w="2819520"/>
                <a:gridCol w="2590560"/>
              </a:tblGrid>
              <a:tr h="13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взгля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бера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запад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славянофи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олюцио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 Консервативн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С. Уваров        М.П. Погодин         Ф.В. Булг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истр               историк                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в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"/>
          <p:cNvPicPr/>
          <p:nvPr/>
        </p:nvPicPr>
        <p:blipFill>
          <a:blip r:embed="rId1"/>
          <a:stretch/>
        </p:blipFill>
        <p:spPr>
          <a:xfrm>
            <a:off x="3200400" y="533520"/>
            <a:ext cx="2822400" cy="38098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63" name="Picture 5" descr="Рисунок3"/>
          <p:cNvPicPr/>
          <p:nvPr/>
        </p:nvPicPr>
        <p:blipFill>
          <a:blip r:embed="rId2"/>
          <a:stretch/>
        </p:blipFill>
        <p:spPr>
          <a:xfrm>
            <a:off x="6248520" y="533520"/>
            <a:ext cx="2760480" cy="38862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64" name="Picture 6" descr=""/>
          <p:cNvPicPr/>
          <p:nvPr/>
        </p:nvPicPr>
        <p:blipFill>
          <a:blip r:embed="rId3"/>
          <a:srcRect l="10729" t="1918" r="10212" b="12965"/>
          <a:stretch/>
        </p:blipFill>
        <p:spPr>
          <a:xfrm>
            <a:off x="457200" y="533520"/>
            <a:ext cx="2540160" cy="38098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ущность взглядов консерв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еория «официальной народности» - автор С.С.Уваров. Православие, самодержавие и народность – исконные основы русск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Исключительность исторического пути развития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Ничего не менять, охранять и защищать самодержа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362320" y="3733920"/>
            <a:ext cx="43434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офици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С.У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04920" y="5562720"/>
            <a:ext cx="2514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276720" y="5562720"/>
            <a:ext cx="2743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держа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324480" y="5562720"/>
            <a:ext cx="2590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1752480" y="480060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6705720" y="472428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 Либеральное движение. Запад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Д. Кавелин ,          Т.Н. Грановский, С.М. Соловьёв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ист                            истор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В. Анненков, И.С. Тургене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6"/>
          <p:cNvPicPr/>
          <p:nvPr/>
        </p:nvPicPr>
        <p:blipFill>
          <a:blip r:embed="rId1"/>
          <a:stretch/>
        </p:blipFill>
        <p:spPr>
          <a:xfrm>
            <a:off x="228600" y="1600200"/>
            <a:ext cx="2610000" cy="373392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586240" cy="35816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3-01-08T14:40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