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6DF6-EC1B-4CDF-AF93-7B5891A4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368F-240C-4892-A8CC-ECCFCF7C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38D-E337-4A85-A40D-0E425B1D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BB8-6A31-4CA6-8809-7E324D6E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DD0-B74D-42E5-B324-ADEE3DD9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C88-30B8-443F-9AB9-049616B6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1792-968F-40BE-B724-2534B48F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83A2-44CB-4C16-9DD1-83A0F1D4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C2F1-B51D-4964-BE0E-163703EB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261A-4CC2-4373-9C81-FDEB21DD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3B47-B9AB-4544-8A6C-E5566E7B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8172-15B5-4099-826B-2F9173D4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1C87-B072-48CB-BFBB-0D23A38AC9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ема: Общественное движение в годы правления Николая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: получить представление о развитии общественно-политической мысли и движения в России в первой половин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л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. Особенности общественного движения 30 – 50-х г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2. Консервативное дви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3. Либеральное дви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4. Революционное дви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5. П.Я. Чаада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/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Либералы. Западники. Взгля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Россия должна развиваться по пути Западной Европы: отменить крепостное право, ввести парламент и конститу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оложительно оценивали реформы Петра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 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За реформы «сверх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. Либеральное движение. Славяноф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т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С. Аксаков  ,  К.С. Аксаков,    братья И.В. И П.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реевск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С. Хомяк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.Ф. Самарин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блици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згля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Россия должна развиваться самостоятельно: отменить крепостное право, восстановить созыв Земских соборов. Идея самобытности русского народа. Отрицательная оценка реформ Петра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 I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.               За реформы «сверх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Рисунок4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28600" y="1828800"/>
            <a:ext cx="2301840" cy="272556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pic>
        <p:nvPicPr>
          <p:cNvPr id="83" name="Picture 5" descr="Рисунок5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2819520" y="1828800"/>
            <a:ext cx="2273040" cy="274320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4. Революционн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) Кружки 20-30-х гг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827г. – Братья Крит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           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831 г. – Н.П. Сунгу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           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833 г. – Н.В. Станк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           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834 г. – А.И. Герцен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.П. Огарё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гляды. –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еволюционно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                  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ереустройств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) Кирилло-Мефодиевское обще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сто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.И. Костомаров, поэт Т.Г. Шевченко – за отмену крепостного права и сословных привилегий. За создание федерации славянских республ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Рисунок7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85800" y="1143000"/>
            <a:ext cx="2065320" cy="289548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87" name="Line 5"/>
          <p:cNvSpPr/>
          <p:nvPr/>
        </p:nvSpPr>
        <p:spPr>
          <a:xfrm flipH="1">
            <a:off x="2895480" y="19051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еволюционное движение. В)Утопический соц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А.И. Герцен, Н.П. Огарё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ия общин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изма. Гла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чейка социализм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стьянская община. 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бождение крестья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ликвидацию самодержа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Рисунок9"/>
          <p:cNvPicPr/>
          <p:nvPr/>
        </p:nvPicPr>
        <p:blipFill>
          <a:blip r:embed="rId1"/>
          <a:stretch/>
        </p:blipFill>
        <p:spPr>
          <a:xfrm>
            <a:off x="228600" y="685800"/>
            <a:ext cx="2035080" cy="250344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pic>
        <p:nvPicPr>
          <p:cNvPr id="91" name="Picture 5" descr="Рисунок10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514600" y="685800"/>
            <a:ext cx="2044800" cy="251460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pic>
        <p:nvPicPr>
          <p:cNvPr id="92" name="Picture 6" descr=""/>
          <p:cNvPicPr/>
          <p:nvPr/>
        </p:nvPicPr>
        <p:blipFill>
          <a:blip r:embed="rId3"/>
          <a:srcRect l="3998" t="0" r="0" b="0"/>
          <a:stretch/>
        </p:blipFill>
        <p:spPr>
          <a:xfrm>
            <a:off x="4952880" y="457200"/>
            <a:ext cx="4191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еволюционн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Г) В.Г. Белинский (1811-184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ружок «Литературное об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1-го нумера» «Письмо к Гогол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ритика самодержавия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репостни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да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рн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овременн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Г. Белинс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5791320" y="533520"/>
            <a:ext cx="3147840" cy="4038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50292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еволюционн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) Кружок Петрашев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.В. Буташевич – Петрашевск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.Е. Салтыков, Ф. М. Достоевск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(писатели), А.Н. Плещее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.Н. Майков (поэ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суждали крепостное право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амодержавную вла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 подготовке револю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49 г. кружок разгромлен, 39 петрашевцев арестовано, 21 приговорён к смертной казни, заменённой каторгой и ссыл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Рисунок8"/>
          <p:cNvPicPr/>
          <p:nvPr/>
        </p:nvPicPr>
        <p:blipFill>
          <a:blip r:embed="rId1"/>
          <a:stretch/>
        </p:blipFill>
        <p:spPr>
          <a:xfrm>
            <a:off x="6324480" y="762120"/>
            <a:ext cx="2567160" cy="335916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. П.Я. Чаадаев (1794 -185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9917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Философические пись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ое место в обществен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жении занимал П.Я.Чаада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утверждал, что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осс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нимает особое место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ировой истории, говори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 «духовном застое»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оссии, о «националь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амодовольстве»,что препятствует ее развит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свои идеи он был объявлен сумасшедшим, а его журнал  «Телескоп» был закры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Рисунок11"/>
          <p:cNvPicPr/>
          <p:nvPr/>
        </p:nvPicPr>
        <p:blipFill>
          <a:blip r:embed="rId1"/>
          <a:stretch/>
        </p:blipFill>
        <p:spPr>
          <a:xfrm>
            <a:off x="5867280" y="838080"/>
            <a:ext cx="2849760" cy="360360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жите принцип образования 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братья Аксаковы, Киреевские, Ю.Ф. Самар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С. Хомя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равославие, самодержавие, народ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«Философические письма» написа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А.И. Герценом          Б) П.Я. Чаадае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В.Г. Белинс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Теорию общинного социализма разработа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А.И. Герценом          Б) П.Я. Чаадае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В.Г. Белинс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) Русско-турецкая война состоялась 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1812 – 1814 гг. Б)1826 – 1829 гг.   В)1828 – 1829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) Адрианопольский мирный договор был заключё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в 1828 г. с Ираном               Б) в 1829 г. с Тур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в 1831 г. с Поль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) Туркманчайский мирный договор был заключён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в 1828 г. с Ираном             Б) в 1829 г. с Тур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в 1831 г. с Поль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) Причина обострения русско-английских отношений в 30-е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Недовольство Англии установлением союзнических отношений между Россией и Тур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Недовольство Англии континентальной блока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Недовольство Англии подавлением польского восстания русскими войс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ком   идёт реч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лся в 1780 г. в семь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йского посланника в Лиссабоне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л гимназическое образование, служил адъютантом  Пав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я Отечественной войны 1812г. выполня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пломатические поручения в армии, принял участие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аничном походе и в работе Венского конгре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22 г. был назначен министром иностранных д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1845 г. достиг высшего чина – государств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цлера Российской империи. Один из винов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язывания Крымской войны 1853-1856 гг. Бы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олен в отставку императором Александр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 algn="ctr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обенности общественного движения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0 – 50-х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исторический поворот переживала Россия в 30-50-е гг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вопрос стал главным в общественной жизни стра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особенности имело общественное движение в 30-50-е гг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152280" y="152280"/>
            <a:ext cx="88394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30-е гг. – начало промышленного перевор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сии: переход от аграрного об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индустриаль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2280" y="1981080"/>
            <a:ext cx="88394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ы о путях развития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52280" y="3352680"/>
            <a:ext cx="88394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228600" y="4800600"/>
            <a:ext cx="33526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ерватив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2819520" y="5867280"/>
            <a:ext cx="33526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волюцио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5486400" y="4800600"/>
            <a:ext cx="33526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бер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4648320" y="1600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464832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1905120" y="43434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4419720" y="434340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7162920" y="4267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бщественное движение в 30 – 50-е гг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IX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685800"/>
          <a:ext cx="8915400" cy="5695920"/>
        </p:xfrm>
        <a:graphic>
          <a:graphicData uri="http://schemas.openxmlformats.org/drawingml/2006/table">
            <a:tbl>
              <a:tblPr/>
              <a:tblGrid>
                <a:gridCol w="533520"/>
                <a:gridCol w="2971800"/>
                <a:gridCol w="2819520"/>
                <a:gridCol w="2590560"/>
              </a:tblGrid>
              <a:tr h="13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взгля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ерватив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бера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запад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славянофи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волюцион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. Консервативн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4572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С. Уваров        М.П. Погодин         Ф.В. Булга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нистр               историк                    пис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д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в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Рисунок2"/>
          <p:cNvPicPr/>
          <p:nvPr/>
        </p:nvPicPr>
        <p:blipFill>
          <a:blip r:embed="rId1"/>
          <a:stretch/>
        </p:blipFill>
        <p:spPr>
          <a:xfrm>
            <a:off x="3200400" y="533520"/>
            <a:ext cx="2822400" cy="380988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pic>
        <p:nvPicPr>
          <p:cNvPr id="63" name="Picture 5" descr="Рисунок3"/>
          <p:cNvPicPr/>
          <p:nvPr/>
        </p:nvPicPr>
        <p:blipFill>
          <a:blip r:embed="rId2"/>
          <a:stretch/>
        </p:blipFill>
        <p:spPr>
          <a:xfrm>
            <a:off x="6248520" y="533520"/>
            <a:ext cx="2760480" cy="388620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pic>
        <p:nvPicPr>
          <p:cNvPr id="64" name="Picture 6" descr=""/>
          <p:cNvPicPr/>
          <p:nvPr/>
        </p:nvPicPr>
        <p:blipFill>
          <a:blip r:embed="rId3"/>
          <a:srcRect l="10729" t="1918" r="10212" b="12965"/>
          <a:stretch/>
        </p:blipFill>
        <p:spPr>
          <a:xfrm>
            <a:off x="457200" y="533520"/>
            <a:ext cx="2540160" cy="380988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ущность взглядов консерва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Теория «официальной народности» - автор С.С.Уваров. Православие, самодержавие и народность – исконные основы русск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Исключительность исторического пути развития Рос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Ничего не менять, охранять и защищать самодержа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362320" y="3733920"/>
            <a:ext cx="434340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ия официа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д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С.Ув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04920" y="5562720"/>
            <a:ext cx="25146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сла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276720" y="5562720"/>
            <a:ext cx="2743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держа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6324480" y="5562720"/>
            <a:ext cx="2590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д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 flipH="1">
            <a:off x="1752480" y="4800600"/>
            <a:ext cx="60984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4800600" y="5257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6705720" y="4724280"/>
            <a:ext cx="76176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. Либеральное движение. Запад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Д. Кавелин ,          Т.Н. Грановский, С.М. Соловьёв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рист                            истор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В. Анненков, И.С. Тургенев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е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Рисунок6"/>
          <p:cNvPicPr/>
          <p:nvPr/>
        </p:nvPicPr>
        <p:blipFill>
          <a:blip r:embed="rId1"/>
          <a:stretch/>
        </p:blipFill>
        <p:spPr>
          <a:xfrm>
            <a:off x="228600" y="1600200"/>
            <a:ext cx="2610000" cy="373392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4038480" y="2895480"/>
            <a:ext cx="2586240" cy="358164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нтина</cp:lastModifiedBy>
  <dcterms:modified xsi:type="dcterms:W3CDTF">2013-01-08T14:40:4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