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DB0-2118-4583-A45C-DF67C8D5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7C6-785A-4425-AC38-82A76BA1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0B1-68A7-4C25-B46D-6C627D42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FD6-8478-40E3-B21D-D74EAC99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D1E5-72A3-4945-8A0A-5BF96D96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D5BD-B308-45A1-9656-ACB9104B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FB8-F56C-4C15-A58C-FBC1D14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52CF-A815-4127-8E53-083B27E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4EA2-1417-4881-B0C6-23B248B6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6E00-657D-4C3B-B2A6-98DB9456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740C-1FE6-42FA-AAF5-EE44EAF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091-20E3-4747-B921-FA49C54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036C-BA5D-4457-BD01-649F4AF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C295-52B3-4940-8A5C-D234947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2E4C-7204-4FBC-8C13-6C1E094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D02D-E3AB-4326-B658-111BB555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C485-94ED-40A4-BCBF-16732593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A3C-51DE-4240-AB4F-B87C43C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3C4-CB54-4EFC-8860-63CF4C91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C94-1B44-4B26-AEDA-0214B557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25B-609B-4F2D-B307-C5B7EDB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F0B-D5FD-441E-B15A-4684514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C7D-F29F-4362-AD4D-4B7525B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2A7-A5FB-4619-AAC5-7A65CDC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84E-40E0-4E17-843E-B1BFF0825D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EE21-8212-4961-917B-3CA7B75C08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otahaber.com/newpics/fotogaleri/act/1433_7477_16092011_4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upload.wikimedia.org/wikipedia/commons/3/37/Floppydisk_90mm%283.5inch%29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zvestia64.ru/images/uploads/aRYSGXXPODU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iki.iteach.ru/images/f/ff/Up72889_1713169990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265.imageshack.us/img265/4483/dvddisc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ssfisher.ru/?eba=store-data-on-dvd-MIu7bOxNl41pr/1uj_5CGEP5SRNm/oWp2ezK2YVBSzbN7dWTfhJ9CbgwuRkBuA6NcApvUL6giA37TURz0pd2RwwB0RW/rQcafw==zk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643120"/>
            <a:ext cx="9001080" cy="943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Носители информац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1"/>
          <p:cNvSpPr/>
          <p:nvPr/>
        </p:nvSpPr>
        <p:spPr>
          <a:xfrm>
            <a:off x="2357280" y="428760"/>
            <a:ext cx="5572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Для с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214200" y="107172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ин учебник информатики 5 класса весит 310 г.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дискету умещается 2-3 книги, весом в 1 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CDдиск умещается 1500 книг,·весом в 465 к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флэшку умещается 60 тыс книг,·весом в 19 тон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ЖМД умещается 6 млн книг, весом 2 тыс тон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Ответьте на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214200" y="10717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 пришлось отказаться от дискет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142920" y="164304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ем главное отличи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W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142920" y="22860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ем отличие межд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M, R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W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142920" y="29289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чего нужен ЖМД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214200" y="357192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 флэш-накопители пользуются популярностью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858160" cy="10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самый первый инструмент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5357880" y="1214280"/>
            <a:ext cx="18572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амя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142920" y="1785960"/>
            <a:ext cx="88581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другие известные вам носители  информации прошлого врем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85840" y="292896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наскальные роспис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214200" y="3500280"/>
            <a:ext cx="47865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стены храм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214200" y="4071960"/>
            <a:ext cx="4786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глиняные дощеч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285840" y="471492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осу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29120" y="3000240"/>
            <a:ext cx="47865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апиру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4929120" y="3571920"/>
            <a:ext cx="4786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ерга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929120" y="4214880"/>
            <a:ext cx="4786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шкуры живот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5000760" y="471492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грампластин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2071800" y="521496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аудиокасс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5072040" y="521496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видеокасс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цифровые носите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500040" y="142884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Флоппи-диски (диске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500040" y="2143080"/>
            <a:ext cx="4000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Лазерные дис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00040" y="2786040"/>
            <a:ext cx="6715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Жесткий магнитный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500040" y="3429000"/>
            <a:ext cx="6715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Flash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-накопит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Флоппи-диски (диске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357120" y="1071720"/>
            <a:ext cx="807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тативный носитель информации, появившийся в 1967 году используемый для многократной записи и хранения данных, представляющий собой помещённый в защитный пластиковый корпус диск, покрытый ферримагнитным слоем. Информация считывается в специальном дисководе. Информационный объем дискеты достигает 1,44 М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2" descr="http://www.rotahaber.com/newpics/fotogaleri/act/1433_7477_16092011_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765600"/>
            <a:ext cx="3571920" cy="3092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File:Floppydisk 90mm(3.5inch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71760" y="3822840"/>
            <a:ext cx="3000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азерный диск С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10717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птический носитель информации, разработанный             в 1979г,  в виде пластикового диска с отверстием в центре, процесс записи и считывания информации которого осуществляется при помощи лазера. Вместимост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а до 700 М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http://www.izvestia64.ru/images/uploads/aRYSGXXPOD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3000240"/>
            <a:ext cx="3286080" cy="328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iki.iteach.ru/images/f/ff/Up72889_1713169990.jpg">
            <a:hlinkClick r:id="rId3"/>
          </p:cNvPr>
          <p:cNvPicPr/>
          <p:nvPr/>
        </p:nvPicPr>
        <p:blipFill>
          <a:blip r:embed="rId4"/>
          <a:srcRect l="0" t="5452" r="0" b="10034"/>
          <a:stretch/>
        </p:blipFill>
        <p:spPr>
          <a:xfrm>
            <a:off x="1428840" y="350028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азерный диск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DW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357120" y="107172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ифровой многоцелевой дис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тический носитель информации, разработанный в 1996г,  в виде пластикового диска с отверстием в центре, процесс записи и считывания информации которого осуществляется при помощи лазера. Вместимост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W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а до 17 Г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2" descr="http://img265.imageshack.us/img265/4483/dvddis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33577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russfisher.ru/?eba=store-data-on-dvd-MIu7bOxNl41pr/1uj_5CGEP5SRNm/oWp2ezK2YVBSzbN7dWTfhJ9CbgwuRkBuA6NcApvUL6giA37TURz0pd2RwwB0RW/rQcafw==zk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3786120"/>
            <a:ext cx="2521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2714760" y="428760"/>
            <a:ext cx="3286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азерный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1357200" y="1285920"/>
            <a:ext cx="3286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mic Sans MS"/>
              </a:rPr>
              <a:t>С</a:t>
            </a: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d0d0d"/>
                </a:solidFill>
                <a:latin typeface="Comic Sans MS"/>
              </a:rPr>
              <a:t>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5214960" y="1285920"/>
            <a:ext cx="3286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DWD </a:t>
            </a:r>
            <a:r>
              <a:rPr b="0" lang="ru-RU" sz="3200" spc="-1" strike="noStrike">
                <a:solidFill>
                  <a:srgbClr val="0d0d0d"/>
                </a:solidFill>
                <a:latin typeface="Comic Sans MS"/>
              </a:rPr>
              <a:t>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1285920" y="2357280"/>
            <a:ext cx="1214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4143240" y="2357280"/>
            <a:ext cx="1214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6643800" y="2357280"/>
            <a:ext cx="1214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R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285840" y="30718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диск только с возможностью чт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12"/>
          <p:cNvSpPr/>
          <p:nvPr/>
        </p:nvSpPr>
        <p:spPr>
          <a:xfrm>
            <a:off x="3286080" y="3000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к с возможностью чтения однократно занесённой на них информ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Прямоугольник 13"/>
          <p:cNvSpPr/>
          <p:nvPr/>
        </p:nvSpPr>
        <p:spPr>
          <a:xfrm>
            <a:off x="6072120" y="30002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к с возможностью чтения, записи и перезаписи  информ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Прямая со стрелкой 15"/>
          <p:cNvCxnSpPr/>
          <p:nvPr/>
        </p:nvCxnSpPr>
        <p:spPr>
          <a:xfrm flipH="1">
            <a:off x="2571120" y="856080"/>
            <a:ext cx="500760" cy="4294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92" name="Прямая со стрелкой 17"/>
          <p:cNvCxnSpPr/>
          <p:nvPr/>
        </p:nvCxnSpPr>
        <p:spPr>
          <a:xfrm>
            <a:off x="5357880" y="856800"/>
            <a:ext cx="357840" cy="5007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193" name="Правая фигурная скобка 20"/>
          <p:cNvSpPr/>
          <p:nvPr/>
        </p:nvSpPr>
        <p:spPr>
          <a:xfrm rot="5400000">
            <a:off x="4035960" y="-535680"/>
            <a:ext cx="500040" cy="5286240"/>
          </a:xfrm>
          <a:custGeom>
            <a:avLst/>
            <a:gdLst>
              <a:gd name="textAreaLeft" fmla="*/ 0 w 500040"/>
              <a:gd name="textAreaRight" fmla="*/ 180360 w 500040"/>
              <a:gd name="textAreaTop" fmla="*/ 169560 h 5286240"/>
              <a:gd name="textAreaBottom" fmla="*/ 51166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8"/>
                  <a:pt x="10800" y="2216"/>
                </a:cubicBezTo>
                <a:lnTo>
                  <a:pt x="10800" y="8495"/>
                </a:lnTo>
                <a:cubicBezTo>
                  <a:pt x="10800" y="9603"/>
                  <a:pt x="16200" y="10711"/>
                  <a:pt x="21600" y="10711"/>
                </a:cubicBezTo>
                <a:cubicBezTo>
                  <a:pt x="16200" y="10711"/>
                  <a:pt x="10800" y="11819"/>
                  <a:pt x="10800" y="12927"/>
                </a:cubicBezTo>
                <a:lnTo>
                  <a:pt x="10800" y="19384"/>
                </a:lnTo>
                <a:cubicBezTo>
                  <a:pt x="10800" y="20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Жесткий магнитный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оугольник 7"/>
          <p:cNvSpPr/>
          <p:nvPr/>
        </p:nvSpPr>
        <p:spPr>
          <a:xfrm>
            <a:off x="357120" y="10717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 компьютерном сленг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винче́стер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— запоминающее устройство, основанное на принципе магнитной записи. Первые такие диски появились 1956 г. Является основным накопителем данных в большинстве компьютеров. Вместимость современных ЖМД достигает 1 и более Тб, это 1024 Гб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" descr="http://image.minoc.com/zd_images/2002/26/010323_caviar.jpg"/>
          <p:cNvPicPr/>
          <p:nvPr/>
        </p:nvPicPr>
        <p:blipFill>
          <a:blip r:embed="rId1"/>
          <a:stretch/>
        </p:blipFill>
        <p:spPr>
          <a:xfrm>
            <a:off x="1714680" y="3571920"/>
            <a:ext cx="3214440" cy="3011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s017.radikal.ru/i420/1202/f6/6f7d64cf609c.jpg"/>
          <p:cNvPicPr/>
          <p:nvPr/>
        </p:nvPicPr>
        <p:blipFill>
          <a:blip r:embed="rId2"/>
          <a:srcRect l="0" t="12768" r="0" b="0"/>
          <a:stretch/>
        </p:blipFill>
        <p:spPr>
          <a:xfrm>
            <a:off x="5214960" y="3571920"/>
            <a:ext cx="33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Flash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-накопит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Прямоугольник 7"/>
          <p:cNvSpPr/>
          <p:nvPr/>
        </p:nvSpPr>
        <p:spPr>
          <a:xfrm>
            <a:off x="357120" y="107172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запоминающее устройство, использующее в качестве носителя флэш-память и подключаемое к компьютеру или иному считывающему устройству по интерфейсу USB. Открыта была такая память еще в 1984 году, в свет флэш-память вышла в 1989, а современные типы памяти  в 2006 году. Информационная емкость до 32 Г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2" descr="http://e96.ru/images/catalog/full2/9/92343/a7497e870d95bdda3cb63a2c3f1c57d0.jpg"/>
          <p:cNvPicPr/>
          <p:nvPr/>
        </p:nvPicPr>
        <p:blipFill>
          <a:blip r:embed="rId1"/>
          <a:stretch/>
        </p:blipFill>
        <p:spPr>
          <a:xfrm>
            <a:off x="2143080" y="3643200"/>
            <a:ext cx="2428920" cy="2962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motivs.lv/images/Memory/SiliconPower_Ultima110_3in1g.jpg"/>
          <p:cNvPicPr/>
          <p:nvPr/>
        </p:nvPicPr>
        <p:blipFill>
          <a:blip r:embed="rId2"/>
          <a:stretch/>
        </p:blipFill>
        <p:spPr>
          <a:xfrm>
            <a:off x="5072040" y="34290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9:11:38Z</dcterms:created>
  <dc:creator>Оксана</dc:creator>
  <dc:description/>
  <dc:language>en-US</dc:language>
  <cp:lastModifiedBy>ДОМ</cp:lastModifiedBy>
  <dcterms:modified xsi:type="dcterms:W3CDTF">2012-11-14T08:31:13Z</dcterms:modified>
  <cp:revision>86</cp:revision>
  <dc:subject/>
  <dc:title>Действия с информацией</dc:title>
</cp:coreProperties>
</file>