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860-2C18-4A7F-BED8-321B164C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768-5107-4602-87AE-544193F4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F0F-93F4-4AD0-AC15-BA5E560F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5DE-0F5D-4969-86FB-96A84CAB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4904-1369-42A9-B991-AA2C24F2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493A-9604-43C4-ACF0-284A3FF1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CD9B-C78C-4C35-9F40-341DB20C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A161-5945-46A9-929D-39064800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D2E1-0A60-489B-AC42-5DD5EA80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2983-020C-49EE-9305-2F271DBB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7806-B7D2-47B0-AC49-5123B781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295-6188-4A78-82C4-B1A9FFBF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1D4F-5AE9-4A93-932F-4B0980B5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D1C6-2C27-4248-9914-8F39D10B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758E-F1B6-4241-B71E-BE86DE45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8B90-24BC-4BD1-A965-32FDD998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FBCE-842A-4174-9EEE-4D41E117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1DD-64FB-4802-BC20-A7C27117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EEF-5CE9-4C95-B46D-CC84ADB2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F71-BCF8-49E8-B76D-A5EF0EE7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B7B-F6C6-47C9-91E4-E4AED823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A3F-A97B-4376-A9F9-D8ABD7E3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629-38DD-46AB-A73B-79F33776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A1F-047D-449B-B99E-BD5E71F0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F669-08AE-41E3-89F8-5F3F27B44C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FCB1-786D-4BCD-868C-57B8C74C8C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otahaber.com/newpics/fotogaleri/act/1433_7477_16092011_4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upload.wikimedia.org/wikipedia/commons/3/37/Floppydisk_90mm%283.5inch%29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zvestia64.ru/images/uploads/aRYSGXXPODU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iki.iteach.ru/images/f/ff/Up72889_1713169990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265.imageshack.us/img265/4483/dvddisc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russfisher.ru/?eba=store-data-on-dvd-MIu7bOxNl41pr/1uj_5CGEP5SRNm/oWp2ezK2YVBSzbN7dWTfhJ9CbgwuRkBuA6NcApvUL6giA37TURz0pd2RwwB0RW/rQcafw==zka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2643120"/>
            <a:ext cx="9001080" cy="943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omic Sans MS"/>
              </a:rPr>
              <a:t>Носители информаци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Заголовок 1"/>
          <p:cNvSpPr/>
          <p:nvPr/>
        </p:nvSpPr>
        <p:spPr>
          <a:xfrm>
            <a:off x="2357280" y="428760"/>
            <a:ext cx="5572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Для с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214200" y="107172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ин учебник информатики 5 класса весит 310 г.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·  на дискету умещается 2-3 книги, весом в 1 к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·  на CDдиск умещается 1500 книг,·весом в 465 к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·  на флэшку умещается 60 тыс книг,·весом в 19 тон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·  на ЖМД умещается 6 млн книг, весом 2 тыс тон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Заголовок 1"/>
          <p:cNvSpPr/>
          <p:nvPr/>
        </p:nvSpPr>
        <p:spPr>
          <a:xfrm>
            <a:off x="2000160" y="42876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Ответьте на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214200" y="107172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ему пришлось отказаться от дискет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142920" y="164304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чем главное отличи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W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иск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Прямоугольник 6"/>
          <p:cNvSpPr/>
          <p:nvPr/>
        </p:nvSpPr>
        <p:spPr>
          <a:xfrm>
            <a:off x="142920" y="22860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чем отличие межд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M, R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W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иск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142920" y="292896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чего нужен ЖМД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214200" y="357192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ему флэш-накопители пользуются популярностью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858160" cy="102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овите самый первый инструмент хран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5357880" y="1214280"/>
            <a:ext cx="18572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амя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142920" y="1785960"/>
            <a:ext cx="885816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овите другие известные вам носители  информации прошлого врем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285840" y="2928960"/>
            <a:ext cx="4786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наскальные роспис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Заголовок 1"/>
          <p:cNvSpPr/>
          <p:nvPr/>
        </p:nvSpPr>
        <p:spPr>
          <a:xfrm>
            <a:off x="214200" y="3500280"/>
            <a:ext cx="47865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стены храм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Заголовок 1"/>
          <p:cNvSpPr/>
          <p:nvPr/>
        </p:nvSpPr>
        <p:spPr>
          <a:xfrm>
            <a:off x="214200" y="4071960"/>
            <a:ext cx="4786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глиняные дощеч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285840" y="4714920"/>
            <a:ext cx="4786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осу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4929120" y="3000240"/>
            <a:ext cx="47865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апиру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Заголовок 1"/>
          <p:cNvSpPr/>
          <p:nvPr/>
        </p:nvSpPr>
        <p:spPr>
          <a:xfrm>
            <a:off x="4929120" y="3571920"/>
            <a:ext cx="4786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ергам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4929120" y="4214880"/>
            <a:ext cx="4786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шкуры живот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5000760" y="4714920"/>
            <a:ext cx="4786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грампластин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2071800" y="5214960"/>
            <a:ext cx="4786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аудиокасс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5072040" y="5214960"/>
            <a:ext cx="4786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видеокасс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10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овите цифровые носите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500040" y="142884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Флоппи-диски (диске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500040" y="2143080"/>
            <a:ext cx="40006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Лазерные дис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500040" y="2786040"/>
            <a:ext cx="67150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Жесткий магнитный дис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Заголовок 1"/>
          <p:cNvSpPr/>
          <p:nvPr/>
        </p:nvSpPr>
        <p:spPr>
          <a:xfrm>
            <a:off x="500040" y="3429000"/>
            <a:ext cx="6715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Flash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-накопит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Заголовок 1"/>
          <p:cNvSpPr/>
          <p:nvPr/>
        </p:nvSpPr>
        <p:spPr>
          <a:xfrm>
            <a:off x="2000160" y="42876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Флоппи-диски (диске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Прямоугольник 7"/>
          <p:cNvSpPr/>
          <p:nvPr/>
        </p:nvSpPr>
        <p:spPr>
          <a:xfrm>
            <a:off x="357120" y="1071720"/>
            <a:ext cx="807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ртативный носитель информации, появившийся в 1967 году используемый для многократной записи и хранения данных, представляющий собой помещённый в защитный пластиковый корпус диск, покрытый ферримагнитным слоем. Информация считывается в специальном дисководе. Информационный объем дискеты достигает 1,44 М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2" descr="http://www.rotahaber.com/newpics/fotogaleri/act/1433_7477_16092011_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765600"/>
            <a:ext cx="3571920" cy="3092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File:Floppydisk 90mm(3.5inch)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71760" y="3822840"/>
            <a:ext cx="30002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1"/>
          <p:cNvSpPr/>
          <p:nvPr/>
        </p:nvSpPr>
        <p:spPr>
          <a:xfrm>
            <a:off x="2000160" y="42876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Лазерный диск С</a:t>
            </a: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57120" y="107172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птический носитель информации, разработанный             в 1979г,  в виде пластикового диска с отверстием в центре, процесс записи и считывания информации которого осуществляется при помощи лазера. Вместимость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иска до 700 М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" descr="http://www.izvestia64.ru/images/uploads/aRYSGXXPODU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7880" y="3000240"/>
            <a:ext cx="3286080" cy="3286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wiki.iteach.ru/images/f/ff/Up72889_1713169990.jpg">
            <a:hlinkClick r:id="rId3"/>
          </p:cNvPr>
          <p:cNvPicPr/>
          <p:nvPr/>
        </p:nvPicPr>
        <p:blipFill>
          <a:blip r:embed="rId4"/>
          <a:srcRect l="0" t="5452" r="0" b="10034"/>
          <a:stretch/>
        </p:blipFill>
        <p:spPr>
          <a:xfrm>
            <a:off x="1428840" y="3500280"/>
            <a:ext cx="3500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Заголовок 1"/>
          <p:cNvSpPr/>
          <p:nvPr/>
        </p:nvSpPr>
        <p:spPr>
          <a:xfrm>
            <a:off x="2000160" y="42876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Лазерный диск </a:t>
            </a: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DW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Прямоугольник 7"/>
          <p:cNvSpPr/>
          <p:nvPr/>
        </p:nvSpPr>
        <p:spPr>
          <a:xfrm>
            <a:off x="357120" y="107172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цифровой многоцелевой дис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птический носитель информации, разработанный в 1996г,  в виде пластикового диска с отверстием в центре, процесс записи и считывания информации которого осуществляется при помощи лазера. Вместимость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W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иска до 17 Г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2" descr="http://img265.imageshack.us/img265/4483/dvddis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335772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russfisher.ru/?eba=store-data-on-dvd-MIu7bOxNl41pr/1uj_5CGEP5SRNm/oWp2ezK2YVBSzbN7dWTfhJ9CbgwuRkBuA6NcApvUL6giA37TURz0pd2RwwB0RW/rQcafw==zk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3786120"/>
            <a:ext cx="2521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1"/>
          <p:cNvSpPr/>
          <p:nvPr/>
        </p:nvSpPr>
        <p:spPr>
          <a:xfrm>
            <a:off x="2714760" y="428760"/>
            <a:ext cx="3286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Лазерный дис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Заголовок 1"/>
          <p:cNvSpPr/>
          <p:nvPr/>
        </p:nvSpPr>
        <p:spPr>
          <a:xfrm>
            <a:off x="1357200" y="1285920"/>
            <a:ext cx="3286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omic Sans MS"/>
              </a:rPr>
              <a:t>С</a:t>
            </a: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D</a:t>
            </a:r>
            <a:r>
              <a:rPr b="0" lang="ru-RU" sz="3200" spc="-1" strike="noStrike">
                <a:solidFill>
                  <a:srgbClr val="0d0d0d"/>
                </a:solidFill>
                <a:latin typeface="Comic Sans MS"/>
              </a:rPr>
              <a:t> дис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Заголовок 1"/>
          <p:cNvSpPr/>
          <p:nvPr/>
        </p:nvSpPr>
        <p:spPr>
          <a:xfrm>
            <a:off x="5214960" y="1285920"/>
            <a:ext cx="3286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DWD </a:t>
            </a:r>
            <a:r>
              <a:rPr b="0" lang="ru-RU" sz="3200" spc="-1" strike="noStrike">
                <a:solidFill>
                  <a:srgbClr val="0d0d0d"/>
                </a:solidFill>
                <a:latin typeface="Comic Sans MS"/>
              </a:rPr>
              <a:t>дис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Заголовок 1"/>
          <p:cNvSpPr/>
          <p:nvPr/>
        </p:nvSpPr>
        <p:spPr>
          <a:xfrm>
            <a:off x="1285920" y="2357280"/>
            <a:ext cx="1214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R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4143240" y="2357280"/>
            <a:ext cx="1214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6643800" y="2357280"/>
            <a:ext cx="1214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R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285840" y="30718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диск только с возможностью чт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Прямоугольник 12"/>
          <p:cNvSpPr/>
          <p:nvPr/>
        </p:nvSpPr>
        <p:spPr>
          <a:xfrm>
            <a:off x="3286080" y="300024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иск с возможностью чтения однократно занесённой на них информац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Прямоугольник 13"/>
          <p:cNvSpPr/>
          <p:nvPr/>
        </p:nvSpPr>
        <p:spPr>
          <a:xfrm>
            <a:off x="6072120" y="300024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иск с возможностью чтения, записи и перезаписи  информац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1" name="Прямая со стрелкой 15"/>
          <p:cNvCxnSpPr/>
          <p:nvPr/>
        </p:nvCxnSpPr>
        <p:spPr>
          <a:xfrm flipH="1">
            <a:off x="2571120" y="856080"/>
            <a:ext cx="500760" cy="42948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92" name="Прямая со стрелкой 17"/>
          <p:cNvCxnSpPr/>
          <p:nvPr/>
        </p:nvCxnSpPr>
        <p:spPr>
          <a:xfrm>
            <a:off x="5357880" y="856800"/>
            <a:ext cx="357840" cy="5007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193" name="Правая фигурная скобка 20"/>
          <p:cNvSpPr/>
          <p:nvPr/>
        </p:nvSpPr>
        <p:spPr>
          <a:xfrm rot="5400000">
            <a:off x="4035960" y="-535680"/>
            <a:ext cx="500040" cy="5286240"/>
          </a:xfrm>
          <a:custGeom>
            <a:avLst/>
            <a:gdLst>
              <a:gd name="textAreaLeft" fmla="*/ 0 w 500040"/>
              <a:gd name="textAreaRight" fmla="*/ 180360 w 500040"/>
              <a:gd name="textAreaTop" fmla="*/ 169560 h 5286240"/>
              <a:gd name="textAreaBottom" fmla="*/ 5116680 h 528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08"/>
                  <a:pt x="10800" y="2216"/>
                </a:cubicBezTo>
                <a:lnTo>
                  <a:pt x="10800" y="8495"/>
                </a:lnTo>
                <a:cubicBezTo>
                  <a:pt x="10800" y="9603"/>
                  <a:pt x="16200" y="10711"/>
                  <a:pt x="21600" y="10711"/>
                </a:cubicBezTo>
                <a:cubicBezTo>
                  <a:pt x="16200" y="10711"/>
                  <a:pt x="10800" y="11819"/>
                  <a:pt x="10800" y="12927"/>
                </a:cubicBezTo>
                <a:lnTo>
                  <a:pt x="10800" y="19384"/>
                </a:lnTo>
                <a:cubicBezTo>
                  <a:pt x="10800" y="204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Заголовок 1"/>
          <p:cNvSpPr/>
          <p:nvPr/>
        </p:nvSpPr>
        <p:spPr>
          <a:xfrm>
            <a:off x="2000160" y="42876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Жесткий магнитный дис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Прямоугольник 7"/>
          <p:cNvSpPr/>
          <p:nvPr/>
        </p:nvSpPr>
        <p:spPr>
          <a:xfrm>
            <a:off x="357120" y="107172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в компьютерном сленге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«винче́стер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— запоминающее устройство, основанное на принципе магнитной записи. Первые такие диски появились 1956 г. Является основным накопителем данных в большинстве компьютеров. Вместимость современных ЖМД достигает 1 и более Тб, это 1024 Гб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2" descr="http://image.minoc.com/zd_images/2002/26/010323_caviar.jpg"/>
          <p:cNvPicPr/>
          <p:nvPr/>
        </p:nvPicPr>
        <p:blipFill>
          <a:blip r:embed="rId1"/>
          <a:stretch/>
        </p:blipFill>
        <p:spPr>
          <a:xfrm>
            <a:off x="1714680" y="3571920"/>
            <a:ext cx="3214440" cy="3011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s017.radikal.ru/i420/1202/f6/6f7d64cf609c.jpg"/>
          <p:cNvPicPr/>
          <p:nvPr/>
        </p:nvPicPr>
        <p:blipFill>
          <a:blip r:embed="rId2"/>
          <a:srcRect l="0" t="12768" r="0" b="0"/>
          <a:stretch/>
        </p:blipFill>
        <p:spPr>
          <a:xfrm>
            <a:off x="5214960" y="3571920"/>
            <a:ext cx="3357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Заголовок 1"/>
          <p:cNvSpPr/>
          <p:nvPr/>
        </p:nvSpPr>
        <p:spPr>
          <a:xfrm>
            <a:off x="2000160" y="428760"/>
            <a:ext cx="5572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Flash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-накопит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Прямоугольник 7"/>
          <p:cNvSpPr/>
          <p:nvPr/>
        </p:nvSpPr>
        <p:spPr>
          <a:xfrm>
            <a:off x="357120" y="1071720"/>
            <a:ext cx="850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запоминающее устройство, использующее в качестве носителя флэш-память и подключаемое к компьютеру или иному считывающему устройству по интерфейсу USB. Открыта была такая память еще в 1984 году, в свет флэш-память вышла в 1989, а современные типы памяти  в 2006 году. Информационная емкость до 32 Г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2" descr="http://e96.ru/images/catalog/full2/9/92343/a7497e870d95bdda3cb63a2c3f1c57d0.jpg"/>
          <p:cNvPicPr/>
          <p:nvPr/>
        </p:nvPicPr>
        <p:blipFill>
          <a:blip r:embed="rId1"/>
          <a:stretch/>
        </p:blipFill>
        <p:spPr>
          <a:xfrm>
            <a:off x="2143080" y="3643200"/>
            <a:ext cx="2428920" cy="2962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motivs.lv/images/Memory/SiliconPower_Ultima110_3in1g.jpg"/>
          <p:cNvPicPr/>
          <p:nvPr/>
        </p:nvPicPr>
        <p:blipFill>
          <a:blip r:embed="rId2"/>
          <a:stretch/>
        </p:blipFill>
        <p:spPr>
          <a:xfrm>
            <a:off x="5072040" y="342900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9:11:38Z</dcterms:created>
  <dc:creator>Оксана</dc:creator>
  <dc:description/>
  <dc:language>en-US</dc:language>
  <cp:lastModifiedBy>ДОМ</cp:lastModifiedBy>
  <dcterms:modified xsi:type="dcterms:W3CDTF">2012-11-14T08:31:13Z</dcterms:modified>
  <cp:revision>86</cp:revision>
  <dc:subject/>
  <dc:title>Действия с информацией</dc:title>
</cp:coreProperties>
</file>