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wmf" ContentType="image/x-wmf"/>
  <Override PartName="/ppt/media/image26.gif" ContentType="image/gif"/>
  <Override PartName="/ppt/media/image21.png" ContentType="image/png"/>
  <Override PartName="/ppt/media/image20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28.gif" ContentType="image/gif"/>
  <Override PartName="/ppt/media/image16.wmf" ContentType="image/x-wmf"/>
  <Override PartName="/ppt/media/image8.png" ContentType="image/png"/>
  <Override PartName="/ppt/media/image30.gif" ContentType="image/gif"/>
  <Override PartName="/ppt/media/image29.gif" ContentType="image/gif"/>
  <Override PartName="/ppt/media/image9.png" ContentType="image/png"/>
  <Override PartName="/ppt/media/image31.gif" ContentType="image/gif"/>
  <Override PartName="/ppt/media/image34.png" ContentType="image/png"/>
  <Override PartName="/ppt/media/image13.png" ContentType="image/png"/>
  <Override PartName="/ppt/media/image33.gif" ContentType="image/gif"/>
  <Override PartName="/ppt/media/image35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2.gif" ContentType="image/gif"/>
  <Override PartName="/ppt/media/image19.jpeg" ContentType="image/jpeg"/>
  <Override PartName="/ppt/media/image2.gif" ContentType="image/gif"/>
  <Override PartName="/ppt/media/image18.png" ContentType="image/png"/>
  <Override PartName="/ppt/media/image25.gif" ContentType="image/gif"/>
  <Override PartName="/ppt/media/image1.jpeg" ContentType="image/jpeg"/>
  <Override PartName="/ppt/media/image10.png" ContentType="image/png"/>
  <Override PartName="/ppt/media/image14.png" ContentType="image/png"/>
  <Override PartName="/ppt/media/image1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4" y="0"/>
                </a:moveTo>
                <a:arcTo wR="4" hR="4" stAng="16200000" swAng="-5400000"/>
                <a:lnTo>
                  <a:pt x="0" y="31549"/>
                </a:lnTo>
                <a:arcTo wR="4" hR="4" stAng="10800000" swAng="-5400000"/>
                <a:lnTo>
                  <a:pt x="21596" y="315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4" y="0"/>
                </a:moveTo>
                <a:arcTo wR="4" hR="4" stAng="16200000" swAng="-5400000"/>
                <a:lnTo>
                  <a:pt x="0" y="31549"/>
                </a:lnTo>
                <a:arcTo wR="4" hR="4" stAng="10800000" swAng="-5400000"/>
                <a:lnTo>
                  <a:pt x="21596" y="315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7280" y="755640"/>
            <a:ext cx="495756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56568553-C344-4BA1-B65E-9A9047EE7E3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EC270C75-3D8A-4E9A-88CB-E7D49D340ED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7BBF487A-2903-4128-B9E7-3EED0C4C36A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0533773-31AA-4347-8C3B-E9E100A0DC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E56CA55-1D06-4471-9F27-E67910834D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45123242-3942-46BD-AF1F-493464ED1C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5564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0C269519-8004-4AC8-B43E-FEDA88CF6A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163F9DC6-D083-4F99-8FEA-ED5EACBE8E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5ADE7C3F-CA2B-4F52-B0D3-DA928A806E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6CCBB07-EC58-41DD-AD2A-679F771CF49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CFD8B073-E49A-423E-97FC-2B2E76EEDF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131B40C3-4FB9-4442-A213-C5563F14E70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384660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657360"/>
                <a:tab algn="l" pos="1316160"/>
                <a:tab algn="l" pos="1974960"/>
                <a:tab algn="l" pos="2633760"/>
                <a:tab algn="l" pos="3292560"/>
                <a:tab algn="l" pos="3951360"/>
                <a:tab algn="l" pos="461016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3800"/>
                <a:tab algn="l" pos="10067760"/>
                <a:tab algn="l" pos="10787040"/>
              </a:tabLst>
            </a:pPr>
            <a:fld id="{8D3F27C1-411E-4B8B-9E05-2022B3F9FE4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995400" y="755640"/>
            <a:ext cx="4805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053-3FA8-420C-90FB-21E5E795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B56-7564-4D4E-A13C-AA95B0AA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281-9BEF-4EA7-9FB4-50EBD2AD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BC6-067B-45F4-A708-CFBE6D9D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6A4-CE65-4DBE-BB0C-32AD0021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5CC-5192-4CE0-8899-1635682A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8FF-A87C-42D3-9C7E-220B955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520-2940-4469-A7E9-55B5950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1A5-0F49-47B8-8A6D-98DF16C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FD2-2A11-49D2-8908-2EEAAD9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8EA-F562-499E-8F63-E921B1E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C26-50C4-4E05-9AD7-618CA01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5DD0C346-D387-4A89-AB4C-BA3094CEBB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23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23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5"/>
          <p:cNvSpPr/>
          <p:nvPr/>
        </p:nvSpPr>
        <p:spPr>
          <a:xfrm>
            <a:off x="1325520" y="279360"/>
            <a:ext cx="7643880" cy="36432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чень белыми кло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ата по небу плыв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в кучу соберет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 на землю дождик ль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ясните мне, ребят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зовется эта ва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копм\Desktop\элла основное\126 фоны для презентаций\фоны презентаций\смайлики для презентаций\MOI20[1].gif"/>
          <p:cNvPicPr/>
          <p:nvPr/>
        </p:nvPicPr>
        <p:blipFill>
          <a:blip r:embed="rId2"/>
          <a:stretch/>
        </p:blipFill>
        <p:spPr>
          <a:xfrm>
            <a:off x="182520" y="4780080"/>
            <a:ext cx="264312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нег-снежок.wav" descr=""/>
          <p:cNvPicPr/>
          <p:nvPr/>
        </p:nvPicPr>
        <p:blipFill>
          <a:blip r:embed="rId1"/>
          <a:stretch/>
        </p:blipFill>
        <p:spPr>
          <a:xfrm>
            <a:off x="3825720" y="263700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копм\Desktop\элла основное\126 фоны для презентаций\фоны презентаций\смайлики для презентаций\19314[1].gif"/>
          <p:cNvPicPr/>
          <p:nvPr/>
        </p:nvPicPr>
        <p:blipFill>
          <a:blip r:embed="rId2"/>
          <a:stretch/>
        </p:blipFill>
        <p:spPr>
          <a:xfrm>
            <a:off x="1611360" y="106524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093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986120" cy="23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682640" y="1565280"/>
            <a:ext cx="1020960" cy="109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2682720" y="779400"/>
            <a:ext cx="1444680" cy="192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4397400" y="56520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5"/>
          <a:stretch/>
        </p:blipFill>
        <p:spPr>
          <a:xfrm>
            <a:off x="7683480" y="565200"/>
            <a:ext cx="20908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6"/>
          <a:stretch/>
        </p:blipFill>
        <p:spPr>
          <a:xfrm>
            <a:off x="325440" y="3846600"/>
            <a:ext cx="1785960" cy="214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7"/>
          <a:stretch/>
        </p:blipFill>
        <p:spPr>
          <a:xfrm>
            <a:off x="2897280" y="4383000"/>
            <a:ext cx="1357200" cy="18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8"/>
          <a:stretch/>
        </p:blipFill>
        <p:spPr>
          <a:xfrm>
            <a:off x="2039760" y="5137200"/>
            <a:ext cx="932040" cy="100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9"/>
          <a:stretch/>
        </p:blipFill>
        <p:spPr>
          <a:xfrm>
            <a:off x="4611600" y="4268880"/>
            <a:ext cx="2214720" cy="19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10"/>
          <a:stretch/>
        </p:blipFill>
        <p:spPr>
          <a:xfrm>
            <a:off x="7540560" y="4297320"/>
            <a:ext cx="2143080" cy="219708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12"/>
          <p:cNvSpPr/>
          <p:nvPr/>
        </p:nvSpPr>
        <p:spPr>
          <a:xfrm>
            <a:off x="754200" y="4494240"/>
            <a:ext cx="547560" cy="1782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397320" y="4637160"/>
            <a:ext cx="793800" cy="206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5468760" y="4565520"/>
            <a:ext cx="741600" cy="2117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7754760" y="4494240"/>
            <a:ext cx="1094040" cy="2259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554280" y="631800"/>
            <a:ext cx="2602080" cy="281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5340240" y="677880"/>
            <a:ext cx="120024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3571920" y="4564080"/>
            <a:ext cx="2606760" cy="2460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5629320" y="4413240"/>
            <a:ext cx="122868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5"/>
          <p:cNvGraphicFramePr/>
          <p:nvPr/>
        </p:nvGraphicFramePr>
        <p:xfrm>
          <a:off x="934920" y="2359080"/>
          <a:ext cx="6120000" cy="1077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2359080"/>
                    <a:ext cx="6120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763560" y="5572080"/>
          <a:ext cx="612792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557208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7"/>
          <p:cNvSpPr/>
          <p:nvPr/>
        </p:nvSpPr>
        <p:spPr>
          <a:xfrm>
            <a:off x="2765520" y="2897280"/>
            <a:ext cx="43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606760" y="6111720"/>
            <a:ext cx="56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5079960" y="3995640"/>
            <a:ext cx="2249640" cy="169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12840" y="176040"/>
            <a:ext cx="2316240" cy="142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7632720" y="2130480"/>
            <a:ext cx="2276280" cy="141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6275520" y="6523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5"/>
          <a:stretch/>
        </p:blipFill>
        <p:spPr>
          <a:xfrm>
            <a:off x="3425760" y="4564080"/>
            <a:ext cx="142884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7738920" y="5965920"/>
            <a:ext cx="209088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7"/>
          <p:cNvGraphicFramePr/>
          <p:nvPr/>
        </p:nvGraphicFramePr>
        <p:xfrm>
          <a:off x="158760" y="628560"/>
          <a:ext cx="611964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8760" y="62856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"/>
          <p:cNvGraphicFramePr/>
          <p:nvPr/>
        </p:nvGraphicFramePr>
        <p:xfrm>
          <a:off x="0" y="4684680"/>
          <a:ext cx="6119640" cy="1077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68468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4497480" y="527040"/>
          <a:ext cx="6127560" cy="1077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7480" y="52704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10"/>
          <p:cNvSpPr/>
          <p:nvPr/>
        </p:nvSpPr>
        <p:spPr>
          <a:xfrm>
            <a:off x="6416640" y="1905120"/>
            <a:ext cx="1230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12"/>
          <p:cNvGraphicFramePr/>
          <p:nvPr/>
        </p:nvGraphicFramePr>
        <p:xfrm>
          <a:off x="1889280" y="4687920"/>
          <a:ext cx="6127560" cy="1077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5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89280" y="468792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14"/>
          <p:cNvSpPr/>
          <p:nvPr/>
        </p:nvSpPr>
        <p:spPr>
          <a:xfrm>
            <a:off x="3519360" y="5819760"/>
            <a:ext cx="1362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Object 17"/>
          <p:cNvGraphicFramePr/>
          <p:nvPr/>
        </p:nvGraphicFramePr>
        <p:xfrm>
          <a:off x="7897680" y="636480"/>
          <a:ext cx="6127920" cy="10782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58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97680" y="636480"/>
                    <a:ext cx="61279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8"/>
          <p:cNvGraphicFramePr/>
          <p:nvPr/>
        </p:nvGraphicFramePr>
        <p:xfrm>
          <a:off x="7469280" y="4422600"/>
          <a:ext cx="6127560" cy="107820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60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9280" y="4422600"/>
                    <a:ext cx="61275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302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503280" y="345960"/>
            <a:ext cx="9072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Вот какие м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Users\копм\Desktop\элла основное\126 фоны для презентаций\фоны презентаций\смайлики для презентаций\3496[1].gif"/>
          <p:cNvPicPr/>
          <p:nvPr/>
        </p:nvPicPr>
        <p:blipFill>
          <a:blip r:embed="rId2"/>
          <a:stretch/>
        </p:blipFill>
        <p:spPr>
          <a:xfrm>
            <a:off x="1539720" y="1922400"/>
            <a:ext cx="678348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копм\Desktop\элла основное\126 фоны для презентаций\646123894.gif"/>
          <p:cNvPicPr/>
          <p:nvPr/>
        </p:nvPicPr>
        <p:blipFill>
          <a:blip r:embed="rId1"/>
          <a:stretch/>
        </p:blipFill>
        <p:spPr>
          <a:xfrm>
            <a:off x="4468680" y="3044880"/>
            <a:ext cx="5810400" cy="451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копм\Desktop\элла основное\126 фоны для презентаций\Анимашки\AG00142_.GIF"/>
          <p:cNvPicPr/>
          <p:nvPr/>
        </p:nvPicPr>
        <p:blipFill>
          <a:blip r:embed="rId2"/>
          <a:stretch/>
        </p:blipFill>
        <p:spPr>
          <a:xfrm>
            <a:off x="2111400" y="4780080"/>
            <a:ext cx="2714760" cy="277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копм\Desktop\элла основное\126 фоны для презентаций\Анимашки\Цветы\1f5.gif"/>
          <p:cNvPicPr/>
          <p:nvPr/>
        </p:nvPicPr>
        <p:blipFill>
          <a:blip r:embed="rId3"/>
          <a:stretch/>
        </p:blipFill>
        <p:spPr>
          <a:xfrm>
            <a:off x="111240" y="4637160"/>
            <a:ext cx="2714400" cy="2922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копм\Desktop\элла основное\126 фоны для презентаций\Анимашки\Разное\SOL.GIF"/>
          <p:cNvPicPr/>
          <p:nvPr/>
        </p:nvPicPr>
        <p:blipFill>
          <a:blip r:embed="rId4"/>
          <a:stretch/>
        </p:blipFill>
        <p:spPr>
          <a:xfrm>
            <a:off x="182520" y="0"/>
            <a:ext cx="3071880" cy="292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копм\Desktop\элла основное\126 фоны для презентаций\Анимашки\12684ebba6ff.gif"/>
          <p:cNvPicPr/>
          <p:nvPr/>
        </p:nvPicPr>
        <p:blipFill>
          <a:blip r:embed="rId5"/>
          <a:stretch/>
        </p:blipFill>
        <p:spPr>
          <a:xfrm>
            <a:off x="4540320" y="422280"/>
            <a:ext cx="3643200" cy="1984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Users\копм\Desktop\элла конкурс\groza_0.jpg"/>
          <p:cNvPicPr/>
          <p:nvPr/>
        </p:nvPicPr>
        <p:blipFill>
          <a:blip r:embed="rId6"/>
          <a:stretch/>
        </p:blipFill>
        <p:spPr>
          <a:xfrm>
            <a:off x="176040" y="-6480"/>
            <a:ext cx="99126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копм\Desktop\элла основное\126 фоны для презентаций\Анимашки\12684ebba6ff.gif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копм\Desktop\элла основное\126 фоны для презентаций\фоны презентаций\смайлики для презентаций\2789[1].gif"/>
          <p:cNvPicPr/>
          <p:nvPr/>
        </p:nvPicPr>
        <p:blipFill>
          <a:blip r:embed="rId2"/>
          <a:stretch/>
        </p:blipFill>
        <p:spPr>
          <a:xfrm>
            <a:off x="3254400" y="2422440"/>
            <a:ext cx="5286240" cy="3967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3" descr=""/>
          <p:cNvPicPr/>
          <p:nvPr/>
        </p:nvPicPr>
        <p:blipFill>
          <a:blip r:embed="rId3"/>
          <a:stretch/>
        </p:blipFill>
        <p:spPr>
          <a:xfrm>
            <a:off x="963720" y="165240"/>
            <a:ext cx="6680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копм\Desktop\элла конкурс\author048.jpg"/>
          <p:cNvPicPr/>
          <p:nvPr/>
        </p:nvPicPr>
        <p:blipFill>
          <a:blip r:embed="rId1"/>
          <a:stretch/>
        </p:blipFill>
        <p:spPr>
          <a:xfrm>
            <a:off x="254160" y="351000"/>
            <a:ext cx="3882960" cy="46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копм\Desktop\элла конкурс\0_66546_8c3accab_XL.jpg"/>
          <p:cNvPicPr/>
          <p:nvPr/>
        </p:nvPicPr>
        <p:blipFill>
          <a:blip r:embed="rId2"/>
          <a:stretch/>
        </p:blipFill>
        <p:spPr>
          <a:xfrm>
            <a:off x="4249800" y="0"/>
            <a:ext cx="5830920" cy="755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копм\Desktop\элла конкурс\dojd_0.jpg"/>
          <p:cNvPicPr/>
          <p:nvPr/>
        </p:nvPicPr>
        <p:blipFill>
          <a:blip r:embed="rId3"/>
          <a:stretch/>
        </p:blipFill>
        <p:spPr>
          <a:xfrm>
            <a:off x="0" y="4791240"/>
            <a:ext cx="418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647640" y="709560"/>
            <a:ext cx="230184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960800" y="2122560"/>
            <a:ext cx="1336680" cy="110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6243480" y="846000"/>
            <a:ext cx="1839960" cy="235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1111320" y="3922560"/>
            <a:ext cx="3311280" cy="293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86520" y="3755880"/>
            <a:ext cx="2924280" cy="318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647640" y="709560"/>
            <a:ext cx="2301840" cy="250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6243480" y="846000"/>
            <a:ext cx="1839960" cy="235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4960800" y="2124000"/>
            <a:ext cx="1336680" cy="11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1081080" y="3968640"/>
            <a:ext cx="3311640" cy="29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5"/>
          <a:stretch/>
        </p:blipFill>
        <p:spPr>
          <a:xfrm>
            <a:off x="6086520" y="3757680"/>
            <a:ext cx="2924280" cy="3189240"/>
          </a:xfrm>
          <a:prstGeom prst="rect">
            <a:avLst/>
          </a:prstGeom>
          <a:ln w="0">
            <a:noFill/>
          </a:ln>
        </p:spPr>
      </p:pic>
      <p:sp>
        <p:nvSpPr>
          <p:cNvPr id="66" name="Freeform 6"/>
          <p:cNvSpPr/>
          <p:nvPr/>
        </p:nvSpPr>
        <p:spPr>
          <a:xfrm>
            <a:off x="1217520" y="727200"/>
            <a:ext cx="157500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7"/>
          <p:cNvSpPr/>
          <p:nvPr/>
        </p:nvSpPr>
        <p:spPr>
          <a:xfrm>
            <a:off x="6284880" y="714240"/>
            <a:ext cx="157500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1986120" y="3916440"/>
            <a:ext cx="157464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7012080" y="3862440"/>
            <a:ext cx="1574640" cy="2751120"/>
          </a:xfrm>
          <a:prstGeom prst="pi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554280" y="631800"/>
            <a:ext cx="2602080" cy="281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40240" y="677880"/>
            <a:ext cx="120024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571920" y="4564080"/>
            <a:ext cx="2606760" cy="246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5629320" y="4413240"/>
            <a:ext cx="122868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5"/>
          <p:cNvGraphicFramePr/>
          <p:nvPr/>
        </p:nvGraphicFramePr>
        <p:xfrm>
          <a:off x="934920" y="2359080"/>
          <a:ext cx="6120000" cy="1077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2359080"/>
                    <a:ext cx="6120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6"/>
          <p:cNvGraphicFramePr/>
          <p:nvPr/>
        </p:nvGraphicFramePr>
        <p:xfrm>
          <a:off x="763560" y="5572080"/>
          <a:ext cx="612792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557208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Line 7"/>
          <p:cNvSpPr/>
          <p:nvPr/>
        </p:nvSpPr>
        <p:spPr>
          <a:xfrm>
            <a:off x="2765520" y="2897280"/>
            <a:ext cx="43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606760" y="6111720"/>
            <a:ext cx="56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5079960" y="3995640"/>
            <a:ext cx="2249640" cy="169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130480" y="146160"/>
            <a:ext cx="2316240" cy="150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7632720" y="2130480"/>
            <a:ext cx="2276280" cy="141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4"/>
          <a:stretch/>
        </p:blipFill>
        <p:spPr>
          <a:xfrm>
            <a:off x="6257880" y="51120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>
            <a:off x="3425760" y="4564080"/>
            <a:ext cx="1428840" cy="1036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6"/>
          <a:stretch/>
        </p:blipFill>
        <p:spPr>
          <a:xfrm>
            <a:off x="7738920" y="5965920"/>
            <a:ext cx="209088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7"/>
          <p:cNvGraphicFramePr/>
          <p:nvPr/>
        </p:nvGraphicFramePr>
        <p:xfrm>
          <a:off x="0" y="558720"/>
          <a:ext cx="6119640" cy="107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872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0" y="4684680"/>
          <a:ext cx="6119640" cy="1077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684680"/>
                    <a:ext cx="6119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4494240" y="598320"/>
          <a:ext cx="6127560" cy="1078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4240" y="598320"/>
                    <a:ext cx="61275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Line 10"/>
          <p:cNvSpPr/>
          <p:nvPr/>
        </p:nvSpPr>
        <p:spPr>
          <a:xfrm>
            <a:off x="6416640" y="1905120"/>
            <a:ext cx="1230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12"/>
          <p:cNvGraphicFramePr/>
          <p:nvPr/>
        </p:nvGraphicFramePr>
        <p:xfrm>
          <a:off x="1897200" y="4637160"/>
          <a:ext cx="6127560" cy="1077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9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97200" y="4637160"/>
                    <a:ext cx="6127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Line 14"/>
          <p:cNvSpPr/>
          <p:nvPr/>
        </p:nvSpPr>
        <p:spPr>
          <a:xfrm>
            <a:off x="3519360" y="5819760"/>
            <a:ext cx="1362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7683480" y="565200"/>
          <a:ext cx="6127920" cy="107784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83480" y="56520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7397640" y="4637160"/>
          <a:ext cx="6127920" cy="10778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7640" y="4637160"/>
                    <a:ext cx="61279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3024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503280" y="345960"/>
            <a:ext cx="9072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Вот какие м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Users\копм\Desktop\элла основное\126 фоны для презентаций\фоны презентаций\смайлики для презентаций\19314[1].gif"/>
          <p:cNvPicPr/>
          <p:nvPr/>
        </p:nvPicPr>
        <p:blipFill>
          <a:blip r:embed="rId2"/>
          <a:stretch/>
        </p:blipFill>
        <p:spPr>
          <a:xfrm>
            <a:off x="2682720" y="2637000"/>
            <a:ext cx="40626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1"/>
          <p:cNvSpPr/>
          <p:nvPr/>
        </p:nvSpPr>
        <p:spPr>
          <a:xfrm>
            <a:off x="396720" y="565200"/>
            <a:ext cx="6072480" cy="5713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чем это стихотвор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2"/>
          <p:cNvSpPr/>
          <p:nvPr/>
        </p:nvSpPr>
        <p:spPr>
          <a:xfrm>
            <a:off x="1111320" y="2494080"/>
            <a:ext cx="6072120" cy="50004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облака в этом стихотворе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1539720" y="4208400"/>
            <a:ext cx="6072480" cy="4287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спрашивает автор у обла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396720" y="5708520"/>
            <a:ext cx="6072480" cy="4287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бывают обла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-конечная звезда 6"/>
          <p:cNvSpPr/>
          <p:nvPr/>
        </p:nvSpPr>
        <p:spPr>
          <a:xfrm>
            <a:off x="6540480" y="0"/>
            <a:ext cx="157176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5-конечная звезда 7"/>
          <p:cNvSpPr/>
          <p:nvPr/>
        </p:nvSpPr>
        <p:spPr>
          <a:xfrm>
            <a:off x="7183440" y="2065320"/>
            <a:ext cx="157176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5-конечная звезда 8"/>
          <p:cNvSpPr/>
          <p:nvPr/>
        </p:nvSpPr>
        <p:spPr>
          <a:xfrm>
            <a:off x="7969320" y="3994200"/>
            <a:ext cx="157140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5-конечная звезда 9"/>
          <p:cNvSpPr/>
          <p:nvPr/>
        </p:nvSpPr>
        <p:spPr>
          <a:xfrm>
            <a:off x="6326280" y="5923080"/>
            <a:ext cx="1571400" cy="1000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0" descr="C:\Users\копм\Desktop\элла основное\126 фоны для презентаций\фоны презентаций\смайлики для презентаций\2783[1].gif"/>
          <p:cNvPicPr/>
          <p:nvPr/>
        </p:nvPicPr>
        <p:blipFill>
          <a:blip r:embed="rId1"/>
          <a:stretch/>
        </p:blipFill>
        <p:spPr>
          <a:xfrm>
            <a:off x="1039680" y="4780080"/>
            <a:ext cx="34290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1565280"/>
            <a:ext cx="10080720" cy="5994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пм</cp:lastModifiedBy>
  <dcterms:modified xsi:type="dcterms:W3CDTF">2012-10-24T11:57:14Z</dcterms:modified>
  <cp:revision>23</cp:revision>
  <dc:subject/>
  <dc:title>Слайд 1</dc:title>
</cp:coreProperties>
</file>