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wmf" ContentType="image/x-wmf"/>
  <Override PartName="/ppt/media/image22.wmf" ContentType="image/x-wmf"/>
  <Override PartName="/ppt/media/image26.gif" ContentType="image/gif"/>
  <Override PartName="/ppt/media/image21.png" ContentType="image/png"/>
  <Override PartName="/ppt/media/image20.png" ContentType="image/png"/>
  <Override PartName="/ppt/media/image7.png" ContentType="image/png"/>
  <Override PartName="/ppt/media/image15.wmf" ContentType="image/x-wmf"/>
  <Override PartName="/ppt/media/image12.png" ContentType="image/png"/>
  <Override PartName="/ppt/media/image28.gif" ContentType="image/gif"/>
  <Override PartName="/ppt/media/image16.wmf" ContentType="image/x-wmf"/>
  <Override PartName="/ppt/media/image8.png" ContentType="image/png"/>
  <Override PartName="/ppt/media/image30.gif" ContentType="image/gif"/>
  <Override PartName="/ppt/media/image29.gif" ContentType="image/gif"/>
  <Override PartName="/ppt/media/image9.png" ContentType="image/png"/>
  <Override PartName="/ppt/media/image31.gif" ContentType="image/gif"/>
  <Override PartName="/ppt/media/image34.png" ContentType="image/png"/>
  <Override PartName="/ppt/media/image13.png" ContentType="image/png"/>
  <Override PartName="/ppt/media/image33.gif" ContentType="image/gif"/>
  <Override PartName="/ppt/media/image35.gif" ContentType="image/gif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2.gif" ContentType="image/gif"/>
  <Override PartName="/ppt/media/image19.jpeg" ContentType="image/jpeg"/>
  <Override PartName="/ppt/media/image2.gif" ContentType="image/gif"/>
  <Override PartName="/ppt/media/image18.png" ContentType="image/png"/>
  <Override PartName="/ppt/media/image25.gif" ContentType="image/gif"/>
  <Override PartName="/ppt/media/image1.jpeg" ContentType="image/jpeg"/>
  <Override PartName="/ppt/media/image10.png" ContentType="image/png"/>
  <Override PartName="/ppt/media/image14.png" ContentType="image/png"/>
  <Override PartName="/ppt/media/image17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929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553">
                <a:moveTo>
                  <a:pt x="4" y="0"/>
                </a:moveTo>
                <a:arcTo wR="4" hR="4" stAng="16200000" swAng="-5400000"/>
                <a:lnTo>
                  <a:pt x="0" y="31549"/>
                </a:lnTo>
                <a:arcTo wR="4" hR="4" stAng="10800000" swAng="-5400000"/>
                <a:lnTo>
                  <a:pt x="21596" y="315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7520" cy="9929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553">
                <a:moveTo>
                  <a:pt x="4" y="0"/>
                </a:moveTo>
                <a:arcTo wR="4" hR="4" stAng="16200000" swAng="-5400000"/>
                <a:lnTo>
                  <a:pt x="0" y="31549"/>
                </a:lnTo>
                <a:arcTo wR="4" hR="4" stAng="10800000" swAng="-5400000"/>
                <a:lnTo>
                  <a:pt x="21596" y="315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7280" y="755640"/>
            <a:ext cx="495756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4660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32720"/>
            <a:ext cx="294624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6600" y="9432720"/>
            <a:ext cx="294624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83722DFC-0BCD-4605-8706-9A179E4D0D5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8"/>
          <p:cNvSpPr/>
          <p:nvPr/>
        </p:nvSpPr>
        <p:spPr>
          <a:xfrm>
            <a:off x="384660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A4B66B55-4357-41D1-A9BE-53724684165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"/>
          <p:cNvSpPr/>
          <p:nvPr/>
        </p:nvSpPr>
        <p:spPr>
          <a:xfrm>
            <a:off x="995400" y="755640"/>
            <a:ext cx="48052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8"/>
          <p:cNvSpPr/>
          <p:nvPr/>
        </p:nvSpPr>
        <p:spPr>
          <a:xfrm>
            <a:off x="384660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8A360AB7-AAC3-4E86-ADC0-C704979926C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995400" y="755640"/>
            <a:ext cx="48052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384660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68136DFA-28E5-40A4-A8A8-D6472F4F99F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995400" y="755640"/>
            <a:ext cx="48052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8"/>
          <p:cNvSpPr/>
          <p:nvPr/>
        </p:nvSpPr>
        <p:spPr>
          <a:xfrm>
            <a:off x="384660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5B65D05D-88E8-4914-9670-FD33B0B1040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995400" y="755640"/>
            <a:ext cx="48052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8"/>
          <p:cNvSpPr/>
          <p:nvPr/>
        </p:nvSpPr>
        <p:spPr>
          <a:xfrm>
            <a:off x="384660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28A9BE7B-B29E-4C10-895E-5E894DE6E6F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"/>
          <p:cNvSpPr/>
          <p:nvPr/>
        </p:nvSpPr>
        <p:spPr>
          <a:xfrm>
            <a:off x="995400" y="755640"/>
            <a:ext cx="48052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5564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4660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67AD191F-12F5-4EA6-861F-5797274CBF7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8"/>
          <p:cNvSpPr/>
          <p:nvPr/>
        </p:nvSpPr>
        <p:spPr>
          <a:xfrm>
            <a:off x="384660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AE11FC84-F5D6-4A69-90F5-B5A3084FEC5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995400" y="755640"/>
            <a:ext cx="48052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384660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02672B21-4E63-43D9-B81D-0FB255E6013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995400" y="755640"/>
            <a:ext cx="48052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384660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15A592E3-8AFD-4CC9-8B52-76330741BE3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995400" y="755640"/>
            <a:ext cx="48052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8"/>
          <p:cNvSpPr/>
          <p:nvPr/>
        </p:nvSpPr>
        <p:spPr>
          <a:xfrm>
            <a:off x="384660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F20A7C3F-03DD-49BB-89A3-76EC202823E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995400" y="755640"/>
            <a:ext cx="48052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8"/>
          <p:cNvSpPr/>
          <p:nvPr/>
        </p:nvSpPr>
        <p:spPr>
          <a:xfrm>
            <a:off x="384660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61732CE8-E7D4-4F90-BA63-16CDD75D2FC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995400" y="755640"/>
            <a:ext cx="48052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8"/>
          <p:cNvSpPr/>
          <p:nvPr/>
        </p:nvSpPr>
        <p:spPr>
          <a:xfrm>
            <a:off x="384660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3BE6D23C-FF82-4B4E-B97F-0DECF978233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995400" y="755640"/>
            <a:ext cx="48052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350-5DA2-4F6C-B1C1-3BF76E92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9F43-F312-4AB8-95A2-A591507A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E99-58B8-409D-988E-6967F99C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8F2-1A54-45A7-95B7-492AFFF6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52B6-0982-467A-901F-66E2188B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22FC-2FD8-4FBF-B462-2F45E4FF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E46-27DD-4C25-B53C-80949561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C94-CC01-429A-A722-92C30EC4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38A-A597-4A32-84B2-17C5EF1F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A628-21A4-471E-928B-6ED40946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68EE-15AD-4387-B89B-1F1195D5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41A7-1FED-40A2-9163-3561FD27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2D255178-91BD-493C-8176-0FAE0E4C67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15.wmf"/><Relationship Id="rId7" Type="http://schemas.openxmlformats.org/officeDocument/2006/relationships/package" Target="../embeddings/oleObject2.docx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22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22.wmf"/><Relationship Id="rId11" Type="http://schemas.openxmlformats.org/officeDocument/2006/relationships/package" Target="../embeddings/oleObject3.docx"/><Relationship Id="rId12" Type="http://schemas.openxmlformats.org/officeDocument/2006/relationships/image" Target="../media/image23.wmf"/><Relationship Id="rId13" Type="http://schemas.openxmlformats.org/officeDocument/2006/relationships/package" Target="../embeddings/oleObject4.docx"/><Relationship Id="rId14" Type="http://schemas.openxmlformats.org/officeDocument/2006/relationships/image" Target="../media/image23.wmf"/><Relationship Id="rId15" Type="http://schemas.openxmlformats.org/officeDocument/2006/relationships/package" Target="../embeddings/oleObject5.docx"/><Relationship Id="rId16" Type="http://schemas.openxmlformats.org/officeDocument/2006/relationships/image" Target="../media/image23.wmf"/><Relationship Id="rId17" Type="http://schemas.openxmlformats.org/officeDocument/2006/relationships/package" Target="../embeddings/oleObject6.docx"/><Relationship Id="rId18" Type="http://schemas.openxmlformats.org/officeDocument/2006/relationships/image" Target="../media/image23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5.gi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15.wmf"/><Relationship Id="rId7" Type="http://schemas.openxmlformats.org/officeDocument/2006/relationships/package" Target="../embeddings/oleObject2.docx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22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22.wmf"/><Relationship Id="rId11" Type="http://schemas.openxmlformats.org/officeDocument/2006/relationships/package" Target="../embeddings/oleObject3.docx"/><Relationship Id="rId12" Type="http://schemas.openxmlformats.org/officeDocument/2006/relationships/image" Target="../media/image23.wmf"/><Relationship Id="rId13" Type="http://schemas.openxmlformats.org/officeDocument/2006/relationships/package" Target="../embeddings/oleObject4.docx"/><Relationship Id="rId14" Type="http://schemas.openxmlformats.org/officeDocument/2006/relationships/image" Target="../media/image23.wmf"/><Relationship Id="rId15" Type="http://schemas.openxmlformats.org/officeDocument/2006/relationships/package" Target="../embeddings/oleObject5.docx"/><Relationship Id="rId16" Type="http://schemas.openxmlformats.org/officeDocument/2006/relationships/image" Target="../media/image23.wmf"/><Relationship Id="rId17" Type="http://schemas.openxmlformats.org/officeDocument/2006/relationships/package" Target="../embeddings/oleObject6.docx"/><Relationship Id="rId18" Type="http://schemas.openxmlformats.org/officeDocument/2006/relationships/image" Target="../media/image23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кругленный прямоугольник 5"/>
          <p:cNvSpPr/>
          <p:nvPr/>
        </p:nvSpPr>
        <p:spPr>
          <a:xfrm>
            <a:off x="1325520" y="279360"/>
            <a:ext cx="7643880" cy="364320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чень белыми клока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ата по небу плыве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сли в кучу соберется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о на землю дождик лье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ясните мне, ребят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зовется эта ват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копм\Desktop\элла основное\126 фоны для презентаций\фоны презентаций\смайлики для презентаций\MOI20[1].gif"/>
          <p:cNvPicPr/>
          <p:nvPr/>
        </p:nvPicPr>
        <p:blipFill>
          <a:blip r:embed="rId2"/>
          <a:stretch/>
        </p:blipFill>
        <p:spPr>
          <a:xfrm>
            <a:off x="182520" y="4780080"/>
            <a:ext cx="2643120" cy="27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нег-снежок.wav" descr=""/>
          <p:cNvPicPr/>
          <p:nvPr/>
        </p:nvPicPr>
        <p:blipFill>
          <a:blip r:embed="rId1"/>
          <a:stretch/>
        </p:blipFill>
        <p:spPr>
          <a:xfrm>
            <a:off x="3825720" y="2637000"/>
            <a:ext cx="221472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Users\копм\Desktop\элла основное\126 фоны для презентаций\фоны презентаций\смайлики для презентаций\19314[1].gif"/>
          <p:cNvPicPr/>
          <p:nvPr/>
        </p:nvPicPr>
        <p:blipFill>
          <a:blip r:embed="rId2"/>
          <a:stretch/>
        </p:blipFill>
        <p:spPr>
          <a:xfrm>
            <a:off x="1611360" y="1065240"/>
            <a:ext cx="6858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09356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986120" cy="238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682640" y="1565280"/>
            <a:ext cx="1020960" cy="1098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3"/>
          <a:stretch/>
        </p:blipFill>
        <p:spPr>
          <a:xfrm>
            <a:off x="2682720" y="779400"/>
            <a:ext cx="1444680" cy="1925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4"/>
          <a:stretch/>
        </p:blipFill>
        <p:spPr>
          <a:xfrm>
            <a:off x="4397400" y="565200"/>
            <a:ext cx="2438280" cy="2193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5"/>
          <a:stretch/>
        </p:blipFill>
        <p:spPr>
          <a:xfrm>
            <a:off x="7683480" y="565200"/>
            <a:ext cx="2090880" cy="214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6"/>
          <a:stretch/>
        </p:blipFill>
        <p:spPr>
          <a:xfrm>
            <a:off x="325440" y="3846600"/>
            <a:ext cx="1785960" cy="2144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7"/>
          <a:stretch/>
        </p:blipFill>
        <p:spPr>
          <a:xfrm>
            <a:off x="2897280" y="4383000"/>
            <a:ext cx="1357200" cy="1809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8"/>
          <a:stretch/>
        </p:blipFill>
        <p:spPr>
          <a:xfrm>
            <a:off x="2039760" y="5137200"/>
            <a:ext cx="932040" cy="1003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9"/>
          <a:stretch/>
        </p:blipFill>
        <p:spPr>
          <a:xfrm>
            <a:off x="4611600" y="4268880"/>
            <a:ext cx="2214720" cy="19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10"/>
          <a:stretch/>
        </p:blipFill>
        <p:spPr>
          <a:xfrm>
            <a:off x="7540560" y="4297320"/>
            <a:ext cx="2143080" cy="2197080"/>
          </a:xfrm>
          <a:prstGeom prst="rect">
            <a:avLst/>
          </a:prstGeom>
          <a:ln w="0">
            <a:noFill/>
          </a:ln>
        </p:spPr>
      </p:pic>
      <p:sp>
        <p:nvSpPr>
          <p:cNvPr id="127" name="Freeform 12"/>
          <p:cNvSpPr/>
          <p:nvPr/>
        </p:nvSpPr>
        <p:spPr>
          <a:xfrm>
            <a:off x="754200" y="4494240"/>
            <a:ext cx="547560" cy="17827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13"/>
          <p:cNvSpPr/>
          <p:nvPr/>
        </p:nvSpPr>
        <p:spPr>
          <a:xfrm>
            <a:off x="3397320" y="4637160"/>
            <a:ext cx="793800" cy="20635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14"/>
          <p:cNvSpPr/>
          <p:nvPr/>
        </p:nvSpPr>
        <p:spPr>
          <a:xfrm>
            <a:off x="5468760" y="4565520"/>
            <a:ext cx="741600" cy="21178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Freeform 15"/>
          <p:cNvSpPr/>
          <p:nvPr/>
        </p:nvSpPr>
        <p:spPr>
          <a:xfrm>
            <a:off x="7754760" y="4494240"/>
            <a:ext cx="1094040" cy="2259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3554280" y="631800"/>
            <a:ext cx="2602080" cy="2811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5340240" y="677880"/>
            <a:ext cx="1200240" cy="1000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3"/>
          <a:stretch/>
        </p:blipFill>
        <p:spPr>
          <a:xfrm>
            <a:off x="3571920" y="4564080"/>
            <a:ext cx="2606760" cy="2460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4"/>
          <a:stretch/>
        </p:blipFill>
        <p:spPr>
          <a:xfrm>
            <a:off x="5629320" y="4413240"/>
            <a:ext cx="1228680" cy="122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5"/>
          <p:cNvGraphicFramePr/>
          <p:nvPr/>
        </p:nvGraphicFramePr>
        <p:xfrm>
          <a:off x="934920" y="2359080"/>
          <a:ext cx="6120000" cy="1077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2359080"/>
                    <a:ext cx="612000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6"/>
          <p:cNvGraphicFramePr/>
          <p:nvPr/>
        </p:nvGraphicFramePr>
        <p:xfrm>
          <a:off x="763560" y="5572080"/>
          <a:ext cx="6127920" cy="10778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3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3560" y="5572080"/>
                    <a:ext cx="612792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Line 7"/>
          <p:cNvSpPr/>
          <p:nvPr/>
        </p:nvSpPr>
        <p:spPr>
          <a:xfrm>
            <a:off x="2765520" y="2897280"/>
            <a:ext cx="43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2606760" y="6111720"/>
            <a:ext cx="568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5079960" y="3995640"/>
            <a:ext cx="2249640" cy="1693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2112840" y="176040"/>
            <a:ext cx="2316240" cy="1425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3"/>
          <a:stretch/>
        </p:blipFill>
        <p:spPr>
          <a:xfrm>
            <a:off x="7632720" y="2130480"/>
            <a:ext cx="2276280" cy="141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4"/>
          <a:stretch/>
        </p:blipFill>
        <p:spPr>
          <a:xfrm>
            <a:off x="6275520" y="65232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5"/>
          <a:stretch/>
        </p:blipFill>
        <p:spPr>
          <a:xfrm>
            <a:off x="3425760" y="4564080"/>
            <a:ext cx="1428840" cy="1036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6"/>
          <a:stretch/>
        </p:blipFill>
        <p:spPr>
          <a:xfrm>
            <a:off x="7738920" y="5965920"/>
            <a:ext cx="2090880" cy="133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Object 7"/>
          <p:cNvGraphicFramePr/>
          <p:nvPr/>
        </p:nvGraphicFramePr>
        <p:xfrm>
          <a:off x="158760" y="628560"/>
          <a:ext cx="6119640" cy="10778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4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8760" y="628560"/>
                    <a:ext cx="611964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8"/>
          <p:cNvGraphicFramePr/>
          <p:nvPr/>
        </p:nvGraphicFramePr>
        <p:xfrm>
          <a:off x="0" y="4684680"/>
          <a:ext cx="6119640" cy="10778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50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4684680"/>
                    <a:ext cx="611964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9"/>
          <p:cNvGraphicFramePr/>
          <p:nvPr/>
        </p:nvGraphicFramePr>
        <p:xfrm>
          <a:off x="4497480" y="527040"/>
          <a:ext cx="6127560" cy="10778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52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7480" y="527040"/>
                    <a:ext cx="612756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Line 10"/>
          <p:cNvSpPr/>
          <p:nvPr/>
        </p:nvSpPr>
        <p:spPr>
          <a:xfrm>
            <a:off x="6416640" y="1905120"/>
            <a:ext cx="1230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12"/>
          <p:cNvGraphicFramePr/>
          <p:nvPr/>
        </p:nvGraphicFramePr>
        <p:xfrm>
          <a:off x="1889280" y="4687920"/>
          <a:ext cx="6127560" cy="107784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155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89280" y="4687920"/>
                    <a:ext cx="612756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Line 14"/>
          <p:cNvSpPr/>
          <p:nvPr/>
        </p:nvSpPr>
        <p:spPr>
          <a:xfrm>
            <a:off x="3519360" y="5819760"/>
            <a:ext cx="1362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Object 17"/>
          <p:cNvGraphicFramePr/>
          <p:nvPr/>
        </p:nvGraphicFramePr>
        <p:xfrm>
          <a:off x="7897680" y="636480"/>
          <a:ext cx="6127920" cy="107820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158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97680" y="636480"/>
                    <a:ext cx="612792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8"/>
          <p:cNvGraphicFramePr/>
          <p:nvPr/>
        </p:nvGraphicFramePr>
        <p:xfrm>
          <a:off x="7469280" y="4422600"/>
          <a:ext cx="6127560" cy="107820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160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69280" y="4422600"/>
                    <a:ext cx="612756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0" y="3024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"/>
          <p:cNvSpPr/>
          <p:nvPr/>
        </p:nvSpPr>
        <p:spPr>
          <a:xfrm>
            <a:off x="503280" y="345960"/>
            <a:ext cx="907236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Вот какие мы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" descr="C:\Users\копм\Desktop\элла основное\126 фоны для презентаций\фоны презентаций\смайлики для презентаций\3496[1].gif"/>
          <p:cNvPicPr/>
          <p:nvPr/>
        </p:nvPicPr>
        <p:blipFill>
          <a:blip r:embed="rId2"/>
          <a:stretch/>
        </p:blipFill>
        <p:spPr>
          <a:xfrm>
            <a:off x="1539720" y="1922400"/>
            <a:ext cx="6783480" cy="45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Users\копм\Desktop\элла основное\126 фоны для презентаций\646123894.gif"/>
          <p:cNvPicPr/>
          <p:nvPr/>
        </p:nvPicPr>
        <p:blipFill>
          <a:blip r:embed="rId1"/>
          <a:stretch/>
        </p:blipFill>
        <p:spPr>
          <a:xfrm>
            <a:off x="4468680" y="3044880"/>
            <a:ext cx="5810400" cy="4514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Users\копм\Desktop\элла основное\126 фоны для презентаций\Анимашки\AG00142_.GIF"/>
          <p:cNvPicPr/>
          <p:nvPr/>
        </p:nvPicPr>
        <p:blipFill>
          <a:blip r:embed="rId2"/>
          <a:stretch/>
        </p:blipFill>
        <p:spPr>
          <a:xfrm>
            <a:off x="2111400" y="4780080"/>
            <a:ext cx="2714760" cy="2779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Users\копм\Desktop\элла основное\126 фоны для презентаций\Анимашки\Цветы\1f5.gif"/>
          <p:cNvPicPr/>
          <p:nvPr/>
        </p:nvPicPr>
        <p:blipFill>
          <a:blip r:embed="rId3"/>
          <a:stretch/>
        </p:blipFill>
        <p:spPr>
          <a:xfrm>
            <a:off x="111240" y="4637160"/>
            <a:ext cx="2714400" cy="2922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C:\Users\копм\Desktop\элла основное\126 фоны для презентаций\Анимашки\Разное\SOL.GIF"/>
          <p:cNvPicPr/>
          <p:nvPr/>
        </p:nvPicPr>
        <p:blipFill>
          <a:blip r:embed="rId4"/>
          <a:stretch/>
        </p:blipFill>
        <p:spPr>
          <a:xfrm>
            <a:off x="182520" y="0"/>
            <a:ext cx="3071880" cy="2922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Users\копм\Desktop\элла основное\126 фоны для презентаций\Анимашки\12684ebba6ff.gif"/>
          <p:cNvPicPr/>
          <p:nvPr/>
        </p:nvPicPr>
        <p:blipFill>
          <a:blip r:embed="rId5"/>
          <a:stretch/>
        </p:blipFill>
        <p:spPr>
          <a:xfrm>
            <a:off x="4540320" y="422280"/>
            <a:ext cx="3643200" cy="1984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C:\Users\копм\Desktop\элла конкурс\groza_0.jpg"/>
          <p:cNvPicPr/>
          <p:nvPr/>
        </p:nvPicPr>
        <p:blipFill>
          <a:blip r:embed="rId6"/>
          <a:stretch/>
        </p:blipFill>
        <p:spPr>
          <a:xfrm>
            <a:off x="176040" y="-6480"/>
            <a:ext cx="99126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Users\копм\Desktop\элла основное\126 фоны для презентаций\Анимашки\12684ebba6ff.gif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C:\Users\копм\Desktop\элла основное\126 фоны для презентаций\фоны презентаций\смайлики для презентаций\2789[1].gif"/>
          <p:cNvPicPr/>
          <p:nvPr/>
        </p:nvPicPr>
        <p:blipFill>
          <a:blip r:embed="rId2"/>
          <a:stretch/>
        </p:blipFill>
        <p:spPr>
          <a:xfrm>
            <a:off x="3254400" y="2422440"/>
            <a:ext cx="5286240" cy="3967200"/>
          </a:xfrm>
          <a:prstGeom prst="rect">
            <a:avLst/>
          </a:prstGeom>
          <a:ln w="0">
            <a:noFill/>
          </a:ln>
        </p:spPr>
      </p:pic>
      <p:pic>
        <p:nvPicPr>
          <p:cNvPr id="172" name="Прямоугольник 3" descr=""/>
          <p:cNvPicPr/>
          <p:nvPr/>
        </p:nvPicPr>
        <p:blipFill>
          <a:blip r:embed="rId3"/>
          <a:stretch/>
        </p:blipFill>
        <p:spPr>
          <a:xfrm>
            <a:off x="963720" y="165240"/>
            <a:ext cx="66801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Users\копм\Desktop\элла конкурс\author048.jpg"/>
          <p:cNvPicPr/>
          <p:nvPr/>
        </p:nvPicPr>
        <p:blipFill>
          <a:blip r:embed="rId1"/>
          <a:stretch/>
        </p:blipFill>
        <p:spPr>
          <a:xfrm>
            <a:off x="254160" y="351000"/>
            <a:ext cx="3882960" cy="464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копм\Desktop\элла конкурс\0_66546_8c3accab_XL.jpg"/>
          <p:cNvPicPr/>
          <p:nvPr/>
        </p:nvPicPr>
        <p:blipFill>
          <a:blip r:embed="rId2"/>
          <a:stretch/>
        </p:blipFill>
        <p:spPr>
          <a:xfrm>
            <a:off x="4249800" y="0"/>
            <a:ext cx="5830920" cy="755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копм\Desktop\элла конкурс\dojd_0.jpg"/>
          <p:cNvPicPr/>
          <p:nvPr/>
        </p:nvPicPr>
        <p:blipFill>
          <a:blip r:embed="rId3"/>
          <a:stretch/>
        </p:blipFill>
        <p:spPr>
          <a:xfrm>
            <a:off x="0" y="4791240"/>
            <a:ext cx="41832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647640" y="709560"/>
            <a:ext cx="2301840" cy="250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4960800" y="2122560"/>
            <a:ext cx="1336680" cy="1104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6243480" y="846000"/>
            <a:ext cx="1839960" cy="2355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4"/>
          <a:stretch/>
        </p:blipFill>
        <p:spPr>
          <a:xfrm>
            <a:off x="1111320" y="3922560"/>
            <a:ext cx="3311280" cy="293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5"/>
          <a:stretch/>
        </p:blipFill>
        <p:spPr>
          <a:xfrm>
            <a:off x="6086520" y="3755880"/>
            <a:ext cx="2924280" cy="318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647640" y="709560"/>
            <a:ext cx="2301840" cy="2506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6243480" y="846000"/>
            <a:ext cx="1839960" cy="2355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4960800" y="2124000"/>
            <a:ext cx="1336680" cy="1104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1081080" y="3968640"/>
            <a:ext cx="3311640" cy="293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5"/>
          <a:stretch/>
        </p:blipFill>
        <p:spPr>
          <a:xfrm>
            <a:off x="6086520" y="3757680"/>
            <a:ext cx="2924280" cy="3189240"/>
          </a:xfrm>
          <a:prstGeom prst="rect">
            <a:avLst/>
          </a:prstGeom>
          <a:ln w="0">
            <a:noFill/>
          </a:ln>
        </p:spPr>
      </p:pic>
      <p:sp>
        <p:nvSpPr>
          <p:cNvPr id="66" name="Freeform 6"/>
          <p:cNvSpPr/>
          <p:nvPr/>
        </p:nvSpPr>
        <p:spPr>
          <a:xfrm>
            <a:off x="1217520" y="727200"/>
            <a:ext cx="1575000" cy="2751120"/>
          </a:xfrm>
          <a:prstGeom prst="pi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Freeform 7"/>
          <p:cNvSpPr/>
          <p:nvPr/>
        </p:nvSpPr>
        <p:spPr>
          <a:xfrm>
            <a:off x="6284880" y="714240"/>
            <a:ext cx="1575000" cy="2751120"/>
          </a:xfrm>
          <a:prstGeom prst="pi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Freeform 8"/>
          <p:cNvSpPr/>
          <p:nvPr/>
        </p:nvSpPr>
        <p:spPr>
          <a:xfrm>
            <a:off x="1986120" y="3916440"/>
            <a:ext cx="1574640" cy="2751120"/>
          </a:xfrm>
          <a:prstGeom prst="pi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Freeform 9"/>
          <p:cNvSpPr/>
          <p:nvPr/>
        </p:nvSpPr>
        <p:spPr>
          <a:xfrm>
            <a:off x="7012080" y="3862440"/>
            <a:ext cx="1574640" cy="2751120"/>
          </a:xfrm>
          <a:prstGeom prst="pi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3554280" y="631800"/>
            <a:ext cx="2602080" cy="281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5340240" y="677880"/>
            <a:ext cx="1200240" cy="1000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3571920" y="4564080"/>
            <a:ext cx="2606760" cy="2460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4"/>
          <a:stretch/>
        </p:blipFill>
        <p:spPr>
          <a:xfrm>
            <a:off x="5629320" y="4413240"/>
            <a:ext cx="1228680" cy="122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Object 5"/>
          <p:cNvGraphicFramePr/>
          <p:nvPr/>
        </p:nvGraphicFramePr>
        <p:xfrm>
          <a:off x="934920" y="2359080"/>
          <a:ext cx="6120000" cy="1077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2359080"/>
                    <a:ext cx="612000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6"/>
          <p:cNvGraphicFramePr/>
          <p:nvPr/>
        </p:nvGraphicFramePr>
        <p:xfrm>
          <a:off x="763560" y="5572080"/>
          <a:ext cx="6127920" cy="10778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7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3560" y="5572080"/>
                    <a:ext cx="612792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Line 7"/>
          <p:cNvSpPr/>
          <p:nvPr/>
        </p:nvSpPr>
        <p:spPr>
          <a:xfrm>
            <a:off x="2765520" y="2897280"/>
            <a:ext cx="43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2606760" y="6111720"/>
            <a:ext cx="568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5079960" y="3995640"/>
            <a:ext cx="2249640" cy="1693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2130480" y="146160"/>
            <a:ext cx="2316240" cy="150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7632720" y="2130480"/>
            <a:ext cx="2276280" cy="1415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4"/>
          <a:stretch/>
        </p:blipFill>
        <p:spPr>
          <a:xfrm>
            <a:off x="6257880" y="51120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5"/>
          <a:stretch/>
        </p:blipFill>
        <p:spPr>
          <a:xfrm>
            <a:off x="3425760" y="4564080"/>
            <a:ext cx="1428840" cy="1036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6"/>
          <a:stretch/>
        </p:blipFill>
        <p:spPr>
          <a:xfrm>
            <a:off x="7738920" y="5965920"/>
            <a:ext cx="2090880" cy="133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Object 7"/>
          <p:cNvGraphicFramePr/>
          <p:nvPr/>
        </p:nvGraphicFramePr>
        <p:xfrm>
          <a:off x="0" y="558720"/>
          <a:ext cx="6119640" cy="10778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8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58720"/>
                    <a:ext cx="611964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8"/>
          <p:cNvGraphicFramePr/>
          <p:nvPr/>
        </p:nvGraphicFramePr>
        <p:xfrm>
          <a:off x="0" y="4684680"/>
          <a:ext cx="6119640" cy="10778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8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4684680"/>
                    <a:ext cx="611964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9"/>
          <p:cNvGraphicFramePr/>
          <p:nvPr/>
        </p:nvGraphicFramePr>
        <p:xfrm>
          <a:off x="4494240" y="598320"/>
          <a:ext cx="6127560" cy="10782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9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4240" y="598320"/>
                    <a:ext cx="612756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Line 10"/>
          <p:cNvSpPr/>
          <p:nvPr/>
        </p:nvSpPr>
        <p:spPr>
          <a:xfrm>
            <a:off x="6416640" y="1905120"/>
            <a:ext cx="1230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Object 12"/>
          <p:cNvGraphicFramePr/>
          <p:nvPr/>
        </p:nvGraphicFramePr>
        <p:xfrm>
          <a:off x="1897200" y="4637160"/>
          <a:ext cx="6127560" cy="107784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94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97200" y="4637160"/>
                    <a:ext cx="612756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Line 14"/>
          <p:cNvSpPr/>
          <p:nvPr/>
        </p:nvSpPr>
        <p:spPr>
          <a:xfrm>
            <a:off x="3519360" y="5819760"/>
            <a:ext cx="1362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Object 17"/>
          <p:cNvGraphicFramePr/>
          <p:nvPr/>
        </p:nvGraphicFramePr>
        <p:xfrm>
          <a:off x="7683480" y="565200"/>
          <a:ext cx="6127920" cy="107784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97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83480" y="565200"/>
                    <a:ext cx="612792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8"/>
          <p:cNvGraphicFramePr/>
          <p:nvPr/>
        </p:nvGraphicFramePr>
        <p:xfrm>
          <a:off x="7397640" y="4637160"/>
          <a:ext cx="6127920" cy="107784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99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97640" y="4637160"/>
                    <a:ext cx="612792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3024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503280" y="345960"/>
            <a:ext cx="907236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Вот какие мы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C:\Users\копм\Desktop\элла основное\126 фоны для презентаций\фоны презентаций\смайлики для презентаций\19314[1].gif"/>
          <p:cNvPicPr/>
          <p:nvPr/>
        </p:nvPicPr>
        <p:blipFill>
          <a:blip r:embed="rId2"/>
          <a:stretch/>
        </p:blipFill>
        <p:spPr>
          <a:xfrm>
            <a:off x="2682720" y="2637000"/>
            <a:ext cx="4062600" cy="36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Скругленный прямоугольник 1"/>
          <p:cNvSpPr/>
          <p:nvPr/>
        </p:nvSpPr>
        <p:spPr>
          <a:xfrm>
            <a:off x="396720" y="565200"/>
            <a:ext cx="6072480" cy="57132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 чем это стихотворе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Скругленный прямоугольник 2"/>
          <p:cNvSpPr/>
          <p:nvPr/>
        </p:nvSpPr>
        <p:spPr>
          <a:xfrm>
            <a:off x="1111320" y="2494080"/>
            <a:ext cx="6072120" cy="50004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облака в этом стихотворен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Скругленный прямоугольник 3"/>
          <p:cNvSpPr/>
          <p:nvPr/>
        </p:nvSpPr>
        <p:spPr>
          <a:xfrm>
            <a:off x="1539720" y="4208400"/>
            <a:ext cx="6072480" cy="42876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спрашивает автор у облак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Скругленный прямоугольник 4"/>
          <p:cNvSpPr/>
          <p:nvPr/>
        </p:nvSpPr>
        <p:spPr>
          <a:xfrm>
            <a:off x="396720" y="5708520"/>
            <a:ext cx="6072480" cy="42876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бывают обла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5-конечная звезда 6"/>
          <p:cNvSpPr/>
          <p:nvPr/>
        </p:nvSpPr>
        <p:spPr>
          <a:xfrm>
            <a:off x="6540480" y="0"/>
            <a:ext cx="1571760" cy="1000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5-конечная звезда 7"/>
          <p:cNvSpPr/>
          <p:nvPr/>
        </p:nvSpPr>
        <p:spPr>
          <a:xfrm>
            <a:off x="7183440" y="2065320"/>
            <a:ext cx="1571760" cy="1000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5-конечная звезда 8"/>
          <p:cNvSpPr/>
          <p:nvPr/>
        </p:nvSpPr>
        <p:spPr>
          <a:xfrm>
            <a:off x="7969320" y="3994200"/>
            <a:ext cx="1571400" cy="1000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5-конечная звезда 9"/>
          <p:cNvSpPr/>
          <p:nvPr/>
        </p:nvSpPr>
        <p:spPr>
          <a:xfrm>
            <a:off x="6326280" y="5923080"/>
            <a:ext cx="1571400" cy="1000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0" descr="C:\Users\копм\Desktop\элла основное\126 фоны для презентаций\фоны презентаций\смайлики для презентаций\2783[1].gif"/>
          <p:cNvPicPr/>
          <p:nvPr/>
        </p:nvPicPr>
        <p:blipFill>
          <a:blip r:embed="rId1"/>
          <a:stretch/>
        </p:blipFill>
        <p:spPr>
          <a:xfrm>
            <a:off x="1039680" y="4780080"/>
            <a:ext cx="34290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1565280"/>
            <a:ext cx="10080720" cy="59943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Пург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пм</cp:lastModifiedBy>
  <dcterms:modified xsi:type="dcterms:W3CDTF">2012-10-24T11:57:14Z</dcterms:modified>
  <cp:revision>23</cp:revision>
  <dc:subject/>
  <dc:title>Слайд 1</dc:title>
</cp:coreProperties>
</file>