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69B-E1F1-46D9-9D7E-9F892106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C9B-5FE1-4B5B-B36B-E23D9B4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666-0233-444F-AEB6-9E2798BC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855-625E-4BFF-8E49-AAEC3986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046-204D-4F15-B04E-4EAD91F1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DC0-7959-4442-A5AD-B2D9AD0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63F-6618-42E6-95D9-F3F61828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90-A53E-4E3A-B209-B79A191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BDC-1A8E-49BD-B749-CD8D8AB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0B8-BC4A-41BB-9FC5-25F9BA5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E04-D958-4240-BA5E-97A72B2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F75-EA64-451B-8349-A9CC02E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E54A-1ABA-4108-8849-27E8224AC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Способы защиты животных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ТПО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№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чебник с. 26 – 2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Картинка 5 из 16849"/>
          <p:cNvPicPr/>
          <p:nvPr/>
        </p:nvPicPr>
        <p:blipFill>
          <a:blip r:embed="rId1"/>
          <a:stretch/>
        </p:blipFill>
        <p:spPr>
          <a:xfrm>
            <a:off x="6659640" y="692280"/>
            <a:ext cx="1666800" cy="232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92360" y="4581360"/>
            <a:ext cx="2558880" cy="1708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549000">
            <a:off x="6011640" y="3860640"/>
            <a:ext cx="2352600" cy="2352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59280" y="5949720"/>
            <a:ext cx="22716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836640"/>
            <a:ext cx="799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ы защиты живот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4005360"/>
            <a:ext cx="2592720" cy="100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едупрежд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кра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34936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5229360"/>
            <a:ext cx="259236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Ж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86064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аск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34936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оспех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205000"/>
            <a:ext cx="302400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716280"/>
            <a:ext cx="302436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205000"/>
            <a:ext cx="302400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3789360"/>
            <a:ext cx="302436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5229360"/>
            <a:ext cx="3024000" cy="129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04000" y="-4152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8000" y="6125760"/>
            <a:ext cx="2984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765000"/>
            <a:ext cx="252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осуля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асается от вра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г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1 из 48707"/>
          <p:cNvPicPr/>
          <p:nvPr/>
        </p:nvPicPr>
        <p:blipFill>
          <a:blip r:embed="rId2"/>
          <a:stretch/>
        </p:blipFill>
        <p:spPr>
          <a:xfrm>
            <a:off x="5796000" y="476280"/>
            <a:ext cx="2663640" cy="237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906600">
            <a:off x="6156360" y="4365360"/>
            <a:ext cx="252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Л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пасается от вра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бег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804600">
            <a:off x="5796000" y="4221000"/>
            <a:ext cx="3049560" cy="203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1169800">
            <a:off x="395280" y="4508280"/>
            <a:ext cx="2521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пасается от вра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бег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rot="21139200">
            <a:off x="250560" y="4365720"/>
            <a:ext cx="2735280" cy="199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3 из 155962"/>
          <p:cNvPicPr/>
          <p:nvPr/>
        </p:nvPicPr>
        <p:blipFill>
          <a:blip r:embed="rId5"/>
          <a:stretch/>
        </p:blipFill>
        <p:spPr>
          <a:xfrm>
            <a:off x="539640" y="549360"/>
            <a:ext cx="312912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79280" y="5516640"/>
            <a:ext cx="525636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6 из 2482"/>
          <p:cNvPicPr/>
          <p:nvPr/>
        </p:nvPicPr>
        <p:blipFill>
          <a:blip r:embed="rId1"/>
          <a:stretch/>
        </p:blipFill>
        <p:spPr>
          <a:xfrm>
            <a:off x="4284720" y="1557360"/>
            <a:ext cx="4352760" cy="326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Картинка 4 из 258"/>
          <p:cNvPicPr/>
          <p:nvPr/>
        </p:nvPicPr>
        <p:blipFill>
          <a:blip r:embed="rId2"/>
          <a:stretch/>
        </p:blipFill>
        <p:spPr>
          <a:xfrm>
            <a:off x="755640" y="1268280"/>
            <a:ext cx="31910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4365360"/>
            <a:ext cx="4105080" cy="150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Белая куропа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7 из 2389"/>
          <p:cNvPicPr/>
          <p:nvPr/>
        </p:nvPicPr>
        <p:blipFill>
          <a:blip r:embed="rId1"/>
          <a:stretch/>
        </p:blipFill>
        <p:spPr>
          <a:xfrm>
            <a:off x="4932360" y="3357720"/>
            <a:ext cx="3498840" cy="2733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 из 2389"/>
          <p:cNvPicPr/>
          <p:nvPr/>
        </p:nvPicPr>
        <p:blipFill>
          <a:blip r:embed="rId2"/>
          <a:stretch/>
        </p:blipFill>
        <p:spPr>
          <a:xfrm>
            <a:off x="611280" y="549360"/>
            <a:ext cx="379872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56000" y="5229360"/>
            <a:ext cx="3924000" cy="79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Горност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3 из 29225"/>
          <p:cNvPicPr/>
          <p:nvPr/>
        </p:nvPicPr>
        <p:blipFill>
          <a:blip r:embed="rId1"/>
          <a:stretch/>
        </p:blipFill>
        <p:spPr>
          <a:xfrm>
            <a:off x="900000" y="1341360"/>
            <a:ext cx="3583080" cy="3368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4 из 29225"/>
          <p:cNvPicPr/>
          <p:nvPr/>
        </p:nvPicPr>
        <p:blipFill>
          <a:blip r:embed="rId2"/>
          <a:stretch/>
        </p:blipFill>
        <p:spPr>
          <a:xfrm>
            <a:off x="5651640" y="1197000"/>
            <a:ext cx="290196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260352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Ла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5 из 162417"/>
          <p:cNvPicPr/>
          <p:nvPr/>
        </p:nvPicPr>
        <p:blipFill>
          <a:blip r:embed="rId1"/>
          <a:stretch/>
        </p:blipFill>
        <p:spPr>
          <a:xfrm>
            <a:off x="900000" y="476280"/>
            <a:ext cx="3660840" cy="2698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4 из 678"/>
          <p:cNvPicPr/>
          <p:nvPr/>
        </p:nvPicPr>
        <p:blipFill>
          <a:blip r:embed="rId2"/>
          <a:stretch/>
        </p:blipFill>
        <p:spPr>
          <a:xfrm>
            <a:off x="4140360" y="3357720"/>
            <a:ext cx="3914640" cy="2727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4437000"/>
            <a:ext cx="3889440" cy="1689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4059000" cy="2725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0 из 163582"/>
          <p:cNvPicPr/>
          <p:nvPr/>
        </p:nvPicPr>
        <p:blipFill>
          <a:blip r:embed="rId2"/>
          <a:stretch/>
        </p:blipFill>
        <p:spPr>
          <a:xfrm>
            <a:off x="324000" y="404640"/>
            <a:ext cx="4092480" cy="3070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59280" y="5949720"/>
            <a:ext cx="22716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260280"/>
            <a:ext cx="799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ы защиты живот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2924280"/>
            <a:ext cx="2592360" cy="100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едупрежд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кра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700280"/>
            <a:ext cx="259236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365720"/>
            <a:ext cx="259236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Ж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3141720"/>
            <a:ext cx="259272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аск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1557360"/>
            <a:ext cx="259236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оспех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413000"/>
            <a:ext cx="2808360" cy="11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852640"/>
            <a:ext cx="2881440" cy="1152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852640"/>
            <a:ext cx="2953080" cy="1152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1413000"/>
            <a:ext cx="2808360" cy="1079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221000"/>
            <a:ext cx="2738520" cy="1008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13 из 16020"/>
          <p:cNvPicPr/>
          <p:nvPr/>
        </p:nvPicPr>
        <p:blipFill>
          <a:blip r:embed="rId1"/>
          <a:stretch/>
        </p:blipFill>
        <p:spPr>
          <a:xfrm>
            <a:off x="611280" y="4221000"/>
            <a:ext cx="1487520" cy="1181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37 из 625"/>
          <p:cNvPicPr/>
          <p:nvPr/>
        </p:nvPicPr>
        <p:blipFill>
          <a:blip r:embed="rId2"/>
          <a:stretch/>
        </p:blipFill>
        <p:spPr>
          <a:xfrm>
            <a:off x="2411280" y="5445000"/>
            <a:ext cx="1677960" cy="1122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9 из 5400"/>
          <p:cNvPicPr/>
          <p:nvPr/>
        </p:nvPicPr>
        <p:blipFill>
          <a:blip r:embed="rId3"/>
          <a:stretch/>
        </p:blipFill>
        <p:spPr>
          <a:xfrm>
            <a:off x="3851280" y="2060640"/>
            <a:ext cx="1344600" cy="180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1 из 76017"/>
          <p:cNvPicPr/>
          <p:nvPr/>
        </p:nvPicPr>
        <p:blipFill>
          <a:blip r:embed="rId4"/>
          <a:stretch/>
        </p:blipFill>
        <p:spPr>
          <a:xfrm>
            <a:off x="4788000" y="5445000"/>
            <a:ext cx="1374840" cy="117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589800" y="4221000"/>
            <a:ext cx="12412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4:50:31Z</dcterms:created>
  <dc:creator>Агаркова О.Г.</dc:creator>
  <dc:description/>
  <dc:language>en-US</dc:language>
  <cp:lastModifiedBy>Admin</cp:lastModifiedBy>
  <dcterms:modified xsi:type="dcterms:W3CDTF">2013-03-10T17:43:36Z</dcterms:modified>
  <cp:revision>16</cp:revision>
  <dc:subject/>
  <dc:title>Слайд 1</dc:title>
</cp:coreProperties>
</file>