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E52-91D4-4927-807D-47011E2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A88-E1F8-4AA3-8EEA-EA4B345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FC4-55D7-4763-9966-DFE2265A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EBD-B93B-4DA8-AE4B-8A3674A9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7FF-10F1-4BB4-A5BB-EC513817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0BA-2B1A-4040-8C7B-8087FB0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A48-CEA9-4A63-ADF1-87B39264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BFC-BDAB-4ECF-9826-B29FC31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B49-3F09-42E2-BDE6-E9CF058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775-7170-4B62-90D3-0BFB508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D2E-C0D0-4BE2-B6A0-7A5AD28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515-10DC-456E-9EEC-E7AEE78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259E-D0F2-4717-9224-78AB51110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Способы защиты животных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ТПО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№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чебник с. 26 – 2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Картинка 5 из 16849"/>
          <p:cNvPicPr/>
          <p:nvPr/>
        </p:nvPicPr>
        <p:blipFill>
          <a:blip r:embed="rId1"/>
          <a:stretch/>
        </p:blipFill>
        <p:spPr>
          <a:xfrm>
            <a:off x="6659640" y="692280"/>
            <a:ext cx="1666800" cy="232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2558880" cy="170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549000">
            <a:off x="6011640" y="3860640"/>
            <a:ext cx="2352600" cy="2352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59280" y="5949720"/>
            <a:ext cx="22716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836640"/>
            <a:ext cx="799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защиты живот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4005360"/>
            <a:ext cx="259272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едупрежд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кр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349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522936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Ж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86064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аск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349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оспех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20500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716280"/>
            <a:ext cx="302436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20500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3789360"/>
            <a:ext cx="302436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522936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04000" y="-415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8000" y="6125760"/>
            <a:ext cx="2984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76500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осуля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1 из 48707"/>
          <p:cNvPicPr/>
          <p:nvPr/>
        </p:nvPicPr>
        <p:blipFill>
          <a:blip r:embed="rId2"/>
          <a:stretch/>
        </p:blipFill>
        <p:spPr>
          <a:xfrm>
            <a:off x="5796000" y="476280"/>
            <a:ext cx="2663640" cy="237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906600">
            <a:off x="6156360" y="436536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Л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804600">
            <a:off x="5796000" y="4221000"/>
            <a:ext cx="3049560" cy="203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1169800">
            <a:off x="395280" y="450828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21139200">
            <a:off x="250560" y="4365720"/>
            <a:ext cx="2735280" cy="199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3 из 155962"/>
          <p:cNvPicPr/>
          <p:nvPr/>
        </p:nvPicPr>
        <p:blipFill>
          <a:blip r:embed="rId5"/>
          <a:stretch/>
        </p:blipFill>
        <p:spPr>
          <a:xfrm>
            <a:off x="539640" y="549360"/>
            <a:ext cx="312912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79280" y="5516640"/>
            <a:ext cx="525636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6 из 2482"/>
          <p:cNvPicPr/>
          <p:nvPr/>
        </p:nvPicPr>
        <p:blipFill>
          <a:blip r:embed="rId1"/>
          <a:stretch/>
        </p:blipFill>
        <p:spPr>
          <a:xfrm>
            <a:off x="4284720" y="1557360"/>
            <a:ext cx="4352760" cy="326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Картинка 4 из 258"/>
          <p:cNvPicPr/>
          <p:nvPr/>
        </p:nvPicPr>
        <p:blipFill>
          <a:blip r:embed="rId2"/>
          <a:stretch/>
        </p:blipFill>
        <p:spPr>
          <a:xfrm>
            <a:off x="755640" y="1268280"/>
            <a:ext cx="31910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4365360"/>
            <a:ext cx="4105080" cy="150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Белая куропа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7 из 2389"/>
          <p:cNvPicPr/>
          <p:nvPr/>
        </p:nvPicPr>
        <p:blipFill>
          <a:blip r:embed="rId1"/>
          <a:stretch/>
        </p:blipFill>
        <p:spPr>
          <a:xfrm>
            <a:off x="4932360" y="3357720"/>
            <a:ext cx="3498840" cy="273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 из 2389"/>
          <p:cNvPicPr/>
          <p:nvPr/>
        </p:nvPicPr>
        <p:blipFill>
          <a:blip r:embed="rId2"/>
          <a:stretch/>
        </p:blipFill>
        <p:spPr>
          <a:xfrm>
            <a:off x="611280" y="549360"/>
            <a:ext cx="379872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56000" y="5229360"/>
            <a:ext cx="3924000" cy="79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Горнос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3 из 29225"/>
          <p:cNvPicPr/>
          <p:nvPr/>
        </p:nvPicPr>
        <p:blipFill>
          <a:blip r:embed="rId1"/>
          <a:stretch/>
        </p:blipFill>
        <p:spPr>
          <a:xfrm>
            <a:off x="900000" y="1341360"/>
            <a:ext cx="3583080" cy="3368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4 из 29225"/>
          <p:cNvPicPr/>
          <p:nvPr/>
        </p:nvPicPr>
        <p:blipFill>
          <a:blip r:embed="rId2"/>
          <a:stretch/>
        </p:blipFill>
        <p:spPr>
          <a:xfrm>
            <a:off x="5651640" y="1197000"/>
            <a:ext cx="290196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260352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Ла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5 из 162417"/>
          <p:cNvPicPr/>
          <p:nvPr/>
        </p:nvPicPr>
        <p:blipFill>
          <a:blip r:embed="rId1"/>
          <a:stretch/>
        </p:blipFill>
        <p:spPr>
          <a:xfrm>
            <a:off x="900000" y="476280"/>
            <a:ext cx="3660840" cy="2698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4 из 678"/>
          <p:cNvPicPr/>
          <p:nvPr/>
        </p:nvPicPr>
        <p:blipFill>
          <a:blip r:embed="rId2"/>
          <a:stretch/>
        </p:blipFill>
        <p:spPr>
          <a:xfrm>
            <a:off x="4140360" y="3357720"/>
            <a:ext cx="3914640" cy="2727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437000"/>
            <a:ext cx="3889440" cy="1689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4059000" cy="272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0 из 163582"/>
          <p:cNvPicPr/>
          <p:nvPr/>
        </p:nvPicPr>
        <p:blipFill>
          <a:blip r:embed="rId2"/>
          <a:stretch/>
        </p:blipFill>
        <p:spPr>
          <a:xfrm>
            <a:off x="324000" y="404640"/>
            <a:ext cx="4092480" cy="3070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59280" y="5949720"/>
            <a:ext cx="22716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260280"/>
            <a:ext cx="799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защиты живот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2924280"/>
            <a:ext cx="259236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едупрежд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кр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70028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36572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Ж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3141720"/>
            <a:ext cx="259272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аск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1557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оспех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413000"/>
            <a:ext cx="2808360" cy="11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852640"/>
            <a:ext cx="2881440" cy="1152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2953080" cy="1152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1413000"/>
            <a:ext cx="2808360" cy="1079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221000"/>
            <a:ext cx="2738520" cy="1008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13 из 16020"/>
          <p:cNvPicPr/>
          <p:nvPr/>
        </p:nvPicPr>
        <p:blipFill>
          <a:blip r:embed="rId1"/>
          <a:stretch/>
        </p:blipFill>
        <p:spPr>
          <a:xfrm>
            <a:off x="611280" y="4221000"/>
            <a:ext cx="1487520" cy="1181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37 из 625"/>
          <p:cNvPicPr/>
          <p:nvPr/>
        </p:nvPicPr>
        <p:blipFill>
          <a:blip r:embed="rId2"/>
          <a:stretch/>
        </p:blipFill>
        <p:spPr>
          <a:xfrm>
            <a:off x="2411280" y="5445000"/>
            <a:ext cx="1677960" cy="1122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9 из 5400"/>
          <p:cNvPicPr/>
          <p:nvPr/>
        </p:nvPicPr>
        <p:blipFill>
          <a:blip r:embed="rId3"/>
          <a:stretch/>
        </p:blipFill>
        <p:spPr>
          <a:xfrm>
            <a:off x="3851280" y="2060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1 из 76017"/>
          <p:cNvPicPr/>
          <p:nvPr/>
        </p:nvPicPr>
        <p:blipFill>
          <a:blip r:embed="rId4"/>
          <a:stretch/>
        </p:blipFill>
        <p:spPr>
          <a:xfrm>
            <a:off x="4788000" y="5445000"/>
            <a:ext cx="1374840" cy="117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589800" y="4221000"/>
            <a:ext cx="12412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50:31Z</dcterms:created>
  <dc:creator>Агаркова О.Г.</dc:creator>
  <dc:description/>
  <dc:language>en-US</dc:language>
  <cp:lastModifiedBy>Admin</cp:lastModifiedBy>
  <dcterms:modified xsi:type="dcterms:W3CDTF">2013-03-10T17:43:36Z</dcterms:modified>
  <cp:revision>16</cp:revision>
  <dc:subject/>
  <dc:title>Слайд 1</dc:title>
</cp:coreProperties>
</file>