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A8B-52AF-471F-835D-7C3816E2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4D4-5F02-49CF-BF61-AA77A0B0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B04-45EC-4702-95D3-F585761A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9DA-DF88-4364-9E1A-AE475A46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FC8E-F02F-497D-A954-B6CF2D98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39B3-C256-4B49-B77C-AB85A449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D80C-294A-4FBF-BE57-F5D443F6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8E99-404B-46CE-8B2F-75096548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EA02-49A9-46B6-9CF5-147BB8F3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EE46-77DC-45A8-ADE7-EB66EDC5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8EC7-7704-4AC2-B07D-51184CAD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A5C-76A5-46AF-BB35-7472C136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E36A-A43E-49FC-91BE-13A0EA72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A2F4-0EDE-4AAB-9034-205913FF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D589-DD6A-459B-A28B-D6C814ED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B76F-ED3B-4F11-9156-F6CB3966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FF3B-A228-4F89-8E78-D55F205F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06C6-DBD4-4030-9B14-409D09FA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F7213-AF14-4BE6-B7B6-D8A15885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EF29-CAA8-4119-9244-93293FBF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A14C-FB71-41BC-AC24-7170A8AC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18D4-A5BD-4F76-8D9F-5D021CFB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3F1-016A-4009-B95D-86517B5F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99176-0D68-4563-A941-A6F99F68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DFE5B-71BF-4A07-8DD4-98A211D2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3D741-F70D-4EB6-9BD8-857E8165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7BFD-7138-4BDC-BB56-40FB8EB3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CC4B4-F341-4251-B08C-A1F64F69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7B721-4710-4905-B88B-42EA2CDE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3893-7606-4F4D-94A5-60AB5544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4B10A-63F0-4231-9DCB-E646709A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E6D38-808C-4F21-8A76-7F620488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4939-96CD-408A-806E-F75E02DE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C28-D152-49FE-A721-CEAA34C6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52C31-B42A-4B72-A9EA-219A00C1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CDC22-9B47-4FA9-BA39-1E9BFD89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B599D-6416-47C9-8A4E-69F396B0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5996E-3080-4470-B131-A7CE4B75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31C76-52F5-4BA7-9B1F-097A8EEF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2A765-23DF-4BF9-A690-52988F43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082BE-EF53-4FDA-96E0-4D7CE227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EEF0B-7BD0-4901-B909-9AA8C11F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DCEA-79A8-4FC4-824F-010F10C2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0F8-F7F9-461B-8310-F6500891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103-7CA9-4F61-9EC1-1A736B04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D61-461E-4C6F-B033-315283C4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B43-3D7F-4B82-AC76-A3047C15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18C-089C-45CD-84AF-217502E2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CC29-6DE4-4C4F-BD27-54CA8D5F58D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0F53-58F3-41ED-B9A3-9C7C5626A01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6332-2C3B-4C8B-A375-A2519A810FD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2B1A-A5DE-4875-9BA0-3DB39D38A39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ЛИМПИ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Documents and Settings\Димка\Рабочий стол\кольца.jpg"/>
          <p:cNvPicPr/>
          <p:nvPr/>
        </p:nvPicPr>
        <p:blipFill>
          <a:blip r:embed="rId2"/>
          <a:stretch/>
        </p:blipFill>
        <p:spPr>
          <a:xfrm>
            <a:off x="214200" y="1428840"/>
            <a:ext cx="86439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ЧИ - 201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C:\Documents and Settings\Димка\Рабочий стол\символы.jpg"/>
          <p:cNvPicPr/>
          <p:nvPr/>
        </p:nvPicPr>
        <p:blipFill>
          <a:blip r:embed="rId1"/>
          <a:stretch/>
        </p:blipFill>
        <p:spPr>
          <a:xfrm>
            <a:off x="357120" y="1839960"/>
            <a:ext cx="4000680" cy="451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Documents and Settings\Димка\Рабочий стол\лучик и  снежинка.png"/>
          <p:cNvPicPr/>
          <p:nvPr/>
        </p:nvPicPr>
        <p:blipFill>
          <a:blip r:embed="rId2"/>
          <a:stretch/>
        </p:blipFill>
        <p:spPr>
          <a:xfrm>
            <a:off x="4714920" y="1857240"/>
            <a:ext cx="3857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ЕДОВЫЙ ДВОРЕ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Димка\Рабочий стол\ледовый дворец спорта.jpg"/>
          <p:cNvPicPr/>
          <p:nvPr/>
        </p:nvPicPr>
        <p:blipFill>
          <a:blip r:embed="rId2"/>
          <a:stretch/>
        </p:blipFill>
        <p:spPr>
          <a:xfrm>
            <a:off x="428760" y="1857240"/>
            <a:ext cx="82864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НТРАЛЬНЫЙ СТАДИО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Димка\Рабочий стол\центральный стадион.jpg"/>
          <p:cNvPicPr/>
          <p:nvPr/>
        </p:nvPicPr>
        <p:blipFill>
          <a:blip r:embed="rId2"/>
          <a:stretch/>
        </p:blipFill>
        <p:spPr>
          <a:xfrm>
            <a:off x="500040" y="1928880"/>
            <a:ext cx="82152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БОЛЬШОЙ ЛЕДОВЫЙ ДВОРЕЦ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Димка\Рабочий стол\большая ледовая арена.jpg"/>
          <p:cNvPicPr/>
          <p:nvPr/>
        </p:nvPicPr>
        <p:blipFill>
          <a:blip r:embed="rId2"/>
          <a:stretch/>
        </p:blipFill>
        <p:spPr>
          <a:xfrm>
            <a:off x="428760" y="1857240"/>
            <a:ext cx="82864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ЫЖНЫЙ КОМПЛЕК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Documents and Settings\Димка\Рабочий стол\лыжный комплекс.jpg"/>
          <p:cNvPicPr/>
          <p:nvPr/>
        </p:nvPicPr>
        <p:blipFill>
          <a:blip r:embed="rId2"/>
          <a:stretch/>
        </p:blipFill>
        <p:spPr>
          <a:xfrm>
            <a:off x="357120" y="1643040"/>
            <a:ext cx="8429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16:37:39Z</dcterms:created>
  <dc:creator>Дима</dc:creator>
  <dc:description/>
  <dc:language>en-US</dc:language>
  <cp:lastModifiedBy>Дима</cp:lastModifiedBy>
  <dcterms:modified xsi:type="dcterms:W3CDTF">2011-08-14T17:09:24Z</dcterms:modified>
  <cp:revision>4</cp:revision>
  <dc:subject/>
  <dc:title>Слайд 1</dc:title>
</cp:coreProperties>
</file>