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59C-6C30-4C6C-BAD0-4561D357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EBE-B6FE-4EC8-9027-8306344E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846-37D6-4AC5-8885-BF11CB38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E68-F868-451D-A3BC-71A17E71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BB6-6E30-430C-AC41-1DECE2EA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365-6557-44E6-A222-A05A93C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8CDD-315B-402C-9A21-7CFB7C0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BDB1-C028-486A-9FFC-629D9463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889B-9E6F-41F6-9E76-2DA1C536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267-D2B9-464F-89DD-4D99B84F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26E6-53FE-4851-8C8C-26644B5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149-A408-45A4-8DE5-929A3A9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902A-4494-44DA-8DD3-A21AE34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A6C-F7C2-4D34-B389-5178EA36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D9C-7503-46FE-B100-BE476FE0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70F-1F22-4E47-88E9-2B009CF8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BC93-C47F-4902-B8D8-FCC79833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B336-D001-4250-BB29-7AC4B39C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DE04-CBFB-496B-9FCB-3C0FC6C2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4A40-71A7-4B48-BEE1-0444758A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65C3-9E69-4073-A693-327BE14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C10E-9766-4FB9-A3FC-36C8C52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21D-4328-43B4-92C7-C15398B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46E2-D957-4551-A4E7-94722F0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2AFA-B0E6-4806-BCC6-B790FB0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17D4-6817-43AB-A31A-8983BD0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8E56-B8B0-4849-A5F4-8ED245C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7742-E8C4-411D-BA23-46FB29DA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721C-A20E-44DA-A8B0-D4EA43E1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B023-A836-4483-AFDA-8EB4EC59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BE86-BA0B-412E-8A15-5C1701BC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0C05-FED6-4484-BC16-98254F8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5234-26E2-4F07-A7AA-256BF95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E5D-96F1-415B-922E-04A3EAD7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45AB-8102-4BBE-B021-7AAF9E14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09B7-9B0D-4C6A-9758-13C1CA2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A8AE-B01F-4E6A-8D2A-B374AD48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E9BF-2802-42CA-8F3D-75733D8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92B7-39BB-4753-9A88-C3CAD6A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8E95-EEF1-4B94-B869-7573051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36FC-88CA-407E-9283-E7C77C7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DAC2-DF46-43F1-828C-9BD220AF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294C-78B7-4C6F-8037-684507F1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9F4-0468-44CB-B8BE-421EF09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543-D015-4254-8D26-8A0E20E3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6CF-AD86-4493-9478-24065AD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7CB-E486-4BFA-BEF5-26D6B6B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1BE-6F80-4D35-B2C7-AE8814BF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8477-A83C-43DB-B0D1-DB86773157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37E-D219-4179-A659-C948C500AD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5A89-5BB6-43AB-9A23-16E1FE90234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95E4-DFA5-4F23-904E-2C12D394D3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ИМПИА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Димка\Рабочий стол\кольца.jpg"/>
          <p:cNvPicPr/>
          <p:nvPr/>
        </p:nvPicPr>
        <p:blipFill>
          <a:blip r:embed="rId2"/>
          <a:stretch/>
        </p:blipFill>
        <p:spPr>
          <a:xfrm>
            <a:off x="214200" y="1428840"/>
            <a:ext cx="8643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ЧИ - 20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Documents and Settings\Димка\Рабочий стол\символы.jpg"/>
          <p:cNvPicPr/>
          <p:nvPr/>
        </p:nvPicPr>
        <p:blipFill>
          <a:blip r:embed="rId1"/>
          <a:stretch/>
        </p:blipFill>
        <p:spPr>
          <a:xfrm>
            <a:off x="357120" y="1839960"/>
            <a:ext cx="4000680" cy="451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Димка\Рабочий стол\лучик и  снежинка.png"/>
          <p:cNvPicPr/>
          <p:nvPr/>
        </p:nvPicPr>
        <p:blipFill>
          <a:blip r:embed="rId2"/>
          <a:stretch/>
        </p:blipFill>
        <p:spPr>
          <a:xfrm>
            <a:off x="4714920" y="1857240"/>
            <a:ext cx="3857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ДОВЫЙ ДВОРЕ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Димка\Рабочий стол\ледовый дворец спорта.jpg"/>
          <p:cNvPicPr/>
          <p:nvPr/>
        </p:nvPicPr>
        <p:blipFill>
          <a:blip r:embed="rId2"/>
          <a:stretch/>
        </p:blipFill>
        <p:spPr>
          <a:xfrm>
            <a:off x="428760" y="1857240"/>
            <a:ext cx="82864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НТРАЛЬНЫЙ СТАДИ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Димка\Рабочий стол\центральный стадион.jpg"/>
          <p:cNvPicPr/>
          <p:nvPr/>
        </p:nvPicPr>
        <p:blipFill>
          <a:blip r:embed="rId2"/>
          <a:stretch/>
        </p:blipFill>
        <p:spPr>
          <a:xfrm>
            <a:off x="500040" y="1928880"/>
            <a:ext cx="8215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БОЛЬШОЙ ЛЕДОВЫЙ ДВОРЕЦ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Димка\Рабочий стол\большая ледовая арена.jpg"/>
          <p:cNvPicPr/>
          <p:nvPr/>
        </p:nvPicPr>
        <p:blipFill>
          <a:blip r:embed="rId2"/>
          <a:stretch/>
        </p:blipFill>
        <p:spPr>
          <a:xfrm>
            <a:off x="428760" y="1857240"/>
            <a:ext cx="8286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ЫЖНЫЙ КОМПЛЕК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Димка\Рабочий стол\лыжный комплекс.jpg"/>
          <p:cNvPicPr/>
          <p:nvPr/>
        </p:nvPicPr>
        <p:blipFill>
          <a:blip r:embed="rId2"/>
          <a:stretch/>
        </p:blipFill>
        <p:spPr>
          <a:xfrm>
            <a:off x="357120" y="1643040"/>
            <a:ext cx="8429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16:37:39Z</dcterms:created>
  <dc:creator>Дима</dc:creator>
  <dc:description/>
  <dc:language>en-US</dc:language>
  <cp:lastModifiedBy>Дима</cp:lastModifiedBy>
  <dcterms:modified xsi:type="dcterms:W3CDTF">2011-08-14T17:09:24Z</dcterms:modified>
  <cp:revision>4</cp:revision>
  <dc:subject/>
  <dc:title>Слайд 1</dc:title>
</cp:coreProperties>
</file>