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13CC-69AB-4FA0-ACD2-42243C74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EB06-2348-447E-9778-6930319C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D1E-07E9-4998-9918-49DFA2F5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15F9-721C-4C2D-BCBF-035DD246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E1F4-BC47-4B1C-B6BF-B1820A96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16E3-BA1A-4534-98E9-EEF8DD37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5E35-0DDE-4D41-A177-7E5FBB93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54D1-AAE7-4909-A440-A4C7009B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0A72-03B9-48B6-891C-4BABFC02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AED1-708E-4510-B34D-84CA7839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C143-A275-4307-AF2D-52B4B4F8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AAF-FC67-4FBD-B195-A7B3F76B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098A-D4D9-4127-AFAE-A153DFA9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879A-E8CA-481C-AE98-DF3BC7AC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5BD4-8CFF-4D99-A51C-F4A64144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AB2F-D342-4F96-81C1-1336EA84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838D-D0EC-4DF7-BA74-AB929756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4971-AEDB-486D-8A61-DF554327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E5DF-AD09-4A37-9EDE-2CE98935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1CE-D0EA-4924-87AC-94846A48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231-C36E-4834-BF01-926ED13F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EA6-F231-4A63-B8EA-A77F6154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E92-7E6D-42DF-A2F9-1CD8C0C7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70FF-71C4-4671-BA0E-83E3B491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AB5C-A18C-4496-A28B-C78F70FCEA3B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0DF1-AC41-4ACC-8C62-C7FBB2FA347E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7200" y="365040"/>
            <a:ext cx="8229600" cy="962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924000" y="1413000"/>
            <a:ext cx="504036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Памятный  знак  для увековечивания  места и времени нахождения контокской начальной школы, где работала учителем начальных классов О.Е.Филиппова.</a:t>
            </a: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                              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D:\2009-2011 Участие в конкурсах и проектах\Патриотическое направление\«Без памяти нет народа»\Приложение\ПРИЛОЖЕНИЕ 6\ПРИЛОЖЕНИЕ - Памятный знак.jpg"/>
          <p:cNvPicPr/>
          <p:nvPr/>
        </p:nvPicPr>
        <p:blipFill>
          <a:blip r:embed="rId2"/>
          <a:stretch/>
        </p:blipFill>
        <p:spPr>
          <a:xfrm>
            <a:off x="539640" y="1413000"/>
            <a:ext cx="3600720" cy="5124240"/>
          </a:xfrm>
          <a:prstGeom prst="rect">
            <a:avLst/>
          </a:prstGeom>
          <a:ln w="9360">
            <a:solidFill>
              <a:srgbClr val="1025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352760" y="347760"/>
            <a:ext cx="5430960" cy="1560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067280" y="2133720"/>
            <a:ext cx="48974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ля писала на волю друзьям: «Сегодня нас расстреляют... Прощайте, будем помирать за дело, начатое партией!».              Так оборвалась жизнь мужественных советских патриот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3" descr="D:\2009-2011 Участие в конкурсах и проектах\Патриотическое направление\«Без памяти нет народа»\Приложение\ПРИЛОЖЕНИЕ 8\ОЕФилиппова.JPG"/>
          <p:cNvPicPr/>
          <p:nvPr/>
        </p:nvPicPr>
        <p:blipFill>
          <a:blip r:embed="rId2"/>
          <a:stretch/>
        </p:blipFill>
        <p:spPr>
          <a:xfrm>
            <a:off x="324000" y="476280"/>
            <a:ext cx="3914640" cy="5975280"/>
          </a:xfrm>
          <a:prstGeom prst="rect">
            <a:avLst/>
          </a:prstGeom>
          <a:ln w="9360">
            <a:solidFill>
              <a:srgbClr val="1025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Юра\Рабочий стол\Рисунок2.jpg"/>
          <p:cNvPicPr/>
          <p:nvPr/>
        </p:nvPicPr>
        <p:blipFill>
          <a:blip r:embed="rId2"/>
          <a:stretch/>
        </p:blipFill>
        <p:spPr>
          <a:xfrm>
            <a:off x="4956120" y="1600200"/>
            <a:ext cx="342288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5056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В годы войны она была радисткой подпольной группы на территории Карелии, в 1943 году в возрасте 23 лет была расстрелена белофиннами. </a:t>
            </a: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Наш школьный музей носит </a:t>
            </a: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имя О.Е.Филиппово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648320" y="1557000"/>
            <a:ext cx="40384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Родилась                   15 июня 1920 года в деревне Мёлкё Вокнаволокской  волости Кемского уезда Архангельской губернии, в семье крестьянин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C:\Documents and Settings\Юра\Рабочий стол\Рисунок1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801720" y="1600200"/>
            <a:ext cx="3349440" cy="4525920"/>
          </a:xfrm>
          <a:prstGeom prst="rect">
            <a:avLst/>
          </a:prstGeom>
          <a:ln w="9360">
            <a:solidFill>
              <a:srgbClr val="1025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D:\2009-2011 Участие в конкурсах и проектах\Патриотическое направление\«Без памяти нет народа»\Приложение\ПРИЛОЖЕНИЕ 6\ПРИЛОЖЕНИЕ.JPG"/>
          <p:cNvPicPr/>
          <p:nvPr/>
        </p:nvPicPr>
        <p:blipFill>
          <a:blip r:embed="rId1"/>
          <a:stretch/>
        </p:blipFill>
        <p:spPr>
          <a:xfrm>
            <a:off x="324000" y="1628640"/>
            <a:ext cx="4978080" cy="3733920"/>
          </a:xfrm>
          <a:prstGeom prst="rect">
            <a:avLst/>
          </a:prstGeom>
          <a:ln w="9360">
            <a:solidFill>
              <a:srgbClr val="10253f"/>
            </a:solidFill>
            <a:miter/>
          </a:ln>
        </p:spPr>
      </p:pic>
      <p:sp>
        <p:nvSpPr>
          <p:cNvPr id="95" name=""/>
          <p:cNvSpPr txBox="1"/>
          <p:nvPr/>
        </p:nvSpPr>
        <p:spPr>
          <a:xfrm>
            <a:off x="5105520" y="1484280"/>
            <a:ext cx="38592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  </a:t>
            </a:r>
            <a:r>
              <a:rPr b="1" i="1" lang="ru-RU" sz="2700" spc="-1" strike="noStrike">
                <a:solidFill>
                  <a:srgbClr val="c00000"/>
                </a:solidFill>
                <a:latin typeface="Georgia"/>
              </a:rPr>
              <a:t>Прошло немало времени, но память о мужественной патриотке и сегодня жива в памяти людей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C:\Documents and Settings\Юра\Мои документы\Мои рисунки\Для презентаций\Рисунок1.gif"/>
          <p:cNvPicPr/>
          <p:nvPr/>
        </p:nvPicPr>
        <p:blipFill>
          <a:blip r:embed="rId2"/>
          <a:stretch/>
        </p:blipFill>
        <p:spPr>
          <a:xfrm rot="16593000">
            <a:off x="1724760" y="3728160"/>
            <a:ext cx="4478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8:52:44Z</dcterms:created>
  <dc:creator>Ольга</dc:creator>
  <dc:description/>
  <dc:language>en-US</dc:language>
  <cp:lastModifiedBy>Ольга</cp:lastModifiedBy>
  <dcterms:modified xsi:type="dcterms:W3CDTF">2011-12-24T19:08:30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