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6602-2D3B-4426-AC8D-37818C9F4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CE3B-57D3-46FE-9131-65DE7806C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4739-A871-4030-9B24-CE12AF21C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0115-C1F8-454B-BD62-0F04A19E3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6DA44-72F5-4291-9793-F65F2FEA6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C7F7B-9332-4FF0-B2E3-9129282B5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508EB-B2B5-468A-B82F-DE65607CD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7BE66-C04D-4135-BCA6-26C0E8668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D0D6B-6197-43EF-9B98-8508FF3EB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244EE-EA3A-43B6-8431-899B8177F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25478-A5EC-44DD-997C-AB6AFECFE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1818-BBF7-4D67-AB68-16F090B1B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C329E-DEA3-490A-A878-C2CD7F56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1D603-A068-4F4A-A3AF-84B185F7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72907-976D-4967-833F-5DBF0C12E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5E37C-2146-42FC-92E6-39416EB0B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8F9D8-A418-4CCC-80C4-17ACE5570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E89D-C104-4CB2-9CA2-1FF281D00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D0BB-EB19-4C78-A47E-B6B5081BA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A499-ACAE-459E-8AC0-6EEE37F57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88F9-6458-484C-ACE4-B837CDD5C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662C-159F-41D4-8B51-A78D821E4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F7AF-8970-4D86-960D-9A5A14229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6182-FEFD-439B-B8A7-C883E64E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BF373-4E69-4DA7-8DAC-87CDAAD63671}" type="slidenum">
              <a:rPr b="0" lang="ru-RU" sz="1200" spc="-1" strike="noStrike">
                <a:solidFill>
                  <a:srgbClr val="bcbcb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E9EF8-91C2-4E53-9106-0EAF28DD5D15}" type="slidenum">
              <a:rPr b="0" lang="ru-RU" sz="1200" spc="-1" strike="noStrike">
                <a:solidFill>
                  <a:srgbClr val="bcbcb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457200" y="365040"/>
            <a:ext cx="8229600" cy="9622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3924000" y="1413000"/>
            <a:ext cx="5040360" cy="50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Памятный  знак  для увековечивания  места и времени нахождения контокской начальной школы, где работала учителем начальных классов О.Е.Филиппова.</a:t>
            </a:r>
            <a:r>
              <a:rPr b="1" i="1" lang="en-US" sz="2600" spc="-1" strike="noStrike">
                <a:solidFill>
                  <a:srgbClr val="000000"/>
                </a:solidFill>
                <a:latin typeface="Georgia"/>
              </a:rPr>
              <a:t>                                           </a:t>
            </a: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Picture 2" descr="D:\2009-2011 Участие в конкурсах и проектах\Патриотическое направление\«Без памяти нет народа»\Приложение\ПРИЛОЖЕНИЕ 6\ПРИЛОЖЕНИЕ - Памятный знак.jpg"/>
          <p:cNvPicPr/>
          <p:nvPr/>
        </p:nvPicPr>
        <p:blipFill>
          <a:blip r:embed="rId2"/>
          <a:stretch/>
        </p:blipFill>
        <p:spPr>
          <a:xfrm>
            <a:off x="539640" y="1413000"/>
            <a:ext cx="3600720" cy="5124240"/>
          </a:xfrm>
          <a:prstGeom prst="rect">
            <a:avLst/>
          </a:prstGeom>
          <a:ln w="9360">
            <a:solidFill>
              <a:srgbClr val="10253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Заголовок 1" descr=""/>
          <p:cNvPicPr/>
          <p:nvPr/>
        </p:nvPicPr>
        <p:blipFill>
          <a:blip r:embed="rId1"/>
          <a:stretch/>
        </p:blipFill>
        <p:spPr>
          <a:xfrm>
            <a:off x="4352760" y="347760"/>
            <a:ext cx="5430960" cy="15602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4067280" y="2133720"/>
            <a:ext cx="489744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4111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Оля писала на волю друзьям: «Сегодня нас расстреляют... Прощайте, будем помирать за дело, начатое партией!».              Так оборвалась жизнь мужественных советских патриотов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Picture 3" descr="D:\2009-2011 Участие в конкурсах и проектах\Патриотическое направление\«Без памяти нет народа»\Приложение\ПРИЛОЖЕНИЕ 8\ОЕФилиппова.JPG"/>
          <p:cNvPicPr/>
          <p:nvPr/>
        </p:nvPicPr>
        <p:blipFill>
          <a:blip r:embed="rId2"/>
          <a:stretch/>
        </p:blipFill>
        <p:spPr>
          <a:xfrm>
            <a:off x="324000" y="476280"/>
            <a:ext cx="3914640" cy="5975280"/>
          </a:xfrm>
          <a:prstGeom prst="rect">
            <a:avLst/>
          </a:prstGeom>
          <a:ln w="9360">
            <a:solidFill>
              <a:srgbClr val="10253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C:\Documents and Settings\Юра\Рабочий стол\Рисунок2.jpg"/>
          <p:cNvPicPr/>
          <p:nvPr/>
        </p:nvPicPr>
        <p:blipFill>
          <a:blip r:embed="rId2"/>
          <a:stretch/>
        </p:blipFill>
        <p:spPr>
          <a:xfrm>
            <a:off x="4956120" y="1600200"/>
            <a:ext cx="3422880" cy="4525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250560" y="1600200"/>
            <a:ext cx="453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В годы войны она была радисткой подпольной группы на территории Карелии, в 1943 году в возрасте 23 лет была расстрелена белофиннами. </a:t>
            </a:r>
            <a:r>
              <a:rPr b="1" i="1" lang="en-US" sz="2600" spc="-1" strike="noStrike">
                <a:solidFill>
                  <a:srgbClr val="000000"/>
                </a:solidFill>
                <a:latin typeface="Georgia"/>
              </a:rPr>
              <a:t>             </a:t>
            </a: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Наш школьный музей носит </a:t>
            </a:r>
            <a:r>
              <a:rPr b="1" i="1" lang="en-US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имя О.Е.Филипповой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648320" y="1557000"/>
            <a:ext cx="403848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Родилась                   15 июня 1920 года в деревне Мёлкё Вокнаволокской  волости Кемского уезда Архангельской губернии, в семье крестьянина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Picture 2" descr="C:\Documents and Settings\Юра\Рабочий стол\Рисунок1.jpg"/>
          <p:cNvPicPr/>
          <p:nvPr/>
        </p:nvPicPr>
        <p:blipFill>
          <a:blip r:embed="rId2">
            <a:lum bright="-10000"/>
          </a:blip>
          <a:stretch/>
        </p:blipFill>
        <p:spPr>
          <a:xfrm>
            <a:off x="801720" y="1600200"/>
            <a:ext cx="3349440" cy="4525920"/>
          </a:xfrm>
          <a:prstGeom prst="rect">
            <a:avLst/>
          </a:prstGeom>
          <a:ln w="9360">
            <a:solidFill>
              <a:srgbClr val="10253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D:\2009-2011 Участие в конкурсах и проектах\Патриотическое направление\«Без памяти нет народа»\Приложение\ПРИЛОЖЕНИЕ 6\ПРИЛОЖЕНИЕ.JPG"/>
          <p:cNvPicPr/>
          <p:nvPr/>
        </p:nvPicPr>
        <p:blipFill>
          <a:blip r:embed="rId1"/>
          <a:stretch/>
        </p:blipFill>
        <p:spPr>
          <a:xfrm>
            <a:off x="324000" y="1628640"/>
            <a:ext cx="4978080" cy="3733920"/>
          </a:xfrm>
          <a:prstGeom prst="rect">
            <a:avLst/>
          </a:prstGeom>
          <a:ln w="9360">
            <a:solidFill>
              <a:srgbClr val="10253f"/>
            </a:solidFill>
            <a:miter/>
          </a:ln>
        </p:spPr>
      </p:pic>
      <p:sp>
        <p:nvSpPr>
          <p:cNvPr id="95" name=""/>
          <p:cNvSpPr txBox="1"/>
          <p:nvPr/>
        </p:nvSpPr>
        <p:spPr>
          <a:xfrm>
            <a:off x="5105520" y="1484280"/>
            <a:ext cx="38592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Georgia"/>
              </a:rPr>
              <a:t>  </a:t>
            </a:r>
            <a:r>
              <a:rPr b="1" i="1" lang="ru-RU" sz="2700" spc="-1" strike="noStrike">
                <a:solidFill>
                  <a:srgbClr val="c00000"/>
                </a:solidFill>
                <a:latin typeface="Georgia"/>
              </a:rPr>
              <a:t>Прошло немало времени, но память о мужественной патриотке и сегодня жива в памяти людей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Picture 4" descr="C:\Documents and Settings\Юра\Мои документы\Мои рисунки\Для презентаций\Рисунок1.gif"/>
          <p:cNvPicPr/>
          <p:nvPr/>
        </p:nvPicPr>
        <p:blipFill>
          <a:blip r:embed="rId2"/>
          <a:stretch/>
        </p:blipFill>
        <p:spPr>
          <a:xfrm rot="16593000">
            <a:off x="1724760" y="3728160"/>
            <a:ext cx="44784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8:52:44Z</dcterms:created>
  <dc:creator>Ольга</dc:creator>
  <dc:description/>
  <dc:language>en-US</dc:language>
  <cp:lastModifiedBy>Ольга</cp:lastModifiedBy>
  <dcterms:modified xsi:type="dcterms:W3CDTF">2011-12-24T19:08:30Z</dcterms:modified>
  <cp:revision>2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