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23B-54D8-43DF-B487-E67FA642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643-0CEB-421E-BB8C-BA5C223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D15-65A0-4A77-8981-A114861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17A-F33D-4C4D-97DB-C51A424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933-6A99-4C81-9618-53B8B08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9B7-A462-4749-8898-7006CB5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C6-1E9D-40D5-AEF6-3539E67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755-7881-4028-9E02-6308C39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4A5-E0E6-4C2B-83BA-D75F77C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728-381E-4A1D-9A02-F59B664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18C-1DEE-41D6-B221-592DD18D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FCD-CC72-4643-9E0E-A460AA4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56F-A4F1-4A6B-966D-D4DA76C5C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49280" y="331920"/>
            <a:ext cx="8245440" cy="6194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6776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4880" y="328680"/>
            <a:ext cx="8275680" cy="6202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42800" y="324000"/>
            <a:ext cx="825984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6040" y="328680"/>
            <a:ext cx="8251920" cy="6202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3960" y="316080"/>
            <a:ext cx="8237520" cy="6225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38120" y="334800"/>
            <a:ext cx="8267760" cy="618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6776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42800" y="316080"/>
            <a:ext cx="8259840" cy="6225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3-03-10T09:28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