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CFB-D76F-4F48-AF01-AD8D6CCD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36E-E147-4CD3-AADF-E9AE0AD6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14C-EA18-43B4-AD73-F655FD3F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59B-D114-48DF-8ED8-1A2FA402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C1D-2C03-45A0-9185-470122CF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A58-B2CC-436D-9580-2EF4A5D5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599-9B3F-4392-9DB3-CD284430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810-5222-44A8-8467-FE6B231F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FA3-551B-4AA8-8303-20C2288C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E2C-77EE-4F41-A816-DB58AFFB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E9B-BA47-4D3E-B3ED-DE48F1F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15A-CC9C-46FA-8B93-3BA6D0E2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48F2-2CBC-4F6C-BE9B-097D6B9E2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49280" y="331920"/>
            <a:ext cx="8245440" cy="6194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38120" y="324000"/>
            <a:ext cx="8267760" cy="621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34880" y="328680"/>
            <a:ext cx="8275680" cy="6202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42800" y="324000"/>
            <a:ext cx="8259840" cy="621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46040" y="328680"/>
            <a:ext cx="8251920" cy="6202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53960" y="316080"/>
            <a:ext cx="8237520" cy="62258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38120" y="334800"/>
            <a:ext cx="8267760" cy="61884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38120" y="324000"/>
            <a:ext cx="8267760" cy="621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42800" y="316080"/>
            <a:ext cx="8259840" cy="62258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3-03-10T09:28:3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