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4.png" ContentType="image/png"/>
  <Override PartName="/ppt/media/image12.jpeg" ContentType="image/jpeg"/>
  <Override PartName="/ppt/media/image36.png" ContentType="image/png"/>
  <Override PartName="/ppt/media/image41.jpeg" ContentType="image/jpeg"/>
  <Override PartName="/ppt/media/image13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923213" cy="71993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7560" y="514440"/>
            <a:ext cx="28288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465B-F2ED-4712-BC11-B3B9F9D15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157560" y="514440"/>
            <a:ext cx="282888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тров 2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79F-0304-442A-8E93-F6B62740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713088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63040"/>
            <a:ext cx="713088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ACE-D593-4433-BC2F-7FA94132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6304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9280" y="416304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B83-FC31-49FF-AFA4-206EE7F9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6200" y="168120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7120" y="168120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6304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6200" y="416304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7120" y="416304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581-01E6-4E8A-80F1-48E82F0B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681200"/>
            <a:ext cx="71308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663-54DD-4CBD-B80E-808B515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713088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14E-79FB-4FA7-B8A6-50BC35F7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7C7-9131-4489-96BB-95A28D9C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D72-B7CA-4288-B892-46A1EE93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87280"/>
            <a:ext cx="713088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7AF-2DE6-48C7-9168-B3CD8703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6304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FF6-DFE1-4B95-BC71-D1F8112B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9280" y="416304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41F-D63F-4A33-B097-C158A23B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63040"/>
            <a:ext cx="713088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61F-EEFB-4474-B6B3-5AC0FD6E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81200"/>
            <a:ext cx="713088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-295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484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6880" indent="-195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6880" indent="-195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6880" indent="-195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fld id="{A571D868-D48B-4C7B-96F0-818AA6AF6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" Target="slide11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" Target="slide13.xml"/><Relationship Id="rId16" Type="http://schemas.openxmlformats.org/officeDocument/2006/relationships/image" Target="../media/image13.jpeg"/><Relationship Id="rId17" Type="http://schemas.openxmlformats.org/officeDocument/2006/relationships/slide" Target="slide12.xml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9440" y="171360"/>
            <a:ext cx="7130880" cy="9907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Georgia"/>
              </a:rPr>
              <a:t>Человек – легенда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390680"/>
            <a:ext cx="3200400" cy="44337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 algn="ctr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сё прошёл – огни и во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Голод, холод, бой и тр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Одного не знал отроду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Громкой славы медных т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од Москвой и Курском би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Был убит – и всё ж воскр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зял Берлин – не удивился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идел в снах свой луг и л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Лишь теперь его – признался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Удивленье то берё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Как тогда он жив оста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И теперь ещё жив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Л. Решетник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51240" y="6419880"/>
            <a:ext cx="4570560" cy="6285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 fontScale="79000"/>
          </a:bodyPr>
          <a:p>
            <a:pPr marL="2329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аботу выполнили учениц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29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ОУ СОШ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3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класса   г. Костомук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29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Ермачкова Елена и Леонтьева Соф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29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уководитель: Проводилова Ольга Валентин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44840" y="1238400"/>
            <a:ext cx="303552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92400" y="-20520"/>
            <a:ext cx="7138080" cy="6996600"/>
            <a:chOff x="392400" y="-20520"/>
            <a:chExt cx="7138080" cy="6996600"/>
          </a:xfrm>
        </p:grpSpPr>
        <p:sp>
          <p:nvSpPr>
            <p:cNvPr id="98" name="_s11296"/>
            <p:cNvSpPr/>
            <p:nvPr/>
          </p:nvSpPr>
          <p:spPr>
            <a:xfrm flipH="1" flipV="1">
              <a:off x="2685240" y="2057040"/>
              <a:ext cx="752400" cy="885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1295"/>
            <p:cNvSpPr/>
            <p:nvPr/>
          </p:nvSpPr>
          <p:spPr>
            <a:xfrm>
              <a:off x="1350720" y="625680"/>
              <a:ext cx="1629360" cy="161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1294"/>
            <p:cNvSpPr/>
            <p:nvPr/>
          </p:nvSpPr>
          <p:spPr>
            <a:xfrm flipH="1" flipV="1">
              <a:off x="2009520" y="3222000"/>
              <a:ext cx="1150200" cy="198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1293"/>
            <p:cNvSpPr/>
            <p:nvPr/>
          </p:nvSpPr>
          <p:spPr>
            <a:xfrm>
              <a:off x="392400" y="2269440"/>
              <a:ext cx="1629360" cy="1616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1292"/>
            <p:cNvSpPr/>
            <p:nvPr/>
          </p:nvSpPr>
          <p:spPr>
            <a:xfrm flipH="1">
              <a:off x="2247480" y="3963240"/>
              <a:ext cx="1009800" cy="581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1291"/>
            <p:cNvSpPr/>
            <p:nvPr/>
          </p:nvSpPr>
          <p:spPr>
            <a:xfrm>
              <a:off x="725400" y="4140000"/>
              <a:ext cx="1629360" cy="1616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1290"/>
            <p:cNvSpPr/>
            <p:nvPr/>
          </p:nvSpPr>
          <p:spPr>
            <a:xfrm flipH="1">
              <a:off x="3285000" y="4316400"/>
              <a:ext cx="398160" cy="1090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1289"/>
            <p:cNvSpPr/>
            <p:nvPr/>
          </p:nvSpPr>
          <p:spPr>
            <a:xfrm>
              <a:off x="2190240" y="5359680"/>
              <a:ext cx="1629360" cy="1616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1288"/>
            <p:cNvSpPr/>
            <p:nvPr/>
          </p:nvSpPr>
          <p:spPr>
            <a:xfrm>
              <a:off x="4237560" y="4316400"/>
              <a:ext cx="402120" cy="1090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1287"/>
            <p:cNvSpPr/>
            <p:nvPr/>
          </p:nvSpPr>
          <p:spPr>
            <a:xfrm>
              <a:off x="4103280" y="5359680"/>
              <a:ext cx="1629360" cy="1616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1286"/>
            <p:cNvSpPr/>
            <p:nvPr/>
          </p:nvSpPr>
          <p:spPr>
            <a:xfrm>
              <a:off x="4663080" y="3963240"/>
              <a:ext cx="1013760" cy="57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1285"/>
            <p:cNvSpPr/>
            <p:nvPr/>
          </p:nvSpPr>
          <p:spPr>
            <a:xfrm>
              <a:off x="5568480" y="4140000"/>
              <a:ext cx="1629360" cy="1616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1284"/>
            <p:cNvSpPr/>
            <p:nvPr/>
          </p:nvSpPr>
          <p:spPr>
            <a:xfrm flipV="1">
              <a:off x="4760640" y="3218040"/>
              <a:ext cx="1152000" cy="20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1283"/>
            <p:cNvSpPr/>
            <p:nvPr/>
          </p:nvSpPr>
          <p:spPr>
            <a:xfrm>
              <a:off x="5901120" y="2271600"/>
              <a:ext cx="1629360" cy="16164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1282"/>
            <p:cNvSpPr/>
            <p:nvPr/>
          </p:nvSpPr>
          <p:spPr>
            <a:xfrm flipV="1">
              <a:off x="4483080" y="2053440"/>
              <a:ext cx="752400" cy="88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1281"/>
            <p:cNvSpPr/>
            <p:nvPr/>
          </p:nvSpPr>
          <p:spPr>
            <a:xfrm>
              <a:off x="4944600" y="627480"/>
              <a:ext cx="1629360" cy="16164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1280"/>
            <p:cNvSpPr/>
            <p:nvPr/>
          </p:nvSpPr>
          <p:spPr>
            <a:xfrm flipV="1">
              <a:off x="3960360" y="1594080"/>
              <a:ext cx="0" cy="116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1279"/>
            <p:cNvSpPr/>
            <p:nvPr/>
          </p:nvSpPr>
          <p:spPr>
            <a:xfrm>
              <a:off x="3146760" y="-20520"/>
              <a:ext cx="1629360" cy="16164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1278"/>
            <p:cNvSpPr/>
            <p:nvPr/>
          </p:nvSpPr>
          <p:spPr>
            <a:xfrm>
              <a:off x="3146760" y="2755080"/>
              <a:ext cx="1629360" cy="16164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амя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рагм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etter"/>
            <p:cNvSpPr/>
            <p:nvPr/>
          </p:nvSpPr>
          <p:spPr>
            <a:xfrm>
              <a:off x="4340880" y="5733000"/>
              <a:ext cx="1209600" cy="685440"/>
            </a:xfrm>
            <a:prstGeom prst="pie">
              <a:avLst/>
            </a:prstGeom>
            <a:gradFill rotWithShape="0">
              <a:gsLst>
                <a:gs pos="0">
                  <a:srgbClr val="c1d5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32120" y="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531720" y="2381400"/>
            <a:ext cx="1354320" cy="1353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170760" y="245736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103720" y="857160"/>
            <a:ext cx="129564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13560" y="4133880"/>
            <a:ext cx="1371600" cy="1447920"/>
          </a:xfrm>
          <a:prstGeom prst="star5">
            <a:avLst/>
          </a:prstGeom>
          <a:gradFill rotWithShape="0">
            <a:gsLst>
              <a:gs pos="0">
                <a:srgbClr val="710303"/>
              </a:gs>
              <a:gs pos="100000">
                <a:srgbClr val="f7070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обе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талинградск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Бит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1040" y="857160"/>
            <a:ext cx="76320" cy="9144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321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7360" y="781200"/>
            <a:ext cx="838080" cy="609480"/>
          </a:xfrm>
          <a:prstGeom prst="flowChartPunchedTape">
            <a:avLst/>
          </a:prstGeom>
          <a:solidFill>
            <a:srgbClr val="f707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ОБЕ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362480"/>
            <a:ext cx="1676160" cy="914400"/>
          </a:xfrm>
          <a:custGeom>
            <a:avLst/>
            <a:gdLst>
              <a:gd name="textAreaLeft" fmla="*/ 419040 w 1676160"/>
              <a:gd name="textAreaRight" fmla="*/ 1257120 w 167616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дос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 м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4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4560" y="5353200"/>
            <a:ext cx="1295280" cy="1542960"/>
          </a:xfrm>
          <a:prstGeom prst="star5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нят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блока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Ленингра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2520" y="6724800"/>
            <a:ext cx="762120" cy="476280"/>
          </a:xfrm>
          <a:prstGeom prst="rightArrow">
            <a:avLst>
              <a:gd name="adj1" fmla="val 50000"/>
              <a:gd name="adj2" fmla="val 40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agneto"/>
              </a:rPr>
              <a:t>ДАЛЕ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52760"/>
            <a:ext cx="3578400" cy="46483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Когда и при каких обстоятельствах я оказался в рядах морских пехотинцев». Август 194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656160" y="1162080"/>
            <a:ext cx="3489120" cy="24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656160" y="3828960"/>
            <a:ext cx="3504960" cy="245772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856560" y="6724800"/>
            <a:ext cx="838080" cy="476280"/>
          </a:xfrm>
          <a:prstGeom prst="leftArrow">
            <a:avLst>
              <a:gd name="adj1" fmla="val 50000"/>
              <a:gd name="adj2" fmla="val 4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5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171360"/>
            <a:ext cx="4189320" cy="64008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Начало контрнаступления советских войск Сталинградского фронта под Сталинград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9 ноября 1942 г. и извес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 том, что наши наступающие войска с севера и с юга соединились на Дону в городе Калач и в результате этого 330 тысяч войск противника были окружены в районе Сталинград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341960" y="1924200"/>
            <a:ext cx="2811240" cy="44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6560" y="6800760"/>
            <a:ext cx="838080" cy="400320"/>
          </a:xfrm>
          <a:prstGeom prst="leftArrow">
            <a:avLst>
              <a:gd name="adj1" fmla="val 50000"/>
              <a:gd name="adj2" fmla="val 523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3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681200"/>
            <a:ext cx="356544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Начало наступления наших войск 10 января 1943 года для полного разгрома немцев под Сталинград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265640" y="1542960"/>
            <a:ext cx="3313080" cy="4395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932520" y="6724800"/>
            <a:ext cx="838440" cy="476280"/>
          </a:xfrm>
          <a:prstGeom prst="leftArrow">
            <a:avLst>
              <a:gd name="adj1" fmla="val 50000"/>
              <a:gd name="adj2" fmla="val 44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3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7160" y="3240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Победоносное окончание Сталинградской битвы 2 февраля 1943 года в 16:00. В плен было взята 91 тысяча войск противника, в том числе 2500 офицеров и 24 генерала во главе с генерал – фельдмаршалом Паулюсом. В приказе Иосифа Сталина говорилос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Битва под Сталинградом закончилась блестящей победой советских войск, это одно из Великих сражений в истории войн»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2520" y="6724800"/>
            <a:ext cx="838440" cy="476280"/>
          </a:xfrm>
          <a:prstGeom prst="leftArrow">
            <a:avLst>
              <a:gd name="adj1" fmla="val 50000"/>
              <a:gd name="adj2" fmla="val 44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2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94240" y="1009800"/>
            <a:ext cx="3203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79440" y="2000160"/>
            <a:ext cx="3124080" cy="498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В мае 1943 года я с радостью получил письмо от родной матери, которая пережила пятимесячную оккупацию на Дону, и известие о том, что она жива». (Калининский фро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etter"/>
          <p:cNvSpPr/>
          <p:nvPr/>
        </p:nvSpPr>
        <p:spPr>
          <a:xfrm>
            <a:off x="4037040" y="2533680"/>
            <a:ext cx="335268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agneto"/>
              </a:rPr>
              <a:t>Письмо от родной ма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6560" y="2685960"/>
            <a:ext cx="380880" cy="457200"/>
          </a:xfrm>
          <a:prstGeom prst="star5">
            <a:avLst/>
          </a:prstGeom>
          <a:solidFill>
            <a:srgbClr val="f707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6560" y="6800760"/>
            <a:ext cx="836640" cy="400320"/>
          </a:xfrm>
          <a:prstGeom prst="leftArrow">
            <a:avLst>
              <a:gd name="adj1" fmla="val 50000"/>
              <a:gd name="adj2" fmla="val 52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2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4920" y="1681200"/>
            <a:ext cx="333684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Участие нашей стрелковой дивизии в наступательной операции по полному снятию вражеской блокады Ленинграда; известие о полном разгроме вражеских войск и о торжествах, о салюте по этому поводу в Ленинграде 27 января 1944 года». (Второй Прибалтийский фро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84760" y="2076480"/>
            <a:ext cx="3601800" cy="375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780240" y="6724800"/>
            <a:ext cx="838080" cy="476280"/>
          </a:xfrm>
          <a:prstGeom prst="leftArrow">
            <a:avLst>
              <a:gd name="adj1" fmla="val 50000"/>
              <a:gd name="adj2" fmla="val 4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3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60720" y="1085400"/>
            <a:ext cx="3732480" cy="47516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Радостные события о том, что 26 марта 1944 года наши войска вышли на государственную границу Советского Союза в районе реки Пруд (Молдавия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0240" y="6724800"/>
            <a:ext cx="838080" cy="476280"/>
          </a:xfrm>
          <a:prstGeom prst="leftArrow">
            <a:avLst>
              <a:gd name="adj1" fmla="val 50000"/>
              <a:gd name="adj2" fmla="val 4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2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27160" y="2228760"/>
            <a:ext cx="3884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466640"/>
            <a:ext cx="3503520" cy="49035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Радость всех нас по поводу того, что в 1944 году вся территория Советского Союза была освобождена от немецко –фашистских захватчик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6560" y="6724800"/>
            <a:ext cx="838080" cy="476280"/>
          </a:xfrm>
          <a:prstGeom prst="leftArrow">
            <a:avLst>
              <a:gd name="adj1" fmla="val 50000"/>
              <a:gd name="adj2" fmla="val 4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2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579840" y="2076480"/>
            <a:ext cx="39625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1360" y="1009800"/>
            <a:ext cx="3808440" cy="32004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Известие о том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я 1945 год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в 6 часов утра пал Берлин, и над зданием рейхстага было восторженно Красное знамя Побе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27760" y="1009800"/>
            <a:ext cx="2328840" cy="3400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408640" y="1162080"/>
            <a:ext cx="1371600" cy="1295280"/>
          </a:xfrm>
          <a:prstGeom prst="irregularSeal2">
            <a:avLst/>
          </a:prstGeom>
          <a:gradFill rotWithShape="0">
            <a:gsLst>
              <a:gs pos="0">
                <a:srgbClr val="f70707"/>
              </a:gs>
              <a:gs pos="100000">
                <a:srgbClr val="a5002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ПОБ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1720" y="4286160"/>
            <a:ext cx="4038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440" y="247680"/>
            <a:ext cx="713088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Актуальность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3120" y="100980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-295200" algn="ctr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 каждом городе живут люди – легенды, о которых хочется поведать все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 Костомукше имя Плотникова Павла Павловича известно многи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Он пропагандист  гражданственности и патриотизма, неутомимый педагог молодёж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ctr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Наша работа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 дань уважения человеку, который защищая Отечество от фашистских захватчиков в годы Великой Отечественной войны, в послевоенные годы продолжил дело гуманизм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День Побед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9080" y="1238400"/>
            <a:ext cx="3717720" cy="57340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 апреле – мае 1945 года Павел Павлович был на курсах в Москве при Военно-политической академии имени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 ему посчастливилось быть свидетелем и участником незабываем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еповторимого торж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9 мая 1945 года в Москве по случаю Великой исторической Победы Красной армии и всего совет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а свои великие заслуги перед Родиной Павел Павлович был награждё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ремя орденами и семнадцатью медалям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265640" y="1771560"/>
            <a:ext cx="3317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152800"/>
            <a:ext cx="988920" cy="190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494240" y="4362480"/>
            <a:ext cx="342756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494240" y="2228760"/>
            <a:ext cx="3427560" cy="2133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494240" y="0"/>
            <a:ext cx="3427560" cy="2228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2131920" y="207648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131920" cy="2152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131920" y="0"/>
            <a:ext cx="23623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988920" y="2076480"/>
            <a:ext cx="1143000" cy="1981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932520" y="6724800"/>
            <a:ext cx="762120" cy="476280"/>
          </a:xfrm>
          <a:prstGeom prst="leftArrow">
            <a:avLst>
              <a:gd name="adj1" fmla="val 50000"/>
              <a:gd name="adj2" fmla="val 40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10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84360" y="4133880"/>
            <a:ext cx="3045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3120" y="5013360"/>
            <a:ext cx="3657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 кроме этого, Павел Павлович награждён особым и очень редким знаком морской пехот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160" y="5048280"/>
            <a:ext cx="365760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23960" y="360360"/>
            <a:ext cx="6473160" cy="6706800"/>
            <a:chOff x="723960" y="360360"/>
            <a:chExt cx="6473160" cy="6706800"/>
          </a:xfrm>
        </p:grpSpPr>
        <p:sp>
          <p:nvSpPr>
            <p:cNvPr id="174" name="_s13367"/>
            <p:cNvSpPr/>
            <p:nvPr/>
          </p:nvSpPr>
          <p:spPr>
            <a:xfrm flipV="1">
              <a:off x="723960" y="6109560"/>
              <a:ext cx="6473160" cy="957600"/>
            </a:xfrm>
            <a:custGeom>
              <a:avLst/>
              <a:gdLst>
                <a:gd name="textAreaLeft" fmla="*/ 781200 w 6473160"/>
                <a:gd name="textAreaRight" fmla="*/ 5691960 w 6473160"/>
                <a:gd name="textAreaTop" fmla="*/ 115560 h 957600"/>
                <a:gd name="textAreaBottom" fmla="*/ 842040 h 9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С 1964 по 1990 г.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П.П. был неизменным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Членом правления обществ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оветской - Германск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дружбы городов-побратимов: Ленинграда и Дрездена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3340"/>
            <p:cNvSpPr/>
            <p:nvPr/>
          </p:nvSpPr>
          <p:spPr>
            <a:xfrm flipV="1">
              <a:off x="1186920" y="5151240"/>
              <a:ext cx="5546880" cy="957600"/>
            </a:xfrm>
            <a:custGeom>
              <a:avLst/>
              <a:gdLst>
                <a:gd name="textAreaLeft" fmla="*/ 705960 w 5546880"/>
                <a:gd name="textAreaRight" fmla="*/ 4840920 w 5546880"/>
                <a:gd name="textAreaTop" fmla="*/ 121680 h 957600"/>
                <a:gd name="textAreaBottom" fmla="*/ 835920 h 9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сле увольнения из арм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авел Павлович стал работать учителем в школ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(С 1964 по 1970 годы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С 1971 по 1978 годы 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3339"/>
            <p:cNvSpPr/>
            <p:nvPr/>
          </p:nvSpPr>
          <p:spPr>
            <a:xfrm flipV="1">
              <a:off x="1648080" y="4191480"/>
              <a:ext cx="4624560" cy="959400"/>
            </a:xfrm>
            <a:custGeom>
              <a:avLst/>
              <a:gdLst>
                <a:gd name="textAreaLeft" fmla="*/ 631440 w 4624560"/>
                <a:gd name="textAreaRight" fmla="*/ 3993120 w 4624560"/>
                <a:gd name="textAreaTop" fmla="*/ 131040 h 959400"/>
                <a:gd name="textAreaBottom" fmla="*/ 828360 h 95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В августе 1964 г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авительство ГДР наградило его медалью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«За заслуги перед  ГДР»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3343"/>
            <p:cNvSpPr/>
            <p:nvPr/>
          </p:nvSpPr>
          <p:spPr>
            <a:xfrm flipV="1">
              <a:off x="2111400" y="3234600"/>
              <a:ext cx="3698280" cy="957600"/>
            </a:xfrm>
            <a:custGeom>
              <a:avLst/>
              <a:gdLst>
                <a:gd name="textAreaLeft" fmla="*/ 556200 w 3698280"/>
                <a:gd name="textAreaRight" fmla="*/ 3142080 w 3698280"/>
                <a:gd name="textAreaTop" fmla="*/ 144000 h 957600"/>
                <a:gd name="textAreaBottom" fmla="*/ 813600 h 9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В августе 1958 года</a:t>
              </a:r>
              <a:r>
                <a:rPr b="1" lang="en-US" sz="1400" spc="-1" strike="noStrike">
                  <a:solidFill>
                    <a:srgbClr val="f7070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авел Павлович снова стал работать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Германии в политотделе Советско-Берлин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мендатуры по укреплению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оветско-Германской дружб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3342"/>
            <p:cNvSpPr/>
            <p:nvPr/>
          </p:nvSpPr>
          <p:spPr>
            <a:xfrm flipV="1">
              <a:off x="2572920" y="2277000"/>
              <a:ext cx="2774880" cy="956880"/>
            </a:xfrm>
            <a:custGeom>
              <a:avLst/>
              <a:gdLst>
                <a:gd name="textAreaLeft" fmla="*/ 481680 w 2774880"/>
                <a:gd name="textAreaRight" fmla="*/ 2293200 w 2774880"/>
                <a:gd name="textAreaTop" fmla="*/ 165960 h 956880"/>
                <a:gd name="textAreaBottom" fmla="*/ 790920 h 95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В 1951 году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– Павел Павл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еподаватель обще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исциплины в Радиотехническом воен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чилищ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городе Пушкин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3341"/>
            <p:cNvSpPr/>
            <p:nvPr/>
          </p:nvSpPr>
          <p:spPr>
            <a:xfrm flipV="1">
              <a:off x="3036240" y="1316880"/>
              <a:ext cx="1848600" cy="959760"/>
            </a:xfrm>
            <a:custGeom>
              <a:avLst/>
              <a:gdLst>
                <a:gd name="textAreaLeft" fmla="*/ 406440 w 1848600"/>
                <a:gd name="textAreaRight" fmla="*/ 1442160 w 1848600"/>
                <a:gd name="textAreaTop" fmla="*/ 210960 h 959760"/>
                <a:gd name="textAreaBottom" fmla="*/ 748800 h 9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7 июня 1945 года</a:t>
              </a:r>
              <a:r>
                <a:rPr b="1" lang="en-US" sz="1200" spc="-1" strike="noStrike">
                  <a:solidFill>
                    <a:srgbClr val="000000"/>
                  </a:solidFill>
                  <a:latin typeface="Goudy Stout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авел Павл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тал сотрудником Совет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оенной администраци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3338"/>
            <p:cNvSpPr/>
            <p:nvPr/>
          </p:nvSpPr>
          <p:spPr>
            <a:xfrm flipV="1">
              <a:off x="3497400" y="360000"/>
              <a:ext cx="926280" cy="956880"/>
            </a:xfrm>
            <a:custGeom>
              <a:avLst/>
              <a:gdLst>
                <a:gd name="textAreaLeft" fmla="*/ 332280 w 926280"/>
                <a:gd name="textAreaRight" fmla="*/ 594000 w 926280"/>
                <a:gd name="textAreaTop" fmla="*/ 343440 h 956880"/>
                <a:gd name="textAreaBottom" fmla="*/ 613440 h 95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слевоен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-360" y="247680"/>
            <a:ext cx="4341960" cy="72388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 первого и до последнего дня пребывания на фронте Павел Павлович ежедневно вёл дневниковые записи, которые, к счастью, сохранились. После войны эти дневники были опубликов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декабре 2001 года П.П.Плотников был принят в члены «Союза писателей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авел Павлович всегда занимался активной работой по патриотическому воспитанию школьников, студ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настоящее время этот замечательный человек, уже будучи невидящим, продолжает  экспромтом наговаривать на плёнку уроки патриотизма (всего их будет 16) с целью того, чтобы данные уроки поддерживали в нас и воспитывали в подрастающем поколении чувства любви и преданности к своей Родине, а также, чтобы мы все хранили вечную пам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 Великих героях 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з личного архив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4113360" y="6419880"/>
            <a:ext cx="838080" cy="476280"/>
          </a:xfrm>
          <a:prstGeom prst="rightArrow">
            <a:avLst>
              <a:gd name="adj1" fmla="val 50000"/>
              <a:gd name="adj2" fmla="val 4399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agneto"/>
              </a:rPr>
              <a:t>ДАЛЕ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265640" y="1085760"/>
            <a:ext cx="348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1695240"/>
            <a:ext cx="7130880" cy="51051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ематика уроков патриот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Начало войны. Битва за Моск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Сталинградская би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ессмертный подвиг Ленингра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ойна на Карельской зем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Фронт психологической 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Человек на вой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Фронтовые разведч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Молодые солд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Женщины на вой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ойна и де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Сыны и дочери всех народов нашей страны защищали единую и великую Ро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Освобождённые наши лю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еликий трудовой подвиг нашего на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Москва 9 мая 1945 года. День Поб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амятник советскому воину-освободителю в Трептов-парке (Берл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Заключительный урок. Преемственность поколений: героические предки и их потом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-360" y="287280"/>
            <a:ext cx="792180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br>
              <a:rPr sz="28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 окончании своей работы, Плотников П.П. планирует подарить данные уроки школам Росс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Обращение к молодому поколению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65240" y="169560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Плотников Павел Павлови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1360" y="1999800"/>
            <a:ext cx="3489480" cy="47516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тарый уч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тарый солд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етеран 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онской ка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Гвардии полковник в отста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89320" y="1847880"/>
            <a:ext cx="33163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55760" y="399960"/>
            <a:ext cx="7086240" cy="6094080"/>
            <a:chOff x="455760" y="399960"/>
            <a:chExt cx="7086240" cy="6094080"/>
          </a:xfrm>
        </p:grpSpPr>
        <p:cxnSp>
          <p:nvCxnSpPr>
            <p:cNvPr id="58" name="_s29709"/>
            <p:cNvCxnSpPr>
              <a:stCxn id="59" idx="0"/>
              <a:endCxn id="60" idx="2"/>
            </p:cNvCxnSpPr>
            <p:nvPr/>
          </p:nvCxnSpPr>
          <p:spPr>
            <a:xfrm flipV="1" rot="16200000">
              <a:off x="4628880" y="2206080"/>
              <a:ext cx="1219320" cy="2480760"/>
            </a:xfrm>
            <a:prstGeom prst="bentConnector3">
              <a:avLst>
                <a:gd name="adj1" fmla="val 936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1" name="_s29708"/>
            <p:cNvCxnSpPr>
              <a:stCxn id="62" idx="0"/>
              <a:endCxn id="60" idx="2"/>
            </p:cNvCxnSpPr>
            <p:nvPr/>
          </p:nvCxnSpPr>
          <p:spPr>
            <a:xfrm flipV="1">
              <a:off x="3998880" y="2836800"/>
              <a:ext cx="2880" cy="121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29707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148840" y="2206080"/>
              <a:ext cx="1219320" cy="2480760"/>
            </a:xfrm>
            <a:prstGeom prst="bentConnector3">
              <a:avLst>
                <a:gd name="adj1" fmla="val 936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0" name="_s29703"/>
            <p:cNvSpPr/>
            <p:nvPr/>
          </p:nvSpPr>
          <p:spPr>
            <a:xfrm>
              <a:off x="2935800" y="399960"/>
              <a:ext cx="2125800" cy="2437560"/>
            </a:xfrm>
            <a:custGeom>
              <a:avLst/>
              <a:gdLst>
                <a:gd name="textAreaLeft" fmla="*/ 103680 w 2125800"/>
                <a:gd name="textAreaRight" fmla="*/ 2022120 w 2125800"/>
                <a:gd name="textAreaTop" fmla="*/ 103680 h 2437560"/>
                <a:gd name="textAreaBottom" fmla="*/ 2333880 h 2437560"/>
              </a:gdLst>
              <a:ahLst/>
              <a:rect l="textAreaLeft" t="textAreaTop" r="textAreaRight" b="textAreaBottom"/>
              <a:pathLst>
                <a:path w="21600" h="24767">
                  <a:moveTo>
                    <a:pt x="3600" y="0"/>
                  </a:moveTo>
                  <a:arcTo wR="3600" hR="3600" stAng="16200000" swAng="-5400000"/>
                  <a:lnTo>
                    <a:pt x="0" y="21167"/>
                  </a:lnTo>
                  <a:arcTo wR="3600" hR="3600" stAng="10800000" swAng="-5400000"/>
                  <a:lnTo>
                    <a:pt x="18000" y="24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Arial"/>
                </a:rPr>
                <a:t>Страницы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Arial"/>
                </a:rPr>
                <a:t>жизн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9704"/>
            <p:cNvSpPr/>
            <p:nvPr/>
          </p:nvSpPr>
          <p:spPr>
            <a:xfrm>
              <a:off x="455760" y="4056480"/>
              <a:ext cx="2125800" cy="2437560"/>
            </a:xfrm>
            <a:custGeom>
              <a:avLst/>
              <a:gdLst>
                <a:gd name="textAreaLeft" fmla="*/ 103680 w 2125800"/>
                <a:gd name="textAreaRight" fmla="*/ 2022120 w 2125800"/>
                <a:gd name="textAreaTop" fmla="*/ 103680 h 2437560"/>
                <a:gd name="textAreaBottom" fmla="*/ 2333880 h 2437560"/>
              </a:gdLst>
              <a:ahLst/>
              <a:rect l="textAreaLeft" t="textAreaTop" r="textAreaRight" b="textAreaBottom"/>
              <a:pathLst>
                <a:path w="21600" h="24767">
                  <a:moveTo>
                    <a:pt x="3600" y="0"/>
                  </a:moveTo>
                  <a:arcTo wR="3600" hR="3600" stAng="16200000" swAng="-5400000"/>
                  <a:lnTo>
                    <a:pt x="0" y="21167"/>
                  </a:lnTo>
                  <a:arcTo wR="3600" hR="3600" stAng="10800000" swAng="-5400000"/>
                  <a:lnTo>
                    <a:pt x="18000" y="24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Довоен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9705"/>
            <p:cNvSpPr/>
            <p:nvPr/>
          </p:nvSpPr>
          <p:spPr>
            <a:xfrm>
              <a:off x="2935800" y="4056480"/>
              <a:ext cx="2125800" cy="2437560"/>
            </a:xfrm>
            <a:custGeom>
              <a:avLst/>
              <a:gdLst>
                <a:gd name="textAreaLeft" fmla="*/ 103680 w 2125800"/>
                <a:gd name="textAreaRight" fmla="*/ 2022120 w 2125800"/>
                <a:gd name="textAreaTop" fmla="*/ 103680 h 2437560"/>
                <a:gd name="textAreaBottom" fmla="*/ 2333880 h 2437560"/>
              </a:gdLst>
              <a:ahLst/>
              <a:rect l="textAreaLeft" t="textAreaTop" r="textAreaRight" b="textAreaBottom"/>
              <a:pathLst>
                <a:path w="21600" h="24767">
                  <a:moveTo>
                    <a:pt x="3600" y="0"/>
                  </a:moveTo>
                  <a:arcTo wR="3600" hR="3600" stAng="16200000" swAng="-5400000"/>
                  <a:lnTo>
                    <a:pt x="0" y="21167"/>
                  </a:lnTo>
                  <a:arcTo wR="3600" hR="3600" stAng="10800000" swAng="-5400000"/>
                  <a:lnTo>
                    <a:pt x="18000" y="24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Вой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9706"/>
            <p:cNvSpPr/>
            <p:nvPr/>
          </p:nvSpPr>
          <p:spPr>
            <a:xfrm>
              <a:off x="5416200" y="4056480"/>
              <a:ext cx="2125800" cy="2437560"/>
            </a:xfrm>
            <a:custGeom>
              <a:avLst/>
              <a:gdLst>
                <a:gd name="textAreaLeft" fmla="*/ 103680 w 2125800"/>
                <a:gd name="textAreaRight" fmla="*/ 2022120 w 2125800"/>
                <a:gd name="textAreaTop" fmla="*/ 103680 h 2437560"/>
                <a:gd name="textAreaBottom" fmla="*/ 2333880 h 2437560"/>
              </a:gdLst>
              <a:ahLst/>
              <a:rect l="textAreaLeft" t="textAreaTop" r="textAreaRight" b="textAreaBottom"/>
              <a:pathLst>
                <a:path w="21600" h="24767">
                  <a:moveTo>
                    <a:pt x="3600" y="0"/>
                  </a:moveTo>
                  <a:arcTo wR="3600" hR="3600" stAng="16200000" swAng="-5400000"/>
                  <a:lnTo>
                    <a:pt x="0" y="21167"/>
                  </a:lnTo>
                  <a:arcTo wR="3600" hR="3600" stAng="10800000" swAng="-5400000"/>
                  <a:lnTo>
                    <a:pt x="18000" y="24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После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вое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489480" cy="54291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 fontScale="99000"/>
          </a:bodyPr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Учёба в  шк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 – 1934 гг.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26 году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.П.Плотников пошёл в школу на хуторе Крутинском, в первый клас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30 – 1934 гг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.П. учил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восьмилетней школе, расположенной в станице Кумылженской (районном центре). Начиная с 6-го класса, все учителя звали его Пал Палыч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1240" y="1847880"/>
            <a:ext cx="42670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-209520"/>
            <a:ext cx="4113360" cy="6781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23800" indent="0">
              <a:spcBef>
                <a:spcPts val="6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1931 год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ыл открыт Сталинградский учительский институт. Весь институт размещался в двух корпусах на Рабоче - Крестьянской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 совету одного своего знакомого студента этого учительского института, Павел Павлович написал заявление в приёмную комиссию данного института. Вскоре ему пришло письмо с предложением о сдаче вступительных экзаменов. Впоследствии Павел Павлович успешно их сдал и был зачислен на первый курс исторического факультета Сталинградского учительского институ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89320" y="1085760"/>
            <a:ext cx="33879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7160" y="475920"/>
            <a:ext cx="3489120" cy="649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ница Верхне – Курмоярская. Павел Павлович – учитель средней школы (1938 – 1942 г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яя школа находилась в районном центре станицы Верхне – Курмоярской. Здание школы  располагалось недалеко от церк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вел Павлович вёл уроки истории в 8 – 10-х классах. Ученики считали его требовательным учителем, особенно он  добивался безукоризненного знания хронологии, исторических имён, карт. Павел Павлович также вёл исторический круж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37040" y="1162080"/>
            <a:ext cx="3505320" cy="5105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32520" y="6800760"/>
            <a:ext cx="762120" cy="400320"/>
          </a:xfrm>
          <a:prstGeom prst="leftArrow">
            <a:avLst>
              <a:gd name="adj1" fmla="val 50000"/>
              <a:gd name="adj2" fmla="val 475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3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7100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Начало войн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542960"/>
            <a:ext cx="2970360" cy="46483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ждый, кто пережил воскресный д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2 июня 194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года, день начала войны, помнит его в деталях и не забудет до конца жизни. Но особенно этот день памятен для выпускников средних школ 1941 го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авла Павловича война застала отдыхающим в станице Нижне – Чирской – на Д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970360" y="184788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130880" cy="10098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Хроника военных событ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6520" y="849240"/>
            <a:ext cx="7010280" cy="618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484280" y="3511440"/>
            <a:ext cx="254160" cy="21600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09760" y="3371760"/>
            <a:ext cx="228600" cy="21600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16680" y="5924520"/>
            <a:ext cx="304560" cy="30492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3600" y="3498840"/>
            <a:ext cx="228600" cy="21600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81440" y="3689280"/>
            <a:ext cx="152280" cy="13968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06720" y="3664080"/>
            <a:ext cx="152280" cy="13968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25760" y="3689280"/>
            <a:ext cx="152280" cy="13968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14680" y="3740040"/>
            <a:ext cx="139680" cy="17784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0280" y="3625920"/>
            <a:ext cx="139680" cy="17784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7960" y="3664080"/>
            <a:ext cx="139680" cy="17784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6360" y="5810400"/>
            <a:ext cx="15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Волгог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98760" y="3333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Р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0360" y="3613320"/>
            <a:ext cx="102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agneto"/>
              </a:rPr>
              <a:t>Тороп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7720" y="321948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Magneto"/>
              </a:rPr>
              <a:t>р. Л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5960" y="3117960"/>
            <a:ext cx="92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Ос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52840" y="3854520"/>
            <a:ext cx="92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Нев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89200" y="3727440"/>
            <a:ext cx="92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agneto"/>
              </a:rPr>
              <a:t>Мад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06440" y="37782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agneto"/>
              </a:rPr>
              <a:t>Ог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1400" y="3613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agneto"/>
              </a:rPr>
              <a:t>Салд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04920" y="3689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ст. Пуст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9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1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3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6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1:48Z</dcterms:created>
  <dc:creator/>
  <dc:description/>
  <dc:language>en-US</dc:language>
  <cp:lastModifiedBy>технология</cp:lastModifiedBy>
  <dcterms:modified xsi:type="dcterms:W3CDTF">2008-06-16T17:14:4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