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93F3-4060-49F1-A64C-5410005C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AD29-5062-4275-AF43-7F0B5E4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F892-03D3-4CBC-90A1-9EFCE81A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C503-6070-4BA6-95F3-E021E959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6AC-3162-46DC-AC27-5D84F509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C27-D6BB-4508-B3F6-9CADC51F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501-D378-428C-9D3F-6D538B52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5DFB-FE10-43BE-A7C1-BCD8817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50A-1050-4FC9-878F-14F9AB55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ADD5-528F-4DAE-BA79-76119EB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2B2-9630-4EFC-BCF4-97AEDA7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AC0F-99A9-41E0-ADEF-FB7BDD4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9C7A-496D-4563-9F3D-A29DD40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3542-8AA4-432C-B7C1-EEA8FEB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D0F-BB9F-44C1-BC46-EAECDEC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7164-CC66-4246-BCA9-5B79DA17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BDD4-49D7-478D-BE2A-AD7191F9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3106-F954-46B4-9348-39606B24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CD39-1B82-4A3B-ADB7-2554004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4713-EB92-4026-895D-6854F70D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5A0B-441B-4348-B3F4-CD59B00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0787-EBD9-496F-B8A5-229E104D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2391-14E7-424F-AC71-A73FC8C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BAD8-8B40-46DE-A048-09BCDF9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D485-01DA-45B8-B684-8C82A9ABC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631-3C66-401A-B62A-4247A15E2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447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эзия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60-80-х  год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638680" y="4267080"/>
            <a:ext cx="3353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бзорная лекц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2590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э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танция Зим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Братская ГЭ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ма и нейтронная бомб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альняя родствен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Фуку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77000" cy="3117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2133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атриотическая нота, гражданственность, призы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твенность – талант нелег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айте делаться ум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.Лирический ге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ыразитель устремлений всего поколения, не желающего жить по лжи, отказывающегося от стандартов и запр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силу трезв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тил 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арнишке с верой железн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езмашинном, босом и з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ма «Станция Зима»(19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стоял. Он глаз не прят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е забудет нич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ятый враг его – неправ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й не скрыться от н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 пальто незимнем, в кепке рыжей…»(19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Публицистичность поэз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отклик на острые политические, социальные, нравственные проблемы и ситуации дня, их оценка с точки зрения морали, «житейской морали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я поэз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олу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ыв про самое св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ирает каждый де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ть зорю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похи грязное бел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Золушка»(196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4.Интернационализм, гуманистическая направленность поэз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душе моей больше, чем семьдесят стр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концлаге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нумент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гордость за нашу эпох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ра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шуле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езид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Фуку!»(198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– расис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знающий единственную расу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х 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.Афорист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 в России – больше, чем поэ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в часто убивают,/Чтобы цитировать по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частье иностранным быть не 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без сердца – проигранный 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шли иные времена./Взошли иные и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пустота от смерти чувств и от потери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Заслуги «шестидесятников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Просвещение читателей и слуш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Помощь читателю и слушателю в осмыслении эпо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Возведение поэзии в ранг масштабного общественного я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4708440"/>
            <a:ext cx="2514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Тихая лирик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ители – Николай Рубцов, Владимир Соколов, Анатолий Жигулин, Николай Тр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2381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265104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13346" t="0" r="6563" b="20244"/>
          <a:stretch/>
        </p:blipFill>
        <p:spPr>
          <a:xfrm>
            <a:off x="6172200" y="3352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 противове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600200"/>
          <a:ext cx="9144000" cy="5468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ромкая поэзия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ихая лирик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Публицист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Элег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Мечты о социальном обновлен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Идея возвращения к истокам народной куль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Традиции В.Маяковс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Традиции С.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Образы прогресса, научно-технической револю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Традиционные фольклорные обр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Эксперименты в области поэ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Классический ст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Категория «свободы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Категория «традиции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Темы «тихой лирик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Родина, малая ро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Жизнь и смер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При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к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Одино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5084640"/>
            <a:ext cx="3657600" cy="1773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43880" y="228600"/>
            <a:ext cx="2400120" cy="373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«Поэтический бум»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                     60 - 80-ых годов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Новый всплеск интереса к поэзии как выразителя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Появление множества новых поэтическтх имен и талантов, двух направлений («громкая поэзия» и «тихая лирика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Многократное увеличение тиражей поэтических кн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рупные собрания любителей поэ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, сельские виды! О, дивное счастье род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лугах, словно ангел, под куполом синих небе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юсь я, боюсь я, как вольная сильная птиц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бить свои крылья и больше не видеть чуде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юсь, что над нами не будет возвышенной сил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, выплыв на лодке, повсюду достану шесто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. Руб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6483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эзия 60-80-ых годов – звено в единой неразрывной цепи великой русской поэзии. «Законами всеединства», поисками Истины, Добра, Красоты она связана со всей мировой культу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оэтический центр – памятник В.Маяковскому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1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304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этические центры –зал  Политехнического музея в Москве, стадион Луж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331"/>
          <a:stretch/>
        </p:blipFill>
        <p:spPr>
          <a:xfrm>
            <a:off x="3429000" y="175248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4272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Новые име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вгений Евтушен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элла Ахмаду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ерт Рождеств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лай Руб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се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ар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ид Самой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мма Каза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1950840" cy="266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9087" t="0" r="12126" b="0"/>
          <a:stretch/>
        </p:blipFill>
        <p:spPr>
          <a:xfrm>
            <a:off x="6934320" y="1981080"/>
            <a:ext cx="1981080" cy="246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0" r="2200" b="10783"/>
          <a:stretch/>
        </p:blipFill>
        <p:spPr>
          <a:xfrm>
            <a:off x="3809880" y="4800600"/>
            <a:ext cx="28195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5653" t="0" r="20848" b="0"/>
          <a:stretch/>
        </p:blipFill>
        <p:spPr>
          <a:xfrm>
            <a:off x="6934320" y="4648320"/>
            <a:ext cx="1981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оэты-шестидесятни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Отсутствие организационных границ группы, дух неофициа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Ощущение своб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Ощущение необходимости моральной перестройки общества, ответственности за преобразования в ст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Романтизм, жажда свежести, новизны, надежды на скорое освобождение от пороков прошл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10305" t="930" r="12128" b="10307"/>
          <a:stretch/>
        </p:blipFill>
        <p:spPr>
          <a:xfrm>
            <a:off x="3809880" y="914400"/>
            <a:ext cx="2743200" cy="2400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0" t="0" r="0" b="14242"/>
          <a:stretch/>
        </p:blipFill>
        <p:spPr>
          <a:xfrm>
            <a:off x="6934320" y="838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133360" y="380520"/>
            <a:ext cx="7010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были 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естидесятн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гребне вала п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вадцатом ве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десан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двадцать перв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лестниц и без роб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штурм отчаянно полез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рну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обранный при обы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устальный башмачок поэз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Евтушенко «Шестидесятн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Громкая поэзия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ите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А.Вознесенский, Р.Рождественский, Е.Евтуш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.Тематика творчеств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обытия эп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огре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научно-техническая револю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гражданский долг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овременное поко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Публицистический пафос поэ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.Эстрад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правленность на большую аудитор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.Эксперименты в области поэ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Евгений Александрович 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А.Евтушенко – поэт, проза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овед, публицис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норежисс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г.- родился в Иркутской области (станция З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1-1954 г.г. - учеба в Литературном институте им. Горь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этические сборник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«Разведчики грядущего», «Третий снег», «Шоссе энтузиастов», «Обещание», «Стихи разных лет», «Яблоко», «Нежность», «Катер связи», «Идут белые снега», «Поэт в России – больше, чем поэт», «Отцовский слух», «В полный ро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5718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1T11:40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