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B750-079A-48A4-8832-F3BA94ECD3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725D1-52F0-42D7-B4A8-F7C18319A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E80DD-57FB-44B1-8DAF-4CD3E163F7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008AC-A8A7-425D-A05B-4159ED3C53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BEC74-8F25-4653-865F-6281B99D9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0CA3-BDC0-4A04-9E9D-A017FBB1E0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AF744-ABF5-431B-A016-0E3AB2CC68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9F4F-DC25-48F9-9778-238D4E675F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B6E00-E02E-4B08-9F89-74301857D9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31A93-0596-4EB8-9D78-310541AFEE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12BD7-A877-402C-92EF-443CC27252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4A3-62D9-456D-A359-C692E9C9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AE3-C521-42BC-809D-7F3BD25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AB1-59CF-475C-A329-3F682CB5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A1F-A8D3-41AE-A885-EE995BCC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2DB-C04F-44E1-B989-151FE25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F11-92F0-4A49-861A-3B0FB448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BA3-2EC8-4574-8655-4A616DF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365-23D8-4756-B31A-AAFB630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5D0-916F-416B-A1D7-5F2E9A5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E0B-2DEC-4DD2-9CC3-5ED77BD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4A1-3928-430D-B80B-BFF70DF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C95-3701-44FD-8B9A-26390D5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16C823-9768-4C37-AB52-37E9C1426A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182760" y="-69840"/>
            <a:ext cx="63900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 Unicode MS"/>
              </a:rPr>
              <a:t>Презент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к уроку английского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во 2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618200" y="3422520"/>
            <a:ext cx="64062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«Учимся читать и говор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на английском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40360" y="1618920"/>
            <a:ext cx="3635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AutoShape 6"/>
          <p:cNvCxnSpPr>
            <a:stCxn id="160" idx="1"/>
            <a:endCxn id="160" idx="5"/>
          </p:cNvCxnSpPr>
          <p:nvPr/>
        </p:nvCxnSpPr>
        <p:spPr>
          <a:xfrm>
            <a:off x="1179000" y="2968200"/>
            <a:ext cx="546480" cy="252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AutoShape 13"/>
          <p:cNvCxnSpPr>
            <a:stCxn id="167" idx="1"/>
            <a:endCxn id="167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AutoShape 19"/>
          <p:cNvCxnSpPr>
            <a:stCxn id="173" idx="1"/>
            <a:endCxn id="173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2" descr=""/>
          <p:cNvPicPr/>
          <p:nvPr/>
        </p:nvPicPr>
        <p:blipFill>
          <a:blip r:embed="rId2"/>
          <a:stretch/>
        </p:blipFill>
        <p:spPr>
          <a:xfrm>
            <a:off x="5759280" y="1541520"/>
            <a:ext cx="3770640" cy="45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Фонетическая заря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55376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meri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bl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lim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wait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f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  [g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ei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[b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aun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Read the po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 am sl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He is f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He is merr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 am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our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236680" y="1979640"/>
            <a:ext cx="873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768840" y="1979640"/>
            <a:ext cx="1090440" cy="72072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" name="AutoShape 4"/>
          <p:cNvCxnSpPr/>
          <p:nvPr/>
        </p:nvCxnSpPr>
        <p:spPr>
          <a:xfrm>
            <a:off x="4049280" y="2340000"/>
            <a:ext cx="546480" cy="2160"/>
          </a:xfrm>
          <a:prstGeom prst="straightConnector1">
            <a:avLst/>
          </a:prstGeom>
          <a:ln w="468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Rectangle 5"/>
          <p:cNvSpPr/>
          <p:nvPr/>
        </p:nvSpPr>
        <p:spPr>
          <a:xfrm>
            <a:off x="5508720" y="1979640"/>
            <a:ext cx="890640" cy="72072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160720" y="1979640"/>
            <a:ext cx="949320" cy="72072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236680" y="4140360"/>
            <a:ext cx="873360" cy="72072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981600" y="4140360"/>
            <a:ext cx="1091880" cy="72072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9"/>
          <p:cNvCxnSpPr>
            <a:stCxn id="65" idx="1"/>
            <a:endCxn id="65" idx="5"/>
          </p:cNvCxnSpPr>
          <p:nvPr/>
        </p:nvCxnSpPr>
        <p:spPr>
          <a:xfrm>
            <a:off x="4262040" y="4500720"/>
            <a:ext cx="546480" cy="2160"/>
          </a:xfrm>
          <a:prstGeom prst="straightConnector1">
            <a:avLst/>
          </a:prstGeom>
          <a:ln w="468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Text Box 10"/>
          <p:cNvSpPr/>
          <p:nvPr/>
        </p:nvSpPr>
        <p:spPr>
          <a:xfrm>
            <a:off x="5432400" y="4146480"/>
            <a:ext cx="1386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00760" y="4140360"/>
            <a:ext cx="890640" cy="72072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079640" y="3060720"/>
            <a:ext cx="6659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lice        is          sl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160720" y="5400720"/>
            <a:ext cx="6838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lice         is        not    f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5"/>
          <p:cNvCxnSpPr>
            <a:stCxn id="60" idx="0"/>
            <a:endCxn id="60" idx="0"/>
          </p:cNvCxnSpPr>
          <p:nvPr/>
        </p:nvCxnSpPr>
        <p:spPr>
          <a:xfrm>
            <a:off x="4312800" y="1979640"/>
            <a:ext cx="2520" cy="2160"/>
          </a:xfrm>
          <a:prstGeom prst="straightConnector1">
            <a:avLst/>
          </a:prstGeom>
          <a:ln w="72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Karl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400720" y="1979640"/>
            <a:ext cx="3959280" cy="4140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AutoShape 7"/>
          <p:cNvCxnSpPr>
            <a:stCxn id="78" idx="1"/>
            <a:endCxn id="78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Rectangle 8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AutoShape 10"/>
          <p:cNvCxnSpPr>
            <a:stCxn id="81" idx="1"/>
            <a:endCxn id="81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Text Box 11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Mik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AutoShape 6"/>
          <p:cNvCxnSpPr>
            <a:stCxn id="90" idx="1"/>
            <a:endCxn id="90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Rectangle 7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AutoShape 9"/>
          <p:cNvCxnSpPr>
            <a:stCxn id="93" idx="1"/>
            <a:endCxn id="93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" name="Text Box 10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5759280" y="1800360"/>
            <a:ext cx="3419640" cy="39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Malv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AutoShape 6"/>
          <p:cNvCxnSpPr>
            <a:stCxn id="103" idx="1"/>
            <a:endCxn id="103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" name="Rectangle 7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AutoShape 9"/>
          <p:cNvCxnSpPr>
            <a:stCxn id="106" idx="1"/>
            <a:endCxn id="106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Text Box 10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3"/>
          <a:stretch/>
        </p:blipFill>
        <p:spPr>
          <a:xfrm>
            <a:off x="5219640" y="1619280"/>
            <a:ext cx="414036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58920" y="1767960"/>
            <a:ext cx="3814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AutoShape 6"/>
          <p:cNvCxnSpPr>
            <a:stCxn id="116" idx="1"/>
            <a:endCxn id="116" idx="5"/>
          </p:cNvCxnSpPr>
          <p:nvPr/>
        </p:nvCxnSpPr>
        <p:spPr>
          <a:xfrm>
            <a:off x="1179000" y="297036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123" idx="1"/>
            <a:endCxn id="123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AutoShape 19"/>
          <p:cNvCxnSpPr>
            <a:stCxn id="129" idx="1"/>
            <a:endCxn id="129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2" descr=""/>
          <p:cNvPicPr/>
          <p:nvPr/>
        </p:nvPicPr>
        <p:blipFill>
          <a:blip r:embed="rId2"/>
          <a:stretch/>
        </p:blipFill>
        <p:spPr>
          <a:xfrm>
            <a:off x="5580000" y="1800360"/>
            <a:ext cx="3871800" cy="43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40360" y="1619280"/>
            <a:ext cx="363528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6"/>
          <p:cNvCxnSpPr>
            <a:stCxn id="138" idx="1"/>
            <a:endCxn id="138" idx="5"/>
          </p:cNvCxnSpPr>
          <p:nvPr/>
        </p:nvCxnSpPr>
        <p:spPr>
          <a:xfrm>
            <a:off x="1179000" y="2968200"/>
            <a:ext cx="546480" cy="252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AutoShape 13"/>
          <p:cNvCxnSpPr>
            <a:stCxn id="145" idx="1"/>
            <a:endCxn id="145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AutoShape 19"/>
          <p:cNvCxnSpPr>
            <a:stCxn id="151" idx="1"/>
            <a:endCxn id="151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2" descr=""/>
          <p:cNvPicPr/>
          <p:nvPr/>
        </p:nvPicPr>
        <p:blipFill>
          <a:blip r:embed="rId2"/>
          <a:stretch/>
        </p:blipFill>
        <p:spPr>
          <a:xfrm>
            <a:off x="5580000" y="1800360"/>
            <a:ext cx="3882960" cy="39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/>
  <dc:description/>
  <dc:language>en-US</dc:language>
  <cp:lastModifiedBy>Марина</cp:lastModifiedBy>
  <dcterms:modified xsi:type="dcterms:W3CDTF">2013-03-10T06:31:24Z</dcterms:modified>
  <cp:revision>7</cp:revision>
  <dc:subject/>
  <dc:title>Слайд 1</dc:title>
</cp:coreProperties>
</file>