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0EE9-02A5-4A4F-8204-FBD6898CCC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DDF76-4548-4499-B6B8-E11CD0A694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42AC-473A-4039-ACCE-A348DB9A20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6A0DB-CE90-430B-B0B3-03A0D438D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4531-14C8-47FB-A39C-0B6C5BB674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597D-D3FF-4F2B-B8B4-461292000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FA85-84AA-4918-8F6B-63A13C3603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213C8-00DD-45C5-9CF7-6D03F81D8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3B3F6-4F07-4135-9ED6-95F514C6C9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CEF6F-6791-4B52-85C6-833BBE840A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1B31D-D313-4876-8170-51B9F08533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069-A230-4B62-B82D-5699B550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488-468E-496D-878B-234F345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722-5352-48D8-AD00-251CC987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8C6-E907-4ACC-81C6-1D9E4DA8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D5E-2888-480B-B489-F9EBFB66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849-5001-4B11-B6AD-9FF71580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CB1-22A5-4BB4-A00D-FCF1B943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7CD-18A7-430C-AB85-4C0A335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41E-E22B-44AA-9831-7847811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BB2-DA59-49F3-B063-25EDBE1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8FB-C30D-48F0-80D0-C51BCF3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769-1F7B-43B4-BB95-B8468F1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566067-11F9-4606-AD0A-760B10FC5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182760" y="-69840"/>
            <a:ext cx="63900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 Unicode MS"/>
              </a:rPr>
              <a:t>Презент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к уроку английского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во 2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618200" y="3422520"/>
            <a:ext cx="64062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«Учимся читать и говор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на английском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40360" y="1618920"/>
            <a:ext cx="3635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AutoShape 6"/>
          <p:cNvCxnSpPr>
            <a:stCxn id="160" idx="1"/>
            <a:endCxn id="160" idx="5"/>
          </p:cNvCxnSpPr>
          <p:nvPr/>
        </p:nvCxnSpPr>
        <p:spPr>
          <a:xfrm>
            <a:off x="1179000" y="2968200"/>
            <a:ext cx="546480" cy="252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AutoShape 13"/>
          <p:cNvCxnSpPr>
            <a:stCxn id="167" idx="1"/>
            <a:endCxn id="167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4" name="AutoShape 19"/>
          <p:cNvCxnSpPr>
            <a:stCxn id="173" idx="1"/>
            <a:endCxn id="173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2" descr=""/>
          <p:cNvPicPr/>
          <p:nvPr/>
        </p:nvPicPr>
        <p:blipFill>
          <a:blip r:embed="rId2"/>
          <a:stretch/>
        </p:blipFill>
        <p:spPr>
          <a:xfrm>
            <a:off x="5759280" y="1541520"/>
            <a:ext cx="3770640" cy="45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Фонетическая заря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55376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meri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bl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lim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wait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f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  [g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ei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æ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                         [b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raun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Read the po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 am sli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He is f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He is merr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 am s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our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236680" y="1979640"/>
            <a:ext cx="873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768840" y="1979640"/>
            <a:ext cx="1090440" cy="72072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" name="AutoShape 4"/>
          <p:cNvCxnSpPr/>
          <p:nvPr/>
        </p:nvCxnSpPr>
        <p:spPr>
          <a:xfrm>
            <a:off x="4049280" y="2340000"/>
            <a:ext cx="546480" cy="2160"/>
          </a:xfrm>
          <a:prstGeom prst="straightConnector1">
            <a:avLst/>
          </a:prstGeom>
          <a:ln w="468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Rectangle 5"/>
          <p:cNvSpPr/>
          <p:nvPr/>
        </p:nvSpPr>
        <p:spPr>
          <a:xfrm>
            <a:off x="5508720" y="1979640"/>
            <a:ext cx="890640" cy="72072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160720" y="1979640"/>
            <a:ext cx="949320" cy="72072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236680" y="4140360"/>
            <a:ext cx="873360" cy="72072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981600" y="4140360"/>
            <a:ext cx="1091880" cy="72072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9"/>
          <p:cNvCxnSpPr>
            <a:stCxn id="65" idx="1"/>
            <a:endCxn id="65" idx="5"/>
          </p:cNvCxnSpPr>
          <p:nvPr/>
        </p:nvCxnSpPr>
        <p:spPr>
          <a:xfrm>
            <a:off x="4262040" y="4500720"/>
            <a:ext cx="546480" cy="2160"/>
          </a:xfrm>
          <a:prstGeom prst="straightConnector1">
            <a:avLst/>
          </a:prstGeom>
          <a:ln w="468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Text Box 10"/>
          <p:cNvSpPr/>
          <p:nvPr/>
        </p:nvSpPr>
        <p:spPr>
          <a:xfrm>
            <a:off x="5432400" y="4146480"/>
            <a:ext cx="1386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00760" y="4140360"/>
            <a:ext cx="890640" cy="72072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079640" y="3060720"/>
            <a:ext cx="6659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lice        is          sl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160720" y="5400720"/>
            <a:ext cx="6838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lice         is        not    f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5"/>
          <p:cNvCxnSpPr>
            <a:stCxn id="60" idx="0"/>
            <a:endCxn id="60" idx="0"/>
          </p:cNvCxnSpPr>
          <p:nvPr/>
        </p:nvCxnSpPr>
        <p:spPr>
          <a:xfrm>
            <a:off x="4312800" y="1979640"/>
            <a:ext cx="2520" cy="2160"/>
          </a:xfrm>
          <a:prstGeom prst="straightConnector1">
            <a:avLst/>
          </a:prstGeom>
          <a:ln w="72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Karl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5400720" y="1979640"/>
            <a:ext cx="3959280" cy="4140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AutoShape 7"/>
          <p:cNvCxnSpPr>
            <a:stCxn id="78" idx="1"/>
            <a:endCxn id="78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Rectangle 8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AutoShape 10"/>
          <p:cNvCxnSpPr>
            <a:stCxn id="81" idx="1"/>
            <a:endCxn id="81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Text Box 11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Mik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" name="AutoShape 6"/>
          <p:cNvCxnSpPr>
            <a:stCxn id="90" idx="1"/>
            <a:endCxn id="90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Rectangle 7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AutoShape 9"/>
          <p:cNvCxnSpPr>
            <a:stCxn id="93" idx="1"/>
            <a:endCxn id="93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" name="Text Box 10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5759280" y="1800360"/>
            <a:ext cx="3419640" cy="39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Describe Malv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00360"/>
            <a:ext cx="4680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9800" y="1768320"/>
            <a:ext cx="4425840" cy="498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51040" y="1978200"/>
            <a:ext cx="949320" cy="90144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160720" y="197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AutoShape 6"/>
          <p:cNvCxnSpPr>
            <a:stCxn id="103" idx="1"/>
            <a:endCxn id="103" idx="5"/>
          </p:cNvCxnSpPr>
          <p:nvPr/>
        </p:nvCxnSpPr>
        <p:spPr>
          <a:xfrm>
            <a:off x="2439720" y="242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" name="Rectangle 7"/>
          <p:cNvSpPr/>
          <p:nvPr/>
        </p:nvSpPr>
        <p:spPr>
          <a:xfrm>
            <a:off x="720720" y="4317840"/>
            <a:ext cx="94932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80036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AutoShape 9"/>
          <p:cNvCxnSpPr>
            <a:stCxn id="106" idx="1"/>
            <a:endCxn id="106" idx="5"/>
          </p:cNvCxnSpPr>
          <p:nvPr/>
        </p:nvCxnSpPr>
        <p:spPr>
          <a:xfrm>
            <a:off x="207936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Text Box 10"/>
          <p:cNvSpPr/>
          <p:nvPr/>
        </p:nvSpPr>
        <p:spPr>
          <a:xfrm>
            <a:off x="3081240" y="4599000"/>
            <a:ext cx="92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610080" y="197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968640" y="4319640"/>
            <a:ext cx="1069920" cy="90000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3"/>
          <a:stretch/>
        </p:blipFill>
        <p:spPr>
          <a:xfrm>
            <a:off x="5219640" y="1619280"/>
            <a:ext cx="414036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58920" y="1767960"/>
            <a:ext cx="3814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AutoShape 6"/>
          <p:cNvCxnSpPr>
            <a:stCxn id="116" idx="1"/>
            <a:endCxn id="116" idx="5"/>
          </p:cNvCxnSpPr>
          <p:nvPr/>
        </p:nvCxnSpPr>
        <p:spPr>
          <a:xfrm>
            <a:off x="1179000" y="297036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123" idx="1"/>
            <a:endCxn id="123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AutoShape 19"/>
          <p:cNvCxnSpPr>
            <a:stCxn id="129" idx="1"/>
            <a:endCxn id="129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2" descr=""/>
          <p:cNvPicPr/>
          <p:nvPr/>
        </p:nvPicPr>
        <p:blipFill>
          <a:blip r:embed="rId2"/>
          <a:stretch/>
        </p:blipFill>
        <p:spPr>
          <a:xfrm>
            <a:off x="5580000" y="1800360"/>
            <a:ext cx="3871800" cy="43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40360" y="1619280"/>
            <a:ext cx="363528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3800" y="1800000"/>
            <a:ext cx="4425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3280" y="3959280"/>
            <a:ext cx="48974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900000" y="2519280"/>
            <a:ext cx="1090800" cy="90036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6"/>
          <p:cNvCxnSpPr>
            <a:stCxn id="138" idx="1"/>
            <a:endCxn id="138" idx="5"/>
          </p:cNvCxnSpPr>
          <p:nvPr/>
        </p:nvCxnSpPr>
        <p:spPr>
          <a:xfrm>
            <a:off x="1179000" y="2968200"/>
            <a:ext cx="546480" cy="252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Rectangle 7"/>
          <p:cNvSpPr/>
          <p:nvPr/>
        </p:nvSpPr>
        <p:spPr>
          <a:xfrm>
            <a:off x="2187720" y="25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0" y="2519280"/>
            <a:ext cx="890640" cy="900360"/>
          </a:xfrm>
          <a:prstGeom prst="rect">
            <a:avLst/>
          </a:prstGeom>
          <a:solidFill>
            <a:srgbClr val="0d0d0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00720" y="2879640"/>
            <a:ext cx="539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01720" y="4859280"/>
            <a:ext cx="101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Y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60720" y="4319640"/>
            <a:ext cx="109044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AutoShape 13"/>
          <p:cNvCxnSpPr>
            <a:stCxn id="145" idx="1"/>
            <a:endCxn id="145" idx="5"/>
          </p:cNvCxnSpPr>
          <p:nvPr/>
        </p:nvCxnSpPr>
        <p:spPr>
          <a:xfrm>
            <a:off x="3339720" y="476892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14"/>
          <p:cNvSpPr/>
          <p:nvPr/>
        </p:nvSpPr>
        <p:spPr>
          <a:xfrm>
            <a:off x="4319640" y="4856040"/>
            <a:ext cx="47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861840" y="5724360"/>
            <a:ext cx="836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800360" y="431784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1800360" y="5398920"/>
            <a:ext cx="873000" cy="901800"/>
          </a:xfrm>
          <a:prstGeom prst="rect">
            <a:avLst/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2879640" y="5400720"/>
            <a:ext cx="1090800" cy="900000"/>
          </a:xfrm>
          <a:prstGeom prst="triangle">
            <a:avLst>
              <a:gd name="adj" fmla="val 51380"/>
            </a:avLst>
          </a:prstGeom>
          <a:solidFill>
            <a:srgbClr val="ffffff"/>
          </a:solidFill>
          <a:ln w="612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AutoShape 19"/>
          <p:cNvCxnSpPr>
            <a:stCxn id="151" idx="1"/>
            <a:endCxn id="151" idx="5"/>
          </p:cNvCxnSpPr>
          <p:nvPr/>
        </p:nvCxnSpPr>
        <p:spPr>
          <a:xfrm>
            <a:off x="3158640" y="5850000"/>
            <a:ext cx="546480" cy="2160"/>
          </a:xfrm>
          <a:prstGeom prst="straightConnector1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Text Box 20"/>
          <p:cNvSpPr/>
          <p:nvPr/>
        </p:nvSpPr>
        <p:spPr>
          <a:xfrm>
            <a:off x="4140360" y="5756400"/>
            <a:ext cx="900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921200" y="5756400"/>
            <a:ext cx="1191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2" descr=""/>
          <p:cNvPicPr/>
          <p:nvPr/>
        </p:nvPicPr>
        <p:blipFill>
          <a:blip r:embed="rId2"/>
          <a:stretch/>
        </p:blipFill>
        <p:spPr>
          <a:xfrm>
            <a:off x="5580000" y="1800360"/>
            <a:ext cx="3882960" cy="39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/>
  <dc:description/>
  <dc:language>en-US</dc:language>
  <cp:lastModifiedBy>Марина</cp:lastModifiedBy>
  <dcterms:modified xsi:type="dcterms:W3CDTF">2013-03-10T06:31:24Z</dcterms:modified>
  <cp:revision>7</cp:revision>
  <dc:subject/>
  <dc:title>Слайд 1</dc:title>
</cp:coreProperties>
</file>