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5D8-0732-41CE-8B37-01872728E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ировать текст, преобразить в правильный, выделить красным окончания -тся и -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 окончания, по щелчке вопросы, по щелчку фор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220-886A-4147-B203-A6E0537C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32E-CD62-4D34-BA22-7D4B26C5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18C-F0E2-4A75-BFCB-311A8A69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ADF-B6C9-4D7B-837E-1BEC8742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65A-EAD3-4F1D-A875-0E6C12EB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7E0-55A8-42D2-B02A-2A8CE04F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2E9-0943-4129-8773-B8533C6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340-14B6-4558-8849-97140D2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4C3-35E1-450C-AB79-7A3C4D8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A9A-C899-43C9-A718-2C0A73C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854-2F7E-4A87-8948-714C553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633-64E8-49F3-AF8E-C82B77F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89B-4AC6-402E-9C1C-FA52EFC9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45720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Хочеш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73664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тьс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50840" y="1812960"/>
            <a:ext cx="748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, долже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267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потруд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173664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нау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426708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тьс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33.333343505859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16.666662216187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3.333343505859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133.33329772949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8080" y="19810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"Правописание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558720"/>
            <a:ext cx="44193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Тема урока: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342900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-тся, -ться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457200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в глаголах"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2589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агра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ла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гацт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рбро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куст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то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ображе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29528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графия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ж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гатство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тербро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искус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тов                     изоб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ежата 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, лес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радовались, на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увыр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с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. Ведь 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лись –т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 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 сне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в берло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Людей медвежата видели тоже в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вые и нисколько не о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лись: медведица еще не 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ла и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едвежата солнце, лес-обрадовались, начали возиться, кувыркаться в снегу. Ведь родились –то они под снегом, в берлог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т. Людей медвежата видели тоже впервые и нисколько не опасались: медведица еще не научила их бо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едвежата солнце, лес-обрадовались, начали воз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увыр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негу. Ведь родились –то они под снегом, в берлог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т. Людей медвежата видели тоже впервые и нисколько не опасались: медведица еще не научила их бо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37.571432495117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46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98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66960" y="380880"/>
            <a:ext cx="30924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-тьс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86320" y="380880"/>
            <a:ext cx="30924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-тся 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19051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делать?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сделать?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05520" y="19051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делает?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сделает?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44197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неопределенна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орма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05520" y="4343400"/>
            <a:ext cx="3352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орма 3 лиц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ед. числ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457200"/>
          <a:ext cx="8686800" cy="55627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№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ать слова в два столбика: глаголы  и существ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до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№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ть, заполняя пропуски. Не забывать изменять форму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 стр. 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 стр. 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609480"/>
            <a:ext cx="830556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а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]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- ться       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а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]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 – 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Что делать?                     Кто?  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лыбаться                                  кур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мываться                              пуг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читься                                          у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пениться                                     ум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вертеться                         учи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баловаться                            мы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труди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4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32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9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990720"/>
          <a:ext cx="8686800" cy="18288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рудится, труди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дея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де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ться, стар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96840" y="3276720"/>
            <a:ext cx="710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думайте предложе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ключив в них данные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6920"/>
            <a:ext cx="856764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 груп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минисочинение. продолжим рассказ, используя в текст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канчивающихся на –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Book Antiqua"/>
              </a:rPr>
              <a:t>«Осенью мой младший брат пойдет в школ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пражнение №4 стр.4. списать, подчеркнуть безударные гласны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рнях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1905120"/>
            <a:ext cx="544824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cc00cc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cc00cc"/>
                  </a:gs>
                  <a:gs pos="100000">
                    <a:srgbClr val="3333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cc00cc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Arial"/>
              </a:rPr>
              <a:t>Спасибо за урок.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cc00cc"/>
                  </a:gs>
                  <a:gs pos="100000">
                    <a:srgbClr val="3333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4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16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4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48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8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39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8-11-25T00:11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