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5C94-270B-4E60-AB95-4402CD8E5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ировать текст, преобразить в правильный, выделить красным окончания -тся и -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 окончания, по щелчке вопросы, по щелчку фор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47C-468F-4333-AF47-514B0471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A31-6F1A-42C8-9E28-119D34E0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168-E413-4521-BA8F-B7291C10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D94-E0CC-4BD1-8BED-31C28638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AA6-4AB8-41BC-96AD-214C6332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C23-F55A-41F9-B1FD-739D8A14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618-86E6-4615-AF37-318DEEA9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AD5-52B3-4556-B6A9-E62853EB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AB2-5127-446B-A93F-E84FF7AF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3BB-ECEF-4905-B733-6EB279D5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389-32A8-4E02-9C88-FD863B71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16B-69CF-46EB-B864-451D535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39E1-356F-4919-998E-7FEBA6CE9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45720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Хочеш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173664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 Antiqua"/>
              </a:rPr>
              <a:t>тьс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50840" y="1812960"/>
            <a:ext cx="748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, долже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2670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 Antiqua"/>
              </a:rPr>
              <a:t>потруд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173664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науч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426708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 Antiqua"/>
              </a:rPr>
              <a:t>тьс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33.333343505859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16.666662216187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3.333343505859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133.33329772949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4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4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4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38080" y="19810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"Правописание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558720"/>
            <a:ext cx="44193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Тема урока: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342900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-тся, -ться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4572000"/>
            <a:ext cx="777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в глаголах"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25892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агра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ила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гацт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рбро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куст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то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ображе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29528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ография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ж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гатство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тербро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искус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тов                     изоб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3808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увидели 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ежата 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, лес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радовались, на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 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увыр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с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у. Ведь 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лись –т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 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 сне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в берло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только теперь, в первый раз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пали на вольный св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Людей медвежата видели тоже в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вые и нисколько не о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лись: медведица еще не 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ла их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808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увидели медвежата солнце, лес-обрадовались, начали возиться, кувыркаться в снегу. Ведь родились –то они под снегом, в берлог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теперь, в первый раз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пали на вольный свет. Людей медвежата видели тоже впервые и нисколько не опасались: медведица еще не научила их бо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808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увидели медвежата солнце, лес-обрадовались, начали воз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увыр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ьс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негу. Ведь родились –то они под снегом, в берлог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теперь, в первый раз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пали на вольный свет. Людей медвежата видели тоже впервые и нисколько не опасались: медведица еще не научила их бо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37.571432495117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46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98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66960" y="380880"/>
            <a:ext cx="30924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-тьс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86320" y="380880"/>
            <a:ext cx="30924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-тся 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19051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делать?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сделать?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05520" y="19051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делает?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сделает?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44197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неопределенна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форма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105520" y="4343400"/>
            <a:ext cx="3352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форма 3 лиц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ед. числ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" y="457200"/>
          <a:ext cx="8686800" cy="556272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№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ать слова в два столбика: глаголы  и существ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до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№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ть, заполняя пропуски. Не забывать изменять форму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 стр. 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 стр. 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609480"/>
            <a:ext cx="830556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ца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]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- ться       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ца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]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 – 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Что делать?                     Кто?  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лыбаться                                  кур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мываться                              пуг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читься                                          у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пениться                                     ум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вертеться                         учите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баловаться                            мы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труди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8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4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8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32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92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7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990720"/>
          <a:ext cx="8686800" cy="18288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Трудится, труди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дея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де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аться, стар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96840" y="3276720"/>
            <a:ext cx="710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думайте предложе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ключив в них данные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2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96920"/>
            <a:ext cx="856764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1 груп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минисочинение. продолжим рассказ, используя в текст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канчивающихся на –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Book Antiqua"/>
              </a:rPr>
              <a:t>«Осенью мой младший брат пойдет в школу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упражнение №4 стр.4. списать, подчеркнуть безударные гласны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корнях глаг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3720" y="1905120"/>
            <a:ext cx="5448240" cy="26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cc00cc"/>
                    </a:gs>
                    <a:gs pos="100000">
                      <a:srgbClr val="3333ff"/>
                    </a:gs>
                  </a:gsLst>
                  <a:lin ang="5400000"/>
                </a:gradFill>
                <a:latin typeface="Arial"/>
              </a:rPr>
              <a:t>Молодцы!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cc00cc"/>
                  </a:gs>
                  <a:gs pos="100000">
                    <a:srgbClr val="3333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cc00cc"/>
                    </a:gs>
                    <a:gs pos="100000">
                      <a:srgbClr val="3333ff"/>
                    </a:gs>
                  </a:gsLst>
                  <a:lin ang="5400000"/>
                </a:gradFill>
                <a:latin typeface="Arial"/>
              </a:rPr>
              <a:t>Спасибо за урок.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cc00cc"/>
                  </a:gs>
                  <a:gs pos="100000">
                    <a:srgbClr val="3333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4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16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4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48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8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39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08-11-25T00:11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