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4.png" ContentType="image/png"/>
  <Override PartName="/ppt/media/image1.gif" ContentType="image/gif"/>
  <Override PartName="/ppt/media/image23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9591-FE22-46D9-88AD-F91D7BD98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105A-FEE4-4196-951E-3F7DA3631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0CBE-FF15-4748-8F09-BFDFDEA14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1517-8507-4353-AA57-F44F017BF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B29D-0F6D-4899-A2D3-08EA12938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2C75-8F3B-42DC-AA82-AD624687E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D03A-3F0D-4D86-B510-F52DF7D703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0482-5EB1-441D-BE95-002DB27E8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6C9D-10F1-4383-8884-3A5A026D4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A2A-700A-47F1-8042-8025CB72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8B7-BE03-4023-A428-6482E863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ABA-D2F1-4CF3-8919-1808A3A7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18F-F38D-43CE-AB64-1E78E635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3062-0436-457A-90FA-30A12DEC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7843-6288-4E88-9FE6-06A1F406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3F01-6E13-4D46-A09B-636A2C8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4D8B-C3BF-48E5-971B-C30A89B8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780A-BB85-41AE-8C39-89EBBF60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F2D2-09EB-49D5-922F-681B8E58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7E42-04EA-4B50-B932-7954F7EA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39B-206A-4593-931D-4D049A13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E023-CC65-49EF-A168-4F44AC4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0AE5-A4AD-42DA-BAF3-B7C5CBE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943E-1717-4444-B0C2-AD8AFB19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EE97-6746-4E1D-A867-1E03803E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7BB5-E9E8-46A7-81E6-8E6EEA4C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04E-90E1-4059-BE73-A8C738AB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D17-5B0D-4CE8-9388-CFCEA85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866-D435-4F8E-B523-D8DC4798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311-AE31-4672-BC4E-2A2431A7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EB1-ABA0-4C88-AF00-2E68B1E1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297-B49F-4B74-9361-0C9D7783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246-2C10-4020-8B29-9C21C9BE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76E9-8554-4C42-8EE6-E8B497EFD1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5958-62B5-40D7-A85E-4710F5A80C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440" y="3286080"/>
            <a:ext cx="6022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«Эффективность урока как  средство повышение образова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0" y="2643120"/>
            <a:ext cx="8209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61" name="Picture 5" descr="доска"/>
          <p:cNvPicPr/>
          <p:nvPr/>
        </p:nvPicPr>
        <p:blipFill>
          <a:blip r:embed="rId1"/>
          <a:stretch/>
        </p:blipFill>
        <p:spPr>
          <a:xfrm flipH="1">
            <a:off x="5867280" y="260280"/>
            <a:ext cx="308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«Мух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2349360"/>
          <a:ext cx="7696080" cy="237492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8"/>
          <p:cNvSpPr/>
          <p:nvPr/>
        </p:nvSpPr>
        <p:spPr>
          <a:xfrm>
            <a:off x="2214720" y="5286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mic Sans MS"/>
              </a:rPr>
              <a:t>Учащиеся  должны уметь сосредотачиваться на достаточно продолжительное врем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25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23763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хема 3" descr=""/>
          <p:cNvPicPr/>
          <p:nvPr/>
        </p:nvPicPr>
        <p:blipFill>
          <a:blip r:embed="rId1"/>
          <a:stretch/>
        </p:blipFill>
        <p:spPr>
          <a:xfrm>
            <a:off x="487440" y="146160"/>
            <a:ext cx="7284960" cy="161604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2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62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Схема 5" descr=""/>
          <p:cNvPicPr/>
          <p:nvPr/>
        </p:nvPicPr>
        <p:blipFill>
          <a:blip r:embed="rId1"/>
          <a:stretch/>
        </p:blipFill>
        <p:spPr>
          <a:xfrm>
            <a:off x="536400" y="195120"/>
            <a:ext cx="7851960" cy="612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1054"/>
          <p:cNvPicPr/>
          <p:nvPr/>
        </p:nvPicPr>
        <p:blipFill>
          <a:blip r:embed="rId2"/>
          <a:stretch/>
        </p:blipFill>
        <p:spPr>
          <a:xfrm>
            <a:off x="7072200" y="4643280"/>
            <a:ext cx="1814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3" descr="a1"/>
          <p:cNvPicPr/>
          <p:nvPr/>
        </p:nvPicPr>
        <p:blipFill>
          <a:blip r:embed="rId1"/>
          <a:stretch/>
        </p:blipFill>
        <p:spPr>
          <a:xfrm>
            <a:off x="1042920" y="1484280"/>
            <a:ext cx="1101960" cy="1785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22"/>
          <p:cNvPicPr/>
          <p:nvPr/>
        </p:nvPicPr>
        <p:blipFill>
          <a:blip r:embed="rId2"/>
          <a:stretch/>
        </p:blipFill>
        <p:spPr>
          <a:xfrm>
            <a:off x="5219640" y="1628640"/>
            <a:ext cx="1322280" cy="1584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a2"/>
          <p:cNvPicPr/>
          <p:nvPr/>
        </p:nvPicPr>
        <p:blipFill>
          <a:blip r:embed="rId3"/>
          <a:stretch/>
        </p:blipFill>
        <p:spPr>
          <a:xfrm>
            <a:off x="6948360" y="177336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619280" y="189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«Кто лишний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8" descr="n20"/>
          <p:cNvPicPr/>
          <p:nvPr/>
        </p:nvPicPr>
        <p:blipFill>
          <a:blip r:embed="rId4"/>
          <a:stretch/>
        </p:blipFill>
        <p:spPr>
          <a:xfrm>
            <a:off x="2843280" y="1773360"/>
            <a:ext cx="1736640" cy="136980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9">
            <a:hlinkClick r:id="rId5" action="ppaction://hlinksldjump"/>
          </p:cNvPr>
          <p:cNvSpPr/>
          <p:nvPr/>
        </p:nvSpPr>
        <p:spPr>
          <a:xfrm>
            <a:off x="8459640" y="6021360"/>
            <a:ext cx="540000" cy="6112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49">
                <a:moveTo>
                  <a:pt x="0" y="0"/>
                </a:moveTo>
                <a:lnTo>
                  <a:pt x="21600" y="0"/>
                </a:lnTo>
                <a:lnTo>
                  <a:pt x="21600" y="24449"/>
                </a:lnTo>
                <a:lnTo>
                  <a:pt x="0" y="24449"/>
                </a:lnTo>
                <a:close/>
              </a:path>
              <a:path fill="lightenLess" w="21600" h="24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9">
                <a:moveTo>
                  <a:pt x="21600" y="0"/>
                </a:moveTo>
                <a:lnTo>
                  <a:pt x="21600" y="24449"/>
                </a:lnTo>
                <a:lnTo>
                  <a:pt x="20200" y="23049"/>
                </a:lnTo>
                <a:lnTo>
                  <a:pt x="20200" y="1400"/>
                </a:lnTo>
                <a:close/>
              </a:path>
              <a:path fill="darkenLess" w="21600" h="24449">
                <a:moveTo>
                  <a:pt x="21600" y="24449"/>
                </a:moveTo>
                <a:lnTo>
                  <a:pt x="0" y="24449"/>
                </a:lnTo>
                <a:lnTo>
                  <a:pt x="1400" y="23049"/>
                </a:lnTo>
                <a:lnTo>
                  <a:pt x="20200" y="23049"/>
                </a:lnTo>
                <a:close/>
              </a:path>
              <a:path fill="lighten" w="21600" h="24449">
                <a:moveTo>
                  <a:pt x="0" y="24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49"/>
                </a:lnTo>
                <a:close/>
              </a:path>
              <a:path fill="darken" w="21600" h="24449">
                <a:moveTo>
                  <a:pt x="10800" y="5262"/>
                </a:moveTo>
                <a:lnTo>
                  <a:pt x="13376" y="7873"/>
                </a:ln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lnTo>
                  <a:pt x="17763" y="12225"/>
                </a:lnTo>
                <a:lnTo>
                  <a:pt x="16109" y="12225"/>
                </a:lnTo>
                <a:lnTo>
                  <a:pt x="16109" y="19414"/>
                </a:lnTo>
                <a:lnTo>
                  <a:pt x="5491" y="19414"/>
                </a:lnTo>
                <a:lnTo>
                  <a:pt x="5491" y="12225"/>
                </a:lnTo>
                <a:lnTo>
                  <a:pt x="3837" y="12225"/>
                </a:lnTo>
                <a:close/>
              </a:path>
              <a:path fill="darkenLess" w="21600" h="24449">
                <a:moveTo>
                  <a:pt x="13376" y="7873"/>
                </a:move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close/>
              </a:path>
              <a:path fill="darkenLess" w="21600" h="24449">
                <a:moveTo>
                  <a:pt x="9877" y="15724"/>
                </a:moveTo>
                <a:lnTo>
                  <a:pt x="11723" y="15724"/>
                </a:lnTo>
                <a:lnTo>
                  <a:pt x="11723" y="19414"/>
                </a:lnTo>
                <a:lnTo>
                  <a:pt x="16109" y="19414"/>
                </a:lnTo>
                <a:lnTo>
                  <a:pt x="16109" y="12225"/>
                </a:lnTo>
                <a:lnTo>
                  <a:pt x="5491" y="12225"/>
                </a:lnTo>
                <a:lnTo>
                  <a:pt x="5491" y="19414"/>
                </a:lnTo>
                <a:lnTo>
                  <a:pt x="9877" y="1941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8" descr="prof"/>
          <p:cNvPicPr/>
          <p:nvPr/>
        </p:nvPicPr>
        <p:blipFill>
          <a:blip r:embed="rId6"/>
          <a:stretch/>
        </p:blipFill>
        <p:spPr>
          <a:xfrm>
            <a:off x="0" y="5032440"/>
            <a:ext cx="164304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719 L 0.10973 0.4564 E">
                                      <p:cBhvr>
                                        <p:cTn id="65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99640" y="33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0000"/>
                </a:solidFill>
                <a:latin typeface="Comic Sans MS"/>
              </a:rPr>
              <a:t>Эффективность урока это составляюща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сердечко"/>
          <p:cNvPicPr/>
          <p:nvPr/>
        </p:nvPicPr>
        <p:blipFill>
          <a:blip r:embed="rId1"/>
          <a:stretch/>
        </p:blipFill>
        <p:spPr>
          <a:xfrm>
            <a:off x="357120" y="150012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сердечко"/>
          <p:cNvPicPr/>
          <p:nvPr/>
        </p:nvPicPr>
        <p:blipFill>
          <a:blip r:embed="rId2"/>
          <a:stretch/>
        </p:blipFill>
        <p:spPr>
          <a:xfrm>
            <a:off x="7667640" y="5589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0"/>
          <p:cNvSpPr/>
          <p:nvPr/>
        </p:nvSpPr>
        <p:spPr>
          <a:xfrm>
            <a:off x="1835280" y="1916280"/>
            <a:ext cx="6265800" cy="4681440"/>
          </a:xfrm>
          <a:prstGeom prst="cloudCallout">
            <a:avLst>
              <a:gd name="adj1" fmla="val -58055"/>
              <a:gd name="adj2" fmla="val -230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Психологического  комфорт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Школьной мотив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Развитие и формирование познавательных процес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f0000"/>
                </a:solidFill>
                <a:latin typeface="Comic Sans MS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1" descr="1110"/>
          <p:cNvPicPr/>
          <p:nvPr/>
        </p:nvPicPr>
        <p:blipFill>
          <a:blip r:embed="rId1"/>
          <a:stretch/>
        </p:blipFill>
        <p:spPr>
          <a:xfrm>
            <a:off x="3000240" y="3214800"/>
            <a:ext cx="2500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4"/>
          <p:cNvSpPr/>
          <p:nvPr/>
        </p:nvSpPr>
        <p:spPr>
          <a:xfrm rot="19929000">
            <a:off x="645840" y="-259920"/>
            <a:ext cx="7524720" cy="769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Эффективность – означает результат какого либо дейст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489744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сихологический комфор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Снятие стрессобразующих факторов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Создание благоприятной атмосферы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1" descr="1058"/>
          <p:cNvPicPr/>
          <p:nvPr/>
        </p:nvPicPr>
        <p:blipFill>
          <a:blip r:embed="rId1"/>
          <a:stretch/>
        </p:blipFill>
        <p:spPr>
          <a:xfrm>
            <a:off x="6643800" y="4786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Повышение уровня школьной мотивации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Развитие и формирование познавательных процессов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1089"/>
          <p:cNvPicPr/>
          <p:nvPr/>
        </p:nvPicPr>
        <p:blipFill>
          <a:blip r:embed="rId1"/>
          <a:stretch/>
        </p:blipFill>
        <p:spPr>
          <a:xfrm>
            <a:off x="1785960" y="214200"/>
            <a:ext cx="2071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1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пехи в учебе завися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и умения учи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Умения видеть связь явлений, закономер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разобраться, понять, почему, как, отчего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4"/>
          <p:cNvSpPr/>
          <p:nvPr/>
        </p:nvSpPr>
        <p:spPr>
          <a:xfrm rot="10800000">
            <a:off x="394920" y="1483560"/>
            <a:ext cx="8280360" cy="3529080"/>
          </a:xfrm>
          <a:prstGeom prst="upArrowCallout">
            <a:avLst>
              <a:gd name="adj1" fmla="val -50878"/>
              <a:gd name="adj2" fmla="val 58658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072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итуация успех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Я могу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Формирует веру в себ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Помогает осознать свое продвижение вперед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5" descr="ученик"/>
          <p:cNvPicPr/>
          <p:nvPr/>
        </p:nvPicPr>
        <p:blipFill>
          <a:blip r:embed="rId1"/>
          <a:stretch/>
        </p:blipFill>
        <p:spPr>
          <a:xfrm flipH="1">
            <a:off x="6948000" y="393372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178" name="WordArt 6"/>
          <p:cNvSpPr txBox="1"/>
          <p:nvPr/>
        </p:nvSpPr>
        <p:spPr>
          <a:xfrm>
            <a:off x="1908000" y="537372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спешный 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2411280" y="2708280"/>
            <a:ext cx="48974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хема 5" descr=""/>
          <p:cNvPicPr/>
          <p:nvPr/>
        </p:nvPicPr>
        <p:blipFill>
          <a:blip r:embed="rId1"/>
          <a:stretch/>
        </p:blipFill>
        <p:spPr>
          <a:xfrm>
            <a:off x="669960" y="60480"/>
            <a:ext cx="6900840" cy="1712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это способность запомнить то, что мы видим, слышим, говорим и делаем, сохранять все это и в нужный момент воспроизводи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0" descr="851"/>
          <p:cNvPicPr/>
          <p:nvPr/>
        </p:nvPicPr>
        <p:blipFill>
          <a:blip r:embed="rId2"/>
          <a:stretch/>
        </p:blipFill>
        <p:spPr>
          <a:xfrm>
            <a:off x="6715080" y="500076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хема 3" descr=""/>
          <p:cNvPicPr/>
          <p:nvPr/>
        </p:nvPicPr>
        <p:blipFill>
          <a:blip r:embed="rId1"/>
          <a:stretch/>
        </p:blipFill>
        <p:spPr>
          <a:xfrm>
            <a:off x="682560" y="146160"/>
            <a:ext cx="6881760" cy="1731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84360" y="1844280"/>
            <a:ext cx="7696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лист, гора, дерево, замок, палка, картон, чернила, пчела, капуста, стек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2" descr="1060"/>
          <p:cNvPicPr/>
          <p:nvPr/>
        </p:nvPicPr>
        <p:blipFill>
          <a:blip r:embed="rId2"/>
          <a:stretch/>
        </p:blipFill>
        <p:spPr>
          <a:xfrm>
            <a:off x="5572080" y="478620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хема 3" descr=""/>
          <p:cNvPicPr/>
          <p:nvPr/>
        </p:nvPicPr>
        <p:blipFill>
          <a:blip r:embed="rId1"/>
          <a:stretch/>
        </p:blipFill>
        <p:spPr>
          <a:xfrm>
            <a:off x="669960" y="-23760"/>
            <a:ext cx="6705720" cy="1401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это направленность нашего сознания на определенный объек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3" descr="545"/>
          <p:cNvPicPr/>
          <p:nvPr/>
        </p:nvPicPr>
        <p:blipFill>
          <a:blip r:embed="rId2"/>
          <a:stretch/>
        </p:blipFill>
        <p:spPr>
          <a:xfrm>
            <a:off x="7143840" y="507204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2:19:56Z</dcterms:created>
  <dc:creator>OEM</dc:creator>
  <dc:description/>
  <dc:language>en-US</dc:language>
  <cp:lastModifiedBy>Наталья</cp:lastModifiedBy>
  <dcterms:modified xsi:type="dcterms:W3CDTF">2010-10-06T05:17:52Z</dcterms:modified>
  <cp:revision>64</cp:revision>
  <dc:subject/>
  <dc:title>Слайд 1</dc:title>
</cp:coreProperties>
</file>