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image11.png" ContentType="image/png"/>
  <Override PartName="/ppt/media/image6.png" ContentType="image/png"/>
  <Override PartName="/ppt/media/image9.png" ContentType="image/png"/>
  <Override PartName="/ppt/media/image4.png" ContentType="image/png"/>
  <Override PartName="/ppt/media/image1.gif" ContentType="image/gif"/>
  <Override PartName="/ppt/media/image23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F145-EBC3-40F9-B1CA-3612F64CA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F2ED-C169-46DC-97D2-B361807D2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EEB0-FC5E-4BFC-87BB-14DB2CA08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C559-33EC-4E49-811D-FC08A9D8E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A643-4AF0-482D-B5D2-59A781CB6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FFC9-1D87-43DC-92AF-8E7529669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E22D-B530-4865-ACEF-3D9487E50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5F49-9247-4C3B-80CA-FED4ACF8F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5044-A527-4C41-B7BA-4DBF44135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185-C9B9-4728-9327-3556A40D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53F-ED3A-48DD-8C80-EABCA7CC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C85-B019-439C-AE59-468AB291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03C-49EF-49AE-A1CF-7AC8C00A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A926-971F-44B2-9961-6CA71042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397F-E841-4DF6-858D-A072BB60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F496-C79C-4F72-BC01-F3B41694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394B-2259-41F9-8DC2-F1A0D15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9723-E4E0-47A7-A9AF-3C7CF940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67BC-A523-4733-A81D-9948DEFA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1CEE-FFA4-4522-9767-4EE5063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D34-CDC8-4F68-96BD-DF224ADC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FE60-ECEE-4F29-85FA-52BCF74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2B2B-7689-4FE7-80D2-C670C283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6B10-0DBD-4E70-9580-A6D41C78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3694-8F0C-4C51-ACF3-84B6CC0F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EB5E-3FC4-4764-B18F-6BA507B1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5C6-C79B-4049-9E96-5B89E975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1A6-9A3F-4E80-BAB9-F8B6651A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9DC-7D00-4E40-81FE-7FFE615C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3ED-71E9-412B-AB07-41E7B356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538-C530-4DB6-A8E7-B6045C91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F51-EAD7-4455-90B3-CA1EB70C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2AB-684D-4507-B2F0-47A4BECE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B7E3-2BC8-4025-9AA2-09B24F5F71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F83A-84AC-47A9-BDA4-BDDC82119A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440" y="3286080"/>
            <a:ext cx="6022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«Эффективность урока как  средство повышение образова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0" y="2643120"/>
            <a:ext cx="82090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61" name="Picture 5" descr="доска"/>
          <p:cNvPicPr/>
          <p:nvPr/>
        </p:nvPicPr>
        <p:blipFill>
          <a:blip r:embed="rId1"/>
          <a:stretch/>
        </p:blipFill>
        <p:spPr>
          <a:xfrm flipH="1">
            <a:off x="5867280" y="260280"/>
            <a:ext cx="3083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«Мух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2349360"/>
          <a:ext cx="7696080" cy="237492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8"/>
          <p:cNvSpPr/>
          <p:nvPr/>
        </p:nvSpPr>
        <p:spPr>
          <a:xfrm>
            <a:off x="2214720" y="52862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Учащиеся  должны уметь сосредотачиваться на достаточно продолжительное врем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25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237636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Схема 3" descr=""/>
          <p:cNvPicPr/>
          <p:nvPr/>
        </p:nvPicPr>
        <p:blipFill>
          <a:blip r:embed="rId1"/>
          <a:stretch/>
        </p:blipFill>
        <p:spPr>
          <a:xfrm>
            <a:off x="487440" y="146160"/>
            <a:ext cx="7284960" cy="161604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2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62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Схема 5" descr=""/>
          <p:cNvPicPr/>
          <p:nvPr/>
        </p:nvPicPr>
        <p:blipFill>
          <a:blip r:embed="rId1"/>
          <a:stretch/>
        </p:blipFill>
        <p:spPr>
          <a:xfrm>
            <a:off x="536400" y="195120"/>
            <a:ext cx="7851960" cy="612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1054"/>
          <p:cNvPicPr/>
          <p:nvPr/>
        </p:nvPicPr>
        <p:blipFill>
          <a:blip r:embed="rId2"/>
          <a:stretch/>
        </p:blipFill>
        <p:spPr>
          <a:xfrm>
            <a:off x="7072200" y="4643280"/>
            <a:ext cx="1814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3" descr="a1"/>
          <p:cNvPicPr/>
          <p:nvPr/>
        </p:nvPicPr>
        <p:blipFill>
          <a:blip r:embed="rId1"/>
          <a:stretch/>
        </p:blipFill>
        <p:spPr>
          <a:xfrm>
            <a:off x="1042920" y="1484280"/>
            <a:ext cx="1101960" cy="1785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22"/>
          <p:cNvPicPr/>
          <p:nvPr/>
        </p:nvPicPr>
        <p:blipFill>
          <a:blip r:embed="rId2"/>
          <a:stretch/>
        </p:blipFill>
        <p:spPr>
          <a:xfrm>
            <a:off x="5219640" y="1628640"/>
            <a:ext cx="1322280" cy="1584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a2"/>
          <p:cNvPicPr/>
          <p:nvPr/>
        </p:nvPicPr>
        <p:blipFill>
          <a:blip r:embed="rId3"/>
          <a:stretch/>
        </p:blipFill>
        <p:spPr>
          <a:xfrm>
            <a:off x="6948360" y="177336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619280" y="1890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«Кто лишний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8" descr="n20"/>
          <p:cNvPicPr/>
          <p:nvPr/>
        </p:nvPicPr>
        <p:blipFill>
          <a:blip r:embed="rId4"/>
          <a:stretch/>
        </p:blipFill>
        <p:spPr>
          <a:xfrm>
            <a:off x="2843280" y="1773360"/>
            <a:ext cx="1736640" cy="136980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9">
            <a:hlinkClick r:id="rId5" action="ppaction://hlinksldjump"/>
          </p:cNvPr>
          <p:cNvSpPr/>
          <p:nvPr/>
        </p:nvSpPr>
        <p:spPr>
          <a:xfrm>
            <a:off x="8459640" y="6021360"/>
            <a:ext cx="540000" cy="61128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49">
                <a:moveTo>
                  <a:pt x="0" y="0"/>
                </a:moveTo>
                <a:lnTo>
                  <a:pt x="21600" y="0"/>
                </a:lnTo>
                <a:lnTo>
                  <a:pt x="21600" y="24449"/>
                </a:lnTo>
                <a:lnTo>
                  <a:pt x="0" y="24449"/>
                </a:lnTo>
                <a:close/>
              </a:path>
              <a:path fill="lightenLess" w="21600" h="24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9">
                <a:moveTo>
                  <a:pt x="21600" y="0"/>
                </a:moveTo>
                <a:lnTo>
                  <a:pt x="21600" y="24449"/>
                </a:lnTo>
                <a:lnTo>
                  <a:pt x="20200" y="23049"/>
                </a:lnTo>
                <a:lnTo>
                  <a:pt x="20200" y="1400"/>
                </a:lnTo>
                <a:close/>
              </a:path>
              <a:path fill="darkenLess" w="21600" h="24449">
                <a:moveTo>
                  <a:pt x="21600" y="24449"/>
                </a:moveTo>
                <a:lnTo>
                  <a:pt x="0" y="24449"/>
                </a:lnTo>
                <a:lnTo>
                  <a:pt x="1400" y="23049"/>
                </a:lnTo>
                <a:lnTo>
                  <a:pt x="20200" y="23049"/>
                </a:lnTo>
                <a:close/>
              </a:path>
              <a:path fill="lighten" w="21600" h="24449">
                <a:moveTo>
                  <a:pt x="0" y="24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49"/>
                </a:lnTo>
                <a:close/>
              </a:path>
              <a:path fill="darken" w="21600" h="24449">
                <a:moveTo>
                  <a:pt x="10800" y="5262"/>
                </a:moveTo>
                <a:lnTo>
                  <a:pt x="13376" y="7873"/>
                </a:ln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lnTo>
                  <a:pt x="17763" y="12225"/>
                </a:lnTo>
                <a:lnTo>
                  <a:pt x="16109" y="12225"/>
                </a:lnTo>
                <a:lnTo>
                  <a:pt x="16109" y="19414"/>
                </a:lnTo>
                <a:lnTo>
                  <a:pt x="5491" y="19414"/>
                </a:lnTo>
                <a:lnTo>
                  <a:pt x="5491" y="12225"/>
                </a:lnTo>
                <a:lnTo>
                  <a:pt x="3837" y="12225"/>
                </a:lnTo>
                <a:close/>
              </a:path>
              <a:path fill="darkenLess" w="21600" h="24449">
                <a:moveTo>
                  <a:pt x="13376" y="7873"/>
                </a:move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close/>
              </a:path>
              <a:path fill="darkenLess" w="21600" h="24449">
                <a:moveTo>
                  <a:pt x="9877" y="15724"/>
                </a:moveTo>
                <a:lnTo>
                  <a:pt x="11723" y="15724"/>
                </a:lnTo>
                <a:lnTo>
                  <a:pt x="11723" y="19414"/>
                </a:lnTo>
                <a:lnTo>
                  <a:pt x="16109" y="19414"/>
                </a:lnTo>
                <a:lnTo>
                  <a:pt x="16109" y="12225"/>
                </a:lnTo>
                <a:lnTo>
                  <a:pt x="5491" y="12225"/>
                </a:lnTo>
                <a:lnTo>
                  <a:pt x="5491" y="19414"/>
                </a:lnTo>
                <a:lnTo>
                  <a:pt x="9877" y="1941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8" descr="prof"/>
          <p:cNvPicPr/>
          <p:nvPr/>
        </p:nvPicPr>
        <p:blipFill>
          <a:blip r:embed="rId6"/>
          <a:stretch/>
        </p:blipFill>
        <p:spPr>
          <a:xfrm>
            <a:off x="0" y="5032440"/>
            <a:ext cx="164304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719 L 0.10973 0.4564 E">
                                      <p:cBhvr>
                                        <p:cTn id="65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99640" y="33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0000"/>
                </a:solidFill>
                <a:latin typeface="Comic Sans MS"/>
              </a:rPr>
              <a:t>Эффективность урока это составляюща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сердечко"/>
          <p:cNvPicPr/>
          <p:nvPr/>
        </p:nvPicPr>
        <p:blipFill>
          <a:blip r:embed="rId1"/>
          <a:stretch/>
        </p:blipFill>
        <p:spPr>
          <a:xfrm>
            <a:off x="357120" y="150012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сердечко"/>
          <p:cNvPicPr/>
          <p:nvPr/>
        </p:nvPicPr>
        <p:blipFill>
          <a:blip r:embed="rId2"/>
          <a:stretch/>
        </p:blipFill>
        <p:spPr>
          <a:xfrm>
            <a:off x="7667640" y="55897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0"/>
          <p:cNvSpPr/>
          <p:nvPr/>
        </p:nvSpPr>
        <p:spPr>
          <a:xfrm>
            <a:off x="1835280" y="1916280"/>
            <a:ext cx="6265800" cy="4681440"/>
          </a:xfrm>
          <a:prstGeom prst="cloudCallout">
            <a:avLst>
              <a:gd name="adj1" fmla="val -58055"/>
              <a:gd name="adj2" fmla="val -2300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Психологического  комфорт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Школьной мотив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Развитие и формирование познавательных процес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f0000"/>
                </a:solidFill>
                <a:latin typeface="Comic Sans MS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1" descr="1110"/>
          <p:cNvPicPr/>
          <p:nvPr/>
        </p:nvPicPr>
        <p:blipFill>
          <a:blip r:embed="rId1"/>
          <a:stretch/>
        </p:blipFill>
        <p:spPr>
          <a:xfrm>
            <a:off x="3000240" y="3214800"/>
            <a:ext cx="2500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4"/>
          <p:cNvSpPr/>
          <p:nvPr/>
        </p:nvSpPr>
        <p:spPr>
          <a:xfrm rot="19929000">
            <a:off x="645840" y="-259920"/>
            <a:ext cx="7524720" cy="769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Эффективность – означает результат какого либо действ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489744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сихологический комфор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Снятие стрессобразующих факторов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Создание благоприятной атмосферы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1" descr="1058"/>
          <p:cNvPicPr/>
          <p:nvPr/>
        </p:nvPicPr>
        <p:blipFill>
          <a:blip r:embed="rId1"/>
          <a:stretch/>
        </p:blipFill>
        <p:spPr>
          <a:xfrm>
            <a:off x="6643800" y="4786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Повышение уровня школьной мотивации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Развитие и формирование познавательных процессов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1089"/>
          <p:cNvPicPr/>
          <p:nvPr/>
        </p:nvPicPr>
        <p:blipFill>
          <a:blip r:embed="rId1"/>
          <a:stretch/>
        </p:blipFill>
        <p:spPr>
          <a:xfrm>
            <a:off x="1785960" y="214200"/>
            <a:ext cx="2071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91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спехи в учебе завися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и умения учи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Умения видеть связь явлений, закономер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разобраться, понять, почему, как, отчего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4"/>
          <p:cNvSpPr/>
          <p:nvPr/>
        </p:nvSpPr>
        <p:spPr>
          <a:xfrm rot="10800000">
            <a:off x="394920" y="1483560"/>
            <a:ext cx="8280360" cy="3529080"/>
          </a:xfrm>
          <a:prstGeom prst="upArrowCallout">
            <a:avLst>
              <a:gd name="adj1" fmla="val -50878"/>
              <a:gd name="adj2" fmla="val 58658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072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итуация успех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Я могу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Формирует веру в себ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омогает осознать свое продвижение вперед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5" descr="ученик"/>
          <p:cNvPicPr/>
          <p:nvPr/>
        </p:nvPicPr>
        <p:blipFill>
          <a:blip r:embed="rId1"/>
          <a:stretch/>
        </p:blipFill>
        <p:spPr>
          <a:xfrm flipH="1">
            <a:off x="6948000" y="3933720"/>
            <a:ext cx="1003320" cy="1728720"/>
          </a:xfrm>
          <a:prstGeom prst="rect">
            <a:avLst/>
          </a:prstGeom>
          <a:ln w="0">
            <a:noFill/>
          </a:ln>
        </p:spPr>
      </p:pic>
      <p:sp>
        <p:nvSpPr>
          <p:cNvPr id="178" name="WordArt 6"/>
          <p:cNvSpPr txBox="1"/>
          <p:nvPr/>
        </p:nvSpPr>
        <p:spPr>
          <a:xfrm>
            <a:off x="1908000" y="537372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Успешный уче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2411280" y="2708280"/>
            <a:ext cx="489744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хема 5" descr=""/>
          <p:cNvPicPr/>
          <p:nvPr/>
        </p:nvPicPr>
        <p:blipFill>
          <a:blip r:embed="rId1"/>
          <a:stretch/>
        </p:blipFill>
        <p:spPr>
          <a:xfrm>
            <a:off x="669960" y="60480"/>
            <a:ext cx="6900840" cy="17128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это способность запомнить то, что мы видим, слышим, говорим и делаем, сохранять все это и в нужный момент воспроизводи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0" descr="851"/>
          <p:cNvPicPr/>
          <p:nvPr/>
        </p:nvPicPr>
        <p:blipFill>
          <a:blip r:embed="rId2"/>
          <a:stretch/>
        </p:blipFill>
        <p:spPr>
          <a:xfrm>
            <a:off x="6715080" y="500076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хема 3" descr=""/>
          <p:cNvPicPr/>
          <p:nvPr/>
        </p:nvPicPr>
        <p:blipFill>
          <a:blip r:embed="rId1"/>
          <a:stretch/>
        </p:blipFill>
        <p:spPr>
          <a:xfrm>
            <a:off x="682560" y="146160"/>
            <a:ext cx="6881760" cy="1731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84360" y="1844280"/>
            <a:ext cx="7696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лист, гора, дерево, замок, палка, картон, чернила, пчела, капуста, стек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2" descr="1060"/>
          <p:cNvPicPr/>
          <p:nvPr/>
        </p:nvPicPr>
        <p:blipFill>
          <a:blip r:embed="rId2"/>
          <a:stretch/>
        </p:blipFill>
        <p:spPr>
          <a:xfrm>
            <a:off x="5572080" y="478620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Схема 3" descr=""/>
          <p:cNvPicPr/>
          <p:nvPr/>
        </p:nvPicPr>
        <p:blipFill>
          <a:blip r:embed="rId1"/>
          <a:stretch/>
        </p:blipFill>
        <p:spPr>
          <a:xfrm>
            <a:off x="669960" y="-23760"/>
            <a:ext cx="6705720" cy="1401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это направленность нашего сознания на определенный объек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13" descr="545"/>
          <p:cNvPicPr/>
          <p:nvPr/>
        </p:nvPicPr>
        <p:blipFill>
          <a:blip r:embed="rId2"/>
          <a:stretch/>
        </p:blipFill>
        <p:spPr>
          <a:xfrm>
            <a:off x="7143840" y="507204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2:19:56Z</dcterms:created>
  <dc:creator>OEM</dc:creator>
  <dc:description/>
  <dc:language>en-US</dc:language>
  <cp:lastModifiedBy>Наталья</cp:lastModifiedBy>
  <dcterms:modified xsi:type="dcterms:W3CDTF">2010-10-06T05:17:52Z</dcterms:modified>
  <cp:revision>64</cp:revision>
  <dc:subject/>
  <dc:title>Слайд 1</dc:title>
</cp:coreProperties>
</file>