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CFE-F17B-4715-880A-E8375A6B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5B6-D706-4A52-AE49-31F26CE1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8AC-8E6E-408C-A441-765B7668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047-2324-4848-9961-1EF62094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645-7491-4ED7-8C13-F12BD8B0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F29-006A-40FB-976A-865F02E2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D1D-670F-4B92-B933-F8EC416A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6B3-1761-438E-AE15-3077D9BC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8CF-7A48-408A-AABD-AC9F0ACB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40F-5559-457F-BBEA-80207121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82CA-002B-40A5-A2A2-7ED86DE4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279-5FDD-43BD-A151-3850295A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DD04-7BF4-4DE0-93CA-090B63B31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1280" y="476280"/>
            <a:ext cx="6477120" cy="14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ударственное автономное учреждение  дополнительного профессионального образования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повышения квалификации) специалистов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Смоленский областной институт развития образования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ТТЕСТАЦ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ИХ РАБОТНИК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ЫХ И МУНИЦИПАЛЬНЫХ ОБРАЗОВАТЕЛЬНЫХ УЧРЕЖД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ла: Петрова Е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ндидат педагогических нау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14320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9640" y="476280"/>
          <a:ext cx="8229600" cy="5761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7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  АТТЕСТАЦИИ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ово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ление  соответствия уровня квалификации  педагогических работников  требованиям, предъявляемые к первой или высшей квалификационным категори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портфолио  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информационно-аналитическая справ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яза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тверждение соответствия педагогических работников занимаемым ими должност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(компьютерное тестир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ок-схема аттестации педагогических работников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ответствие занимаемой должности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один раз в 5 лет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458640" y="907920"/>
            <a:ext cx="8209080" cy="682920"/>
          </a:xfrm>
          <a:prstGeom prst="rect">
            <a:avLst/>
          </a:prstGeom>
          <a:solidFill>
            <a:srgbClr val="fcd5b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ОДАТЕЛЬ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формля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а раб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низ 8"/>
          <p:cNvSpPr/>
          <p:nvPr/>
        </p:nvSpPr>
        <p:spPr>
          <a:xfrm>
            <a:off x="4465800" y="1590840"/>
            <a:ext cx="206280" cy="147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439560" y="1784520"/>
            <a:ext cx="8253720" cy="780840"/>
          </a:xfrm>
          <a:prstGeom prst="rect">
            <a:avLst/>
          </a:prstGeom>
          <a:solidFill>
            <a:srgbClr val="fcd5b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ОДАТЕЛ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ЗНАКОМИТ РАБОТНИКОВ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М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ОД  РОСПИСЬ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е позднее, чем за месяц до дня проведения аттес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414360" y="2712960"/>
            <a:ext cx="8299440" cy="560520"/>
          </a:xfrm>
          <a:prstGeom prst="rect">
            <a:avLst/>
          </a:prstGeom>
          <a:solidFill>
            <a:srgbClr val="fcd5b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РАБОТОДАТЕЛЬ НАПРАВЛЯЕТ ПРЕДСТАВЛЕНИЕ В АТТЕСТАЦИОННУЮ КОМИСС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395280" y="4653000"/>
            <a:ext cx="8280360" cy="934920"/>
          </a:xfrm>
          <a:prstGeom prst="rect">
            <a:avLst/>
          </a:prstGeom>
          <a:solidFill>
            <a:srgbClr val="fcd5b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ие работни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ходят квалификационные испыт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форме компьютерного тестирова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вопросам, связанным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осуществлением ими педагогической деятельности по занимаемой долж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395280" y="5661000"/>
            <a:ext cx="8275680" cy="757440"/>
          </a:xfrm>
          <a:prstGeom prst="rect">
            <a:avLst/>
          </a:prstGeom>
          <a:solidFill>
            <a:srgbClr val="fcd5b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ОТВЕТСТВУЕТ (НЕ СООТВЕТСТВУЕТ) ЗАНИМАЕМОЙ ДОЛЖНО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6"/>
          <p:cNvSpPr/>
          <p:nvPr/>
        </p:nvSpPr>
        <p:spPr>
          <a:xfrm>
            <a:off x="4483080" y="2565360"/>
            <a:ext cx="208080" cy="147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17"/>
          <p:cNvSpPr/>
          <p:nvPr/>
        </p:nvSpPr>
        <p:spPr>
          <a:xfrm>
            <a:off x="4427640" y="3284640"/>
            <a:ext cx="215640" cy="220680"/>
          </a:xfrm>
          <a:prstGeom prst="downArrow">
            <a:avLst>
              <a:gd name="adj1" fmla="val 50000"/>
              <a:gd name="adj2" fmla="val 5006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468360" y="3500280"/>
            <a:ext cx="8240760" cy="930600"/>
          </a:xfrm>
          <a:prstGeom prst="rect">
            <a:avLst/>
          </a:prstGeom>
          <a:solidFill>
            <a:srgbClr val="fcd5b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 ДАТЕ, МЕСТЕ И ВРЕМЕНИ ПРОВЕДЕНИЯ АТТЕСТ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ДОВОДИТСЯ РАБОТОДАТЕЛЕМ ДО СВЕДЕНИЯ ПЕДАГОГ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ОДЛЕЖАЩИХ АТТЕСТАЦИИ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е позднее, чем за месяц до её нач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низ 18"/>
          <p:cNvSpPr/>
          <p:nvPr/>
        </p:nvSpPr>
        <p:spPr>
          <a:xfrm>
            <a:off x="4500720" y="4437000"/>
            <a:ext cx="207720" cy="147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низ 19"/>
          <p:cNvSpPr/>
          <p:nvPr/>
        </p:nvSpPr>
        <p:spPr>
          <a:xfrm>
            <a:off x="4586400" y="5516640"/>
            <a:ext cx="207720" cy="147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9640" y="1484280"/>
            <a:ext cx="792000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лучае признания педагогического работник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результатам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есоответствующим занимаемой должност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рудовой договор с ним может быть расторгну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пункт 3 часть 1 статьи 81 Трудового кодекса РФ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360" y="1341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ЯДОК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едагогических работников для устано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оответствия уровня их квалификации требованиям, предъявляемым к квалификационным категор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первой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высш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000" y="836280"/>
            <a:ext cx="8218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ПЕРВА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валификационная категория может быть         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становлена педагогическим работникам, котор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Владею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ми образовательными технологиями и методиками, эффективно применяют их в практической профессиональной дея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Вносят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ичный вклад в повышение качества образования на основе совершенствования методов обучения и воспит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Имеют стабильные результаты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воения обучающимися, воспитанниками образовательных программ и показатели динамики их достижений выше средних в субъекте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лок-схема аттестации педагогических работников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тендующих н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ЕРВУ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валификационную категорию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453960" y="1052640"/>
            <a:ext cx="8294760" cy="720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ботник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 собственному желанию подаёт заявление                     в аттестационную комисс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низ 4"/>
          <p:cNvSpPr/>
          <p:nvPr/>
        </p:nvSpPr>
        <p:spPr>
          <a:xfrm>
            <a:off x="4427640" y="1844640"/>
            <a:ext cx="252360" cy="141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511200" y="2071800"/>
            <a:ext cx="8237520" cy="7174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бот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ляе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РТФОЛ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профессиональной деятельн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480960" y="3894120"/>
            <a:ext cx="8294760" cy="6541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валификационное испытание в форме защит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РТФОЛИ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484200" y="2962440"/>
            <a:ext cx="8224920" cy="780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кспертные груп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существляют всесторонний анализ результатов профессиональной деятельности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538200" y="4734000"/>
            <a:ext cx="8280360" cy="8380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уровень квалификации соответствует (не соответствует) требованиям, предъявляемым к 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низ 12"/>
          <p:cNvSpPr/>
          <p:nvPr/>
        </p:nvSpPr>
        <p:spPr>
          <a:xfrm>
            <a:off x="4413240" y="2816280"/>
            <a:ext cx="250920" cy="141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низ 13"/>
          <p:cNvSpPr/>
          <p:nvPr/>
        </p:nvSpPr>
        <p:spPr>
          <a:xfrm>
            <a:off x="4386240" y="3751200"/>
            <a:ext cx="252360" cy="141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низ 14"/>
          <p:cNvSpPr/>
          <p:nvPr/>
        </p:nvSpPr>
        <p:spPr>
          <a:xfrm>
            <a:off x="4386240" y="4592520"/>
            <a:ext cx="252360" cy="141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15"/>
          <p:cNvSpPr/>
          <p:nvPr/>
        </p:nvSpPr>
        <p:spPr>
          <a:xfrm>
            <a:off x="4421160" y="5600880"/>
            <a:ext cx="252360" cy="141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6"/>
          <p:cNvSpPr/>
          <p:nvPr/>
        </p:nvSpPr>
        <p:spPr>
          <a:xfrm>
            <a:off x="468360" y="5756400"/>
            <a:ext cx="8321760" cy="696960"/>
          </a:xfrm>
          <a:prstGeom prst="rect">
            <a:avLst/>
          </a:prstGeom>
          <a:solidFill>
            <a:srgbClr val="fcd5b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ная на основании аттестации квалификационная категория педагогическим работникам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действительна в течение пяти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95280" y="47592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ВЫСША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валификационная категория может быть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становлена педагогическим работникам, которые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Имею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установленную первую квалификационную категор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Владе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ми образовательными технологиями и методиками, эффективно применяют их в практической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Име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табильные результа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своения обучающимися, воспитанниками образовательных программ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казатели динам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х достижений выше средних в субъекте Российской Федерации, в том числе с учетом результатов участия обучающихся и воспитанников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во всероссийских, международных олимпиадах, конкурсах, соревнования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Внося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ичный вкла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 повышение качества образования на основе совершенствования методов обучения и воспитания, инновационной деятельности, в освоение новых образовательных технологий и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активно распространяют собственный опыт в области повышения качества образования и воспит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лок-схема аттестации педагогических работников,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меющих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перву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валификационную категорию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тендующих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ВЫСШУ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16532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450720" y="1165320"/>
            <a:ext cx="8282160" cy="6490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Заявление в аттестационную комиссию не ранее чем через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2 го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сле установления 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4"/>
          <p:cNvSpPr/>
          <p:nvPr/>
        </p:nvSpPr>
        <p:spPr>
          <a:xfrm>
            <a:off x="4451400" y="1814400"/>
            <a:ext cx="252360" cy="15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450720" y="1973160"/>
            <a:ext cx="8282160" cy="808200"/>
          </a:xfrm>
          <a:prstGeom prst="rect">
            <a:avLst/>
          </a:prstGeom>
          <a:solidFill>
            <a:srgbClr val="fcd5b5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ник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 собственному желанию подаёт заявление в аттестационную комисси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 позднее чем за 3 месяца до оконч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рока действия имеющейся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438120" y="2973240"/>
            <a:ext cx="8280360" cy="501840"/>
          </a:xfrm>
          <a:prstGeom prst="rect">
            <a:avLst/>
          </a:prstGeom>
          <a:solidFill>
            <a:srgbClr val="fcd5b5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яе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РТФОЛ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профессиона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10"/>
          <p:cNvSpPr/>
          <p:nvPr/>
        </p:nvSpPr>
        <p:spPr>
          <a:xfrm>
            <a:off x="4446720" y="2781360"/>
            <a:ext cx="252360" cy="15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низ 11"/>
          <p:cNvSpPr/>
          <p:nvPr/>
        </p:nvSpPr>
        <p:spPr>
          <a:xfrm>
            <a:off x="4465800" y="3475080"/>
            <a:ext cx="252360" cy="15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2"/>
          <p:cNvSpPr/>
          <p:nvPr/>
        </p:nvSpPr>
        <p:spPr>
          <a:xfrm>
            <a:off x="465120" y="3633840"/>
            <a:ext cx="8224920" cy="601560"/>
          </a:xfrm>
          <a:prstGeom prst="rect">
            <a:avLst/>
          </a:prstGeom>
          <a:solidFill>
            <a:srgbClr val="fcd5b5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Экспертные групп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существляют всесторонний анализ результатов профессиональной деятельности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низ 13"/>
          <p:cNvSpPr/>
          <p:nvPr/>
        </p:nvSpPr>
        <p:spPr>
          <a:xfrm>
            <a:off x="4506840" y="4213080"/>
            <a:ext cx="250920" cy="160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430200" y="4373640"/>
            <a:ext cx="8294760" cy="488880"/>
          </a:xfrm>
          <a:prstGeom prst="rect">
            <a:avLst/>
          </a:prstGeom>
          <a:solidFill>
            <a:srgbClr val="fcd5b5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валификационное испытание в форме защи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ртфоли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низ 15"/>
          <p:cNvSpPr/>
          <p:nvPr/>
        </p:nvSpPr>
        <p:spPr>
          <a:xfrm>
            <a:off x="4494240" y="4862520"/>
            <a:ext cx="252360" cy="160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6"/>
          <p:cNvSpPr/>
          <p:nvPr/>
        </p:nvSpPr>
        <p:spPr>
          <a:xfrm>
            <a:off x="496800" y="5073480"/>
            <a:ext cx="8178840" cy="717840"/>
          </a:xfrm>
          <a:prstGeom prst="rect">
            <a:avLst/>
          </a:prstGeom>
          <a:solidFill>
            <a:srgbClr val="fcd5b5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ровень квалификации соответствует требованиям, предъявляемым к 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17"/>
          <p:cNvSpPr/>
          <p:nvPr/>
        </p:nvSpPr>
        <p:spPr>
          <a:xfrm>
            <a:off x="4506840" y="5754600"/>
            <a:ext cx="250920" cy="160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453960" y="5915160"/>
            <a:ext cx="8236080" cy="685800"/>
          </a:xfrm>
          <a:prstGeom prst="rect">
            <a:avLst/>
          </a:prstGeom>
          <a:solidFill>
            <a:srgbClr val="fcd5b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ная на основании аттестации квалификационная категория педагогическим работникам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действительна в течение пяти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2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овторн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установле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соответствия уровня квалификации педагогический работник представля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информационно-аналитическую справ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подписанную руководителем образовательного учреж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68360" y="2420640"/>
            <a:ext cx="8229600" cy="2160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Аттестационное портфолио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4920" y="155700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ОРМАТИВНЫЕ ОСНОВАНИЯ ПРОВЕДЕНИЯ АТТЕС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иказ Министерства образования и науки РФ от 24 марта 2010 г.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№ 20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О порядке аттестаци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педагогических работников государственны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муниципальных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х учреждений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иказ Министерства здравоохранения и социального развития Российской Федерации от 5 мая 2008 г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№ 216н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Об утверждении профессиональных групп должностей работников образования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Оценка профессиональной деятельности</a:t>
            </a:r>
            <a:br>
              <a:rPr sz="22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назначение портфол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ттестационное портфолио педагог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это форма представления зафиксированных и оценённых индивидуальных достижений педагога за определенный отрезок време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ртфолио является инструменто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кспертного оценива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ой компетентности  и эффективности профессиональной деятельности конкретного педагог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амооцен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результативности и профессиональной деятельности педаго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Являясь предметом для экспертизы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аттестации педагогического работника,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ртфолио выполняет следующие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функции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Оценочно-стимулирующ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основания для отнесения педагога к той или иной квалификационной категории, для начисления стимулирующей части заработанной плат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Развивающая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 отношени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 образовательной ситуации. Структура портфолио представляет собой своеобразны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риенти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озможных видов активности педаго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Демонстрационная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 отношению к процедуре оценки качества профессионального труда конкретного педагога и профессиональному уровню в региональной системе образ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5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Структура портфол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4920" y="2421000"/>
            <a:ext cx="820908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дел 1. Общие сведения о педаго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дел 2. Информационно-аналитическая справ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дел 3. Краткое описание методической системы педаго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ло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777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дел 1. Общие сведения о педагог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981000"/>
          <a:ext cx="8362800" cy="5400720"/>
        </p:xfrm>
        <a:graphic>
          <a:graphicData uri="http://schemas.openxmlformats.org/drawingml/2006/table">
            <a:tbl>
              <a:tblPr/>
              <a:tblGrid>
                <a:gridCol w="5472000"/>
                <a:gridCol w="2890800"/>
              </a:tblGrid>
              <a:tr h="8971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Фамилия, имя, отчество, год рож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Образование (наименование ОУ,              год окончания, полученная специальность    и квалификация по диплом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046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Трудовой и педагогический стаж,           стаж работы в данном образовательном учрежд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1383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Повышение квалификации (название организации, где прослушаны курсы, год, месяц, проблематика курс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3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Информация о наличии учёных званий       и почётных званий, нагр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302680" cy="865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дел 2. Информационно-аналитическая справ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отражающая эффективность профессиональной деятельности педагога</a:t>
            </a:r>
            <a:br>
              <a:rPr sz="1800"/>
            </a:b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педагогов, претендующих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ервую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ю,             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справке должны быть представл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Характеристика условий, в которых работает педаго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ведения о реализуемых программах, их уровень, направленность (название программы, автор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Результаты освоения обучающимися образовательных программ и показатели динамики их достижений не менее, чем за последние 2 года в сравнении со средними региональн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Результаты внеурочной деятельности педагога по предме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нформация об использовании педагогом здоровьесберегающих технологий, пропаганде ценности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нформация об использовании педагогом современных педагогических и информационно-коммуникационных технолог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53440" cy="115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о-аналитическая справ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800"/>
            </a:b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отражающая эффективность профессиональной деятельности педагог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4920" y="2205000"/>
            <a:ext cx="8280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педагогов, претендующих н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высшу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ю, в справк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олжны быть представлен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1-6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ивность участия обучающихся в олимпиадах, конкурсах, соревнованиях разного уров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Информация, отражающая участие педагога в исследовательской, опытно-экспериментальной работе, работе творческих коллектив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Информация об участии педагога в различных мероприятиях по распространению его опы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079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дел 3. Краткое описание методической системы педаг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2707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ы этого раздела позволяют судить о том, какой личный вклад аттестующийся педагог вносит  в повышение качества образования на основе совершенствования методов обучения и воспитания в процессе инновацион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06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лож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f5f5f"/>
                </a:solidFill>
                <a:uFillTx/>
                <a:latin typeface="Arial"/>
                <a:ea typeface="Arial"/>
              </a:rPr>
              <a:t>В приложении могут быть представлены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ы, подтверждающие достижения педаг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ы, демонстрирующие продукты профессиональной деятельности педагога (видеоматериал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тзывы, рецензии, представляющие результаты внешней оценки деятельности педагога и её результа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ы, отражающие процесс и результаты индивидуального профессионального развития педаг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ловарь основных понятий.doc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68360" y="1125360"/>
            <a:ext cx="8229600" cy="4175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ИНФОРМ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одержащая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портфоли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 одной стороны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должна быть пол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позволяющей дать обоснованную оценку профессионализма, квалификации и продуктивности деятельности педагог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 другой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структурирован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легко доступной для рассмот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196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РЯДОК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не предусматривает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аттестаци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уководит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образовательных учрежден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х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местит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уководителей структурных подраздел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экспертизы  результатов профессиональной деятельности, квалификационных испытани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68360" y="1989000"/>
            <a:ext cx="828036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кспертные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ют всесторонний анализ результатов профессиональной деятельности педагогического работ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дготовку экспертного заключения для аттестационной коми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каз 209. Создание экспертных групп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ение об экспертах.doc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итерии, баллы, шкала портфолио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9640" y="184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БОВАНИЯ К ЭКСПЕРТУ.do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274680"/>
            <a:ext cx="8183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Решения аттестационной комиссии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468360" y="836640"/>
            <a:ext cx="8280360" cy="1258920"/>
          </a:xfrm>
          <a:prstGeom prst="rect">
            <a:avLst/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и установлении соответствия уровня квалификации требованиям, предъявляемым к первой или высшей квалификационным категор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низ 5"/>
          <p:cNvSpPr/>
          <p:nvPr/>
        </p:nvSpPr>
        <p:spPr>
          <a:xfrm>
            <a:off x="1332000" y="2060640"/>
            <a:ext cx="144360" cy="32364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низ 6"/>
          <p:cNvSpPr/>
          <p:nvPr/>
        </p:nvSpPr>
        <p:spPr>
          <a:xfrm>
            <a:off x="4535640" y="2095560"/>
            <a:ext cx="144360" cy="28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низ 7"/>
          <p:cNvSpPr/>
          <p:nvPr/>
        </p:nvSpPr>
        <p:spPr>
          <a:xfrm>
            <a:off x="7675560" y="2060640"/>
            <a:ext cx="142920" cy="32364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8"/>
          <p:cNvSpPr/>
          <p:nvPr/>
        </p:nvSpPr>
        <p:spPr>
          <a:xfrm>
            <a:off x="431640" y="2400480"/>
            <a:ext cx="2052720" cy="18921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квалификации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соответству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перв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9"/>
          <p:cNvSpPr/>
          <p:nvPr/>
        </p:nvSpPr>
        <p:spPr>
          <a:xfrm>
            <a:off x="3635280" y="2400480"/>
            <a:ext cx="1944720" cy="18921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квалификации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 соответству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0"/>
          <p:cNvSpPr/>
          <p:nvPr/>
        </p:nvSpPr>
        <p:spPr>
          <a:xfrm>
            <a:off x="6702480" y="2400480"/>
            <a:ext cx="2046240" cy="18921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квалификации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соответству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первой (высшей)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1"/>
          <p:cNvSpPr/>
          <p:nvPr/>
        </p:nvSpPr>
        <p:spPr>
          <a:xfrm>
            <a:off x="503280" y="4437000"/>
            <a:ext cx="1944720" cy="1728720"/>
          </a:xfrm>
          <a:prstGeom prst="rect">
            <a:avLst/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одтверждение соответствия занимаемой должност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аттестация на первую категор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Прямая со стрелкой 13"/>
          <p:cNvCxnSpPr>
            <a:endCxn id="132" idx="0"/>
          </p:cNvCxnSpPr>
          <p:nvPr/>
        </p:nvCxnSpPr>
        <p:spPr>
          <a:xfrm>
            <a:off x="1476000" y="41497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Прямоугольник 15"/>
          <p:cNvSpPr/>
          <p:nvPr/>
        </p:nvSpPr>
        <p:spPr>
          <a:xfrm>
            <a:off x="3635280" y="4437000"/>
            <a:ext cx="1944720" cy="1728720"/>
          </a:xfrm>
          <a:prstGeom prst="rect">
            <a:avLst/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одтверждение соответствия занимаемой должност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аттестация на первую категор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Прямая со стрелкой 16"/>
          <p:cNvCxnSpPr/>
          <p:nvPr/>
        </p:nvCxnSpPr>
        <p:spPr>
          <a:xfrm>
            <a:off x="4549320" y="41911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Прямоугольник 17"/>
          <p:cNvSpPr/>
          <p:nvPr/>
        </p:nvSpPr>
        <p:spPr>
          <a:xfrm>
            <a:off x="6753240" y="4468680"/>
            <a:ext cx="1944720" cy="1729080"/>
          </a:xfrm>
          <a:prstGeom prst="rect">
            <a:avLst/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алич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ервой (высшей) категор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Действительна          в течение 5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Прямая со стрелкой 18"/>
          <p:cNvCxnSpPr/>
          <p:nvPr/>
        </p:nvCxnSpPr>
        <p:spPr>
          <a:xfrm>
            <a:off x="7818120" y="4167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360" y="1915920"/>
            <a:ext cx="82296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Ю ЗА ВНИМАНИЕ 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ределяет правила проведения аттеста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едагогических работник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осударственны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муниципаль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х учреждени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еализующих основные образовательные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школьног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 общег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ого общег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его (полного) общего образ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 профессиональног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его профессионального образ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полнительные образовательные програм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68360" y="836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ыми задачами аттестации являютс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Стимулировани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целенаправленного, непрерывного повышения уровня квалификации педагогических работников, их методологической культуры, личностного профессионального роста, использования ими современных педагогических технологи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овышени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эффективности и качества педагогического труд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Выявление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перспектив использования потенциальных возможностей педагогических работнико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Обеспечени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дифференциации уровня оплаты труда педагогических работнико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10920" y="1268280"/>
            <a:ext cx="78483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сновными принципами аттестации являются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оллегиальн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ласн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крытост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ивающие объективное отнош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педагогическим работника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пустимость дискримин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роведении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48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анием для проведения аттестации 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территори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моленской област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становление Администрации Смоленской области от 30.12.2011год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92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 утверждении Административного регламента предоставления Департаментом Смоленской области по образованию и науке государственной услуги «Проведение аттестации педагогических работников областных государственных и муниципальных образовательных учреждений» Административный регламент.do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91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РАСЛЕВОЕ СОГЛАШЕНИЕ между Департаментом Смоленской области по образованию и науке и областной организацией Профсоюза работников народного образования и науки РФ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2011-2013 годы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ПОЛНЕНИЕ к Отраслевому соглашению между Департаментом Смоленской области по образованию и науки и Смоленской областной организации Профсоюза работников народного образования и науки РФ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ПОЛНЕНИЕ к отраслевому соглашению.do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полнительное соглашение №2 к Отраслевому соглашени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жду Департаментом Смоленской области по образованию и нау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Смоленской областной организацией Профсоюза работников народного образования и науки Р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полнительное соглашение №2.do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ттестация проводится в целя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становл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ответствия уровня квалификации педагогических работников требованиям, предъявляемым к квалификационным категориям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ерв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сш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тверждени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оответств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едагогических работников занимаемым ими должностя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autami"/>
              </a:rPr>
              <a:t>на основе оценки их профессиональной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0:44:33Z</dcterms:created>
  <dc:creator>Владелец</dc:creator>
  <dc:description/>
  <dc:language>en-US</dc:language>
  <cp:lastModifiedBy>User</cp:lastModifiedBy>
  <dcterms:modified xsi:type="dcterms:W3CDTF">2012-10-27T11:56:42Z</dcterms:modified>
  <cp:revision>260</cp:revision>
  <dc:subject/>
  <dc:title> Государственное автономное учреждение  дополнительного профессионального образования  (повышения квалификации) специалистов  «Смоленский областной институт развития образования» </dc:title>
</cp:coreProperties>
</file>