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8281-F5FA-4705-AA72-6E8394FB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707E-E947-4B22-B07A-F2243CB8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B621-E672-46A7-A28B-D33DA9027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C31E-D8EE-472E-A955-2C56E3C52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F602-F24C-4F43-872F-7C90055A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5DB8-11F9-44CF-81D1-0D31E74D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6446-60DF-4617-9C20-01EE0089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C3BB-C8E5-46B0-A6C2-7ECF8FDD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FBE9-5E44-4216-B100-3998C997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B372-AE01-470C-8657-E28DAD1C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58B9-17AF-4BAA-859B-C668A104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4FDF-F22D-4CF1-9D5B-E4B89147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C52F-0C3B-47C1-B1A3-BA47C3A031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11280" y="476280"/>
            <a:ext cx="6477120" cy="14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осударственное автономное учреждение  дополнительного профессионального образования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(повышения квалификации) специалистов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Смоленский областной институт развития образования»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2421000"/>
            <a:ext cx="8353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ТТЕСТАЦ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ИХ РАБОТНИК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ГОСУДАРСТВЕННЫХ И МУНИЦИПАЛЬНЫХ ОБРАЗОВАТЕЛЬНЫХ УЧРЕЖД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полнила: Петрова Е.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ндидат педагогических нау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143208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39640" y="476280"/>
          <a:ext cx="8229600" cy="5761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70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  АТТЕСТАЦИИ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броволь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ановление  соответствия уровня квалификации  педагогических работников  требованиям, предъявляемые к первой или высшей квалификационным категория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портфолио  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информационно-аналитическая справ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бязатель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тверждение соответствия педагогических работников занимаемым ими должност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(компьютерное тестиров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лок-схема аттестации педагогических работников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оответствие занимаемой должности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один раз в 5 лет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458640" y="907920"/>
            <a:ext cx="8209080" cy="682920"/>
          </a:xfrm>
          <a:prstGeom prst="rect">
            <a:avLst/>
          </a:prstGeom>
          <a:solidFill>
            <a:srgbClr val="fcd5b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РАБОТОДАТЕЛЬ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формля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ЛЕНИЕ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а рабо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 вниз 8"/>
          <p:cNvSpPr/>
          <p:nvPr/>
        </p:nvSpPr>
        <p:spPr>
          <a:xfrm>
            <a:off x="4465800" y="1590840"/>
            <a:ext cx="206280" cy="147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9"/>
          <p:cNvSpPr/>
          <p:nvPr/>
        </p:nvSpPr>
        <p:spPr>
          <a:xfrm>
            <a:off x="439560" y="1784520"/>
            <a:ext cx="8253720" cy="780840"/>
          </a:xfrm>
          <a:prstGeom prst="rect">
            <a:avLst/>
          </a:prstGeom>
          <a:solidFill>
            <a:srgbClr val="fcd5b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РАБОТОДАТЕЛЬ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ЗНАКОМИТ РАБОТНИКОВ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ЛЕНИЕМ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ПОД  РОСПИСЬ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не позднее, чем за месяц до дня проведения аттес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1"/>
          <p:cNvSpPr/>
          <p:nvPr/>
        </p:nvSpPr>
        <p:spPr>
          <a:xfrm>
            <a:off x="414360" y="2712960"/>
            <a:ext cx="8299440" cy="560520"/>
          </a:xfrm>
          <a:prstGeom prst="rect">
            <a:avLst/>
          </a:prstGeom>
          <a:solidFill>
            <a:srgbClr val="fcd5b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РАБОТОДАТЕЛЬ НАПРАВЛЯЕТ ПРЕДСТАВЛЕНИЕ В АТТЕСТАЦИОННУЮ КОМИСС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395280" y="4653000"/>
            <a:ext cx="8280360" cy="934920"/>
          </a:xfrm>
          <a:prstGeom prst="rect">
            <a:avLst/>
          </a:prstGeom>
          <a:solidFill>
            <a:srgbClr val="fcd5b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ие работник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ходят квалификационные испыт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форме компьютерного тестирован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 вопросам, связанным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осуществлением ими педагогической деятельности по занимаемой долж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5"/>
          <p:cNvSpPr/>
          <p:nvPr/>
        </p:nvSpPr>
        <p:spPr>
          <a:xfrm>
            <a:off x="395280" y="5661000"/>
            <a:ext cx="8275680" cy="757440"/>
          </a:xfrm>
          <a:prstGeom prst="rect">
            <a:avLst/>
          </a:prstGeom>
          <a:solidFill>
            <a:srgbClr val="fcd5b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ЕШЕНИЕ АТТЕСТАЦИОННОЙ КОМИССИ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ОТВЕТСТВУЕТ (НЕ СООТВЕТСТВУЕТ) ЗАНИМАЕМОЙ ДОЛЖНОС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низ 16"/>
          <p:cNvSpPr/>
          <p:nvPr/>
        </p:nvSpPr>
        <p:spPr>
          <a:xfrm>
            <a:off x="4483080" y="2565360"/>
            <a:ext cx="208080" cy="147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низ 17"/>
          <p:cNvSpPr/>
          <p:nvPr/>
        </p:nvSpPr>
        <p:spPr>
          <a:xfrm>
            <a:off x="4427640" y="3284640"/>
            <a:ext cx="215640" cy="220680"/>
          </a:xfrm>
          <a:prstGeom prst="downArrow">
            <a:avLst>
              <a:gd name="adj1" fmla="val 50000"/>
              <a:gd name="adj2" fmla="val 5006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468360" y="3500280"/>
            <a:ext cx="8240760" cy="930600"/>
          </a:xfrm>
          <a:prstGeom prst="rect">
            <a:avLst/>
          </a:prstGeom>
          <a:solidFill>
            <a:srgbClr val="fcd5b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О ДАТЕ, МЕСТЕ И ВРЕМЕНИ ПРОВЕДЕНИЯ АТТЕСТ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ДОВОДИТСЯ РАБОТОДАТЕЛЕМ ДО СВЕДЕНИЯ ПЕДАГОГО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ПОДЛЕЖАЩИХ АТТЕСТАЦИИ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не позднее, чем за месяц до её нач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 вниз 18"/>
          <p:cNvSpPr/>
          <p:nvPr/>
        </p:nvSpPr>
        <p:spPr>
          <a:xfrm>
            <a:off x="4500720" y="4437000"/>
            <a:ext cx="207720" cy="147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 вниз 19"/>
          <p:cNvSpPr/>
          <p:nvPr/>
        </p:nvSpPr>
        <p:spPr>
          <a:xfrm>
            <a:off x="4586400" y="5516640"/>
            <a:ext cx="207720" cy="147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39640" y="1484280"/>
            <a:ext cx="7920000" cy="33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лучае признания педагогического работника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результатам аттес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несоответствующим занимаемой должности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трудовой договор с ним может быть расторгну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пункт 3 часть 1 статьи 81 Трудового кодекса РФ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68360" y="1341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РЯДОК АТТЕС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едагогических работников для установ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оответствия уровня их квалификации требованиям, предъявляемым к квалификационным категори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первой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высш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68000" y="836280"/>
            <a:ext cx="8218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ПЕРВА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квалификационная категория может быть         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установлена педагогическим работникам, которы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Владею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овременными образовательными технологиями и методиками, эффективно применяют их в практической профессиональной деятель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Вносят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личный вклад в повышение качества образования на основе совершенствования методов обучения и воспит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Имеют стабильные результаты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своения обучающимися, воспитанниками образовательных программ и показатели динамики их достижений выше средних в субъекте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Блок-схема аттестации педагогических работников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етендующих на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ПЕРВУЮ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валификационную категорию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453960" y="1052640"/>
            <a:ext cx="8294760" cy="7207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ботник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 собственному желанию подаёт заявление                     в аттестационную комисс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трелка вниз 4"/>
          <p:cNvSpPr/>
          <p:nvPr/>
        </p:nvSpPr>
        <p:spPr>
          <a:xfrm>
            <a:off x="4427640" y="1844640"/>
            <a:ext cx="252360" cy="141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511200" y="2071800"/>
            <a:ext cx="8237520" cy="7174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бот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представляе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ОРТФОЛИ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профессиональной деятельнос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480960" y="3894120"/>
            <a:ext cx="8294760" cy="6541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валификационное испытание в форме защит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РТФОЛИ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8"/>
          <p:cNvSpPr/>
          <p:nvPr/>
        </p:nvSpPr>
        <p:spPr>
          <a:xfrm>
            <a:off x="484200" y="2962440"/>
            <a:ext cx="8224920" cy="7808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кспертные груп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существляют всесторонний анализ результатов профессиональной деятельности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1"/>
          <p:cNvSpPr/>
          <p:nvPr/>
        </p:nvSpPr>
        <p:spPr>
          <a:xfrm>
            <a:off x="538200" y="4734000"/>
            <a:ext cx="8280360" cy="8380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ШЕНИЕ АТТЕСТАЦИОННОЙ КОМИСС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уровень квалификации соответствует (не соответствует) требованиям, предъявляемым к перво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трелка вниз 12"/>
          <p:cNvSpPr/>
          <p:nvPr/>
        </p:nvSpPr>
        <p:spPr>
          <a:xfrm>
            <a:off x="4413240" y="2816280"/>
            <a:ext cx="250920" cy="141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трелка вниз 13"/>
          <p:cNvSpPr/>
          <p:nvPr/>
        </p:nvSpPr>
        <p:spPr>
          <a:xfrm>
            <a:off x="4386240" y="3751200"/>
            <a:ext cx="252360" cy="141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трелка вниз 14"/>
          <p:cNvSpPr/>
          <p:nvPr/>
        </p:nvSpPr>
        <p:spPr>
          <a:xfrm>
            <a:off x="4386240" y="4592520"/>
            <a:ext cx="252360" cy="141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низ 15"/>
          <p:cNvSpPr/>
          <p:nvPr/>
        </p:nvSpPr>
        <p:spPr>
          <a:xfrm>
            <a:off x="4421160" y="5600880"/>
            <a:ext cx="252360" cy="141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6"/>
          <p:cNvSpPr/>
          <p:nvPr/>
        </p:nvSpPr>
        <p:spPr>
          <a:xfrm>
            <a:off x="468360" y="5756400"/>
            <a:ext cx="8321760" cy="696960"/>
          </a:xfrm>
          <a:prstGeom prst="rect">
            <a:avLst/>
          </a:prstGeom>
          <a:solidFill>
            <a:srgbClr val="fcd5b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Установленная на основании аттестации квалификационная категория педагогическим работникам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действительна в течение пяти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95280" y="475920"/>
            <a:ext cx="842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ВЫСША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валификационная категория может быть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  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установлена педагогическим работникам, которые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: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Имею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установленную первую квалификационную категор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Владею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овременными образовательными технологиями и методиками, эффективно применяют их в практической профессиональн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Имею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табильные результа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своения обучающимися, воспитанниками образовательных программ 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казатели динами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х достижений выше средних в субъекте Российской Федерации, в том числе с учетом результатов участия обучающихся и воспитанников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во всероссийских, международных олимпиадах, конкурсах, соревнования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Внося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личный вкла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в повышение качества образования на основе совершенствования методов обучения и воспитания, инновационной деятельности, в освоение новых образовательных технологий и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активно распространяют собственный опыт в области повышения качества образования и воспит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Блок-схема аттестации педагогических работников,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меющих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перву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валификационную категорию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етендующих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ВЫСШУЮ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165320"/>
            <a:ext cx="822960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3"/>
          <p:cNvSpPr/>
          <p:nvPr/>
        </p:nvSpPr>
        <p:spPr>
          <a:xfrm>
            <a:off x="450720" y="1165320"/>
            <a:ext cx="8282160" cy="6490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Заявление в аттестационную комиссию не ранее чем через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2 го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осле установления перво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вниз 4"/>
          <p:cNvSpPr/>
          <p:nvPr/>
        </p:nvSpPr>
        <p:spPr>
          <a:xfrm>
            <a:off x="4451400" y="1814400"/>
            <a:ext cx="252360" cy="15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450720" y="1973160"/>
            <a:ext cx="8282160" cy="808200"/>
          </a:xfrm>
          <a:prstGeom prst="rect">
            <a:avLst/>
          </a:prstGeom>
          <a:solidFill>
            <a:srgbClr val="fcd5b5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Работник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о собственному желанию подаёт заявление в аттестационную комисси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е позднее чем за 3 месяца до оконча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рока действия имеющейся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7"/>
          <p:cNvSpPr/>
          <p:nvPr/>
        </p:nvSpPr>
        <p:spPr>
          <a:xfrm>
            <a:off x="438120" y="2973240"/>
            <a:ext cx="8280360" cy="501840"/>
          </a:xfrm>
          <a:prstGeom prst="rect">
            <a:avLst/>
          </a:prstGeom>
          <a:solidFill>
            <a:srgbClr val="fcd5b5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ляе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ОРТФОЛИ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профессиональ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трелка вниз 10"/>
          <p:cNvSpPr/>
          <p:nvPr/>
        </p:nvSpPr>
        <p:spPr>
          <a:xfrm>
            <a:off x="4446720" y="2781360"/>
            <a:ext cx="252360" cy="15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трелка вниз 11"/>
          <p:cNvSpPr/>
          <p:nvPr/>
        </p:nvSpPr>
        <p:spPr>
          <a:xfrm>
            <a:off x="4465800" y="3475080"/>
            <a:ext cx="252360" cy="15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2"/>
          <p:cNvSpPr/>
          <p:nvPr/>
        </p:nvSpPr>
        <p:spPr>
          <a:xfrm>
            <a:off x="465120" y="3633840"/>
            <a:ext cx="8224920" cy="601560"/>
          </a:xfrm>
          <a:prstGeom prst="rect">
            <a:avLst/>
          </a:prstGeom>
          <a:solidFill>
            <a:srgbClr val="fcd5b5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Экспертные групп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существляют всесторонний анализ результатов профессиональной деятельности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трелка вниз 13"/>
          <p:cNvSpPr/>
          <p:nvPr/>
        </p:nvSpPr>
        <p:spPr>
          <a:xfrm>
            <a:off x="4506840" y="4213080"/>
            <a:ext cx="250920" cy="160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430200" y="4373640"/>
            <a:ext cx="8294760" cy="488880"/>
          </a:xfrm>
          <a:prstGeom prst="rect">
            <a:avLst/>
          </a:prstGeom>
          <a:solidFill>
            <a:srgbClr val="fcd5b5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Квалификационное испытание в форме защи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ортфоли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трелка вниз 15"/>
          <p:cNvSpPr/>
          <p:nvPr/>
        </p:nvSpPr>
        <p:spPr>
          <a:xfrm>
            <a:off x="4494240" y="4862520"/>
            <a:ext cx="252360" cy="160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6"/>
          <p:cNvSpPr/>
          <p:nvPr/>
        </p:nvSpPr>
        <p:spPr>
          <a:xfrm>
            <a:off x="496800" y="5073480"/>
            <a:ext cx="8178840" cy="717840"/>
          </a:xfrm>
          <a:prstGeom prst="rect">
            <a:avLst/>
          </a:prstGeom>
          <a:solidFill>
            <a:srgbClr val="fcd5b5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ШЕНИЕ АТТЕСТАЦИОННОЙ КОМИСС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уровень квалификации соответствует требованиям, предъявляемым к 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трелка вниз 17"/>
          <p:cNvSpPr/>
          <p:nvPr/>
        </p:nvSpPr>
        <p:spPr>
          <a:xfrm>
            <a:off x="4506840" y="5754600"/>
            <a:ext cx="250920" cy="160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453960" y="5915160"/>
            <a:ext cx="8236080" cy="685800"/>
          </a:xfrm>
          <a:prstGeom prst="rect">
            <a:avLst/>
          </a:prstGeom>
          <a:solidFill>
            <a:srgbClr val="fcd5b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Установленная на основании аттестации квалификационная категория педагогическим работникам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действительна в течение пяти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28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повторно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установлен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соответствия уровня квалификации педагогический работник представляе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информационно-аналитическую справк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Arial"/>
              </a:rPr>
              <a:t>подписанную руководителем образовательного учрежд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68360" y="2420640"/>
            <a:ext cx="8229600" cy="21603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Аттестационное портфолио педаго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94920" y="155700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ОРМАТИВНЫЕ ОСНОВАНИЯ ПРОВЕДЕНИЯ АТТЕСТ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риказ Министерства образования и науки РФ от 24 марта 2010 г.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№ 20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«О порядке аттестаци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педагогических работников государственны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муниципальных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ьных учреждений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риказ Министерства здравоохранения и социального развития Российской Федерации от 5 мая 2008 г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№ 216н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«Об утверждении профессиональных групп должностей работников образования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Оценка профессиональной деятельности</a:t>
            </a:r>
            <a:br>
              <a:rPr sz="22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9640" y="1412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назначение портфоли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ттестационное портфолио педагог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 это форма представления зафиксированных и оценённых индивидуальных достижений педагога за определенный отрезок време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ртфолио является инструментом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кспертного оцениван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офессиональной компетентности  и эффективности профессиональной деятельности конкретного педагог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амооцен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результативности и профессиональной деятельности педагог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Являясь предметом для экспертизы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и аттестации педагогического работника,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ртфолио выполняет следующие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функции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060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Оценочно-стимулирующа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основания для отнесения педагога к той или иной квалификационной категории, для начисления стимулирующей части заработанной платы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Развивающая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о отношени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к образовательной ситуации. Структура портфолио представляет собой своеобразный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риенти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возможных видов активности педагог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Демонстрационная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о отношению к процедуре оценки качества профессионального труда конкретного педагога и профессиональному уровню в региональной системе образов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5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Структура портфоли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4920" y="2421000"/>
            <a:ext cx="820908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здел 1. Общие сведения о педагог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здел 2. Информационно-аналитическая справ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здел 3. Краткое описание методической системы педагог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илож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777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дел 1. Общие сведения о педагог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24000" y="981000"/>
          <a:ext cx="8362800" cy="5400720"/>
        </p:xfrm>
        <a:graphic>
          <a:graphicData uri="http://schemas.openxmlformats.org/drawingml/2006/table">
            <a:tbl>
              <a:tblPr/>
              <a:tblGrid>
                <a:gridCol w="5472000"/>
                <a:gridCol w="2890800"/>
              </a:tblGrid>
              <a:tr h="8971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Фамилия, имя, отчество, год рож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2668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Образование (наименование ОУ,              год окончания, полученная специальность    и квалификация по диплому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046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Трудовой и педагогический стаж,           стаж работы в данном образовательном учрежд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1383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Повышение квалификации (название организации, где прослушаны курсы, год, месяц, проблематика курсо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3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Информация о наличии учёных званий       и почётных званий, награ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302680" cy="865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дел 2. Информационно-аналитическая справ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Arial"/>
              </a:rPr>
              <a:t>отражающая эффективность профессиональной деятельности педагога</a:t>
            </a:r>
            <a:br>
              <a:rPr sz="1800"/>
            </a:br>
            <a:br>
              <a:rPr sz="22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528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ля педагогов, претендующих н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ервую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тегорию,                    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 справке должны быть представле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Характеристика условий, в которых работает педаго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Сведения о реализуемых программах, их уровень, направленность (название программы, автор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Результаты освоения обучающимися образовательных программ и показатели динамики их достижений не менее, чем за последние 2 года в сравнении со средними региональны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Результаты внеурочной деятельности педагога по предмет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нформация об использовании педагогом здоровьесберегающих технологий, пропаганде ценности здорового образа жиз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нформация об использовании педагогом современных педагогических и информационно-коммуникационных технолог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353440" cy="115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но-аналитическая справк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1800"/>
            </a:br>
            <a:r>
              <a:rPr b="0" lang="en-US" sz="1600" spc="-1" strike="noStrike">
                <a:solidFill>
                  <a:srgbClr val="5f5f5f"/>
                </a:solidFill>
                <a:latin typeface="Arial"/>
                <a:ea typeface="Arial"/>
              </a:rPr>
              <a:t>отражающая эффективность профессиональной деятельности педагог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94920" y="2205000"/>
            <a:ext cx="8280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ля педагогов, претендующих на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высшу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атегорию, в справке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олжны быть представлен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1-6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7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ивность участия обучающихся в олимпиадах, конкурсах, соревнованиях разного уровн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Информация, отражающая участие педагога в исследовательской, опытно-экспериментальной работе, работе творческих коллектив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9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Информация об участии педагога в различных мероприятиях по распространению его опы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079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здел 3. Краткое описание методической системы педаго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5280" y="2707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атериалы этого раздела позволяют судить о том, какой личный вклад аттестующийся педагог вносит  в повышение качества образования на основе совершенствования методов обучения и воспитания в процессе инновационной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06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ложе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28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5f5f5f"/>
                </a:solidFill>
                <a:uFillTx/>
                <a:latin typeface="Arial"/>
                <a:ea typeface="Arial"/>
              </a:rPr>
              <a:t>В приложении могут быть представлены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Документы, подтверждающие достижения педаго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Работы, демонстрирующие продукты профессиональной деятельности педагога (видеоматериалы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тзывы, рецензии, представляющие результаты внешней оценки деятельности педагога и её результа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Материалы, отражающие процесс и результаты индивидуального профессионального развития педаго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ловарь основных понятий.doc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68360" y="1125360"/>
            <a:ext cx="8229600" cy="41752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ИНФОРМА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одержащая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 портфоли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 одной стороны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должна быть полно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позволяющей дать обоснованную оценку профессионализма, квалификации и продуктивности деятельности педагог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 другой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структурированн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легко доступной для рассмотр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196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РЯДОК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не предусматривает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ведение аттестации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уководител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образовательных учреждений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х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заместител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уководителей структурных подраздел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оведение экспертизы  результатов профессиональной деятельности, квалификационных испытани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468360" y="1989000"/>
            <a:ext cx="828036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кспертные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яют всесторонний анализ результатов профессиональной деятельности педагогического работн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одготовку экспертного заключения для аттестационной коми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каз 209. Создание экспертных групп.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ожение об экспертах.doc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ритерии, баллы, шкала портфолио.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539640" y="1844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ЕБОВАНИЯ К ЭКСПЕРТУ.do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274680"/>
            <a:ext cx="818352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Решения аттестационной комиссии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468360" y="836640"/>
            <a:ext cx="8280360" cy="1258920"/>
          </a:xfrm>
          <a:prstGeom prst="rect">
            <a:avLst/>
          </a:prstGeom>
          <a:solidFill>
            <a:srgbClr val="fcd5b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ри установлении соответствия уровня квалификации требованиям, предъявляемым к первой или высшей квалификационным категор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трелка вниз 5"/>
          <p:cNvSpPr/>
          <p:nvPr/>
        </p:nvSpPr>
        <p:spPr>
          <a:xfrm>
            <a:off x="1332000" y="2060640"/>
            <a:ext cx="144360" cy="32364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fcd5b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трелка вниз 6"/>
          <p:cNvSpPr/>
          <p:nvPr/>
        </p:nvSpPr>
        <p:spPr>
          <a:xfrm>
            <a:off x="4535640" y="2095560"/>
            <a:ext cx="144360" cy="288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cd5b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трелка вниз 7"/>
          <p:cNvSpPr/>
          <p:nvPr/>
        </p:nvSpPr>
        <p:spPr>
          <a:xfrm>
            <a:off x="7675560" y="2060640"/>
            <a:ext cx="142920" cy="32364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fcd5b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8"/>
          <p:cNvSpPr/>
          <p:nvPr/>
        </p:nvSpPr>
        <p:spPr>
          <a:xfrm>
            <a:off x="431640" y="2400480"/>
            <a:ext cx="2052720" cy="189216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Уровень квалификации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не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соответству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первой катег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9"/>
          <p:cNvSpPr/>
          <p:nvPr/>
        </p:nvSpPr>
        <p:spPr>
          <a:xfrm>
            <a:off x="3635280" y="2400480"/>
            <a:ext cx="1944720" cy="189216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Уровень квалификации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не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 соответству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высшей катег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10"/>
          <p:cNvSpPr/>
          <p:nvPr/>
        </p:nvSpPr>
        <p:spPr>
          <a:xfrm>
            <a:off x="6702480" y="2400480"/>
            <a:ext cx="2046240" cy="189216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Уровень квалификации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соответству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первой (высшей) катег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1"/>
          <p:cNvSpPr/>
          <p:nvPr/>
        </p:nvSpPr>
        <p:spPr>
          <a:xfrm>
            <a:off x="503280" y="4437000"/>
            <a:ext cx="1944720" cy="1728720"/>
          </a:xfrm>
          <a:prstGeom prst="rect">
            <a:avLst/>
          </a:prstGeom>
          <a:solidFill>
            <a:srgbClr val="fcd5b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Подтверждение соответствия занимаемой должност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аттестация на первую категор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Прямая со стрелкой 13"/>
          <p:cNvCxnSpPr>
            <a:endCxn id="132" idx="0"/>
          </p:cNvCxnSpPr>
          <p:nvPr/>
        </p:nvCxnSpPr>
        <p:spPr>
          <a:xfrm>
            <a:off x="1476000" y="414972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4" name="Прямоугольник 15"/>
          <p:cNvSpPr/>
          <p:nvPr/>
        </p:nvSpPr>
        <p:spPr>
          <a:xfrm>
            <a:off x="3635280" y="4437000"/>
            <a:ext cx="1944720" cy="1728720"/>
          </a:xfrm>
          <a:prstGeom prst="rect">
            <a:avLst/>
          </a:prstGeom>
          <a:solidFill>
            <a:srgbClr val="fcd5b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Подтверждение соответствия занимаемой должност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аттестация на первую категор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Прямая со стрелкой 16"/>
          <p:cNvCxnSpPr/>
          <p:nvPr/>
        </p:nvCxnSpPr>
        <p:spPr>
          <a:xfrm>
            <a:off x="4549320" y="419112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6" name="Прямоугольник 17"/>
          <p:cNvSpPr/>
          <p:nvPr/>
        </p:nvSpPr>
        <p:spPr>
          <a:xfrm>
            <a:off x="6753240" y="4468680"/>
            <a:ext cx="1944720" cy="1729080"/>
          </a:xfrm>
          <a:prstGeom prst="rect">
            <a:avLst/>
          </a:prstGeom>
          <a:solidFill>
            <a:srgbClr val="fcd5b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Налич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первой (высшей) категор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Действительна          в течение 5 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Прямая со стрелкой 18"/>
          <p:cNvCxnSpPr/>
          <p:nvPr/>
        </p:nvCxnSpPr>
        <p:spPr>
          <a:xfrm>
            <a:off x="7818120" y="416736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68360" y="1915920"/>
            <a:ext cx="822960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БЛАГОДАРЮ ЗА ВНИМАНИЕ 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ож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пределяет правила проведения аттестаци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педагогических работник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государственны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муниципальн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ьных учреждени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реализующих основные образовательные програм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школьног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ального общег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ого общег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него (полного) общего образов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ального профессионального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него профессионального образов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полнительные образовательные программ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68360" y="836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сновными задачами аттестации являютс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Стимулировани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целенаправленного, непрерывного повышения уровня квалификации педагогических работников, их методологической культуры, личностного профессионального роста, использования ими современных педагогических технологий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Повышени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эффективности и качества педагогического труд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Выявление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перспектив использования потенциальных возможностей педагогических работников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Обеспечени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дифференциации уровня оплаты труда педагогических работников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10920" y="1268280"/>
            <a:ext cx="78483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сновными принципами аттестации являются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оллегиальност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гласност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открытост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еспечивающие объективное отноше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педагогическим работникам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допустимость дискриминац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роведении аттес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484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нованием для проведения аттестации педагогических работник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территори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Смоленской област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вляетс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становление Администрации Смоленской области от 30.12.2011год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№ 92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 утверждении Административного регламента предоставления Департаментом Смоленской области по образованию и науке государственной услуги «Проведение аттестации педагогических работников областных государственных и муниципальных образовательных учреждений» Административный регламент.do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91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РАСЛЕВОЕ СОГЛАШЕНИЕ между Департаментом Смоленской области по образованию и науке и областной организацией Профсоюза работников народного образования и науки РФ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2011-2013 годы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ОПОЛНЕНИЕ к Отраслевому соглашению между Департаментом Смоленской области по образованию и науки и Смоленской областной организации Профсоюза работников народного образования и науки РФ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ОПОЛНЕНИЕ к отраслевому соглашению.do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ополнительное соглашение №2 к Отраслевому соглашению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жду Департаментом Смоленской области по образованию и наук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Смоленской областной организацией Профсоюза работников народного образования и науки Р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ополнительное соглашение №2.do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36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Аттестация проводится в целя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установл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ответствия уровня квалификации педагогических работников требованиям, предъявляемым к квалификационным категориям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ерв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ысш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одтверждения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оответств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едагогических работников занимаемым ими должностя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Gautami"/>
              </a:rPr>
              <a:t>на основе оценки их профессиональной деятельно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10:44:33Z</dcterms:created>
  <dc:creator>Владелец</dc:creator>
  <dc:description/>
  <dc:language>en-US</dc:language>
  <cp:lastModifiedBy>User</cp:lastModifiedBy>
  <dcterms:modified xsi:type="dcterms:W3CDTF">2012-10-27T11:56:42Z</dcterms:modified>
  <cp:revision>260</cp:revision>
  <dc:subject/>
  <dc:title> Государственное автономное учреждение  дополнительного профессионального образования  (повышения квалификации) специалистов  «Смоленский областной институт развития образования» </dc:title>
</cp:coreProperties>
</file>