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B31-73FD-48E2-ACD2-0AEDA420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419-DD92-4F44-8BE9-946E727B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D15-DE8F-4A3A-A44A-E4E94EE4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0D5-61C9-4EEA-9A9A-E9618460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E778C-A21D-48EA-B621-176BCB42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F616C-74FA-4E13-BF98-A9F8C33B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80D33-1026-4A3D-852E-30559AD7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66B1C-696B-4830-9DC7-2D9BA616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46E76-74E0-4BB3-9F5F-5CE9CF0E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32C9C-9D7E-464A-B0F1-288911D7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6B0D2-0879-4F87-B39F-052EC825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0F1-9DD6-4DFD-A064-744AB248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F8A7D-73A1-4840-B5C2-42AFF25B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7E65E-63BA-4DF7-9386-D8E1BB9F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26E13-C84A-4537-AC60-E77FE472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A42D0-9069-45D2-A0F6-88B2D842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37DEC-3A47-4844-8F4C-B8A55504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F91-93E3-4FD6-834D-39DFB0C7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933-0CC2-423D-8B54-B0132D80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86F-445D-4B9E-B27F-27D11112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24F-9F05-4778-A5B9-C624211E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B8F-E8C0-4C97-9D70-5AFE5A0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AFF-790A-4EBC-916F-4C84A3BF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A80-1719-4439-BB85-5A713030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36DE-F5ED-4400-B7B6-D3322B874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38F5-8886-4271-AFE0-B0C08C147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овое поколение программно-методического обеспечения дошкольного образования в соответствии с ФГ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остность педагогического процесса в ДОУ обеспечивается реализацией основной общеобразовательной программы дошкольного образования, составленной на основе примерной основной общеобразовательной программой ДО «От рождения до школы» Н.Е.Вераксы, Т.С.Комаровой, М.А.Васильев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ная программа сопровождается   методическим обеспечением  в соответствии с ФГТ (по образовательным областям)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Физическая культур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аненкова Э.Я. «Физическое воспитание в детском саду», М., Изд.дом «Воспитание дошкольника», 2005гПензулаева Л.И. «Физкультурные занятия в детском саду», М., Мозаика-Синтез, 2009Степаненкова Э.Я. «Методика физического воспитания» - М., 2005 Степаненкова Э.Я. «Методика проведения подвижных игр» - М., 2010Маханева М.Д. «Воспитание здорового ребенка» Демонстрационный и раздаточный материал, спортивное оборудование в необходимом количестве. Предметно-развивающая среда в группах (физ. уголки и  оборудование)  способствуют решению задач програм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Здоровь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К.Зайцев «Уроки Айболита», СПб.; Детство – Пресс, 2003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.М.Новикова «Формирование представлений о здоровом образе жизни у дошкольников», М.;Мозаика – Синтез,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И.Пензулаева «Оздоровительная гимнастика для детей 3-7 лет, М.;Мозаика – Синтез,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Познани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цакова Л.В. «Конструирование и ручной труд в детском саду: Программа и конспекты занятий.» М.,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цакова Л.В. «Творим и мастерим» Ручной труд: Пособие для педагогов и родителей. – М.,200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А.Куцакова Л.В. «Занятия по конструированию из строительного материала в средней группе детского сада», М.;Мозаика – Синтез, 2006-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А.Куцакова Л.В. «Занятия по конструированию из строительного материала в старшей группе детского сада», М.;Мозаика – Синтез, 2006-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А.Куцакова Л.В. «Занятия по конструированию из строительного материала в подготовительной к школе группе детского сада», М.;Мозаика – Синтез, 2006-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Формирование элементарных математических представлен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А.Арапова-Пискар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Формирование элементарных математических представлений». М., Мозаика-Синтез, 2006 -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.А. Помораева, В.А.Поз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нятия по формированию ЭМП» (младшая, средня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, Мозаика-Синтез, 2007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А.Парамонова «Занятия с детьми 6-7 лет», Москва, Медиа групп, 2010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Т.Голубь «Графические диктанты 5-7 лет»,Москва, «Вако», 2004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.М.Хамидулина «  Развивающие занятия с детьми 6-7 ле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ющие игры В.В.Воскобович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Формирование целостной картины ми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В. Дыбина «Ребенок и окружающий мир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, Мозаика-Синтез, 20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Что было до…Игры – путешествия в прошлое предметов», М.,1999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Занятия по ознакомлению с окружающим миром во второй младшей группе детского сада. Конспекты занятий» М., Мозаика – Синтез, 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Занятия по ознакомлению с окружающим миром в средней группе детского сада. Конспекты занятий» М., Мозаика – Синтез, 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Занятия по ознакомлению с окружающим миром в старшей группе детского сада. Конспекты занятий» М., Мозаика – Синтез, 20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Б.Дыбина «Занятия по ознакомлению с окружающим миром в подготовительной к школе группе  детского сада. Конспекты занятий» М., Мозаика – Синтез, 20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Коммуникац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 первой младшей группе детского сада», М., Мозаика – Синтез, 201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о второй младшей группе детского сада», М., Мозаика – Синте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 средней группе детского сада», М., Мозаика – Синтез,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 старшей группе детского сада», М., Мозаика – Синтез,201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Занятия по развитию речи в подготовительной к школе группе детского сада», М., Мозаика – Синтез,201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рбова В.В. «Развитие речи в детском саду» - М., мозаика – Синтез.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саков А.И. «Правильно ли говорит ваш ребенок?» - М., Мозаика – Синтез.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саков А.И. «Воспитание звуковой культуры речи дошкольников». М.,Мозаика – Синтез, 2006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чие тетради по программе (все группы)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Социализац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хнологии по игровой деятельност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ндаренко А.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Дидактические игры в детском саду». М., Просвещение, 1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ирнова Е.О., Богуславская З.М. «Развивающие игры для детей». – М.,Просвещение, 1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хайленко И.Я., Короткова Н.А. «Игра с правилами в дошкольном возрасте». – М.; Сфера,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хайленко И.Я., Короткова Н.А. «Как играть с ребенком?». – М.; Сфера,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Труд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С.Комарова, Л.В.Куцакова , Л.Ю павлова «Трудовое воспитание в детском саду. Программа и методические рекомендации для работы с детьми 2 – 7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В.Крулехт «Дошкольник и рукотворный мир. Пед. технология», СПб., Детство – Пресс, 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равственно – трудовое воспитание детей в детском саду. / Под редакцией Р.С.Буре. – М. Просвещение, 198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В.Куцакова «Нравственно – трудовое воспитание в детском саду» - М. Мозаика – Синтез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В.Куцакова «Конструирование и ручной труд в детском саду» Пособие для воспитателей. М. Просвещение, 19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цакова Л.В. 2Нравственно – трудовое воспитание в детском саду». М. Мозаика – Синте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годня в обществе идет становление новой системы дошкольного образования, направленной на реализацию Федеральных государственны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Музы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здники и развлечения в д/саду.Программа и методические рекомендациидля работы с детьми 2-7 лет. М.Б.Зацепина, Т.В.Антонова. – М. Синтез,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., Москва Синтез,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люстративный материал, дидактический материал, видеотека, фонотека, музыкальные инструменты, пособия по обучению муз.грам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е праздники. Программа и методические рекомендации для работы с детьми 2-7 лет. М.Б.Зацепина, Т.В.Антонова – м. Мозаика – Синтез, 2006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Художественное творчеств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С.Галанов  «Занятия с дошкольниками по изобразительному искусств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аранова Е.В., Савельева А.М. «От навыков к творчеству: обучение детей 2-7 лет технике рисования». М., Мозаика – Синтез, 2009 -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арова Т.Г. 2Детское художественное творчество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., Мозаика – Синтез, 200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арова Т.С. «Занятия по изобразительной деятельности в средней группе детского сада». Конспекты занятий. М., Мозаика – Синтез,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Комарова Т.С. «Занятия по изобразительной деятельности во второй младшей группе детского сада». Конспекты занятий. М., Мозаика – Синтез,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арова Т.С. «Занятия по изобразительной деятельности в старшей группе детского сада». Конспекты занятий. М., Мозаика – Синтез,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марова Т.С. «Школа эстетического воспитания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., Мозаика – Синтез,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бразовательная область «Чтение художественной литератур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В.Гербова «Приобщение детей к художественной литературе». – М.Мозаика – Синтез, 2005 0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шакова О.С. «Знакомим дошкольников 3-5 лет с литературой». – М.,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шакова О.С. «Знакомим дошкольников 5 -7  лет с литературой». – М.,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естоматия, 2-4 года /  Составила В.В.Гербова, Н.П.Ильчук и др. – М.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естоматия, 4-5 лет/  Составила В.В.Гербова, Н.П.Ильчук и др. – М.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естоматия, 5-7 лет/  Составила В.В.Гербова, Н.П.Ильчук и др. – М.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современного общества предъявляет новые требования к дошкольным образовательным учреждениям, к организации в них воспитательно-образовательного процесса, выбору и обоснованию содержания основных и парциальных учебных программ, результатам и результативности их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требования устанавливают нормы и положения, обязательные при реализации основной общеобразовательной программы дошко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первый в истории российского образования документ, который на федеральном уровне определяет, какой должна быть программа дошкольного образовательного учреждения, какое содержание реализовать для достижения каждым ребенком максимального для его возраста уровня развития с учетом его индивидуальных, возрастных особен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разовательная программа дошкольного образовательного учреждения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сматривается как нормативно-управленческий документ, обосновывающий выбор цели, содержания, применяемых методик и технологий, форм организации воспитательно-образовательного процесса в каждом конкретном дошкольном образовательном учрежд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раньше в большинстве комплексных программ были разделы, которые соответствовали определённым учебным дисциплинам или предметам, то теперь речь идёт о совокупности образовательных област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Физическая культура», «Здоровье», «Безопасность», «Социализация, «Труд», «Познание», «Коммуникация», «Чтение художественной литературы», «Художественное творчество», «Музыка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аз от учебной модели в детском саду, т.е. от занятий, требует обращения педагогов к новым формам работы с детьми, которые бы позволяли педагогам, образно говоря, обучать дошкольников так, чтобы они об этом даже не догадывалис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вое программно – методическое обеспечение дошкольного образования  в соответствии с ФГТ достаточно сложный вопрос для педагогов дошкольного образования. Их не только нужно уметь дифференцировать, но и интегрировать для реализации своей профессиональной деятельности — создания условий для разностороннего и целостного развития ребенка в дошкольном образовательном учрежд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дик</cp:lastModifiedBy>
  <dcterms:modified xsi:type="dcterms:W3CDTF">2002-12-31T23:4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