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E460-B520-4869-93B3-DB34ACC3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2C4-1206-486C-B76B-B1C940E4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F25-9C62-432B-989A-616565AE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21B5-9F02-4F2A-A964-13DDE70B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9739B-31E5-49FD-AB0D-6515FCA0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1A4FE-8253-4EAF-8FBA-A326A94B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0B9C4-C066-490A-A9AF-E427BA05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31040-9983-4ED8-B6B2-B9733133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FD3CF-16D8-45B9-8952-022414B7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B188D-3D29-46E2-B905-1BA37EF9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AC144-F6C7-4CA4-A9CF-872B0190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801-8FE7-4CF2-B53B-A2933BFA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79E34-F67D-4F02-9A27-E7BF2D8F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4A429-979D-4A63-BF60-5990BD2F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BE812-3BDD-4062-A36D-B3AAE8B5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68077-D767-49AF-A434-03C7A4FA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4AB7C-95D3-4AF3-B7A2-EFC36C99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CCF-C66B-4118-9BFB-1966A204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8E8C-7BEA-48BE-A9CB-A1016D70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631C-FD56-4833-9AEE-1F6717FC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4467-1197-4EF5-BD63-9726DDD0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E461-C122-4B65-AE03-CDEB4326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7F48-2D1D-4FCA-8777-88D14D72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9727-6257-40A1-A331-D4AC42AA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F825-0463-4AA4-A1AE-7425A162E3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C220-57BC-4E41-8662-8FE8583D2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овое поколение программно-методического обеспечения дошкольного образования в соответствии с ФГ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лостность педагогического процесса в ДОУ обеспечивается реализацией основной общеобразовательной программы дошкольного образования, составленной на основе примерной основной общеобразовательной программой ДО «От рождения до школы» Н.Е.Вераксы, Т.С.Комаровой, М.А.Васильево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нная программа сопровождается   методическим обеспечением  в соответствии с ФГТ (по образовательным областям)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бразовательная область «Физическая культур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паненкова Э.Я. «Физическое воспитание в детском саду», М., Изд.дом «Воспитание дошкольника», 2005гПензулаева Л.И. «Физкультурные занятия в детском саду», М., Мозаика-Синтез, 2009Степаненкова Э.Я. «Методика физического воспитания» - М., 2005 Степаненкова Э.Я. «Методика проведения подвижных игр» - М., 2010Маханева М.Д. «Воспитание здорового ребенка» Демонстрационный и раздаточный материал, спортивное оборудование в необходимом количестве. Предметно-развивающая среда в группах (физ. уголки и  оборудование)  способствуют решению задач програм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бразовательная область «Здоровье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.К.Зайцев «Уроки Айболита», СПб.; Детство – Пресс, 2003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.М.Новикова «Формирование представлений о здоровом образе жизни у дошкольников», М.;Мозаика – Синтез,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.И.Пензулаева «Оздоровительная гимнастика для детей 3-7 лет, М.;Мозаика – Синтез, 20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бразовательная область «Познание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уцакова Л.В. «Конструирование и ручной труд в детском саду: Программа и конспекты занятий.» М.,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уцакова Л.В. «Творим и мастерим» Ручной труд: Пособие для педагогов и родителей. – М.,2007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.А.Куцакова Л.В. «Занятия по конструированию из строительного материала в средней группе детского сада», М.;Мозаика – Синтез, 2006-20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.А.Куцакова Л.В. «Занятия по конструированию из строительного материала в старшей группе детского сада», М.;Мозаика – Синтез, 2006-20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.А.Куцакова Л.В. «Занятия по конструированию из строительного материала в подготовительной к школе группе детского сада», М.;Мозаика – Синтез, 2006-20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Формирование элементарных математических представлен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.А.Арапова-Пискаре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Формирование элементарных математических представлений». М., Мозаика-Синтез, 2006 -20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.А. Помораева, В.А.Поз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Занятия по формированию ЭМП» (младшая, средня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., Мозаика-Синтез, 2007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.А.Парамонова «Занятия с детьми 6-7 лет», Москва, Медиа групп, 2010 г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.Т.Голубь «Графические диктанты 5-7 лет»,Москва, «Вако», 2004 г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.М.Хамидулина «  Развивающие занятия с детьми 6-7 лет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вивающие игры В.В.Воскобович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Формирование целостной картины ми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.В. Дыбина «Ребенок и окружающий мир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., Мозаика-Синтез, 200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.Б.Дыбина «Что было до…Игры – путешествия в прошлое предметов», М.,1999 г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.Б.Дыбина «Занятия по ознакомлению с окружающим миром во второй младшей группе детского сада. Конспекты занятий» М., Мозаика – Синтез, 20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.Б.Дыбина «Занятия по ознакомлению с окружающим миром в средней группе детского сада. Конспекты занятий» М., Мозаика – Синтез, 20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.Б.Дыбина «Занятия по ознакомлению с окружающим миром в старшей группе детского сада. Конспекты занятий» М., Мозаика – Синтез, 20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.Б.Дыбина «Занятия по ознакомлению с окружающим миром в подготовительной к школе группе  детского сада. Конспекты занятий» М., Мозаика – Синтез, 20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бразовательная область «Коммуникация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ербова В.В. «Занятия по развитию речи в первой младшей группе детского сада», М., Мозаика – Синтез, 2011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ербова В.В. «Занятия по развитию речи во второй младшей группе детского сада», М., Мозаика – Синте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ербова В.В. «Занятия по развитию речи в средней группе детского сада», М., Мозаика – Синтез,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ербова В.В. «Занятия по развитию речи в старшей группе детского сада», М., Мозаика – Синтез,201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ербова В.В. «Занятия по развитию речи в подготовительной к школе группе детского сада», М., Мозаика – Синтез,2011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ербова В.В. «Развитие речи в детском саду» - М., мозаика – Синтез.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ксаков А.И. «Правильно ли говорит ваш ребенок?» - М., Мозаика – Синтез.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ксаков А.И. «Воспитание звуковой культуры речи дошкольников». М.,Мозаика – Синтез, 2006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бочие тетради по программе (все группы), 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бразовательная область «Социализация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ехнологии по игровой деятельност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ндаренко А.К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«Дидактические игры в детском саду». М., Просвещение, 199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мирнова Е.О., Богуславская З.М. «Развивающие игры для детей». – М.,Просвещение, 199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хайленко И.Я., Короткова Н.А. «Игра с правилами в дошкольном возрасте». – М.; Сфера,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хайленко И.Я., Короткова Н.А. «Как играть с ребенком?». – М.; Сфера,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бразовательная область «Труд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.С.Комарова, Л.В.Куцакова , Л.Ю павлова «Трудовое воспитание в детском саду. Программа и методические рекомендации для работы с детьми 2 – 7 л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.В.Крулехт «Дошкольник и рукотворный мир. Пед. технология», СПб., Детство – Пресс, 200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Нравственно – трудовое воспитание детей в детском саду. / Под редакцией Р.С.Буре. – М. Просвещение, 198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.В.Куцакова «Нравственно – трудовое воспитание в детском саду» - М. Мозаика – Синтез,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.В.Куцакова «Конструирование и ручной труд в детском саду» Пособие для воспитателей. М. Просвещение, 19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уцакова Л.В. 2Нравственно – трудовое воспитание в детском саду». М. Мозаика – Синтез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годня в обществе идет становление новой системы дошкольного образования, направленной на реализацию Федеральных государственных требован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бразовательная область «Музык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здники и развлечения в д/саду.Программа и методические рекомендациидля работы с детьми 2-7 лет. М.Б.Зацепина, Т.В.Антонова. – М. Синтез, 20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., Москва Синтез, 20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ллюстративный материал, дидактический материал, видеотека, фонотека, музыкальные инструменты, пособия по обучению муз.грамо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одные праздники. Программа и методические рекомендации для работы с детьми 2-7 лет. М.Б.Зацепина, Т.В.Антонова – м. Мозаика – Синтез, 2006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бразовательная область «Художественное творчество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.С.Галанов  «Занятия с дошкольниками по изобразительному искусству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аранова Е.В., Савельева А.М. «От навыков к творчеству: обучение детей 2-7 лет технике рисования». М., Мозаика – Синтез, 2009 -20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марова Т.Г. 2Детское художественное творчество»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., Мозаика – Синтез, 2005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марова Т.С. «Занятия по изобразительной деятельности в средней группе детского сада». Конспекты занятий. М., Мозаика – Синтез,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Комарова Т.С. «Занятия по изобразительной деятельности во второй младшей группе детского сада». Конспекты занятий. М., Мозаика – Синтез,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марова Т.С. «Занятия по изобразительной деятельности в старшей группе детского сада». Конспекты занятий. М., Мозаика – Синтез,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марова Т.С. «Школа эстетического воспитания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., Мозаика – Синтез,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бразовательная область «Чтение художественной литературы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.В.Гербова «Приобщение детей к художественной литературе». – М.Мозаика – Синтез, 2005 020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шакова О.С. «Знакомим дошкольников 3-5 лет с литературой». – М.,20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шакова О.С. «Знакомим дошкольников 5 -7  лет с литературой». – М.,20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рестоматия, 2-4 года /  Составила В.В.Гербова, Н.П.Ильчук и др. – М.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рестоматия, 4-5 лет/  Составила В.В.Гербова, Н.П.Ильчук и др. – М.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рестоматия, 5-7 лет/  Составила В.В.Гербова, Н.П.Ильчук и др. – М.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современного общества предъявляет новые требования к дошкольным образовательным учреждениям, к организации в них воспитательно-образовательного процесса, выбору и обоснованию содержания основных и парциальных учебных программ, результатам и результативности их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едеральные государственные требования устанавливают нормы и положения, обязательные при реализации основной общеобразовательной программы дошкольного образования образовательными учреждениями, имеющими государственную аккредита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      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первый в истории российского образования документ, который на федеральном уровне определяет, какой должна быть программа дошкольного образовательного учреждения, какое содержание реализовать для достижения каждым ребенком максимального для его возраста уровня развития с учетом его индивидуальных, возрастных особеннос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разовательная программа дошкольного образовательного учреждения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ссматривается как нормативно-управленческий документ, обосновывающий выбор цели, содержания, применяемых методик и технологий, форм организации воспитательно-образовательного процесса в каждом конкретном дошкольном образовательном учрежде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сли раньше в большинстве комплексных программ были разделы, которые соответствовали определённым учебным дисциплинам или предметам, то теперь речь идёт о совокупности образовательных областе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Физическая культура», «Здоровье», «Безопасность», «Социализация, «Труд», «Познание», «Коммуникация», «Чтение художественной литературы», «Художественное творчество», «Музыка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каз от учебной модели в детском саду, т.е. от занятий, требует обращения педагогов к новым формам работы с детьми, которые бы позволяли педагогам, образно говоря, обучать дошкольников так, чтобы они об этом даже не догадывалис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овое программно – методическое обеспечение дошкольного образования  в соответствии с ФГТ достаточно сложный вопрос для педагогов дошкольного образования. Их не только нужно уметь дифференцировать, но и интегрировать для реализации своей профессиональной деятельности — создания условий для разностороннего и целостного развития ребенка в дошкольном образовательном учрежде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дик</cp:lastModifiedBy>
  <dcterms:modified xsi:type="dcterms:W3CDTF">2002-12-31T23:42:1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