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6F6-5549-4839-A3BA-13D42A7B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07D-4C4F-4682-B7FD-4FF01D80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3DE-065B-4C04-AB6C-38014314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529-146C-4F3B-BD62-47E9A3BC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147-C6B8-4EA1-9A55-437A2188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722-5089-4C20-B01C-7E2A6845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B63-ECD1-4130-9838-6A949999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416-6EDD-4A04-BEEE-30CC8357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717-3DFB-4012-8B86-7C84CF6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DDC-7CCF-40BD-8B57-AC1F89F5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A3C-78C8-4997-AF52-ABB26C97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1C8-E3DB-45B8-BF04-5C950827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9FFB-F6CC-40E7-B4BC-AC8B7ED0B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tportal.org/sto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s108.taba.ru/dev82/0/008/028/0008028522.fid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.i.ua/photo/images/pic/3/1/1903413_2edbcbb5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Franklin Gothic Heavy"/>
              </a:rPr>
              <a:t>What you have  at meal but never eat?</a:t>
            </a:r>
            <a:r>
              <a:rPr b="0" lang="ru-RU" sz="4400" spc="-1" strike="noStrike">
                <a:solidFill>
                  <a:srgbClr val="006600"/>
                </a:solidFill>
                <a:latin typeface="Franklin Gothic Heav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some idioms with the word "Te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84280"/>
            <a:ext cx="8209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one’s cup of t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to be something that one prefers or desires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рави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чита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spy novel is just my cup of tea. Teaching children to read is just my cup of t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t’s not my cup of tea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Hip-Hop is definitely not my cup of t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for all the tea in Chi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do that no matter what could persuade you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wouldn’t wear this ugly skirt for all the tea in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as good as a chocolate teap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ly useless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бсолю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полез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diet you’ve advised me is as good as a chocolate teap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1052640"/>
          <a:ext cx="8424720" cy="4395600"/>
        </p:xfrm>
        <a:graphic>
          <a:graphicData uri="http://schemas.openxmlformats.org/drawingml/2006/table">
            <a:tbl>
              <a:tblPr/>
              <a:tblGrid>
                <a:gridCol w="4141800"/>
                <a:gridCol w="42829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ПОТРЕБ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to be made o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to be made f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37688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дукт при обработке остаётся неизмен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37688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37688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37688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pizza is made of sausages, tomatoes, chee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дукт при обработке полностью видоизменяет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uice is made from apples, grap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the correct prepositi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lad is made of / from cucumber, tomat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ake is made of / from butter, chocolate, s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heese is made of / from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ausage is made of / from m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Yogurt is made of / from milk, fr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mburger is made of / from bread, chees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Playbill"/>
              </a:rPr>
              <a:t>T</a:t>
            </a:r>
            <a:r>
              <a:rPr b="0" lang="en-US" sz="18000" spc="-1" strike="noStrike">
                <a:solidFill>
                  <a:srgbClr val="006600"/>
                </a:solidFill>
                <a:latin typeface="Playbill"/>
              </a:rPr>
              <a:t>h</a:t>
            </a:r>
            <a:r>
              <a:rPr b="0" lang="en-US" sz="18000" spc="-1" strike="noStrike">
                <a:solidFill>
                  <a:srgbClr val="ffcc00"/>
                </a:solidFill>
                <a:latin typeface="Playbill"/>
              </a:rPr>
              <a:t>a</a:t>
            </a:r>
            <a:r>
              <a:rPr b="0" lang="en-US" sz="18000" spc="-1" strike="noStrike">
                <a:solidFill>
                  <a:srgbClr val="000099"/>
                </a:solidFill>
                <a:latin typeface="Playbill"/>
              </a:rPr>
              <a:t>n</a:t>
            </a:r>
            <a:r>
              <a:rPr b="0" lang="en-US" sz="18000" spc="-1" strike="noStrike">
                <a:solidFill>
                  <a:srgbClr val="ff33cc"/>
                </a:solidFill>
                <a:latin typeface="Playbill"/>
              </a:rPr>
              <a:t>k</a:t>
            </a:r>
            <a:r>
              <a:rPr b="0" lang="en-US" sz="180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18000" spc="-1" strike="noStrike">
                <a:solidFill>
                  <a:srgbClr val="00ffff"/>
                </a:solidFill>
                <a:latin typeface="Playbill"/>
              </a:rPr>
              <a:t>y</a:t>
            </a:r>
            <a:r>
              <a:rPr b="0" lang="en-US" sz="18000" spc="-1" strike="noStrike">
                <a:solidFill>
                  <a:srgbClr val="66ff33"/>
                </a:solidFill>
                <a:latin typeface="Playbill"/>
              </a:rPr>
              <a:t>o</a:t>
            </a:r>
            <a:r>
              <a:rPr b="0" lang="en-US" sz="18000" spc="-1" strike="noStrike">
                <a:solidFill>
                  <a:srgbClr val="ff9900"/>
                </a:solidFill>
                <a:latin typeface="Playbill"/>
              </a:rPr>
              <a:t>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476280"/>
            <a:ext cx="7128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et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341360"/>
            <a:ext cx="7056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600" spc="-1" strike="noStrike">
                <a:solidFill>
                  <a:srgbClr val="000000"/>
                </a:solidFill>
                <a:latin typeface="Arial"/>
              </a:rPr>
              <a:t>I thought a thought.</a:t>
            </a:r>
            <a:br>
              <a:rPr sz="3600"/>
            </a:br>
            <a:br>
              <a:rPr sz="3600"/>
            </a:br>
            <a:r>
              <a:rPr b="0" i="1" lang="en" sz="3600" spc="-1" strike="noStrike">
                <a:solidFill>
                  <a:srgbClr val="000000"/>
                </a:solidFill>
                <a:latin typeface="Arial"/>
              </a:rPr>
              <a:t>But the thought I thought wasn't the thought I thought I thought.</a:t>
            </a:r>
            <a:br>
              <a:rPr sz="3600"/>
            </a:br>
            <a:br>
              <a:rPr sz="3600"/>
            </a:br>
            <a:r>
              <a:rPr b="0" i="1" lang="en" sz="3600" spc="-1" strike="noStrike">
                <a:solidFill>
                  <a:srgbClr val="000000"/>
                </a:solidFill>
                <a:latin typeface="Arial"/>
              </a:rPr>
              <a:t>If the thought I thought I thought had been the thought I thought, I wouldn't have thought so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32240" y="3240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5880" y="2698920"/>
            <a:ext cx="4248360" cy="2693880"/>
          </a:xfrm>
          <a:prstGeom prst="rect">
            <a:avLst/>
          </a:prstGeom>
          <a:ln w="0">
            <a:noFill/>
          </a:ln>
        </p:spPr>
      </p:pic>
      <p:pic>
        <p:nvPicPr>
          <p:cNvPr id="48" name="1903413_2edbcbb5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" y="250920"/>
            <a:ext cx="3888000" cy="29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59640" y="2637000"/>
            <a:ext cx="230328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24000" y="4076640"/>
            <a:ext cx="2674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 sandwi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2846025_f520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77964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3v8_recipes_tea-sandwiches" descr=""/>
          <p:cNvPicPr/>
          <p:nvPr/>
        </p:nvPicPr>
        <p:blipFill>
          <a:blip r:embed="rId2"/>
          <a:stretch/>
        </p:blipFill>
        <p:spPr>
          <a:xfrm>
            <a:off x="4896000" y="1320840"/>
            <a:ext cx="3779640" cy="253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4005360"/>
            <a:ext cx="4068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 t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254240"/>
            <a:ext cx="3384360" cy="2390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7880" y="372420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52960" y="1266840"/>
            <a:ext cx="3335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/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a lot of sandwich shops in Londo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’t buy all sorts of sandwiches in these shop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even buy milk sandwiche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andwich has 2 thin slices of brea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put butter and meat between the 3 sl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ish tea is very stro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drink tea with meat, so it is called the Russian t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5760" y="1666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20732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2080" y="2459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24640" y="28782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9400" y="3691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6200" y="3284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53560" y="40640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ntences into a logical order according to the text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tea is very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lot of sandwich shops in Lon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ake tea in a tea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put butter and meat between the two s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andwich  has two thin slices of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ll sorts of sandwiches in sandwich sh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a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ждый кусок хлеба смазать майонезом, а на один из кусков выложить слой тонких долек свежего огурца."/>
          <p:cNvPicPr/>
          <p:nvPr/>
        </p:nvPicPr>
        <p:blipFill>
          <a:blip r:embed="rId1"/>
          <a:stretch/>
        </p:blipFill>
        <p:spPr>
          <a:xfrm>
            <a:off x="5129280" y="15192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Ингредиенты для английского сэндвича с огурцом и яйцом."/>
          <p:cNvPicPr/>
          <p:nvPr/>
        </p:nvPicPr>
        <p:blipFill>
          <a:blip r:embed="rId2"/>
          <a:stretch/>
        </p:blipFill>
        <p:spPr>
          <a:xfrm>
            <a:off x="1187280" y="15192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рутое яйцо натереть, кресс салат промыть и обсушить. На огуречный слой выложить яичный слой и посыпать его кресс салатом или другой зеленью."/>
          <p:cNvPicPr/>
          <p:nvPr/>
        </p:nvPicPr>
        <p:blipFill>
          <a:blip r:embed="rId3"/>
          <a:stretch/>
        </p:blipFill>
        <p:spPr>
          <a:xfrm>
            <a:off x="1187280" y="3860640"/>
            <a:ext cx="2971800" cy="2019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Английский сэндвич с яйцом и огурцом"/>
          <p:cNvPicPr/>
          <p:nvPr/>
        </p:nvPicPr>
        <p:blipFill>
          <a:blip r:embed="rId4"/>
          <a:stretch/>
        </p:blipFill>
        <p:spPr>
          <a:xfrm>
            <a:off x="5129280" y="386064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155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55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9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20:42Z</dcterms:created>
  <dc:creator>Аня</dc:creator>
  <dc:description/>
  <dc:language>en-US</dc:language>
  <cp:lastModifiedBy>Аня</cp:lastModifiedBy>
  <dcterms:modified xsi:type="dcterms:W3CDTF">2013-01-26T19:06:11Z</dcterms:modified>
  <cp:revision>15</cp:revision>
  <dc:subject/>
  <dc:title>What you have  at meal but never eat? </dc:title>
</cp:coreProperties>
</file>