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4.jpeg" ContentType="image/jpeg"/>
  <Override PartName="/ppt/media/image6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C04-9FED-44C5-91AB-68C9CEAC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53B-01FD-4646-88D9-DC46775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CDD-5955-4E8F-BC9F-B81D9850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702-E665-41F1-961D-DC8B831E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DD1-DB2E-46DA-A0EF-E2E5B28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143-FBCA-4B01-89CF-1D1B37E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00B-FB9E-4DC2-989F-202C359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42D-C713-4B16-B565-815FEBA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F10-A4F5-4828-8AF8-C2431EB7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384-664E-40C1-9169-AD87A7D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84C-560A-4899-8D7A-564CAF18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171-BB86-4885-BC02-2885CE33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A10-86DB-48B1-B1BE-3917DDA8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lez-t.info/" TargetMode="External"/><Relationship Id="rId3" Type="http://schemas.openxmlformats.org/officeDocument/2006/relationships/hyperlink" Target="http://www.rulez-t.info/" TargetMode="External"/><Relationship Id="rId4" Type="http://schemas.openxmlformats.org/officeDocument/2006/relationships/hyperlink" Target="http://www.rulez-t.info/" TargetMode="External"/><Relationship Id="rId5" Type="http://schemas.openxmlformats.org/officeDocument/2006/relationships/hyperlink" Target="http://www.rulez-t.info/" TargetMode="External"/><Relationship Id="rId6" Type="http://schemas.openxmlformats.org/officeDocument/2006/relationships/hyperlink" Target="http://www.jonnis.ru/" TargetMode="External"/><Relationship Id="rId7" Type="http://schemas.openxmlformats.org/officeDocument/2006/relationships/hyperlink" Target="http://www.jonnis.ru/" TargetMode="External"/><Relationship Id="rId8" Type="http://schemas.openxmlformats.org/officeDocument/2006/relationships/hyperlink" Target="http://www.jonnis.ru/" TargetMode="External"/><Relationship Id="rId9" Type="http://schemas.openxmlformats.org/officeDocument/2006/relationships/hyperlink" Target="http://www.jonnis.ru/" TargetMode="External"/><Relationship Id="rId10" Type="http://schemas.openxmlformats.org/officeDocument/2006/relationships/hyperlink" Target="http://kilat.ru/" TargetMode="External"/><Relationship Id="rId11" Type="http://schemas.openxmlformats.org/officeDocument/2006/relationships/hyperlink" Target="http://kilat.ru/" TargetMode="External"/><Relationship Id="rId12" Type="http://schemas.openxmlformats.org/officeDocument/2006/relationships/hyperlink" Target="http://kilat.ru/" TargetMode="External"/><Relationship Id="rId13" Type="http://schemas.openxmlformats.org/officeDocument/2006/relationships/hyperlink" Target="http://kilat.ru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к русского язы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К «Гармония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7931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Собираем родственни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Работу 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учи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МОУ «Гимназия №5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Г.Сар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Володина И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23637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В лесу работает лесник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В саду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f0"/>
                </a:solidFill>
                <a:latin typeface="Times New Roman"/>
              </a:rPr>
              <a:t>В саду работает садов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Под осиной растёт подосинов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Под берёзой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f0"/>
                </a:solidFill>
                <a:latin typeface="Times New Roman"/>
              </a:rPr>
              <a:t>Под берёзой растёт подберёзов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3"/>
          <p:cNvPicPr/>
          <p:nvPr/>
        </p:nvPicPr>
        <p:blipFill>
          <a:blip r:embed="rId2"/>
          <a:stretch/>
        </p:blipFill>
        <p:spPr>
          <a:xfrm>
            <a:off x="6643800" y="5072040"/>
            <a:ext cx="1949400" cy="1281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ages (39)"/>
          <p:cNvPicPr/>
          <p:nvPr/>
        </p:nvPicPr>
        <p:blipFill>
          <a:blip r:embed="rId3"/>
          <a:stretch/>
        </p:blipFill>
        <p:spPr>
          <a:xfrm>
            <a:off x="6929280" y="571680"/>
            <a:ext cx="158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Сегодня на урок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ы с вами узнал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ы с вами научили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не понрави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не было трудн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bdee13c60c9204fee7ec8d256b5f9fa"/>
          <p:cNvPicPr/>
          <p:nvPr/>
        </p:nvPicPr>
        <p:blipFill>
          <a:blip r:embed="rId2"/>
          <a:stretch/>
        </p:blipFill>
        <p:spPr>
          <a:xfrm>
            <a:off x="468360" y="90792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С.Соловейчик. Учебник «К тайнам нашего языка», 2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С.Соловейчик. Методические рекоменд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зеологический слов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ulez-t.info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jonnis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kilat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nterrasa"/>
          <p:cNvPicPr/>
          <p:nvPr/>
        </p:nvPicPr>
        <p:blipFill>
          <a:blip r:embed="rId2"/>
          <a:stretch/>
        </p:blipFill>
        <p:spPr>
          <a:xfrm>
            <a:off x="1187280" y="907920"/>
            <a:ext cx="64818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_6345"/>
          <p:cNvPicPr/>
          <p:nvPr/>
        </p:nvPicPr>
        <p:blipFill>
          <a:blip r:embed="rId2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Собираем родствен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5950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4" descr="tc77"/>
          <p:cNvPicPr/>
          <p:nvPr/>
        </p:nvPicPr>
        <p:blipFill>
          <a:blip r:embed="rId2"/>
          <a:stretch/>
        </p:blipFill>
        <p:spPr>
          <a:xfrm>
            <a:off x="2484360" y="3429000"/>
            <a:ext cx="399564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ница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енье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олить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s"/>
          <p:cNvPicPr/>
          <p:nvPr/>
        </p:nvPicPr>
        <p:blipFill>
          <a:blip r:embed="rId2"/>
          <a:stretch/>
        </p:blipFill>
        <p:spPr>
          <a:xfrm>
            <a:off x="6227640" y="23493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ages (4)"/>
          <p:cNvPicPr/>
          <p:nvPr/>
        </p:nvPicPr>
        <p:blipFill>
          <a:blip r:embed="rId3"/>
          <a:stretch/>
        </p:blipFill>
        <p:spPr>
          <a:xfrm>
            <a:off x="3851280" y="620640"/>
            <a:ext cx="22384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ig_4048"/>
          <p:cNvPicPr/>
          <p:nvPr/>
        </p:nvPicPr>
        <p:blipFill>
          <a:blip r:embed="rId4"/>
          <a:stretch/>
        </p:blipFill>
        <p:spPr>
          <a:xfrm>
            <a:off x="2340000" y="436572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                    конф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енье                 комп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s"/>
          <p:cNvPicPr/>
          <p:nvPr/>
        </p:nvPicPr>
        <p:blipFill>
          <a:blip r:embed="rId2"/>
          <a:stretch/>
        </p:blipFill>
        <p:spPr>
          <a:xfrm>
            <a:off x="755640" y="4149720"/>
            <a:ext cx="2209680" cy="18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ages (10)"/>
          <p:cNvPicPr/>
          <p:nvPr/>
        </p:nvPicPr>
        <p:blipFill>
          <a:blip r:embed="rId3"/>
          <a:stretch/>
        </p:blipFill>
        <p:spPr>
          <a:xfrm>
            <a:off x="4788000" y="4076640"/>
            <a:ext cx="237636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s (4)"/>
          <p:cNvPicPr/>
          <p:nvPr/>
        </p:nvPicPr>
        <p:blipFill>
          <a:blip r:embed="rId4"/>
          <a:stretch/>
        </p:blipFill>
        <p:spPr>
          <a:xfrm>
            <a:off x="684360" y="1268280"/>
            <a:ext cx="223812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konfeta"/>
          <p:cNvPicPr/>
          <p:nvPr/>
        </p:nvPicPr>
        <p:blipFill>
          <a:blip r:embed="rId5"/>
          <a:stretch/>
        </p:blipFill>
        <p:spPr>
          <a:xfrm>
            <a:off x="4788000" y="1268280"/>
            <a:ext cx="23810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7196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-то происходит само собой, чудесным образом, без усилий со стороны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26920" y="32464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По щучьему велени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25032"/>
          <p:cNvPicPr/>
          <p:nvPr/>
        </p:nvPicPr>
        <p:blipFill>
          <a:blip r:embed="rId2"/>
          <a:stretch/>
        </p:blipFill>
        <p:spPr>
          <a:xfrm>
            <a:off x="2335320" y="542880"/>
            <a:ext cx="4333680" cy="290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6" descr="mult-pict.narod.ru155.gif"/>
          <p:cNvPicPr/>
          <p:nvPr/>
        </p:nvPicPr>
        <p:blipFill>
          <a:blip r:embed="rId2"/>
          <a:stretch/>
        </p:blipFill>
        <p:spPr>
          <a:xfrm>
            <a:off x="6500880" y="4429080"/>
            <a:ext cx="20430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65 -0.22175 C -0.25851 -0.14953 -0.19219 -0.07314 -0.13785 -0.04236 C -0.0566 0.00602 0.02187 0.025 0.0368 -0.00023 C 0.0493 -0.02453 -0.00538 -0.08518 -0.08646 -0.13402 C -0.14063 -0.16458 -0.24011 -0.18518 -0.32743 -0.18865 C -0.41163 -0.18518 -0.51424 -0.16458 -0.56858 -0.13402 C -0.64948 -0.08518 -0.70365 -0.02453 -0.68872 -0.00023 C -0.67361 0.025 -0.59584 0.00602 -0.51719 -0.04236 C -0.46285 -0.07314 -0.39393 -0.14953 -0.35139 -0.22175 C -0.3066 -0.29745 -0.27622 -0.39791 -0.27622 -0.46203 C -0.27622 -0.55902 -0.29722 -0.63449 -0.32743 -0.63449 C -0.35469 -0.63449 -0.37865 -0.55902 -0.37865 -0.46203 C -0.37865 -0.39791 -0.34584 -0.29745 -0.30365 -0.22175 Z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91 0.07153 L -0.67691 -0.26435 C -0.67691 -0.41551 -0.49028 -0.60023 -0.33837 -0.60023 L 0.00035 -0.60023 E">
                                      <p:cBhvr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271 -0.62153 L -0.59184 -0.62153 L -0.59184 -0.52454 L -0.4908 -0.52454 L -0.4908 -0.42708 L -0.38941 -0.42708 L -0.38941 -0.3294 L -0.28819 -0.3294 L -0.28819 -0.23194 L -0.18715 -0.23194 L -0.18715 -0.13449 L -0.08559 -0.13449 L -0.08559 -0.03681 L 0.01597 -0.03681 L 0.01597 0.06111 E"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1273 L 0.0316 -0.63195 E">
                                      <p:cBhvr>
                                        <p:cTn id="8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63194 L -0.69271 -0.62153 E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271 -0.62153 L -0.67691 0.07153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681 -0.21828 C -0.69844 -0.42893 -0.55122 -0.61134 -0.35382 -0.62407 C -0.1651 -0.63935 0.01128 -0.49814 0.02309 -0.29375 C 0.03802 -0.10509 -0.08576 0.07107 -0.26285 0.0838 C -0.42448 0.09306 -0.57778 -0.02338 -0.58958 -0.1993 C -0.60139 -0.35949 -0.49809 -0.51088 -0.34826 -0.52338 C -0.20955 -0.53263 -0.07969 -0.43495 -0.07101 -0.2875 C -0.06233 -0.15532 -0.14462 -0.02662 -0.2684 -0.0199 C -0.38038 -0.01064 -0.48646 -0.08611 -0.49549 -0.20578 C -0.50104 -0.3125 -0.43924 -0.41643 -0.34201 -0.42222 C -0.2566 -0.42893 -0.17118 -0.37222 -0.1651 -0.28101 C -0.15955 -0.20231 -0.20347 -0.12708 -0.27448 -0.1206 C -0.33333 -0.11458 -0.39531 -0.14907 -0.39826 -0.2118 C -0.40399 -0.2625 -0.38038 -0.31597 -0.33646 -0.32199 C -0.30069 -0.32199 -0.26528 -0.30949 -0.25972 -0.275 C -0.2566 -0.25254 -0.26285 -0.23078 -0.28021 -0.22176 C -0.28889 -0.21828 -0.29497 -0.21828 -0.30365 -0.22176 E">
                                      <p:cBhvr>
                                        <p:cTn id="9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0"/>
                            </p:stCondLst>
                            <p:childTnLst>
                              <p:par>
                                <p:cTn id="98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91 -0.46065 C -0.67691 -0.54954 -0.6033 -0.62153 -0.51319 -0.62153 L -0.13299 -0.62153 C -0.04236 -0.62153 0.03177 -0.54954 0.03177 -0.46065 L 0.03177 -0.09329 C 0.03177 -0.00394 -0.04236 0.07153 -0.13299 0.07153 L -0.51319 0.07153 C -0.6033 0.07153 -0.67691 -0.00394 -0.67691 -0.0932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91 -0.2331 L -0.47917 -0.14884 C -0.43924 -0.12963 -0.37969 -0.11898 -0.31771 -0.11898 C -0.24688 -0.11898 -0.19028 -0.12963 -0.15035 -0.14884 L 0.03976 -0.2331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56 -0.56898 L -0.26111 -0.32847 L -0.03125 -0.32847 L -0.2158 -0.18032 L -0.14601 0.06088 L -0.33056 -0.08773 L -0.5151 0.06088 L -0.44531 -0.18032 L -0.62969 -0.32847 L -0.4 -0.32847 L -0.33056 -0.56898 Z">
                                      <p:cBhvr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56 -0.56898 L -0.33056 -0.23564 E">
                                      <p:cBhvr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.Подобрать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род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   Выделить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Чтобы найти в слове корень, нуж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tc77"/>
          <p:cNvPicPr/>
          <p:nvPr/>
        </p:nvPicPr>
        <p:blipFill>
          <a:blip r:embed="rId2"/>
          <a:stretch/>
        </p:blipFill>
        <p:spPr>
          <a:xfrm>
            <a:off x="4211640" y="2133720"/>
            <a:ext cx="45356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49 0.02845 L 0.41649 0.02845 E">
                                      <p:cBhvr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Dmitri Ivanov</dc:creator>
  <dc:description/>
  <dc:language>en-US</dc:language>
  <cp:lastModifiedBy>Ирина</cp:lastModifiedBy>
  <dcterms:modified xsi:type="dcterms:W3CDTF">2011-02-10T04:03:48Z</dcterms:modified>
  <cp:revision>20</cp:revision>
  <dc:subject/>
  <dc:title>Слайд 1</dc:title>
</cp:coreProperties>
</file>